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英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中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0-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0-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18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22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649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852560" indent="-264960">
              <a:spcBef>
                <a:spcPts val="649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382840" indent="-26496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382840" indent="-26496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382840" indent="-26496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FAC5EDA-F48E-4405-AA07-7071364DC316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35200" y="3137040"/>
            <a:ext cx="6193080" cy="12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2600" spc="-1" strike="noStrike">
                <a:solidFill>
                  <a:srgbClr val="6699ff"/>
                </a:solidFill>
                <a:latin typeface="Arial"/>
                <a:ea typeface="华文细黑"/>
              </a:rPr>
              <a:t>Implicit TU split process for asymmetric par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93000" y="4792680"/>
            <a:ext cx="28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CTVC-I0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va, CH, April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Background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8929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transform split for symmetric and asymmetric partitions when NSQT i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U is aligned with PU bound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63560" y="3122640"/>
            <a:ext cx="6337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Background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8929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icit transform split for symmetric and asymmetric partitions when NSQT is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U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rosses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asymmetric PU bound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23920" y="3063960"/>
            <a:ext cx="62042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roposed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8929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TU split for asymmetric partitions when NSQT is 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TU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doesn’t cross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asymmetric PU bound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03200" y="3352680"/>
            <a:ext cx="77058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Test results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281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ference: HM6.0 – “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QuadtreeTUMaxDepthIn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==1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ested: HM6.0 + I0308 -  “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QuadtreeTUMaxDepthIn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==1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42840" y="3495600"/>
          <a:ext cx="4628880" cy="3643560"/>
        </p:xfrm>
        <a:graphic>
          <a:graphicData uri="http://schemas.openxmlformats.org/drawingml/2006/table">
            <a:tbl>
              <a:tblPr/>
              <a:tblGrid>
                <a:gridCol w="795240"/>
                <a:gridCol w="639720"/>
                <a:gridCol w="638280"/>
                <a:gridCol w="639720"/>
                <a:gridCol w="638280"/>
                <a:gridCol w="639720"/>
                <a:gridCol w="637920"/>
              </a:tblGrid>
              <a:tr h="454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320">
                <a:tc>
                  <a:txBody>
                    <a:bodyPr lIns="18000" rIns="18000" tIns="10800" bIns="1080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624640" y="3519360"/>
          <a:ext cx="4628880" cy="3618000"/>
        </p:xfrm>
        <a:graphic>
          <a:graphicData uri="http://schemas.openxmlformats.org/drawingml/2006/table">
            <a:tbl>
              <a:tblPr/>
              <a:tblGrid>
                <a:gridCol w="795240"/>
                <a:gridCol w="639720"/>
                <a:gridCol w="638280"/>
                <a:gridCol w="639720"/>
                <a:gridCol w="638280"/>
                <a:gridCol w="639720"/>
                <a:gridCol w="637920"/>
              </a:tblGrid>
              <a:tr h="5400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Test results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7200" y="1767960"/>
            <a:ext cx="8640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ference: HM6.0 + I0308 – “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QuadtreeTUMaxDepthIn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==1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ested: HM6.0 + NSQT -  “</a:t>
            </a:r>
            <a:r>
              <a:rPr b="0" sz="2200" spc="-1" strike="noStrike">
                <a:solidFill>
                  <a:srgbClr val="000000"/>
                </a:solidFill>
                <a:latin typeface="Arial"/>
              </a:rPr>
              <a:t>QuadtreeTUMaxDepthInter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==1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00280" y="3639960"/>
          <a:ext cx="4464000" cy="3455640"/>
        </p:xfrm>
        <a:graphic>
          <a:graphicData uri="http://schemas.openxmlformats.org/drawingml/2006/table">
            <a:tbl>
              <a:tblPr/>
              <a:tblGrid>
                <a:gridCol w="766800"/>
                <a:gridCol w="617040"/>
                <a:gridCol w="615240"/>
                <a:gridCol w="617040"/>
                <a:gridCol w="615600"/>
                <a:gridCol w="617040"/>
                <a:gridCol w="615240"/>
              </a:tblGrid>
              <a:tr h="4744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2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6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680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408640" y="3713040"/>
          <a:ext cx="4413240" cy="3342960"/>
        </p:xfrm>
        <a:graphic>
          <a:graphicData uri="http://schemas.openxmlformats.org/drawingml/2006/table">
            <a:tbl>
              <a:tblPr/>
              <a:tblGrid>
                <a:gridCol w="758880"/>
                <a:gridCol w="609480"/>
                <a:gridCol w="608040"/>
                <a:gridCol w="609480"/>
                <a:gridCol w="609840"/>
                <a:gridCol w="609480"/>
                <a:gridCol w="608040"/>
              </a:tblGrid>
              <a:tr h="4845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HE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1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55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9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0800" bIns="10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commend to adopt the further implicit TU split process for asymmetric process when NSQT is off to HM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75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i="1" lang="zh-CN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zh-CN" sz="3000" spc="-1" strike="noStrike">
                <a:solidFill>
                  <a:srgbClr val="ff3300"/>
                </a:solidFill>
                <a:latin typeface="Arial"/>
              </a:rPr>
              <a:t>Thanks Samsung’s help on cross-check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ww.hisilic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2-05-05T17:18:17Z</dcterms:modified>
  <cp:revision>75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5354239</vt:lpwstr>
  </property>
</Properties>
</file>