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0EA-C17B-4B15-8BDA-4CF53CF6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2720-517B-481F-A9C7-BB2E7FAB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C32D-3D30-4F9F-8B19-EC1C7585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D73-9519-4E6B-838D-4A8FCF5E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044F-9371-48CA-97F0-EB2D5083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FBFA-2923-4744-806F-12CE128C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3B51C-9E76-4351-ADB3-BA94C091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9F04-3644-4D46-954A-131C8924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8F50-6A6A-499B-8EB3-9D696403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663B-E909-46C7-8EEB-D83BE439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A4A-E8EF-4B8A-9944-D693549A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3AE6-B9C1-4C5C-8244-1F449782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AC27D-9A40-4443-9D79-B9A4C069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2128-8632-4E90-AA0D-0832E8C6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5353-BDE3-451B-B97D-54C3F197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9C29-D791-422D-9812-F2A38811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FAFC9-A13D-41E1-B33F-AB7531D0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0D2C-1607-4B39-8708-D8EFD5A3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A49B1-13B3-4937-A17C-DE8B7CF8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FC2FF-0ED3-4426-A516-7629AF74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172B9-5A59-4F02-9688-613FEE23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68D4-4EB7-4397-8660-11F0ABF1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82A0F-0524-4900-B4BD-33333977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55C34-23EE-49B4-A4AC-94A6E70D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197A8-8F8C-43FF-83F9-CAE4FB34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F519F-E881-48B6-A8DA-3F366DEC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D6DB-D822-4768-A02F-9F7B4B29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3927-AC68-4E72-9765-C8FB4409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4DC3A-4351-4ADD-A00D-A8F9F205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29F9E-8A63-47D4-B430-4997C573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68CF0-872C-4F5B-AB02-BD3733EF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42D-FF47-445F-BBDE-5FB1F278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E00-6FDB-433D-BEB3-2807CB4D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1AF-E42A-45C7-9CCC-6E611DE0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C28-BD85-4CB3-B5F0-C3905F7E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D3E6-9536-492D-B0A6-BD20871E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1EBE-79A7-41DC-A220-F86B273F2872}" type="datetime">
              <a:rPr b="0" lang="ja-JP" sz="1000" spc="-1" strike="noStrike">
                <a:solidFill>
                  <a:srgbClr val="000000"/>
                </a:solidFill>
                <a:latin typeface="Calibr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2222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3824-89E7-4215-BBF3-F7F105E7DE21}" type="slidenum">
              <a:rPr b="0" lang="ja-JP" sz="1400" spc="-1" strike="noStrike">
                <a:solidFill>
                  <a:srgbClr val="22222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正方形/長方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正方形/長方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D1B4-D68B-44A8-9F3C-E837D7253194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0D67-5DCE-4A4A-B18C-4EF1FB4CAB9B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E677-5932-42F1-9707-77C82CC30397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01DA-9BB6-4161-91E7-177C642B6166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8077320" cy="12081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rge candidate refinement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uni-predictive block</a:t>
            </a:r>
            <a:br>
              <a:rPr sz="3200"/>
            </a:b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(JCTVC-I0293)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71320" y="6428880"/>
            <a:ext cx="4360680" cy="428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CT-VC </a:t>
            </a:r>
            <a:r>
              <a:rPr b="0" lang="en-CA" sz="1200" spc="-1" strike="noStrike">
                <a:solidFill>
                  <a:srgbClr val="ffffff"/>
                </a:solidFill>
                <a:latin typeface="Calibri"/>
              </a:rPr>
              <a:t>9th Meeting: Geneva, CH, 27 April – 7 May 2012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258560" y="3357720"/>
            <a:ext cx="7561080" cy="13665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moyuki Yamamoto, Tomohiro Ikai (SHARP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657000"/>
            <a:ext cx="8399520" cy="6048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ined merge candidate for non-bi-pred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ine mv of 1st candidate with either (+4, 0) or (-4, 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in P Slice or bi-pred restricted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yntax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ng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out 0.3 % gain for P Sl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out 0.1 % gain for B Slice when bi-pred restriction in small block is us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st case computation (Bi-pred for all blocks) is not chan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ligible impact on enc/dec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opt in HM and D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B0F2-2325-49E3-927D-887EB371C389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rge candidate derivation (P Slice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0199-8250-4474-B254-248C3B99B476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線コネクタ 16"/>
          <p:cNvSpPr/>
          <p:nvPr/>
        </p:nvSpPr>
        <p:spPr>
          <a:xfrm flipH="1">
            <a:off x="1509840" y="2043000"/>
            <a:ext cx="1440" cy="387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正方形/長方形 17"/>
          <p:cNvSpPr/>
          <p:nvPr/>
        </p:nvSpPr>
        <p:spPr>
          <a:xfrm>
            <a:off x="971640" y="2384280"/>
            <a:ext cx="107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正方形/長方形 18"/>
          <p:cNvSpPr/>
          <p:nvPr/>
        </p:nvSpPr>
        <p:spPr>
          <a:xfrm>
            <a:off x="971640" y="3033720"/>
            <a:ext cx="10792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正方形/長方形 20"/>
          <p:cNvSpPr/>
          <p:nvPr/>
        </p:nvSpPr>
        <p:spPr>
          <a:xfrm>
            <a:off x="971640" y="4976640"/>
            <a:ext cx="10792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 Sl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円/楕円 21"/>
          <p:cNvSpPr/>
          <p:nvPr/>
        </p:nvSpPr>
        <p:spPr>
          <a:xfrm>
            <a:off x="1467000" y="1952640"/>
            <a:ext cx="88920" cy="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円/楕円 22"/>
          <p:cNvSpPr/>
          <p:nvPr/>
        </p:nvSpPr>
        <p:spPr>
          <a:xfrm>
            <a:off x="1467000" y="5913360"/>
            <a:ext cx="88920" cy="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テキスト ボックス 23"/>
          <p:cNvSpPr/>
          <p:nvPr/>
        </p:nvSpPr>
        <p:spPr>
          <a:xfrm>
            <a:off x="1008000" y="1359000"/>
            <a:ext cx="140508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Sl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M-6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線コネクタ 31"/>
          <p:cNvSpPr/>
          <p:nvPr/>
        </p:nvSpPr>
        <p:spPr>
          <a:xfrm flipH="1">
            <a:off x="3344400" y="2023920"/>
            <a:ext cx="1800" cy="387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正方形/長方形 33"/>
          <p:cNvSpPr/>
          <p:nvPr/>
        </p:nvSpPr>
        <p:spPr>
          <a:xfrm>
            <a:off x="2806560" y="2365200"/>
            <a:ext cx="10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正方形/長方形 36"/>
          <p:cNvSpPr/>
          <p:nvPr/>
        </p:nvSpPr>
        <p:spPr>
          <a:xfrm>
            <a:off x="2806560" y="3014640"/>
            <a:ext cx="1079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正方形/長方形 38"/>
          <p:cNvSpPr/>
          <p:nvPr/>
        </p:nvSpPr>
        <p:spPr>
          <a:xfrm>
            <a:off x="2806560" y="4957920"/>
            <a:ext cx="1079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 Sl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円/楕円 40"/>
          <p:cNvSpPr/>
          <p:nvPr/>
        </p:nvSpPr>
        <p:spPr>
          <a:xfrm>
            <a:off x="3301920" y="1933560"/>
            <a:ext cx="88920" cy="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28440" bIns="28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円/楕円 41"/>
          <p:cNvSpPr/>
          <p:nvPr/>
        </p:nvSpPr>
        <p:spPr>
          <a:xfrm>
            <a:off x="3301920" y="5894280"/>
            <a:ext cx="88920" cy="9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テキスト ボックス 23"/>
          <p:cNvSpPr/>
          <p:nvPr/>
        </p:nvSpPr>
        <p:spPr>
          <a:xfrm>
            <a:off x="2843280" y="1341360"/>
            <a:ext cx="11523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Sl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po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正方形/長方形 43"/>
          <p:cNvSpPr/>
          <p:nvPr/>
        </p:nvSpPr>
        <p:spPr>
          <a:xfrm>
            <a:off x="2806560" y="3662280"/>
            <a:ext cx="1079640" cy="358920"/>
          </a:xfrm>
          <a:prstGeom prst="rect">
            <a:avLst/>
          </a:prstGeom>
          <a:solidFill>
            <a:srgbClr val="f2ced2"/>
          </a:solid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角丸四角形 45"/>
          <p:cNvSpPr/>
          <p:nvPr/>
        </p:nvSpPr>
        <p:spPr>
          <a:xfrm>
            <a:off x="611280" y="1125360"/>
            <a:ext cx="1728720" cy="514836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5148360"/>
              <a:gd name="textAreaBottom" fmla="*/ 5064120 h 5148360"/>
            </a:gdLst>
            <a:ahLst/>
            <a:rect l="textAreaLeft" t="textAreaTop" r="textAreaRight" b="textAreaBottom"/>
            <a:pathLst>
              <a:path w="21600" h="64319">
                <a:moveTo>
                  <a:pt x="3600" y="0"/>
                </a:moveTo>
                <a:arcTo wR="3600" hR="3600" stAng="16200000" swAng="-5400000"/>
                <a:lnTo>
                  <a:pt x="0" y="60719"/>
                </a:lnTo>
                <a:arcTo wR="3600" hR="3600" stAng="10800000" swAng="-5400000"/>
                <a:lnTo>
                  <a:pt x="18000" y="64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角丸四角形 46"/>
          <p:cNvSpPr/>
          <p:nvPr/>
        </p:nvSpPr>
        <p:spPr>
          <a:xfrm>
            <a:off x="2556000" y="1125360"/>
            <a:ext cx="1728720" cy="514836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5148360"/>
              <a:gd name="textAreaBottom" fmla="*/ 5064120 h 5148360"/>
            </a:gdLst>
            <a:ahLst/>
            <a:rect l="textAreaLeft" t="textAreaTop" r="textAreaRight" b="textAreaBottom"/>
            <a:pathLst>
              <a:path w="21600" h="64319">
                <a:moveTo>
                  <a:pt x="3600" y="0"/>
                </a:moveTo>
                <a:arcTo wR="3600" hR="3600" stAng="16200000" swAng="-5400000"/>
                <a:lnTo>
                  <a:pt x="0" y="60719"/>
                </a:lnTo>
                <a:arcTo wR="3600" hR="3600" stAng="10800000" swAng="-5400000"/>
                <a:lnTo>
                  <a:pt x="18000" y="64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テキスト ボックス 42"/>
          <p:cNvSpPr/>
          <p:nvPr/>
        </p:nvSpPr>
        <p:spPr>
          <a:xfrm>
            <a:off x="5040360" y="3141720"/>
            <a:ext cx="3708360" cy="1582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ined candi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 Use L0 mv/refIdx of 1st  candidate in the merge candidate 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Up to two candi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vL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(4,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vL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+ (-4,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線コネクタ 50"/>
          <p:cNvSpPr/>
          <p:nvPr/>
        </p:nvSpPr>
        <p:spPr>
          <a:xfrm>
            <a:off x="4140360" y="3897360"/>
            <a:ext cx="90000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テキスト ボックス 52"/>
          <p:cNvSpPr/>
          <p:nvPr/>
        </p:nvSpPr>
        <p:spPr>
          <a:xfrm>
            <a:off x="4967280" y="1089000"/>
            <a:ext cx="363708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method need modification to merge candidate derivation for P Sl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riment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FD40-E7A3-4346-A522-70F2E84F8560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647640" y="1327320"/>
            <a:ext cx="4896000" cy="1885680"/>
          </a:xfrm>
          <a:prstGeom prst="rect">
            <a:avLst/>
          </a:prstGeom>
          <a:ln w="0">
            <a:noFill/>
          </a:ln>
        </p:spPr>
      </p:pic>
      <p:sp>
        <p:nvSpPr>
          <p:cNvPr id="198" name="テキスト ボックス 5"/>
          <p:cNvSpPr/>
          <p:nvPr/>
        </p:nvSpPr>
        <p:spPr>
          <a:xfrm>
            <a:off x="6156360" y="1125360"/>
            <a:ext cx="26636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modification improves 0.3% in P Sl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etter gain for larger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テキスト ボックス 6"/>
          <p:cNvSpPr/>
          <p:nvPr/>
        </p:nvSpPr>
        <p:spPr>
          <a:xfrm>
            <a:off x="395280" y="944640"/>
            <a:ext cx="5724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-6.0 + Prop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647640" y="3921120"/>
            <a:ext cx="3960720" cy="2384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3"/>
          <a:stretch/>
        </p:blipFill>
        <p:spPr>
          <a:xfrm>
            <a:off x="4751280" y="3921120"/>
            <a:ext cx="396108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線コネクタ 10"/>
          <p:cNvSpPr/>
          <p:nvPr/>
        </p:nvSpPr>
        <p:spPr>
          <a:xfrm flipH="1">
            <a:off x="1511280" y="2043000"/>
            <a:ext cx="1440" cy="387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rge candidate derivation (B Slice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EC4B-5391-4507-AE91-9D867BA6103F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正方形/長方形 4"/>
          <p:cNvSpPr/>
          <p:nvPr/>
        </p:nvSpPr>
        <p:spPr>
          <a:xfrm>
            <a:off x="971640" y="2382840"/>
            <a:ext cx="10792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正方形/長方形 5"/>
          <p:cNvSpPr/>
          <p:nvPr/>
        </p:nvSpPr>
        <p:spPr>
          <a:xfrm>
            <a:off x="971640" y="3033720"/>
            <a:ext cx="10792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正方形/長方形 6"/>
          <p:cNvSpPr/>
          <p:nvPr/>
        </p:nvSpPr>
        <p:spPr>
          <a:xfrm>
            <a:off x="971640" y="4329000"/>
            <a:ext cx="10792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正方形/長方形 8"/>
          <p:cNvSpPr/>
          <p:nvPr/>
        </p:nvSpPr>
        <p:spPr>
          <a:xfrm>
            <a:off x="971640" y="4976640"/>
            <a:ext cx="10792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B Sl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円/楕円 11"/>
          <p:cNvSpPr/>
          <p:nvPr/>
        </p:nvSpPr>
        <p:spPr>
          <a:xfrm>
            <a:off x="1467000" y="1951200"/>
            <a:ext cx="88920" cy="9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円/楕円 12"/>
          <p:cNvSpPr/>
          <p:nvPr/>
        </p:nvSpPr>
        <p:spPr>
          <a:xfrm>
            <a:off x="1467000" y="5913360"/>
            <a:ext cx="8892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テキスト ボックス 15"/>
          <p:cNvSpPr/>
          <p:nvPr/>
        </p:nvSpPr>
        <p:spPr>
          <a:xfrm>
            <a:off x="898560" y="1357200"/>
            <a:ext cx="115236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_Sl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M-6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線コネクタ 24"/>
          <p:cNvSpPr/>
          <p:nvPr/>
        </p:nvSpPr>
        <p:spPr>
          <a:xfrm flipH="1">
            <a:off x="3344400" y="2043000"/>
            <a:ext cx="1800" cy="387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正方形/長方形 25"/>
          <p:cNvSpPr/>
          <p:nvPr/>
        </p:nvSpPr>
        <p:spPr>
          <a:xfrm>
            <a:off x="2806560" y="2382840"/>
            <a:ext cx="107964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正方形/長方形 26"/>
          <p:cNvSpPr/>
          <p:nvPr/>
        </p:nvSpPr>
        <p:spPr>
          <a:xfrm>
            <a:off x="2806560" y="3033720"/>
            <a:ext cx="1079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正方形/長方形 28"/>
          <p:cNvSpPr/>
          <p:nvPr/>
        </p:nvSpPr>
        <p:spPr>
          <a:xfrm>
            <a:off x="2806560" y="4976640"/>
            <a:ext cx="107964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 Sl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円/楕円 29"/>
          <p:cNvSpPr/>
          <p:nvPr/>
        </p:nvSpPr>
        <p:spPr>
          <a:xfrm>
            <a:off x="3300480" y="1951200"/>
            <a:ext cx="90360" cy="9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円/楕円 30"/>
          <p:cNvSpPr/>
          <p:nvPr/>
        </p:nvSpPr>
        <p:spPr>
          <a:xfrm>
            <a:off x="3300480" y="5913360"/>
            <a:ext cx="9036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テキスト ボックス 31"/>
          <p:cNvSpPr/>
          <p:nvPr/>
        </p:nvSpPr>
        <p:spPr>
          <a:xfrm>
            <a:off x="2735280" y="1357200"/>
            <a:ext cx="151128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-pred disabl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01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正方形/長方形 32"/>
          <p:cNvSpPr/>
          <p:nvPr/>
        </p:nvSpPr>
        <p:spPr>
          <a:xfrm>
            <a:off x="2806560" y="3643200"/>
            <a:ext cx="107964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0 uni-p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角丸四角形 47"/>
          <p:cNvSpPr/>
          <p:nvPr/>
        </p:nvSpPr>
        <p:spPr>
          <a:xfrm>
            <a:off x="611280" y="1125360"/>
            <a:ext cx="1727280" cy="5146920"/>
          </a:xfrm>
          <a:custGeom>
            <a:avLst/>
            <a:gdLst>
              <a:gd name="textAreaLeft" fmla="*/ 84240 w 1727280"/>
              <a:gd name="textAreaRight" fmla="*/ 1643040 w 1727280"/>
              <a:gd name="textAreaTop" fmla="*/ 84240 h 5146920"/>
              <a:gd name="textAreaBottom" fmla="*/ 5062680 h 5146920"/>
            </a:gdLst>
            <a:ahLst/>
            <a:rect l="textAreaLeft" t="textAreaTop" r="textAreaRight" b="textAreaBottom"/>
            <a:pathLst>
              <a:path w="21600" h="64354">
                <a:moveTo>
                  <a:pt x="3600" y="0"/>
                </a:moveTo>
                <a:arcTo wR="3600" hR="3600" stAng="16200000" swAng="-5400000"/>
                <a:lnTo>
                  <a:pt x="0" y="60754"/>
                </a:lnTo>
                <a:arcTo wR="3600" hR="3600" stAng="10800000" swAng="-5400000"/>
                <a:lnTo>
                  <a:pt x="18000" y="643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角丸四角形 48"/>
          <p:cNvSpPr/>
          <p:nvPr/>
        </p:nvSpPr>
        <p:spPr>
          <a:xfrm>
            <a:off x="2554200" y="1125360"/>
            <a:ext cx="1728720" cy="514692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5146920"/>
              <a:gd name="textAreaBottom" fmla="*/ 5062680 h 5146920"/>
            </a:gdLst>
            <a:ahLst/>
            <a:rect l="textAreaLeft" t="textAreaTop" r="textAreaRight" b="textAreaBottom"/>
            <a:pathLst>
              <a:path w="21600" h="64301">
                <a:moveTo>
                  <a:pt x="3600" y="0"/>
                </a:moveTo>
                <a:arcTo wR="3600" hR="3600" stAng="16200000" swAng="-5400000"/>
                <a:lnTo>
                  <a:pt x="0" y="60701"/>
                </a:lnTo>
                <a:arcTo wR="3600" hR="3600" stAng="10800000" swAng="-5400000"/>
                <a:lnTo>
                  <a:pt x="18000" y="64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4e85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線コネクタ 39"/>
          <p:cNvSpPr/>
          <p:nvPr/>
        </p:nvSpPr>
        <p:spPr>
          <a:xfrm flipH="1">
            <a:off x="5291280" y="2043000"/>
            <a:ext cx="1440" cy="387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正方形/長方形 42"/>
          <p:cNvSpPr/>
          <p:nvPr/>
        </p:nvSpPr>
        <p:spPr>
          <a:xfrm>
            <a:off x="4753080" y="2382840"/>
            <a:ext cx="1079280" cy="36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a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正方形/長方形 49"/>
          <p:cNvSpPr/>
          <p:nvPr/>
        </p:nvSpPr>
        <p:spPr>
          <a:xfrm>
            <a:off x="4753080" y="3033720"/>
            <a:ext cx="10792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正方形/長方形 50"/>
          <p:cNvSpPr/>
          <p:nvPr/>
        </p:nvSpPr>
        <p:spPr>
          <a:xfrm>
            <a:off x="4753080" y="4976640"/>
            <a:ext cx="107928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 Sl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円/楕円 51"/>
          <p:cNvSpPr/>
          <p:nvPr/>
        </p:nvSpPr>
        <p:spPr>
          <a:xfrm>
            <a:off x="5246640" y="1951200"/>
            <a:ext cx="90360" cy="9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円/楕円 52"/>
          <p:cNvSpPr/>
          <p:nvPr/>
        </p:nvSpPr>
        <p:spPr>
          <a:xfrm>
            <a:off x="5246640" y="5913360"/>
            <a:ext cx="90360" cy="8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27000" bIns="27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テキスト ボックス 31"/>
          <p:cNvSpPr/>
          <p:nvPr/>
        </p:nvSpPr>
        <p:spPr>
          <a:xfrm>
            <a:off x="4681440" y="1357200"/>
            <a:ext cx="151128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-pred disabl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0107+ Propo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正方形/長方形 54"/>
          <p:cNvSpPr/>
          <p:nvPr/>
        </p:nvSpPr>
        <p:spPr>
          <a:xfrm>
            <a:off x="4753080" y="3643200"/>
            <a:ext cx="1079280" cy="3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0 uni-p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正方形/長方形 55"/>
          <p:cNvSpPr/>
          <p:nvPr/>
        </p:nvSpPr>
        <p:spPr>
          <a:xfrm>
            <a:off x="4753080" y="4329000"/>
            <a:ext cx="1079280" cy="358920"/>
          </a:xfrm>
          <a:prstGeom prst="rect">
            <a:avLst/>
          </a:prstGeom>
          <a:solidFill>
            <a:srgbClr val="f2ced2"/>
          </a:solidFill>
          <a:ln w="93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角丸四角形 56"/>
          <p:cNvSpPr/>
          <p:nvPr/>
        </p:nvSpPr>
        <p:spPr>
          <a:xfrm>
            <a:off x="4500720" y="1125360"/>
            <a:ext cx="1728720" cy="514692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5146920"/>
              <a:gd name="textAreaBottom" fmla="*/ 5062680 h 5146920"/>
            </a:gdLst>
            <a:ahLst/>
            <a:rect l="textAreaLeft" t="textAreaTop" r="textAreaRight" b="textAreaBottom"/>
            <a:pathLst>
              <a:path w="21600" h="64301">
                <a:moveTo>
                  <a:pt x="3600" y="0"/>
                </a:moveTo>
                <a:arcTo wR="3600" hR="3600" stAng="16200000" swAng="-5400000"/>
                <a:lnTo>
                  <a:pt x="0" y="60701"/>
                </a:lnTo>
                <a:arcTo wR="3600" hR="3600" stAng="10800000" swAng="-5400000"/>
                <a:lnTo>
                  <a:pt x="18000" y="643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テキスト ボックス 57"/>
          <p:cNvSpPr/>
          <p:nvPr/>
        </p:nvSpPr>
        <p:spPr>
          <a:xfrm>
            <a:off x="6516720" y="1160640"/>
            <a:ext cx="2340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method can also be applied to B Slice when Bi-pred is restricted in small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riment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8981-004E-496D-84BA-EA72F879554D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971640" y="3824280"/>
            <a:ext cx="4895640" cy="1886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971640" y="1305000"/>
            <a:ext cx="4895640" cy="1886040"/>
          </a:xfrm>
          <a:prstGeom prst="rect">
            <a:avLst/>
          </a:prstGeom>
          <a:ln w="0">
            <a:noFill/>
          </a:ln>
        </p:spPr>
      </p:pic>
      <p:sp>
        <p:nvSpPr>
          <p:cNvPr id="237" name="テキスト ボックス 6"/>
          <p:cNvSpPr/>
          <p:nvPr/>
        </p:nvSpPr>
        <p:spPr>
          <a:xfrm>
            <a:off x="755640" y="944640"/>
            <a:ext cx="5724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-6.0 + I0107 (Restrict bi-pred in 8x4/4x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テキスト ボックス 7"/>
          <p:cNvSpPr/>
          <p:nvPr/>
        </p:nvSpPr>
        <p:spPr>
          <a:xfrm>
            <a:off x="755640" y="3429000"/>
            <a:ext cx="5724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-6.0 + I0107 + Proposed (Restrict bi-pred in 8x4/4x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テキスト ボックス 8"/>
          <p:cNvSpPr/>
          <p:nvPr/>
        </p:nvSpPr>
        <p:spPr>
          <a:xfrm>
            <a:off x="6156360" y="1125360"/>
            <a:ext cx="2663640" cy="11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sed modification improves 0.1% when implemented on top of I01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mm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C7CF-C73D-4C12-84EB-597261CF257F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657000"/>
            <a:ext cx="8399520" cy="60483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fined merge candidate for non-bi-pred bl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ine mv of 1st candidate with either (+4, 0) or (-4, 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in P Slice or bi-pred restricted bl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yntax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ng efficienc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out 0.3 % gain for P Sl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out 0.1 % gain for B Slice when bi-pred restriction in small block is us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st case computation (Bi-pred for all blocks) is not chang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ligible impact on enc/dec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opt in HM and D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5:19:20Z</dcterms:created>
  <dc:creator>.</dc:creator>
  <dc:description/>
  <dc:language>en-US</dc:language>
  <cp:lastModifiedBy>tomoyuki</cp:lastModifiedBy>
  <dcterms:modified xsi:type="dcterms:W3CDTF">2012-04-27T10:13:39Z</dcterms:modified>
  <cp:revision>2581</cp:revision>
  <dc:subject/>
  <dc:title>.</dc:title>
</cp:coreProperties>
</file>