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808E-3A79-424F-8A95-2A6E9A122A5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37A5-00BD-4752-B475-899FBB2D012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B873-0F64-4143-92FB-3B6E9EB53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947F-B6BE-4606-9133-BA3C55A75B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76F68-DB54-4EB5-B831-621163E77C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4850-7CF9-4573-A3F4-5A2C8A583E7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A448-E56A-45D9-97FD-7445C1E45BE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8290-B5CD-468B-9242-4974549390D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0740-2D0E-47B7-9D32-881CD85088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BBE6-4CF1-4CFC-831D-FB2AFBA8B40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2DD8-EB79-43F8-8F00-A74CD4CE90A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0352-7D77-4FA1-9557-7F2658C9EF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978C-2427-4CEA-9559-3DB91160DE0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1CD37-63F2-4344-A196-C041540A6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EB1E-84C4-476A-BBA5-2011BB08B8F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83FE88-B157-407B-8AE0-62F589FD5C6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123CA-95C3-431F-845A-3E7F2974232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60AE3-520A-4ADB-8596-429DCC6FE3C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58214A-6A8F-441A-A6E5-4F6F8D03EA0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B83CB6-D212-4729-AAE3-755B1CE696B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63FC4-6B52-424A-AC70-C94CB269F0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93AAD-6970-4746-9FE9-683B51A3ECD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C37FF-576D-4100-A178-1730E696C8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85B2B-5E23-443D-91CD-1931060ACA2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BBD02-1E0F-4F22-B5DA-BE35094DE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19E1-6E16-4654-B8F7-1015A225848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14428-BA9C-49DE-B2B6-EEE7093EC12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41990-9DD8-4FB0-9BC0-765937D28CC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DAAD5-CC5B-4BB0-8AC5-6D712F1F4AE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B202D-31BF-45D8-83B2-0E50CA6FB0B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53511-EC6B-4966-A897-6FFC598D969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CEDED-85DC-44E0-91EF-8DB9E9733B0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F8744-A820-4F34-BF8D-1E9AEDA92F3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EF6A9-3E73-4198-AF60-E2EEE64D23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5B8F9-3AAA-460F-B1D6-6ED6F64EC15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F1BF8E-41A6-4E1E-9E44-AE875879D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AD13-CF9D-4AA4-98B9-7DA205582DD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8706E-B2C9-459C-88D3-467BE455788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A7548-3E83-43F8-B418-CFE4E14D141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E5F14-1EDE-4482-B395-47AF2067FEE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B8D2-2EC2-468C-BB7B-10BB338CAE1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F1EA-24CA-40E2-89C0-D57906D38C5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34BFE-A619-4535-890B-F3DDFBBF073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FF138-FFC0-419F-A7EE-B94E1849F6D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8A570-690E-4236-A594-423ED62A9F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DB90B-2282-4F50-A00A-43C4D066E75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44706-AE64-4CD1-91AE-02C5E101E6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864E-A71D-4936-8E52-24E89F65774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F930-3739-4AFB-9AA3-74D36703678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A59F-0313-4CCA-BD35-D6986BBF75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B599-B59B-493A-A92A-7899113EF6A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36153-4D6B-478A-B99E-0AB404A3EC3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1AAB9-D48B-42C6-BC5B-E47DA98135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B335-A44E-4DA1-BA23-1F6697FBA3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98C0-6A9F-4C71-8D2B-EDF44773D8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54424-F5E7-4965-A114-111E86371F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B020-79D4-4168-BDF0-4D00BD1D1E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6135-A36E-4954-A1A5-7FD0B0F8C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AA24-2734-4F11-8271-BF476EC11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2F8B-BA44-4EAF-8EFE-15970C265B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8482-2914-43B3-BF1A-EE0F8F5468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5240-75C6-46C3-AC7A-A379B82640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0085-9DCF-453D-81AD-B15AE5BF71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9DAD-2BC6-4422-9BB6-DD279FB01D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13D-8F4E-4A0C-A46F-5695772D27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07B-DA86-4BDF-95C0-9D97460D52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C1F-4E57-48E0-B63C-BE3E6F4750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E9E-824F-42B3-AB21-FE8F02A82F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9BE-5427-419C-B9A8-2F07AB36E9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7736-6749-4B9B-8AA5-27D017F46A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EFA-3185-466C-8A54-9F372AEC82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4FA-F774-475B-A24A-CA9B717BE1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E18-5D27-4465-BC65-79F5F03C0C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366-D1A2-450F-8314-7417D49D2B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F87-625F-4259-B7C2-9EB5A0C87D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97E-4827-4A92-80BE-13D123F8B7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4CB-E2E8-4A95-99A3-2EF7D92A05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BF09D-20B0-4BAD-A4CA-E25DFAF999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4A9E3-68F2-4A9E-A570-B36F1D28C9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6C6CB-A3F6-4D90-85A1-7F95F10AB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C741-B386-41AA-A822-A8F3F8AB8D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9F6F9-0D16-48E4-9409-DEDBC6FC99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B2E36-9973-4312-905B-CF8DEB3548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1B783-7B80-4ADD-875B-F11D340A18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072CA-DD99-4123-A908-42FD5BA1EB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BDD37-BD25-401A-89CC-CE504B202D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CE04F-5F4A-43EB-A352-189503B3D3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F3837-5CE8-4A97-A9E7-02C2FB55F1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A0CD0-F9B5-4216-9ED9-B0958A39D4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DCFB6-66C9-4BD7-A5F4-AD33269C76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844ED-A14D-4916-BF2A-B3E2E3453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A2CC-3960-4CAD-A85C-FFE97B4543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A2771-F751-458E-B34B-182CD49777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5A3FA-8659-40CC-85AF-6BAED244C86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3F8C8-8B05-493C-8BD2-51D0F62808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4771B-5080-423C-81B3-F12708693AC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61636-A962-4943-A958-7406281B25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FF83C-C9C9-49E6-8EA6-31B66703B57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ACFDB-8F57-4781-8670-E2C76D92239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878CC-145F-4B15-8ADB-FD85E92AB2B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5C2FA-141A-4C69-BAA2-8B39B34889D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678FE-19B6-42C4-9980-1712F4039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619D-B599-498A-A5AB-DCA042CB0D3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D7767-C1DA-4673-8D48-0F127ED014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7DDE-79E8-43FA-BF38-5830DF92BF9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0A99-87AE-4AE1-91F3-C49DF72A501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0031-4E8D-4DFF-9E6A-E0B54E60843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DA33-B079-4D87-82CE-D0E057DC68D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8F42-9355-4549-9037-1FB9F5B640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7A5C-DB6B-4757-B4D4-EB9973EE7B3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5C2A-5AFE-4E95-B589-7D1988067B1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E2C7-EAE9-429D-AFB3-EE70BB40695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B98F-2571-46ED-8068-D6E207836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6DF1-F3EC-4BE2-8343-3DAC214C6F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8655-1091-472D-9BBD-AD6F521426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636C-FA04-4BEE-BA13-148E85B271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206B-B9F2-4755-934A-5738C447CFC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C97DA-E2E6-435B-8C4A-D5550F84D43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4D03A5-79DD-4ECC-A4DE-DA83E66801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3F323F-58C1-4F6D-8B98-3D252E4B716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41584-4376-4B58-B59D-2A3481DBC25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31E6B-58A9-4114-A8CE-A76DADC512D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9F5791-9A6F-4A2A-95D2-F172598BA6D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5686F-D9A4-4A43-86D8-3B6DCD071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88B5-A509-4CB7-862F-36D5F63CE4F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132492-3C60-4087-86CC-7E18B04DA69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DB25B-ABB1-4005-B327-1C817A52393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3FFD1-A779-4760-B131-8703679147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6FA97D-CB20-4623-AA9F-A931B1AFF92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C27B8-0CD1-476B-ADF4-F497D3B45FD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23996-4D78-410B-BFD2-41BA05B5F6E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75250-06F1-4A50-9BB3-FCB705B74B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CAEB4-D98A-43FC-A13B-72F7D55E32D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D25FE-2727-447D-B990-0FEB1DF3E5D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B8360-E0C6-49A6-8B00-F4D2C4BD3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9EA2-0820-4CB0-80F9-D2F56FDCAD0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81065-8187-4654-8463-AA402C824E9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DDEB5-C5CE-4628-9120-CFF9F416130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1CB92-0962-46A5-AAB6-B7D5F730E13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210EB-258A-466D-BC35-17EF869A58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BD30F-F4A1-4FA0-9504-E73607FBF5C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413DB-9D21-4520-88F5-4358E33CF58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C1046-CA80-42B6-9F4B-3F156AF7DF1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43C1-1D80-41E7-9D71-C1C97AB9627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5DFB-468B-4ED9-91CE-39D1C7D27E8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C07AC-1641-453F-9751-8D7CCC4D6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34F2-D2DB-48B6-B5BA-1BCA86A3B99A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C74E-C3DA-4E73-BD8D-82A8667ABDFC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9228-9C2D-4E5D-B51B-FEE36305805B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AFA7-5B69-46CE-B452-F40CC43EB53B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8F25-CAAF-423B-9CC8-DBA6C0F65ADA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5336-EF4F-41A5-9472-16E2626F31C0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5050-0825-4214-8D0D-3F2A89FE2C6D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BA14-27D6-4467-A9BC-6E23642618EF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CCE-7886-495E-AA9E-49407681622A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6B52-A5BE-42E3-B954-EB520DC188D5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523B-1022-4468-AED3-8391CAE2A1B3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1C9F-A0D4-41BD-A468-F2B53BF10642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A88D-D8C0-4E83-83F0-C6E0E4C0C64D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301788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6320" y="1523880"/>
            <a:ext cx="89154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8c93"/>
                </a:solidFill>
                <a:latin typeface="Arial"/>
                <a:ea typeface="SimHei"/>
              </a:rPr>
              <a:t>JCTVC-H0289</a:t>
            </a:r>
            <a:r>
              <a:rPr b="1" lang="en-CA" sz="3100" spc="-1" strike="noStrike">
                <a:solidFill>
                  <a:srgbClr val="3c8c93"/>
                </a:solidFill>
                <a:latin typeface="Arial"/>
                <a:ea typeface="SimHei"/>
              </a:rPr>
              <a:t> (</a:t>
            </a:r>
            <a:r>
              <a:rPr b="1" lang="en-US" sz="3100" spc="-1" strike="noStrike">
                <a:solidFill>
                  <a:srgbClr val="3c8c93"/>
                </a:solidFill>
                <a:latin typeface="Arial"/>
                <a:ea typeface="SimHei"/>
              </a:rPr>
              <a:t>Non-CE2</a:t>
            </a:r>
            <a:r>
              <a:rPr b="1" lang="en-CA" sz="3100" spc="-1" strike="noStrike">
                <a:solidFill>
                  <a:srgbClr val="3c8c93"/>
                </a:solidFill>
                <a:latin typeface="Arial"/>
                <a:ea typeface="SimHei"/>
              </a:rPr>
              <a:t>): A cross 7x5 shape for ALF complexity redu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1828800" y="3657600"/>
            <a:ext cx="5257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Faouzi Kossent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9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Geneva, 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27 April - 7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0520" y="14475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 HM6.0’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 9x7 + center 3x3 square shape: 10 multiplies and 9 adds per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posed cross 7x5 filter shap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multiplies and 5 adds per sample are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2724-C45C-486E-9FC7-664544569205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9" descr=""/>
          <p:cNvPicPr/>
          <p:nvPr/>
        </p:nvPicPr>
        <p:blipFill>
          <a:blip r:embed="rId1"/>
          <a:stretch/>
        </p:blipFill>
        <p:spPr>
          <a:xfrm>
            <a:off x="3098880" y="1905120"/>
            <a:ext cx="2946240" cy="18842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0" descr=""/>
          <p:cNvPicPr/>
          <p:nvPr/>
        </p:nvPicPr>
        <p:blipFill>
          <a:blip r:embed="rId2"/>
          <a:stretch/>
        </p:blipFill>
        <p:spPr>
          <a:xfrm>
            <a:off x="3419640" y="4599000"/>
            <a:ext cx="230472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09480" y="1523880"/>
          <a:ext cx="3733920" cy="201456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785880"/>
                <a:gridCol w="887400"/>
              </a:tblGrid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0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26EA-C451-43C7-8A43-DA21811EDEA1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800600" y="1523880"/>
          <a:ext cx="3733920" cy="201456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785880"/>
                <a:gridCol w="887400"/>
              </a:tblGrid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09480" y="3733920"/>
          <a:ext cx="3733920" cy="201456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785880"/>
                <a:gridCol w="887400"/>
              </a:tblGrid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4876920" y="3705120"/>
          <a:ext cx="3733560" cy="2014560"/>
        </p:xfrm>
        <a:graphic>
          <a:graphicData uri="http://schemas.openxmlformats.org/drawingml/2006/table">
            <a:tbl>
              <a:tblPr/>
              <a:tblGrid>
                <a:gridCol w="1143000"/>
                <a:gridCol w="917280"/>
                <a:gridCol w="785880"/>
                <a:gridCol w="887400"/>
              </a:tblGrid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07A9-221F-47AA-AB74-F80FB0BD5F30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relative to HM 6.0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4%, -0.4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age Y, U and V (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relative to HM 6.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% reduction in average encod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% reduction in average decod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/hardware complexity substantially reduced: 40% less ALF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ncoder/decoder implementation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Administrator</cp:lastModifiedBy>
  <cp:lastPrinted>2009-04-22T19:24:48Z</cp:lastPrinted>
  <dcterms:modified xsi:type="dcterms:W3CDTF">2012-04-24T14:28:46Z</dcterms:modified>
  <cp:revision>2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