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5BCD-548E-41EF-9DF7-9C9CE925148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7B7-2A81-4180-A479-62EE1BE469F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A111-E5A5-4921-A5D8-1BEDD6EF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6CF6-EF99-43F2-B125-4C75EC2408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FC92-DAE3-4C00-82C6-31A5A1D2A4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3668-6958-48A2-B470-856728343C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AFE5-7251-44AE-B2B5-E91BFCC0013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3A38-FD5E-4515-8215-074714D5CA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DB38-17C7-4F0B-89F6-4C5C4C99DB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2A7D-5F1D-4B26-AC6C-244B5D36B4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C15B-0BFB-4C11-8408-D7E65B003F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31C3-8862-4E52-84AF-0DC45F34C2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0C52-130A-4FA3-8B12-C4D2A17394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9ED2F-0CE8-4F22-A317-766EAD74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DDC3-B8E1-4821-9961-AC3A478F75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A04B9-0EDF-4399-A4DC-EF203E6C20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29EFD-4155-4991-83D2-B046F3CE41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B0D18-D044-4851-A69A-F2E1EBFB0BE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486AD-0595-4719-BC10-226CEC8C19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A93B9-E970-46FF-B2B2-A9E4EA9423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4325C-2DDE-4954-910C-E27D02BAD1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87A9A-F8AC-486C-8E64-272E4795BE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99698-5C0E-4905-BC37-17836477DB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35D3D-04CE-4F5C-A56A-95AFE8826A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0D5E9-893E-42DB-AB19-D5349A6BA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3704-79B0-4042-9AC3-6D37F3A881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E00DC-F354-4A37-BC0C-112E994021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38B90-15BF-4CDD-BA9A-3AE5E1EE77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FAAD6-CB60-40FF-AB24-E34D65E9BB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67599-58C6-4FBD-AC5B-06C2E1B67CE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D258B-BD1B-4369-BD16-39C35229BE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45592-B928-4710-9E1D-C9E4AE7EA0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837B7-C2E8-4FC4-AAB5-166B1F033A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C07A1-CF2B-4048-A408-4336874C32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34136-32C0-4992-8451-D3CD4EB358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85F25-1D42-4554-81B6-0303611E3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9FE8-D2E3-4AAF-A613-C6709C33CD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E2EE0-E656-48FD-AC1C-F7FFFA919C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52363-07CC-4EBE-BF79-6C98C8F729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196CD-ECB7-4646-861F-C52A3D991A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2D56-0E7F-4CF8-9147-4188C05B4D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1911-AC6F-489D-98D6-460007C45C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24BA-31B3-4FC1-B198-BF4CE12240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999D-A93B-4A41-8A04-80345C8753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DB42-F56A-4B13-B156-A6E7CBC4FF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1FFF-BB9D-41FF-A93F-9D9D7CC804B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F893-84B6-4923-9EDA-BCE55ACDAB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7F62-DC89-47BB-A93D-723BF7E7AEB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2421-95C4-4CD4-BBDE-060E21949B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4355-419D-4C9F-AE77-F53EBD2CE1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FDF2-525B-4D29-87A9-69FB6157C5C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9726-C65E-4985-BD6A-6C9E1B6DA5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B29E-2B7A-494E-9A35-C056E27F4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E17B-434B-4E0D-A651-0349376AA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422E-2C6C-4343-8371-C6468911CC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CA6D-37F4-4DDA-A132-3CD051C159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CB1C-4049-464A-AEB7-B0665AB5F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934E-3D7E-4E8C-AB17-C14CDA80D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8C7D-89E4-4003-B29C-616C7F739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2A68-E854-4120-BF6E-B310E68573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CE6E-B0F9-4B23-A4F7-24CA49E118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D439-E65A-40FE-8B59-1AFB2DF2E0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CC52-ED92-4FE5-B9EF-8C3A6D3742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2244-4CBB-4CCC-BF36-81DE030D47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B6A-EFFB-490F-ABF2-FB0AEFA550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C21-732E-453A-9D9A-BE9CBCAA0A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61B-1653-4327-8461-ED85A1C53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FF2-37FD-4D57-B1AE-BC7DD43249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512-67B8-400E-BB74-72BFB6E1CD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E656-08B6-491C-A815-798498B1F3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6D1-A539-4EEA-9245-A28ADA3E9C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5CF-AA22-4DF1-BDAA-924235A4C6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2F8-C5FD-4E97-BCF6-2BC80C58D0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171-71BC-46DC-9193-BF013083E9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0DA-5893-4552-AFA7-1F0A1A5B7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165-3E34-432E-9132-FDA83F073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069-C178-4B8D-894D-8B275D7E31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D1DB3-87B3-4FFB-AC41-1B9B0F0230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55D1-7EC5-47A6-AC06-FC7C036F84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AA23E-9074-4453-8EB1-3ED0B7049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72AE-6D9B-4D1E-A85C-F6D3A73E80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6F0C-6633-4548-93D8-A878A8D1BF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BE237-7D0E-4F5B-AD53-3490F19BB6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7803-F448-440A-9B3C-D6B67A7407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2E286-4DD3-41F5-9A8A-47E2603FFF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3645-D94C-41EB-9B39-5BF65F0C0D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DB3A6-7C9B-4C22-8265-F6FD05A9EE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9AFE1-A3A4-4301-A74C-721D6746EA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DDF8-6A1C-49CC-8794-BC4F68AE66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DB046-4697-4612-BDFA-8306C58F3E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A0B0-7684-436F-BDF4-8BF660E07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E8EA-8184-4D75-A2F7-5D6B6C42F9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4E975-EDA8-4791-A2C1-3BFF2B015D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32015-352E-4AC0-B5B8-E0139C864B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FB8D7-1756-4B14-889A-7F8D8DBBD2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793DA-D61F-4AF8-BCBC-091E667CB9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7D2C-09FE-4C29-80D5-DCA81E8798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D291-DC47-46B8-BC9C-D73EEF471A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04BD-29F1-46D9-8F48-59E8D2992B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D819E-C1AB-4106-AA50-3B3F9E65D3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11C3C-12F7-4E2A-B55A-D0AF627400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8ED84-94A3-41AC-82D1-F5E31E2E9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C265-8E35-4C7F-97AC-07478227DB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F902-5DAD-43DC-99FC-CC12842B74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AB91-94B3-40B7-85B9-9CD5D9D3BD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A9D6-3D96-4FDD-8657-13151CBF22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E144-DF60-4173-954E-BFE609AFB0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CC99-C146-4069-93FF-B471322CD9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3060-4355-4744-9824-DA73E19AE0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6115-6251-48B2-B4F0-D787261FA9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3F4-E2B4-4451-A486-D88A1AD74A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A92-31E8-4B1C-BEEC-AC40F9FBCE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BE2-8C56-4603-9FC7-C04DEC61B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2AA9-179A-47A0-A492-F7992ECAD3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939B-3FD8-4C8C-82C3-5DCDB3A8B6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523-5E87-4A96-A38B-6B401F29F7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45EA-3B53-44AE-B5C4-4360FB21FC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F9955-A0A4-4214-A787-98BEDC8E02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E7F1E-3A04-4C3C-A3BE-970DEF5D3F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C3D6F-55BA-4414-BA6C-678DFFBE43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D753C-2D1A-4EFD-94CC-243797F7D8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F43C5-F7EE-4439-8CDD-4F8A8D6FD6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9EED5-94FD-410A-A3BA-615F90D4985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26DB1-B6AA-4BF5-9873-71D1EEBDF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5098-1E5A-49DF-B1D2-FB15EC4E7D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7D4A6-9258-4F3F-B85B-54BB5C1025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83E5E-BBCC-4132-80D8-5250787D1D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4E449-5315-4D2E-9C00-976F993788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DA959-C183-4F48-9D0E-D570456742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B3EF8-E464-4F3D-8266-F98B0335B6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C1B0C-CBDD-4A21-B4A3-0921660DD1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4F24D-0655-4A8B-BF20-7F234B407E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D712E-BFE1-4196-8804-E184B352D0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C5351-A10F-4358-B294-966501A12C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C4BF0-0163-4FDA-BD80-3F1545998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8C38-4669-4DB6-AA47-402AD2C71A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5B870-A765-407C-BAE5-C7824C2C57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8F0CC-BCD4-4560-8CC8-5A3B678BD7D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33199-EC93-49BC-970F-D01A74D509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3BDD8-5E5F-48CB-AB27-5C19686A82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9A509-AB58-4354-8CE5-5BF3751A0B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00E91-4345-4EED-8FBD-888782634E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0BC7F-E043-4664-B559-B8F2E56214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EEAD-62DD-41BC-BA9F-BCE95065F5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0EBA-35FD-444D-A29B-7CDE1EB5A8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96A1-9D39-47D1-AE71-3D20E2CC8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144-5CCF-4ACD-AC11-FAF949FB7101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CF7C-076E-4D21-8A77-2AC65F0A6CD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E1C-F711-433E-ACF0-7DD0C304C74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ED4-5093-4D36-BE67-CE69557E1E9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D80-58AB-43E4-A701-4143494D899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F0B5-E368-449A-88EF-64BE2E1867F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2E8-B28B-46A0-BF33-D1BAC3740B4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BA17-7322-47E3-93EB-13F0B5899ED1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E6D-9A6E-4C92-8FD8-43BF9A2D836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A60-19FA-4254-A803-32401093BB0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B08A-FAAD-438B-9402-E1E0D0EFFAC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A8F-D316-43CB-A114-A8AFD086CC6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2E3-F0ED-4866-AA45-5209DD9ACC2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301788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6320" y="1523880"/>
            <a:ext cx="8915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JCTVC-H0287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 (</a:t>
            </a: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Non-CE2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): Reduced Coefficient Precision for ALF Complexity Re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828800" y="3657600"/>
            <a:ext cx="5257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9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.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7 April - 7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HM6.0, non-center coefficients have the same bit-depth: For the worst-case scenario (QP &lt; 28), the bit-depth of non-center coefficients is equal to 8. The bit-depths ar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ed bit-depths for the ALF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B4E-4ABF-4BC5-9C99-B50298840FA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3095640" y="2438280"/>
            <a:ext cx="2952720" cy="14288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124080" y="4552920"/>
            <a:ext cx="29527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9480" y="152388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483-4600-49E2-BCD1-17B29A69539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800600" y="152388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9480" y="373392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876920" y="3705120"/>
          <a:ext cx="373356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28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26B-8DC5-491C-BEB1-FADFE012801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s relative to HM 6.0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%, 0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rage Y, U and V BD-Rates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lative to HM 6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verage encoding/decod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5% reduction in average bit-depth of the coefficients: Lower hardwar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9-04-22T19:24:48Z</cp:lastPrinted>
  <dcterms:modified xsi:type="dcterms:W3CDTF">2012-04-24T14:04:23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