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DB24-914D-4A1D-8134-8DE94388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238-4987-4DBC-918B-B0F78B692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A4D-13FA-494D-ACD0-1F68D73A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347F-8786-4B65-A50F-DF15CAF2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BA0-890E-4D60-9AC3-1E2DC377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0A40-0A4D-4881-92C4-DE8E4386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033-B5D0-4851-9723-EF05B962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5DF-5C92-4B87-9DBB-D64CAD97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526-131E-4C3F-A516-AE53659F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44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6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44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6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7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44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4600" y="134136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44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4600" y="370548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1677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8600" y="370548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34136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70548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IM_PPTimage_gre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086240" y="640080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RIM_PPTimage_gre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RIM_PPTimage_gree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7086240" y="640080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805356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CA" sz="3600" spc="-1" strike="noStrike">
                <a:solidFill>
                  <a:srgbClr val="000000"/>
                </a:solidFill>
                <a:latin typeface="BlackBerryLove Bold"/>
              </a:rPr>
              <a:t>Adaptive Thresholds for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BlackBerryLove Bold"/>
              </a:rPr>
              <a:t>Greater-Than-1 and Greater-Than-2 Flags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65760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BerryLove Semibold"/>
              </a:rPr>
              <a:t>JCTVC-I0281</a:t>
            </a:r>
            <a:endParaRPr b="0" lang="en-US" sz="32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Nguyen Nguyen, Tianying Ji,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Dake He and Gaelle Martin-Cocher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34136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Improve throughput (context-coded bins per pixel) 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lackBerryLove Semibold"/>
              </a:rPr>
              <a:t>average</a:t>
            </a: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case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05600" indent="-271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lackBerryLove Semibol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JCTVC-H0554: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Limit the number of greater-than-1 and greater-than-2 flags to (de)code in each CG to 8 and 1, respectively: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numGreater1Flags = 8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numGreater2Flags = 1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Improves throughput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lackBerryLove Semibold"/>
              </a:rPr>
              <a:t>worst</a:t>
            </a: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lackBerryLove Semibold"/>
              </a:rPr>
              <a:t>average</a:t>
            </a: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c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Proposal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13410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Use information from neighbouring or previous CGs to adjust these limit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Method A: use R(ight) and L(ower) neighbouring CG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if (numGreater1(R) + numGreater1(L) &gt; 1) then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numGreater1Flags = 2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numGreater2Flags = 0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Method B: use previous CG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if (numGreater1 &gt; 3) then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numGreater1Flags = 2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ackBerryLove Semibold"/>
              </a:rPr>
              <a:t>numGreater2Flags = 0</a:t>
            </a:r>
            <a:endParaRPr b="0" lang="en-US" sz="20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BerryLove Bold"/>
              </a:rPr>
              <a:t>Benefit and Cost</a:t>
            </a:r>
            <a:endParaRPr b="1" lang="en-US" sz="36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560" y="134100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ackBerryLove Semibold"/>
              </a:rPr>
              <a:t>Benefit:</a:t>
            </a:r>
            <a:endParaRPr b="0" lang="en-US" sz="30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Improve throughput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lackBerryLove Semibold"/>
              </a:rPr>
              <a:t>average</a:t>
            </a: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 case, especially at low QP and for large format sequence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lackBerryLove Semibold"/>
              </a:rPr>
              <a:t>Cost: </a:t>
            </a:r>
            <a:endParaRPr b="0" lang="en-US" sz="30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Method A: 2 comparisons, 1 addition, 126 bit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BerryLove Semibold"/>
              </a:rPr>
              <a:t>Method B: 2 comparisons</a:t>
            </a: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ackBerryLove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BerryLove Bold"/>
              </a:rPr>
              <a:t>Comparison against HM-6.0 (Method B)</a:t>
            </a:r>
            <a:endParaRPr b="1" lang="en-US" sz="28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ntext-coded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BD-Rate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82880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256536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47920" y="434340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47920" y="507996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BerryLove Bold"/>
              </a:rPr>
              <a:t>Comparison against HM-6.0, low QP (Method B)</a:t>
            </a:r>
            <a:endParaRPr b="1" lang="en-US" sz="28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ntext-coded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BD-Rate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82880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523880" y="256536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447920" y="434340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7920" y="507996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BerryLove Bold"/>
              </a:rPr>
              <a:t>Comparison against HM-6.0 (Method A)</a:t>
            </a:r>
            <a:endParaRPr b="1" lang="en-US" sz="28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ntext-coded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BD-Rate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182880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3880" y="256536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7920" y="434340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447920" y="507996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6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BerryLove Bold"/>
              </a:rPr>
              <a:t>Comparison against HM-6.0, low QP (Method A)</a:t>
            </a:r>
            <a:endParaRPr b="1" lang="en-US" sz="2800" spc="-1" strike="noStrike">
              <a:solidFill>
                <a:srgbClr val="000000"/>
              </a:solidFill>
              <a:latin typeface="BlackBerryLove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560" y="13413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Context-coded bins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BerryLove Semibold"/>
              </a:rPr>
              <a:t>BD-Rate</a:t>
            </a:r>
            <a:endParaRPr b="0" lang="en-US" sz="2800" spc="-1" strike="noStrike">
              <a:solidFill>
                <a:srgbClr val="000000"/>
              </a:solidFill>
              <a:latin typeface="BlackBerryLove Semibol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82880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23880" y="2565360"/>
          <a:ext cx="6096240" cy="741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447920" y="434340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47920" y="5079960"/>
          <a:ext cx="6095880" cy="7412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8:23Z</dcterms:created>
  <dc:creator>user</dc:creator>
  <dc:description/>
  <dc:language>en-US</dc:language>
  <cp:lastModifiedBy>nnguyen</cp:lastModifiedBy>
  <dcterms:modified xsi:type="dcterms:W3CDTF">2012-04-27T23:39:02Z</dcterms:modified>
  <cp:revision>143</cp:revision>
  <dc:subject/>
  <dc:title>Django Web Framework</dc:title>
</cp:coreProperties>
</file>