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CB1319-527C-4833-BC7D-0041EFBD3C6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FB55D6-C610-4BC4-8EA7-A866647AE5A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ECB6E3-B84F-4D38-9C66-3A85E76EE8A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91B22-37B8-49F1-B9CC-FC3BF6D95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BD6F8-6D13-4368-BEF1-6E5E4C77F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EFFD1-2C3A-46B2-9D6C-0F369E126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7477D-7A1F-41AF-B6D7-658DBD561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07093-F70C-43B6-A289-AF52A4CAE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569CB-E3C0-4EC0-8C58-57C79EA4E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4CF1C-DBC8-49AA-97F1-B27C4DC15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F59BC-C931-4089-9CED-EC960EECC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3624D-D407-47C9-B992-2C1650794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93839-0D96-4496-8651-8E495D437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03ABB-69DC-49BD-937A-0ED74B01C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B202E-A279-45F3-84BE-D7408F3A6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e4e6f6"/>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A30D-C541-4F0F-9AED-79C4B2B158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676160"/>
            <a:ext cx="80010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0278: HRD Buffering for Bitstreams Starting with CRA Picture </a:t>
            </a:r>
            <a:endParaRPr b="1" lang="en-US" sz="3200" spc="-1" strike="noStrike">
              <a:solidFill>
                <a:srgbClr val="ffffff"/>
              </a:solidFill>
              <a:latin typeface="Arial"/>
            </a:endParaRPr>
          </a:p>
        </p:txBody>
      </p:sp>
      <p:sp>
        <p:nvSpPr>
          <p:cNvPr id="58" name="PlaceHolder 2"/>
          <p:cNvSpPr>
            <a:spLocks noGrp="1"/>
          </p:cNvSpPr>
          <p:nvPr>
            <p:ph type="subTitle"/>
          </p:nvPr>
        </p:nvSpPr>
        <p:spPr>
          <a:xfrm>
            <a:off x="914040" y="4038120"/>
            <a:ext cx="6705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in Deshpande, Andrew Segal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Labs of America</a:t>
            </a:r>
            <a:endParaRPr b="0" lang="en-US" sz="20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9D1E-536B-4DF8-9D3A-A279F018831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61" name=""/>
          <p:cNvSpPr txBox="1"/>
          <p:nvPr/>
        </p:nvSpPr>
        <p:spPr>
          <a:xfrm>
            <a:off x="228240" y="1219320"/>
            <a:ext cx="8458200" cy="4906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VC CD supports bitstreams starting with CRA pictures.</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leading pictures may exist.</a:t>
            </a:r>
            <a:endParaRPr b="0" lang="en-US" sz="18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leading picture: A coded picture that follows some other particular picture in decoding order and precedes it in output order.</a:t>
            </a:r>
            <a:endParaRPr b="0" lang="en-US" sz="16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random access is performed at a CRA picture, leading pictures may be discarded (e.g. by the server) from the bitstream as they are not specified for output and have no effect on the decoding process of any other pictures that are specified for output.</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5AE4-429D-4CE5-BFBB-822F15E0CEA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1" lang="en-US" sz="2400" spc="-1" strike="noStrike">
              <a:solidFill>
                <a:srgbClr val="ffffff"/>
              </a:solidFill>
              <a:latin typeface="Arial"/>
            </a:endParaRPr>
          </a:p>
        </p:txBody>
      </p:sp>
      <p:sp>
        <p:nvSpPr>
          <p:cNvPr id="64"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modification to Buffering Period SEI message and to HRD for bitstreams starting with CRA pictures when leading pictures may be discarded.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ed HRD modification </a:t>
            </a:r>
            <a:endParaRPr b="0" lang="en-US" sz="20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duce the initial buffering latency when starting playback at CRA picture. </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guarantee that HRD will not underflow when leading pictures after CRA picture are discarded.</a:t>
            </a:r>
            <a:endParaRPr b="0" lang="en-US" sz="18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the proposed modification HRD could underflow when leading pictures are discard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4F1A-D2D5-407D-8C29-1D52A33E2F0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osal : Buffering Period SEI Message</a:t>
            </a:r>
            <a:endParaRPr b="1" lang="en-US" sz="2000" spc="-1" strike="noStrike">
              <a:solidFill>
                <a:srgbClr val="ffffff"/>
              </a:solidFill>
              <a:latin typeface="Arial"/>
            </a:endParaRPr>
          </a:p>
        </p:txBody>
      </p:sp>
      <p:sp>
        <p:nvSpPr>
          <p:cNvPr id="68" name="Content Placeholder 2"/>
          <p:cNvSpPr/>
          <p:nvPr/>
        </p:nvSpPr>
        <p:spPr>
          <a:xfrm>
            <a:off x="5105520" y="1066680"/>
            <a:ext cx="3581280" cy="155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ra_leadingpict_discard_flag </a:t>
            </a:r>
            <a:r>
              <a:rPr b="0" lang="en-GB" sz="1600" spc="-1" strike="noStrike">
                <a:solidFill>
                  <a:srgbClr val="000000"/>
                </a:solidFill>
                <a:latin typeface="Tahoma"/>
              </a:rPr>
              <a:t>equal to 1 (0) indicates the presence (absence) of the </a:t>
            </a:r>
            <a:r>
              <a:rPr b="1" lang="en-GB" sz="1600" spc="-1" strike="noStrike">
                <a:solidFill>
                  <a:srgbClr val="000000"/>
                </a:solidFill>
                <a:latin typeface="Tahoma"/>
              </a:rPr>
              <a:t>initial_cra_cpb_removal_delay[ SchedSelIdx ] and initial_cra_cpb_removal_delay_offset[ SchedSelIdx ] </a:t>
            </a:r>
            <a:r>
              <a:rPr b="0" lang="en-GB" sz="1600" spc="-1" strike="noStrike">
                <a:solidFill>
                  <a:srgbClr val="000000"/>
                </a:solidFill>
                <a:latin typeface="Tahoma"/>
              </a:rPr>
              <a:t>syntax elements. This flag shall not be 1 when the associated picture is not a CRA picture.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itial_cra_cpb_removal_delay[ SchedSelIdx ]</a:t>
            </a:r>
            <a:r>
              <a:rPr b="0" lang="en-US"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itial_cra_cpb_removal_delay_offset [ SchedSelIdx ]</a:t>
            </a:r>
            <a:r>
              <a:rPr b="0" lang="en-US" sz="1600" spc="-1" strike="noStrike">
                <a:solidFill>
                  <a:srgbClr val="000000"/>
                </a:solidFill>
                <a:latin typeface="Tahoma"/>
              </a:rPr>
              <a:t> : values for HRD initialization at CRA picture when access units containing leading pictures associated with CRA picture are discarded.</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9" name="" descr=""/>
          <p:cNvPicPr/>
          <p:nvPr/>
        </p:nvPicPr>
        <p:blipFill>
          <a:blip r:embed="rId1"/>
          <a:stretch/>
        </p:blipFill>
        <p:spPr>
          <a:xfrm>
            <a:off x="209520" y="1371600"/>
            <a:ext cx="466740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1" lang="en-US" sz="2400" spc="-1" strike="noStrike">
              <a:solidFill>
                <a:srgbClr val="ffffff"/>
              </a:solidFill>
              <a:latin typeface="Arial"/>
            </a:endParaRPr>
          </a:p>
        </p:txBody>
      </p:sp>
      <p:sp>
        <p:nvSpPr>
          <p:cNvPr id="71"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ument proposed syntax and semantics to modify Buffering Period SEI message for bitstreams starting with CRA pictures when leading pictures are present. </a:t>
            </a:r>
            <a:endParaRPr b="0" lang="en-US" sz="2000" spc="-1" strike="noStrike">
              <a:solidFill>
                <a:srgbClr val="000000"/>
              </a:solidFill>
              <a:latin typeface="Arial"/>
            </a:endParaRPr>
          </a:p>
          <a:p>
            <a:pPr lvl="1"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ed modification will guarantee that HRD will not underflow when leading pictures after CRA picture are discarded.</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to adopt the proposed approach in HEVC.</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7028-CD6F-4593-945B-A334C907F74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0T01:42:47Z</dcterms:created>
  <dc:creator>lkerofsky</dc:creator>
  <dc:description/>
  <dc:language>en-US</dc:language>
  <cp:lastModifiedBy>Sachin Deshpande</cp:lastModifiedBy>
  <dcterms:modified xsi:type="dcterms:W3CDTF">2012-04-20T17:29:14Z</dcterms:modified>
  <cp:revision>1020</cp:revision>
  <dc:subject/>
  <dc:title>Slide 1</dc:title>
</cp:coreProperties>
</file>