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-10-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3D1D-C160-48D3-ACFB-4CD40014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C31-FAB5-4AAE-977F-51135B9A2163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4D4-E1CF-4602-843C-4FEE3F632CCE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218BC155-6281-4488-B766-2895BEC4EE5D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1422360" y="0"/>
            <a:ext cx="98424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560" y="2609640"/>
            <a:ext cx="835164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n deblocking clipping tabl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JCTVC-I0258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Arial"/>
                <a:ea typeface="宋体"/>
              </a:rPr>
              <a:t>Andrey Norki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68400"/>
            <a:ext cx="7826400" cy="984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H.264</a:t>
            </a: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/AVC deblocking tc table (color) vs HEVC tc table (black, crosses)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76280" y="1133640"/>
            <a:ext cx="78757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68400"/>
            <a:ext cx="7826400" cy="984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Proposed to modify HEVC tc table (black, dots)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150920" y="1179360"/>
            <a:ext cx="693108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Proposed modifications to sorce co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Replace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nst UChar tctable_8x8[56] ={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0,0,0,0,0,0,0,0,0,0,0,0,0,0,0,0,0,0,1,1,1,1,1,1,1,1,1,2,2,2,2,3,3,3,3,4,4,4,5,5,6,6,7,8,9,9,10,10,11,11,12,12,13,13,14,14};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const UChar tctable_8x8[54] =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{   0,0,0,0,0,0,0,0,0,0,0,0,0,0,0,0,0,0,1,1,1,1,1,1,1,1,1,2,2,2,2,3,3,3,3,4,4,4,5,5,6,6,7,8,9,10,11,13,14,16,18,20,22,24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560160"/>
            <a:ext cx="7826400" cy="492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Arial"/>
              </a:rPr>
              <a:t>Informal subjective viewing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720" y="1376280"/>
            <a:ext cx="8352000" cy="4888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An informal subjective viewing has been performed for a number of test sequences coded at base QP 42 and 47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t has been found that on average a new tc table performed slighty better or similar to the old tc tabl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One sequence looked better with the old tc tabl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(BasketballDrill) where using the new table resulted in some amount of chroma leakeg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513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t is proposed to change deblocking clipping table to the new tabl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Proposed changes do NOT modify common test conditions (since changes are outside common conditions QP rang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Visual quality is reported to be slightly better for the high QP sequenc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t would also enable usage of stronger deblocking for particular sequences by sending the tc_offset in slice header or AP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cp:keywords/>
  <dc:language>en-US</dc:language>
  <cp:lastModifiedBy>Andrey Norkin</cp:lastModifiedBy>
  <dcterms:modified xsi:type="dcterms:W3CDTF">2012-04-29T06:13:41Z</dcterms:modified>
  <cp:revision>69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