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I0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I0257</a:t>
            </a:r>
            <a:br>
              <a:rPr sz="3000"/>
            </a:b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On Intensity Dependent Quantization in the HEVC Codec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eo Naccari, Marta Mrak, David Flynn, Andrea Gabriellin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Intensity Dependent Quantisation (IDQ) profil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3" name="Content Placeholder 2"/>
          <p:cNvSpPr/>
          <p:nvPr/>
        </p:nvSpPr>
        <p:spPr>
          <a:xfrm>
            <a:off x="36360" y="838080"/>
            <a:ext cx="90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Mapping between 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and the Q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is denoted as Intensity Dependent Quantisation (IDQ)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Q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is related to the HEVC QP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4768920" y="1846440"/>
                <a:ext cx="326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Rectangle 6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1620720" y="1706400"/>
                <a:ext cx="1649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ight Arrow 10"/>
          <p:cNvSpPr/>
          <p:nvPr/>
        </p:nvSpPr>
        <p:spPr>
          <a:xfrm>
            <a:off x="3924360" y="1773360"/>
            <a:ext cx="431640" cy="48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36360" y="2638440"/>
            <a:ext cx="90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y referring QP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to the base QP it yields the intensity differential QP (idQP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2844720" y="3070080"/>
                <a:ext cx="3119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Q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2" name="Picture 9" descr=""/>
          <p:cNvPicPr/>
          <p:nvPr/>
        </p:nvPicPr>
        <p:blipFill>
          <a:blip r:embed="rId1"/>
          <a:stretch/>
        </p:blipFill>
        <p:spPr>
          <a:xfrm>
            <a:off x="2124000" y="3759120"/>
            <a:ext cx="498636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nsity Dependent Quantisation (IDQ): Main idea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000" y="765000"/>
            <a:ext cx="9037800" cy="16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uman eye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is less sensitiv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to the coding distortion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in bright and dark image area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se areas can be then quantised coarsely (perceptual quality won’t change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is is done 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836720" y="2854440"/>
            <a:ext cx="1440000" cy="57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a average compu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68360" y="28544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 predi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2"/>
          <p:cNvCxnSpPr>
            <a:stCxn id="131" idx="3"/>
            <a:endCxn id="130" idx="1"/>
          </p:cNvCxnSpPr>
          <p:nvPr/>
        </p:nvCxnSpPr>
        <p:spPr>
          <a:xfrm>
            <a:off x="1476000" y="314136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3" name="Rectangle 12"/>
          <p:cNvSpPr/>
          <p:nvPr/>
        </p:nvSpPr>
        <p:spPr>
          <a:xfrm>
            <a:off x="3916440" y="2854440"/>
            <a:ext cx="1439640" cy="574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Q profile (look-up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8"/>
          <p:cNvCxnSpPr>
            <a:stCxn id="130" idx="3"/>
            <a:endCxn id="133" idx="1"/>
          </p:cNvCxnSpPr>
          <p:nvPr/>
        </p:nvCxnSpPr>
        <p:spPr>
          <a:xfrm flipV="1">
            <a:off x="3276360" y="314100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5" name="Rectangle 12"/>
          <p:cNvSpPr/>
          <p:nvPr/>
        </p:nvSpPr>
        <p:spPr>
          <a:xfrm>
            <a:off x="3348000" y="2781360"/>
            <a:ext cx="352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300720" y="285444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5"/>
          <p:cNvCxnSpPr>
            <a:stCxn id="133" idx="3"/>
            <a:endCxn id="136" idx="1"/>
          </p:cNvCxnSpPr>
          <p:nvPr/>
        </p:nvCxnSpPr>
        <p:spPr>
          <a:xfrm>
            <a:off x="5356080" y="3141360"/>
            <a:ext cx="945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8" name="Rectangle 12"/>
          <p:cNvSpPr/>
          <p:nvPr/>
        </p:nvSpPr>
        <p:spPr>
          <a:xfrm>
            <a:off x="5300640" y="2638440"/>
            <a:ext cx="1000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P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68360" y="36464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 resid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Elbow Connector 22"/>
          <p:cNvCxnSpPr>
            <a:stCxn id="139" idx="3"/>
            <a:endCxn id="136" idx="2"/>
          </p:cNvCxnSpPr>
          <p:nvPr/>
        </p:nvCxnSpPr>
        <p:spPr>
          <a:xfrm flipV="1">
            <a:off x="1476000" y="3428640"/>
            <a:ext cx="511236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sp>
        <p:nvSpPr>
          <p:cNvPr id="141" name="Rectangle 12"/>
          <p:cNvSpPr/>
          <p:nvPr/>
        </p:nvSpPr>
        <p:spPr>
          <a:xfrm>
            <a:off x="7669080" y="285444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inverse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9"/>
          <p:cNvCxnSpPr>
            <a:stCxn id="136" idx="3"/>
            <a:endCxn id="141" idx="1"/>
          </p:cNvCxnSpPr>
          <p:nvPr/>
        </p:nvCxnSpPr>
        <p:spPr>
          <a:xfrm>
            <a:off x="6877080" y="314136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3" name="Content Placeholder 2"/>
          <p:cNvSpPr/>
          <p:nvPr/>
        </p:nvSpPr>
        <p:spPr>
          <a:xfrm>
            <a:off x="36360" y="4437000"/>
            <a:ext cx="903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ine granularity for perceptual QP selection (TU b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 need to transmit the Delta QP (D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1"/>
          <a:stretch/>
        </p:blipFill>
        <p:spPr>
          <a:xfrm>
            <a:off x="2151000" y="1413000"/>
            <a:ext cx="6238800" cy="3733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al results: Bitrate reductions against the HM-6.0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764640"/>
            <a:ext cx="8856720" cy="721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proposed IDQ leads to the same perceptual quality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t the same quality level the bitrate reductions are measured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68040" y="1816200"/>
            <a:ext cx="17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reduction: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3"/>
          <p:cNvCxnSpPr>
            <a:stCxn id="147" idx="3"/>
          </p:cNvCxnSpPr>
          <p:nvPr/>
        </p:nvCxnSpPr>
        <p:spPr>
          <a:xfrm>
            <a:off x="1800360" y="2045880"/>
            <a:ext cx="1792800" cy="80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TextBox 10"/>
          <p:cNvSpPr/>
          <p:nvPr/>
        </p:nvSpPr>
        <p:spPr>
          <a:xfrm>
            <a:off x="3960" y="343044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reduction: 4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1"/>
          <p:cNvCxnSpPr>
            <a:stCxn id="149" idx="3"/>
          </p:cNvCxnSpPr>
          <p:nvPr/>
        </p:nvCxnSpPr>
        <p:spPr>
          <a:xfrm flipV="1">
            <a:off x="1863720" y="2364480"/>
            <a:ext cx="3736080" cy="129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Content Placeholder 2"/>
          <p:cNvSpPr/>
          <p:nvPr/>
        </p:nvSpPr>
        <p:spPr>
          <a:xfrm>
            <a:off x="108000" y="5157720"/>
            <a:ext cx="88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verage bitrate reductions of 2% over all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Reduction peaks in the range 18 – 20% were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90374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al results: BD-rates against non-normative perceptual quantisation (using DQP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093760" y="765000"/>
            <a:ext cx="529920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IDQ profile transmiss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cxnSp>
        <p:nvCxnSpPr>
          <p:cNvPr id="155" name="Straight Arrow Connector 43"/>
          <p:cNvCxnSpPr/>
          <p:nvPr/>
        </p:nvCxnSpPr>
        <p:spPr>
          <a:xfrm>
            <a:off x="1693800" y="3593880"/>
            <a:ext cx="590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" name="Straight Arrow Connector 44"/>
          <p:cNvCxnSpPr/>
          <p:nvPr/>
        </p:nvCxnSpPr>
        <p:spPr>
          <a:xfrm flipV="1">
            <a:off x="1693440" y="1793160"/>
            <a:ext cx="1080" cy="18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" name="TextBox 12"/>
          <p:cNvSpPr/>
          <p:nvPr/>
        </p:nvSpPr>
        <p:spPr>
          <a:xfrm>
            <a:off x="7597800" y="35449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n luma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833760" y="15573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47"/>
          <p:cNvSpPr/>
          <p:nvPr/>
        </p:nvSpPr>
        <p:spPr>
          <a:xfrm>
            <a:off x="1693800" y="2152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48"/>
          <p:cNvSpPr/>
          <p:nvPr/>
        </p:nvSpPr>
        <p:spPr>
          <a:xfrm>
            <a:off x="2125800" y="244152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9"/>
          <p:cNvSpPr/>
          <p:nvPr/>
        </p:nvSpPr>
        <p:spPr>
          <a:xfrm>
            <a:off x="2557440" y="2728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50"/>
          <p:cNvSpPr/>
          <p:nvPr/>
        </p:nvSpPr>
        <p:spPr>
          <a:xfrm>
            <a:off x="2989440" y="301788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51"/>
          <p:cNvSpPr/>
          <p:nvPr/>
        </p:nvSpPr>
        <p:spPr>
          <a:xfrm>
            <a:off x="2125800" y="2152800"/>
            <a:ext cx="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52"/>
          <p:cNvSpPr/>
          <p:nvPr/>
        </p:nvSpPr>
        <p:spPr>
          <a:xfrm>
            <a:off x="2557440" y="24415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3"/>
          <p:cNvSpPr/>
          <p:nvPr/>
        </p:nvSpPr>
        <p:spPr>
          <a:xfrm>
            <a:off x="2989440" y="272880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54"/>
          <p:cNvSpPr/>
          <p:nvPr/>
        </p:nvSpPr>
        <p:spPr>
          <a:xfrm>
            <a:off x="3421080" y="30178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5"/>
          <p:cNvSpPr/>
          <p:nvPr/>
        </p:nvSpPr>
        <p:spPr>
          <a:xfrm>
            <a:off x="3421080" y="33051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56"/>
          <p:cNvSpPr/>
          <p:nvPr/>
        </p:nvSpPr>
        <p:spPr>
          <a:xfrm>
            <a:off x="3852720" y="330516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57"/>
          <p:cNvSpPr/>
          <p:nvPr/>
        </p:nvSpPr>
        <p:spPr>
          <a:xfrm>
            <a:off x="3852720" y="3594240"/>
            <a:ext cx="115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58"/>
          <p:cNvSpPr/>
          <p:nvPr/>
        </p:nvSpPr>
        <p:spPr>
          <a:xfrm>
            <a:off x="5005440" y="33051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59"/>
          <p:cNvSpPr/>
          <p:nvPr/>
        </p:nvSpPr>
        <p:spPr>
          <a:xfrm>
            <a:off x="5005440" y="33051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60"/>
          <p:cNvSpPr/>
          <p:nvPr/>
        </p:nvSpPr>
        <p:spPr>
          <a:xfrm>
            <a:off x="5437080" y="3017880"/>
            <a:ext cx="4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61"/>
          <p:cNvSpPr/>
          <p:nvPr/>
        </p:nvSpPr>
        <p:spPr>
          <a:xfrm>
            <a:off x="5437080" y="30178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62"/>
          <p:cNvSpPr/>
          <p:nvPr/>
        </p:nvSpPr>
        <p:spPr>
          <a:xfrm>
            <a:off x="5870520" y="2728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3"/>
          <p:cNvSpPr/>
          <p:nvPr/>
        </p:nvSpPr>
        <p:spPr>
          <a:xfrm>
            <a:off x="5870520" y="272880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64"/>
          <p:cNvSpPr/>
          <p:nvPr/>
        </p:nvSpPr>
        <p:spPr>
          <a:xfrm>
            <a:off x="6302520" y="244152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5"/>
          <p:cNvSpPr/>
          <p:nvPr/>
        </p:nvSpPr>
        <p:spPr>
          <a:xfrm>
            <a:off x="6302520" y="24415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407240" y="2009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1407240" y="230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407240" y="2595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1407240" y="2884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1407240" y="3171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1407240" y="3460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98360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243792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282996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324900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364500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79916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524124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565632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15636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660960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108000" y="838080"/>
            <a:ext cx="88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IDQ profile is transmitted by performing DP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84"/>
          <p:cNvCxnSpPr/>
          <p:nvPr/>
        </p:nvCxnSpPr>
        <p:spPr>
          <a:xfrm flipV="1">
            <a:off x="2555640" y="2133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12"/>
          <p:cNvSpPr/>
          <p:nvPr/>
        </p:nvSpPr>
        <p:spPr>
          <a:xfrm>
            <a:off x="2565360" y="213372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QP offsets = {±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87"/>
          <p:cNvCxnSpPr/>
          <p:nvPr/>
        </p:nvCxnSpPr>
        <p:spPr>
          <a:xfrm flipH="1">
            <a:off x="2123640" y="198864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8" name="TextBox 12"/>
          <p:cNvSpPr/>
          <p:nvPr/>
        </p:nvSpPr>
        <p:spPr>
          <a:xfrm>
            <a:off x="2304000" y="17128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108000" y="4222800"/>
            <a:ext cx="885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Profile is signalled in the Picture Parameter Set (P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Provides per component pro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Deblocking filter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430360" y="1998720"/>
            <a:ext cx="18288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255920" y="1998720"/>
            <a:ext cx="18288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6"/>
          <p:cNvSpPr/>
          <p:nvPr/>
        </p:nvSpPr>
        <p:spPr>
          <a:xfrm>
            <a:off x="3344760" y="1998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7"/>
          <p:cNvSpPr/>
          <p:nvPr/>
        </p:nvSpPr>
        <p:spPr>
          <a:xfrm flipH="1">
            <a:off x="2430000" y="2913120"/>
            <a:ext cx="182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897640" y="4014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4694760" y="4014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2434320" y="1998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341520" y="1998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2434320" y="2914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3351240" y="2914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4267080" y="1998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987720" y="2430360"/>
            <a:ext cx="530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6"/>
          <p:cNvSpPr/>
          <p:nvPr/>
        </p:nvSpPr>
        <p:spPr>
          <a:xfrm>
            <a:off x="4264200" y="1486080"/>
            <a:ext cx="0" cy="273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3980520" y="2430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4234680" y="2430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108000" y="838080"/>
            <a:ext cx="885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urrent HEVC design derives the deblocking filter parameters using the QP of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which contains pixel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108000" y="4581360"/>
            <a:ext cx="88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n this proposal the QP is given by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U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which contains pixel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sed IDQ profile for experimen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2754360" y="1219320"/>
                <a:ext cx="29620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μ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6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μ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μ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6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 txBox="1"/>
          <p:nvPr/>
        </p:nvSpPr>
        <p:spPr>
          <a:xfrm>
            <a:off x="108000" y="764640"/>
            <a:ext cx="8856720" cy="360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Derived from a state-of-the-art literature work [1]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5950080"/>
            <a:ext cx="914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Y. Jia, W. Lin and A. A. Kassim, “Estimating the just-noticeable distortion for video”,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Transactions on Circuits and Systems for Video Technology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6, no. 7, pp. 820-829, July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108000" y="2494080"/>
            <a:ext cx="885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DQ profile values have been modified by the authors of this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476360" y="3384720"/>
          <a:ext cx="6080040" cy="1341360"/>
        </p:xfrm>
        <a:graphic>
          <a:graphicData uri="http://schemas.openxmlformats.org/drawingml/2006/table">
            <a:tbl>
              <a:tblPr/>
              <a:tblGrid>
                <a:gridCol w="581040"/>
                <a:gridCol w="609480"/>
                <a:gridCol w="374760"/>
                <a:gridCol w="374760"/>
                <a:gridCol w="374400"/>
                <a:gridCol w="376560"/>
                <a:gridCol w="374400"/>
                <a:gridCol w="374760"/>
                <a:gridCol w="376200"/>
                <a:gridCol w="374760"/>
                <a:gridCol w="376200"/>
                <a:gridCol w="377640"/>
                <a:gridCol w="378000"/>
                <a:gridCol w="379440"/>
                <a:gridCol w="377640"/>
              </a:tblGrid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..1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4..2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Content Placeholder 2"/>
          <p:cNvSpPr/>
          <p:nvPr/>
        </p:nvSpPr>
        <p:spPr>
          <a:xfrm>
            <a:off x="3816360" y="3030480"/>
            <a:ext cx="14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QP 22 and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sed IDQ profile for experimen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3852720" y="83808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QP =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60360" y="1197000"/>
          <a:ext cx="6080400" cy="1341360"/>
        </p:xfrm>
        <a:graphic>
          <a:graphicData uri="http://schemas.openxmlformats.org/drawingml/2006/table">
            <a:tbl>
              <a:tblPr/>
              <a:tblGrid>
                <a:gridCol w="579600"/>
                <a:gridCol w="550800"/>
                <a:gridCol w="449280"/>
                <a:gridCol w="449280"/>
                <a:gridCol w="449280"/>
                <a:gridCol w="450720"/>
                <a:gridCol w="451080"/>
                <a:gridCol w="449280"/>
                <a:gridCol w="450720"/>
                <a:gridCol w="449280"/>
                <a:gridCol w="450720"/>
                <a:gridCol w="449280"/>
                <a:gridCol w="451080"/>
              </a:tblGrid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..1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2..2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Content Placeholder 2"/>
          <p:cNvSpPr/>
          <p:nvPr/>
        </p:nvSpPr>
        <p:spPr>
          <a:xfrm>
            <a:off x="3852720" y="33577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QP = 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32000" y="3745080"/>
          <a:ext cx="6080040" cy="1341360"/>
        </p:xfrm>
        <a:graphic>
          <a:graphicData uri="http://schemas.openxmlformats.org/drawingml/2006/table">
            <a:tbl>
              <a:tblPr/>
              <a:tblGrid>
                <a:gridCol w="579240"/>
                <a:gridCol w="611280"/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</a:tblGrid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..1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1..2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Q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509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nsity Dependent Quantisation (IDQ): Main idea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000" y="981000"/>
            <a:ext cx="9037800" cy="1008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uman eye is less sensitive to the coding distortion in bright and dark image area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se areas can be quantised coarse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Down Arrow 6"/>
          <p:cNvSpPr/>
          <p:nvPr/>
        </p:nvSpPr>
        <p:spPr>
          <a:xfrm>
            <a:off x="4140360" y="2133720"/>
            <a:ext cx="485640" cy="504720"/>
          </a:xfrm>
          <a:prstGeom prst="downArrow">
            <a:avLst>
              <a:gd name="adj1" fmla="val 50000"/>
              <a:gd name="adj2" fmla="val 50001"/>
            </a:avLst>
          </a:prstGeom>
          <a:noFill/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36360" y="2781360"/>
            <a:ext cx="756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 this contribution th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verage pixel intensity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masking is consid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tent Placeholder 2"/>
          <p:cNvSpPr/>
          <p:nvPr/>
        </p:nvSpPr>
        <p:spPr>
          <a:xfrm>
            <a:off x="1332000" y="5084640"/>
            <a:ext cx="59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quantisation step may be higher in darker and brighter images areas: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ntensity Dependent Quantisation (ID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11"/>
          <p:cNvCxnSpPr>
            <a:stCxn id="237" idx="0"/>
          </p:cNvCxnSpPr>
          <p:nvPr/>
        </p:nvCxnSpPr>
        <p:spPr>
          <a:xfrm flipH="1" flipV="1">
            <a:off x="2916000" y="3933000"/>
            <a:ext cx="1405440" cy="1151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39" name="Straight Arrow Connector 13"/>
          <p:cNvCxnSpPr>
            <a:stCxn id="237" idx="0"/>
          </p:cNvCxnSpPr>
          <p:nvPr/>
        </p:nvCxnSpPr>
        <p:spPr>
          <a:xfrm flipV="1">
            <a:off x="4321080" y="4076280"/>
            <a:ext cx="1116720" cy="1008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40" name="Content Placeholder 2"/>
          <p:cNvSpPr/>
          <p:nvPr/>
        </p:nvSpPr>
        <p:spPr>
          <a:xfrm>
            <a:off x="6516720" y="371808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verage pixel intensity for a given image block (e.g. 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18"/>
          <p:cNvCxnSpPr>
            <a:stCxn id="240" idx="1"/>
          </p:cNvCxnSpPr>
          <p:nvPr/>
        </p:nvCxnSpPr>
        <p:spPr>
          <a:xfrm flipH="1">
            <a:off x="6155640" y="4078440"/>
            <a:ext cx="361080" cy="7912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lg" type="triangle" w="lg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2-04-26T14:03:17Z</dcterms:modified>
  <cp:revision>136</cp:revision>
  <dc:subject/>
  <dc:title>JCTVC-H0477 On Just Noticeable Distortion Quantization in the HEVC Codec</dc:title>
</cp:coreProperties>
</file>