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00B6-FA32-4647-B9B2-7D207714C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スライド番号プレースホルダ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419D-E3D8-461A-9A58-6474E9F39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ample shows 4 bands, and band for which an offset is not transmitted can also end up with a nonzero offset near the band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FE1A-AEC7-43AD-89D0-87107DE7E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5623-4840-4732-80E4-1B64F84DA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E360-563F-4CCB-A6EA-8E9E1CCD7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7D1C-EF96-4654-8DB6-D705E141E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6BF7-5E42-4468-946E-584C2C7DEF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243C-9ED8-4ADD-A9BA-4A3AF3B3E0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AC9B-3C2B-4633-9DB0-204B272BC7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31B8-BB5F-4EBD-90A4-BA7CEA51CE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327C-17A2-4867-B97C-F1C77D59A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C734-9EAB-48D4-B3D8-8F5E015D23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B061-7147-42E1-83CF-7792ED2912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680A-5A5E-4126-B744-3C263F307C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7843-A979-4537-B900-72C9C07745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407B-8932-4835-8E00-D93631A972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9B57-11FD-482A-BF10-E4A916C694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9AE5-D0EE-4E83-A8FE-865B9CC8C5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FC94D-6A90-4189-B257-44786B12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A7EAD-4743-400C-A382-34A7693A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E9D40-B204-472D-9619-7C7F9CBF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D3261-CBBD-4E1B-86B9-7B43E9BD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91F8D-E84D-460C-9F50-14DEB758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F5DFF-581D-4786-86B4-EE92CCDC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59A00-45A7-4B5D-BB49-DDC33A96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4F0C4-EEBB-4D57-877A-F022171E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A8293-D4A1-4B59-9F33-6545B809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6E96C-8A61-4B3A-B5FF-EF26A490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2AD30-948D-4028-A716-5A78DF31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2418E-5FA8-490E-8F49-4C170E2E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6" descr="16_9_logo位置0902w"/>
          <p:cNvPicPr/>
          <p:nvPr/>
        </p:nvPicPr>
        <p:blipFill>
          <a:blip r:embed="rId3"/>
          <a:stretch/>
        </p:blipFill>
        <p:spPr>
          <a:xfrm>
            <a:off x="7932600" y="276120"/>
            <a:ext cx="87804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正方形/長方形 22"/>
          <p:cNvSpPr/>
          <p:nvPr/>
        </p:nvSpPr>
        <p:spPr>
          <a:xfrm>
            <a:off x="-1440" y="-111240"/>
            <a:ext cx="9142200" cy="642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631512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25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1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Meiry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E039-254C-4BF1-8D4D-4F1828FD5E1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Meiryo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Meiryo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Meiryo"/>
              </a:rPr>
              <a:t>JCTVC-I024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22"/>
          <p:cNvSpPr/>
          <p:nvPr/>
        </p:nvSpPr>
        <p:spPr>
          <a:xfrm>
            <a:off x="1440" y="0"/>
            <a:ext cx="9142560" cy="642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直線コネクタ 18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ftr" idx="3"/>
          </p:nvPr>
        </p:nvSpPr>
        <p:spPr>
          <a:xfrm>
            <a:off x="1260000" y="6473880"/>
            <a:ext cx="575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Meiryo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Meiryo"/>
              </a:rPr>
              <a:t>Department   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576000" y="6473880"/>
            <a:ext cx="647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09.10.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Meiry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21A2-068E-476A-B003-2D7DB93BCDF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Meiryo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163" name="正方形/長方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図 9" descr="mblogo_w.pdf"/>
          <p:cNvPicPr/>
          <p:nvPr/>
        </p:nvPicPr>
        <p:blipFill>
          <a:blip r:embed="rId3"/>
          <a:stretch/>
        </p:blipFill>
        <p:spPr>
          <a:xfrm>
            <a:off x="3600360" y="3114720"/>
            <a:ext cx="1943280" cy="65880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3"/>
          <p:cNvSpPr/>
          <p:nvPr/>
        </p:nvSpPr>
        <p:spPr>
          <a:xfrm>
            <a:off x="360360" y="6012000"/>
            <a:ext cx="8423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97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7f7f7f"/>
                </a:solidFill>
                <a:latin typeface="Arial"/>
                <a:ea typeface="Meiryo"/>
              </a:rPr>
              <a:t>“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Meiryo"/>
              </a:rPr>
              <a:t>Sony” or “make.believe” is a registered trademark of Sony Corporation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Meiryo"/>
              </a:rPr>
              <a:t>Names of Sony products and services are the registered trademarks and/or trademarks of Sony Corporation or its Group companies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Meiryo"/>
              </a:rPr>
              <a:t>Other company names and product names are the registered trademarks and/or trademarks of the respective compa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P創英角ｺﾞｼｯｸUB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2340000"/>
            <a:ext cx="797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entury Gothic"/>
              </a:rPr>
              <a:t>Continuity in Band Offset SAO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20360" y="3060720"/>
            <a:ext cx="677556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. Maani, O. Nakagami,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20720" y="431928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Proposal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JCTVC-I0247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0720" y="604800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TC Avant Garde Std Bk"/>
                <a:ea typeface="Meiryo"/>
              </a:rPr>
              <a:t>Apr 25 2012</a:t>
            </a:r>
            <a:endParaRPr b="0" lang="en-US" sz="1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Visual Evaluation (combined)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DFBE-D690-463B-9D13-9B29EB292A3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JCTVC-I02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122480" y="1689120"/>
            <a:ext cx="2638440" cy="4048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5140440" y="1689120"/>
            <a:ext cx="2657520" cy="40766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1626480" y="135900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1 anc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60429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Visual Evaluation (combined)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332A-7358-48BB-8C63-6695D462AA3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JCTVC-I02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709560" y="1400040"/>
            <a:ext cx="3686400" cy="4448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"/>
          <p:cNvPicPr/>
          <p:nvPr/>
        </p:nvPicPr>
        <p:blipFill>
          <a:blip r:embed="rId2"/>
          <a:stretch/>
        </p:blipFill>
        <p:spPr>
          <a:xfrm>
            <a:off x="5000760" y="1371600"/>
            <a:ext cx="3628800" cy="44766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8"/>
          <p:cNvSpPr/>
          <p:nvPr/>
        </p:nvSpPr>
        <p:spPr>
          <a:xfrm>
            <a:off x="3137040" y="107640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1 anc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7596360" y="1062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Band Offset Discontinuity Issue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280" y="3657600"/>
            <a:ext cx="880272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An offset is added to reconstructed value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SAO only </a:t>
            </a:r>
            <a:r>
              <a:rPr b="0" i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improves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 the </a:t>
            </a:r>
            <a:r>
              <a:rPr b="0" i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average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. Pixel values that are close before SAO can end up very far apart due to SAO BO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Pixels with values close to each other usually appear as spatial neighbors in natural images (especially smooth areas)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ffset discontinuity can cause a visible artifact (artificial edges)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EVC does not enforce offset continuity and offsets can be quite large (e.g. 32 in difference) 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73D1-F3B0-46BB-B133-EA5E435A488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JCTVC-I02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Picture1"/>
          <p:cNvPicPr/>
          <p:nvPr/>
        </p:nvPicPr>
        <p:blipFill>
          <a:blip r:embed="rId1"/>
          <a:stretch/>
        </p:blipFill>
        <p:spPr>
          <a:xfrm>
            <a:off x="987480" y="1509840"/>
            <a:ext cx="7251480" cy="1866600"/>
          </a:xfrm>
          <a:prstGeom prst="rect">
            <a:avLst/>
          </a:prstGeom>
          <a:ln w="0">
            <a:noFill/>
          </a:ln>
        </p:spPr>
      </p:pic>
      <p:sp>
        <p:nvSpPr>
          <p:cNvPr id="220" name="Oval 6"/>
          <p:cNvSpPr/>
          <p:nvPr/>
        </p:nvSpPr>
        <p:spPr>
          <a:xfrm>
            <a:off x="2949480" y="2243160"/>
            <a:ext cx="397080" cy="922320"/>
          </a:xfrm>
          <a:prstGeom prst="ellipse">
            <a:avLst/>
          </a:prstGeom>
          <a:solidFill>
            <a:srgbClr val="00336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Curved Connector 8"/>
          <p:cNvCxnSpPr>
            <a:stCxn id="216" idx="1"/>
            <a:endCxn id="220" idx="2"/>
          </p:cNvCxnSpPr>
          <p:nvPr/>
        </p:nvCxnSpPr>
        <p:spPr>
          <a:xfrm flipH="1" rot="10800000">
            <a:off x="124200" y="2704320"/>
            <a:ext cx="2824920" cy="2275200"/>
          </a:xfrm>
          <a:prstGeom prst="curvedConnector5">
            <a:avLst>
              <a:gd name="adj1" fmla="val -751"/>
              <a:gd name="adj2" fmla="val 49992"/>
              <a:gd name="adj3" fmla="val -751"/>
            </a:avLst>
          </a:prstGeom>
          <a:ln w="9360">
            <a:solidFill>
              <a:srgbClr val="7f7f7f"/>
            </a:solidFill>
            <a:prstDash val="dash"/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Picture2"/>
          <p:cNvPicPr/>
          <p:nvPr/>
        </p:nvPicPr>
        <p:blipFill>
          <a:blip r:embed="rId1"/>
          <a:stretch/>
        </p:blipFill>
        <p:spPr>
          <a:xfrm>
            <a:off x="968400" y="4233960"/>
            <a:ext cx="6670800" cy="1962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Proposed solut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4760" y="1224000"/>
            <a:ext cx="880272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lternative: restricting the encoder results in large BD-rate losses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Solution: Impose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offset function</a:t>
            </a: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continuity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problem can be resolved by simple processing of the band boundari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040040" indent="-20772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Linearly smooth band boundaries (5 boundaries will be processed)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4FB0-11D8-436E-B761-FD01DCD9BFD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JCTVC-I02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Smoothing band boundarie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41D8-6167-40A1-862C-77CBB0CEDB1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JCTVC-I02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Picture3"/>
          <p:cNvPicPr/>
          <p:nvPr/>
        </p:nvPicPr>
        <p:blipFill>
          <a:blip r:embed="rId1"/>
          <a:stretch/>
        </p:blipFill>
        <p:spPr>
          <a:xfrm>
            <a:off x="1562040" y="1319040"/>
            <a:ext cx="6032520" cy="20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9"/>
          <p:cNvGraphicFramePr/>
          <p:nvPr/>
        </p:nvGraphicFramePr>
        <p:xfrm>
          <a:off x="2717640" y="3376440"/>
          <a:ext cx="3672000" cy="7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7640" y="3376440"/>
                    <a:ext cx="36720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Oval 17"/>
          <p:cNvSpPr/>
          <p:nvPr/>
        </p:nvSpPr>
        <p:spPr>
          <a:xfrm>
            <a:off x="1363680" y="3773520"/>
            <a:ext cx="1112760" cy="37944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offset for pixel  </a:t>
            </a:r>
            <a:r>
              <a:rPr b="0" i="1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2303640" y="4305240"/>
            <a:ext cx="1112760" cy="37944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bit prec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5122800" y="4305240"/>
            <a:ext cx="1112760" cy="37944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smoothing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6235560" y="4114800"/>
            <a:ext cx="1359000" cy="37944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left-hand side original 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1"/>
          <p:cNvSpPr/>
          <p:nvPr/>
        </p:nvSpPr>
        <p:spPr>
          <a:xfrm>
            <a:off x="3589200" y="4305240"/>
            <a:ext cx="1359000" cy="54288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right-hand side original 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hape 23"/>
          <p:cNvCxnSpPr>
            <a:stCxn id="236" idx="0"/>
          </p:cNvCxnSpPr>
          <p:nvPr/>
        </p:nvCxnSpPr>
        <p:spPr>
          <a:xfrm flipV="1" rot="16200000">
            <a:off x="6481440" y="3680640"/>
            <a:ext cx="342000" cy="526320"/>
          </a:xfrm>
          <a:prstGeom prst="curvedConnector2">
            <a:avLst/>
          </a:prstGeom>
          <a:ln w="12600">
            <a:solidFill>
              <a:srgbClr val="7f7f7f"/>
            </a:solidFill>
            <a:prstDash val="dash"/>
            <a:miter/>
            <a:tailEnd len="med" type="stealth" w="med"/>
          </a:ln>
        </p:spPr>
      </p:cxnSp>
      <p:cxnSp>
        <p:nvCxnSpPr>
          <p:cNvPr id="239" name="Curved Connector 25"/>
          <p:cNvCxnSpPr/>
          <p:nvPr/>
        </p:nvCxnSpPr>
        <p:spPr>
          <a:xfrm rot="10800000">
            <a:off x="5339520" y="4114080"/>
            <a:ext cx="380160" cy="1911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12600">
            <a:solidFill>
              <a:srgbClr val="7f7f7f"/>
            </a:solidFill>
            <a:prstDash val="dash"/>
            <a:miter/>
            <a:tailEnd len="med" type="stealth" w="med"/>
          </a:ln>
        </p:spPr>
      </p:cxnSp>
      <p:cxnSp>
        <p:nvCxnSpPr>
          <p:cNvPr id="240" name="Shape 27"/>
          <p:cNvCxnSpPr>
            <a:stCxn id="233" idx="7"/>
          </p:cNvCxnSpPr>
          <p:nvPr/>
        </p:nvCxnSpPr>
        <p:spPr>
          <a:xfrm flipH="1" flipV="1" rot="5400000">
            <a:off x="2487240" y="3598560"/>
            <a:ext cx="56160" cy="405360"/>
          </a:xfrm>
          <a:prstGeom prst="curvedConnector2">
            <a:avLst/>
          </a:prstGeom>
          <a:ln w="12600">
            <a:solidFill>
              <a:srgbClr val="7f7f7f"/>
            </a:solidFill>
            <a:prstDash val="dash"/>
            <a:miter/>
            <a:tailEnd len="med" type="stealth" w="med"/>
          </a:ln>
        </p:spPr>
      </p:cxnSp>
      <p:cxnSp>
        <p:nvCxnSpPr>
          <p:cNvPr id="241" name="Shape 29"/>
          <p:cNvCxnSpPr>
            <a:stCxn id="234" idx="7"/>
          </p:cNvCxnSpPr>
          <p:nvPr/>
        </p:nvCxnSpPr>
        <p:spPr>
          <a:xfrm flipH="1" flipV="1" rot="5400000">
            <a:off x="3254040" y="4113000"/>
            <a:ext cx="246960" cy="249840"/>
          </a:xfrm>
          <a:prstGeom prst="curvedConnector2">
            <a:avLst/>
          </a:prstGeom>
          <a:ln w="12600">
            <a:solidFill>
              <a:srgbClr val="7f7f7f"/>
            </a:solidFill>
            <a:prstDash val="dash"/>
            <a:miter/>
            <a:tailEnd len="med" type="stealth" w="med"/>
          </a:ln>
        </p:spPr>
      </p:cxnSp>
      <p:cxnSp>
        <p:nvCxnSpPr>
          <p:cNvPr id="242" name="Curved Connector 31"/>
          <p:cNvCxnSpPr>
            <a:stCxn id="237" idx="0"/>
          </p:cNvCxnSpPr>
          <p:nvPr/>
        </p:nvCxnSpPr>
        <p:spPr>
          <a:xfrm flipV="1" rot="16200000">
            <a:off x="4030920" y="4067280"/>
            <a:ext cx="364320" cy="111960"/>
          </a:xfrm>
          <a:prstGeom prst="curvedConnector5">
            <a:avLst>
              <a:gd name="adj1" fmla="val 49950"/>
              <a:gd name="adj2" fmla="val 50000"/>
              <a:gd name="adj3" fmla="val 49950"/>
            </a:avLst>
          </a:prstGeom>
          <a:ln w="12600">
            <a:solidFill>
              <a:srgbClr val="7f7f7f"/>
            </a:solidFill>
            <a:prstDash val="dash"/>
            <a:miter/>
            <a:tailEnd len="med" type="stealth" w="med"/>
          </a:ln>
        </p:spPr>
      </p:cxnSp>
      <p:graphicFrame>
        <p:nvGraphicFramePr>
          <p:cNvPr id="243" name=""/>
          <p:cNvGraphicFramePr/>
          <p:nvPr/>
        </p:nvGraphicFramePr>
        <p:xfrm>
          <a:off x="1708200" y="5192640"/>
          <a:ext cx="5886360" cy="854280"/>
        </p:xfrm>
        <a:graphic>
          <a:graphicData uri="http://schemas.openxmlformats.org/drawingml/2006/table">
            <a:tbl>
              <a:tblPr/>
              <a:tblGrid>
                <a:gridCol w="1147680"/>
                <a:gridCol w="1216080"/>
                <a:gridCol w="1216080"/>
                <a:gridCol w="1216080"/>
                <a:gridCol w="1090440"/>
              </a:tblGrid>
              <a:tr h="21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=2, d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=4, d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=8, d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-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-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Object 10"/>
          <p:cNvGraphicFramePr/>
          <p:nvPr/>
        </p:nvGraphicFramePr>
        <p:xfrm>
          <a:off x="0" y="0"/>
          <a:ext cx="752400" cy="20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75240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1"/>
          <p:cNvGraphicFramePr/>
          <p:nvPr/>
        </p:nvGraphicFramePr>
        <p:xfrm>
          <a:off x="1928880" y="5184720"/>
          <a:ext cx="749160" cy="203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7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28880" y="5184720"/>
                    <a:ext cx="74916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4DF1-CC61-45A9-BEA3-3EEBB746F9C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JCTVC-I02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879480" y="1170000"/>
          <a:ext cx="3279600" cy="530388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  <a:gridCol w="468360"/>
                <a:gridCol w="469800"/>
                <a:gridCol w="468360"/>
                <a:gridCol w="468360"/>
                <a:gridCol w="468000"/>
              </a:tblGrid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 CU64x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 CU64x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 CU32x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 CU32x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 CU16x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 CU16x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830840" y="2354400"/>
          <a:ext cx="4097160" cy="1876320"/>
        </p:xfrm>
        <a:graphic>
          <a:graphicData uri="http://schemas.openxmlformats.org/drawingml/2006/table">
            <a:tbl>
              <a:tblPr/>
              <a:tblGrid>
                <a:gridCol w="695160"/>
                <a:gridCol w="567000"/>
                <a:gridCol w="566640"/>
                <a:gridCol w="568080"/>
                <a:gridCol w="567000"/>
                <a:gridCol w="566640"/>
                <a:gridCol w="56664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Ma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3" name="TextBox 8"/>
          <p:cNvSpPr/>
          <p:nvPr/>
        </p:nvSpPr>
        <p:spPr>
          <a:xfrm>
            <a:off x="5075280" y="1038240"/>
            <a:ext cx="372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 boundary smo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dobe Garamond Pro Bold"/>
              </a:rPr>
              <a:t>(d=4, D= 8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LCU Boundary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5280" y="3622320"/>
            <a:ext cx="8802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SAO causes visual artifacts also if a BO partition is neighbor with an EO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The same linear smoothing can be applied to LCU boundary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3FF0-28B3-4CED-B65B-7DE7C813AC3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JCTVC-I02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Picture4"/>
          <p:cNvPicPr/>
          <p:nvPr/>
        </p:nvPicPr>
        <p:blipFill>
          <a:blip r:embed="rId1"/>
          <a:stretch/>
        </p:blipFill>
        <p:spPr>
          <a:xfrm>
            <a:off x="2639880" y="1374840"/>
            <a:ext cx="40942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LCU Boundary Processing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0320" y="3439800"/>
            <a:ext cx="880272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If a BO partition is not merged into a neighbor, the offset for that boundary is reduced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duction is linearly done between original offset and zero (if no merge)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offsets of the neighboring LCUs do not need to be stored/remembered (just the merge flags)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ach LCU only needs pixels within that LCU for processing (no line buffer needed) 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4F91-474F-486B-9122-0BDD01012C9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JCTVC-I02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Picture5"/>
          <p:cNvPicPr/>
          <p:nvPr/>
        </p:nvPicPr>
        <p:blipFill>
          <a:blip r:embed="rId1"/>
          <a:stretch/>
        </p:blipFill>
        <p:spPr>
          <a:xfrm>
            <a:off x="1432080" y="1224000"/>
            <a:ext cx="5940360" cy="1923840"/>
          </a:xfrm>
          <a:prstGeom prst="rect">
            <a:avLst/>
          </a:prstGeom>
          <a:ln w="0">
            <a:noFill/>
          </a:ln>
        </p:spPr>
      </p:pic>
      <p:sp>
        <p:nvSpPr>
          <p:cNvPr id="264" name="TextBox 6"/>
          <p:cNvSpPr/>
          <p:nvPr/>
        </p:nvSpPr>
        <p:spPr>
          <a:xfrm>
            <a:off x="5837400" y="1260360"/>
            <a:ext cx="11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urrent LC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0944-EC04-4F87-BFE6-4D47429E3FF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JCTVC-I02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478400" y="2478240"/>
          <a:ext cx="4665600" cy="1876320"/>
        </p:xfrm>
        <a:graphic>
          <a:graphicData uri="http://schemas.openxmlformats.org/drawingml/2006/table">
            <a:tbl>
              <a:tblPr/>
              <a:tblGrid>
                <a:gridCol w="792000"/>
                <a:gridCol w="644760"/>
                <a:gridCol w="645840"/>
                <a:gridCol w="646200"/>
                <a:gridCol w="646200"/>
                <a:gridCol w="644400"/>
                <a:gridCol w="64620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Ma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78000" y="1389240"/>
          <a:ext cx="3875040" cy="4632120"/>
        </p:xfrm>
        <a:graphic>
          <a:graphicData uri="http://schemas.openxmlformats.org/drawingml/2006/table">
            <a:tbl>
              <a:tblPr/>
              <a:tblGrid>
                <a:gridCol w="682560"/>
                <a:gridCol w="423720"/>
                <a:gridCol w="554040"/>
                <a:gridCol w="554040"/>
                <a:gridCol w="554040"/>
                <a:gridCol w="552600"/>
                <a:gridCol w="554040"/>
              </a:tblGrid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 CU64x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 CU64x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 CU32x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 CU32x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 CU16x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 CU16x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0" name="TextBox 7"/>
          <p:cNvSpPr/>
          <p:nvPr/>
        </p:nvSpPr>
        <p:spPr>
          <a:xfrm>
            <a:off x="5075280" y="1038240"/>
            <a:ext cx="372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 boundary smoothing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dobe Garamond Pro Bold"/>
              </a:rPr>
              <a:t>(d=4, D= 8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U boundary smo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dobe Garamond Pro Bold"/>
              </a:rPr>
              <a:t>(d=2, D=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Visual Evaluation (combined)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8187-611A-4EAE-BE9E-1AE68AAF3F6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eiryo"/>
              </a:rPr>
              <a:t>JCTVC-I02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762200" y="1442880"/>
            <a:ext cx="5810040" cy="2162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1762200" y="3957480"/>
            <a:ext cx="5715000" cy="22194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7"/>
          <p:cNvSpPr/>
          <p:nvPr/>
        </p:nvSpPr>
        <p:spPr>
          <a:xfrm>
            <a:off x="246960" y="2176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1 anc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384480" y="482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31Z</dcterms:created>
  <dc:creator>Sony Customer</dc:creator>
  <dc:description/>
  <dc:language>en-US</dc:language>
  <cp:lastModifiedBy>ehsan</cp:lastModifiedBy>
  <dcterms:modified xsi:type="dcterms:W3CDTF">2012-04-28T21:53:34Z</dcterms:modified>
  <cp:revision>210</cp:revision>
  <dc:subject/>
  <dc:title>Sony’s Perspective on the CE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20010AEFE09DCD06140A9660BDD0E512771</vt:lpwstr>
  </property>
  <property fmtid="{D5CDD505-2E9C-101B-9397-08002B2CF9AE}" pid="3" name="Description">
    <vt:lpwstr/>
  </property>
  <property fmtid="{D5CDD505-2E9C-101B-9397-08002B2CF9AE}" pid="4" name="ImageCreateDate">
    <vt:lpwstr/>
  </property>
  <property fmtid="{D5CDD505-2E9C-101B-9397-08002B2CF9AE}" pid="5" name="Published On">
    <vt:lpwstr>2011-03-31T00:00:00Z</vt:lpwstr>
  </property>
  <property fmtid="{D5CDD505-2E9C-101B-9397-08002B2CF9AE}" pid="6" name="Research Categories">
    <vt:lpwstr>;#ALL RESEARCH;#Market Overviews &amp; Share;#Sony Market Research;#ALL CONSUMER ELECTRONICS;#3D;#Blu-ray Disc &amp; DVD;#Digital Imaging;#eBook;#HDTV;#PC/Notebook/Netbook;#Tablets;#ALL BRAND RESEARCH;#Sony;#</vt:lpwstr>
  </property>
  <property fmtid="{D5CDD505-2E9C-101B-9397-08002B2CF9AE}" pid="7" name="Vendor">
    <vt:lpwstr>17</vt:lpwstr>
  </property>
</Properties>
</file>