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EB11-9C2A-4D34-A3F3-50EB54B5A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offsets always (BO or EO) is always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5B28-616C-45D3-8CA7-ABED82632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スライド番号プレースホルダ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B557-DFC5-4545-B702-C31C580CE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DA9A-4702-48B5-9EF9-E9A88A175E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2580-1934-4196-B2A1-2B4F5E3BEF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C622-A3EA-4009-A2E1-5F3B4A59C6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4CA7-4235-4955-8D00-552A31DA31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33219-E659-4622-AB27-51B3A5CD82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8502-2FDF-4E0A-8081-F5C5EA0ED7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4BA3-31B0-424D-A52D-0A3B1B7CAF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1EF6-3190-4EC8-B21B-9DD3F3756B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5DE8-9EEB-4043-B91E-61704CB659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05E6-BF42-47A9-AC16-AA649410FA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0231-D87A-4C47-8CBF-7D4DE50223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27BBB-3BFE-42A8-A206-89157DFBCF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321EB-0655-4836-B4EB-32F93652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CB3E6-B17E-4935-BAF9-5A048025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08CD3-16EE-44F2-99DD-3B71A494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7DC5C-8870-49C7-B9DF-385B9CA5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D6156-E02B-49D0-9AAD-0C4465A4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CDD0F-E8A0-4D82-BACA-42C4A015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658BA-DCE9-43F6-BE12-9A6A6B58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5BE12-9413-4765-9A32-5D4358E5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FB1E8-5E15-40FD-A654-789E2D43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9C132-CA12-465D-A43C-9D563CA4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C5820-E4CF-423F-B604-7856AC94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71D95-F40D-40DE-A66C-F7830EF5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36" descr="16_9_logo位置0902w"/>
          <p:cNvPicPr/>
          <p:nvPr/>
        </p:nvPicPr>
        <p:blipFill>
          <a:blip r:embed="rId3"/>
          <a:stretch/>
        </p:blipFill>
        <p:spPr>
          <a:xfrm>
            <a:off x="7932600" y="276120"/>
            <a:ext cx="878040" cy="3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正方形/長方形 22"/>
          <p:cNvSpPr/>
          <p:nvPr/>
        </p:nvSpPr>
        <p:spPr>
          <a:xfrm>
            <a:off x="-1440" y="-111240"/>
            <a:ext cx="9142200" cy="642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0" y="6315120"/>
            <a:ext cx="914076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0" y="0"/>
            <a:ext cx="914076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0" y="6426360"/>
            <a:ext cx="914076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線コネクタ 25"/>
          <p:cNvSpPr/>
          <p:nvPr/>
        </p:nvSpPr>
        <p:spPr>
          <a:xfrm flipH="1">
            <a:off x="430200" y="6473880"/>
            <a:ext cx="1440" cy="216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6" descr="16_9_logo位置0902w"/>
          <p:cNvPicPr/>
          <p:nvPr/>
        </p:nvPicPr>
        <p:blipFill>
          <a:blip r:embed="rId2"/>
          <a:stretch/>
        </p:blipFill>
        <p:spPr>
          <a:xfrm>
            <a:off x="8175600" y="144360"/>
            <a:ext cx="773280" cy="265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sldNum" idx="1"/>
          </p:nvPr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7B5F-555A-4AA8-84CA-2D8F70598DA1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JCTVC-I024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正方形/長方形 22"/>
          <p:cNvSpPr/>
          <p:nvPr/>
        </p:nvSpPr>
        <p:spPr>
          <a:xfrm>
            <a:off x="1440" y="0"/>
            <a:ext cx="9142560" cy="642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0" y="6426360"/>
            <a:ext cx="914076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6" descr="16_9_logo位置0902w"/>
          <p:cNvPicPr/>
          <p:nvPr/>
        </p:nvPicPr>
        <p:blipFill>
          <a:blip r:embed="rId2"/>
          <a:stretch/>
        </p:blipFill>
        <p:spPr>
          <a:xfrm>
            <a:off x="8175600" y="144360"/>
            <a:ext cx="773280" cy="265320"/>
          </a:xfrm>
          <a:prstGeom prst="rect">
            <a:avLst/>
          </a:prstGeom>
          <a:ln w="0">
            <a:noFill/>
          </a:ln>
        </p:spPr>
      </p:pic>
      <p:sp>
        <p:nvSpPr>
          <p:cNvPr id="122" name="直線コネクタ 18"/>
          <p:cNvSpPr/>
          <p:nvPr/>
        </p:nvSpPr>
        <p:spPr>
          <a:xfrm flipH="1">
            <a:off x="430200" y="6473880"/>
            <a:ext cx="1440" cy="216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ftr" idx="3"/>
          </p:nvPr>
        </p:nvSpPr>
        <p:spPr>
          <a:xfrm>
            <a:off x="1260000" y="6473880"/>
            <a:ext cx="575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Department    Copyrigh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4"/>
          </p:nvPr>
        </p:nvSpPr>
        <p:spPr>
          <a:xfrm>
            <a:off x="576000" y="6473880"/>
            <a:ext cx="647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HGP創英角ｺﾞｼｯｸUB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HGP創英角ｺﾞｼｯｸUB"/>
              </a:rPr>
              <a:t>09.10.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E24E-DF37-47DA-B4BE-37834D9468AB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  <p:sp>
        <p:nvSpPr>
          <p:cNvPr id="163" name="正方形/長方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図 9" descr="mblogo_w.pdf"/>
          <p:cNvPicPr/>
          <p:nvPr/>
        </p:nvPicPr>
        <p:blipFill>
          <a:blip r:embed="rId3"/>
          <a:stretch/>
        </p:blipFill>
        <p:spPr>
          <a:xfrm>
            <a:off x="3600360" y="3114720"/>
            <a:ext cx="1943280" cy="658800"/>
          </a:xfrm>
          <a:prstGeom prst="rect">
            <a:avLst/>
          </a:prstGeom>
          <a:ln w="0">
            <a:noFill/>
          </a:ln>
        </p:spPr>
      </p:pic>
      <p:sp>
        <p:nvSpPr>
          <p:cNvPr id="165" name="テキスト ボックス 3"/>
          <p:cNvSpPr/>
          <p:nvPr/>
        </p:nvSpPr>
        <p:spPr>
          <a:xfrm>
            <a:off x="360360" y="6012000"/>
            <a:ext cx="8423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397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7f7f7f"/>
                </a:solidFill>
                <a:latin typeface="Arial"/>
                <a:ea typeface="メイリオ"/>
              </a:rPr>
              <a:t>“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Sony” or “make.believe” is a registered trademark of Sony Corporation.</a:t>
            </a:r>
            <a:br>
              <a:rPr sz="1000"/>
            </a:b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Names of Sony products and services are the registered trademarks and/or trademarks of Sony Corporation or its Group companies.</a:t>
            </a:r>
            <a:br>
              <a:rPr sz="1000"/>
            </a:b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Other company names and product names are the registered trademarks and/or trademarks of the respective compan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P創英角ｺﾞｼｯｸUB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20720" y="2340000"/>
            <a:ext cx="7974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entury Gothic"/>
              </a:rPr>
              <a:t>SAO Type Coding Simplification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20360" y="3060720"/>
            <a:ext cx="677556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E. Maani (Sony), K. Minoo, D. Baylon (Motorola Mobility), E. Alshina (Samsung)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20720" y="4319280"/>
            <a:ext cx="77025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TC Avant Garde Std Bk"/>
              </a:rPr>
              <a:t>Proposal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TC Avant Garde Std Bk"/>
              </a:rPr>
              <a:t>JCTVC-I0246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20720" y="6048000"/>
            <a:ext cx="77025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TC Avant Garde Std Bk"/>
                <a:ea typeface="メイリオ"/>
              </a:rPr>
              <a:t>Apr 25 2012</a:t>
            </a:r>
            <a:endParaRPr b="0" lang="en-US" sz="1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SAO Type coding in WD6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0E4D-1602-4733-A48A-9ECAEC485EC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I02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660680" y="1552680"/>
          <a:ext cx="6011640" cy="2133360"/>
        </p:xfrm>
        <a:graphic>
          <a:graphicData uri="http://schemas.openxmlformats.org/drawingml/2006/table">
            <a:tbl>
              <a:tblPr/>
              <a:tblGrid>
                <a:gridCol w="2971800"/>
                <a:gridCol w="303984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O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_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_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_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_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1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Rectangle 7"/>
          <p:cNvSpPr/>
          <p:nvPr/>
        </p:nvSpPr>
        <p:spPr>
          <a:xfrm>
            <a:off x="4710240" y="1879560"/>
            <a:ext cx="180720" cy="1933560"/>
          </a:xfrm>
          <a:prstGeom prst="rect">
            <a:avLst/>
          </a:prstGeom>
          <a:solidFill>
            <a:srgbClr val="ffc00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ight Triangle 8"/>
          <p:cNvSpPr/>
          <p:nvPr/>
        </p:nvSpPr>
        <p:spPr>
          <a:xfrm>
            <a:off x="4908600" y="1871640"/>
            <a:ext cx="1035000" cy="1941480"/>
          </a:xfrm>
          <a:prstGeom prst="rtTriangle">
            <a:avLst/>
          </a:prstGeom>
          <a:solidFill>
            <a:srgbClr val="c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9"/>
          <p:cNvSpPr/>
          <p:nvPr/>
        </p:nvSpPr>
        <p:spPr>
          <a:xfrm>
            <a:off x="6067440" y="1224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x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0"/>
          <p:cNvSpPr/>
          <p:nvPr/>
        </p:nvSpPr>
        <p:spPr>
          <a:xfrm>
            <a:off x="5946120" y="30448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x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Curved Connector 12"/>
          <p:cNvCxnSpPr>
            <a:stCxn id="222" idx="0"/>
            <a:endCxn id="220" idx="5"/>
          </p:cNvCxnSpPr>
          <p:nvPr/>
        </p:nvCxnSpPr>
        <p:spPr>
          <a:xfrm flipV="1" rot="16200000">
            <a:off x="5745960" y="2520000"/>
            <a:ext cx="204120" cy="845280"/>
          </a:xfrm>
          <a:prstGeom prst="curvedConnector2">
            <a:avLst/>
          </a:prstGeom>
          <a:ln w="19080">
            <a:solidFill>
              <a:srgbClr val="333399"/>
            </a:solidFill>
            <a:prstDash val="sysDash"/>
            <a:miter/>
            <a:headEnd len="med" type="diamond" w="med"/>
            <a:tailEnd len="lg" type="stealth" w="lg"/>
          </a:ln>
        </p:spPr>
      </p:cxnSp>
      <p:cxnSp>
        <p:nvCxnSpPr>
          <p:cNvPr id="224" name="Curved Connector 14"/>
          <p:cNvCxnSpPr>
            <a:stCxn id="221" idx="0"/>
            <a:endCxn id="219" idx="0"/>
          </p:cNvCxnSpPr>
          <p:nvPr/>
        </p:nvCxnSpPr>
        <p:spPr>
          <a:xfrm rot="5400000">
            <a:off x="5268240" y="754560"/>
            <a:ext cx="656280" cy="1593000"/>
          </a:xfrm>
          <a:prstGeom prst="curvedConnector5">
            <a:avLst>
              <a:gd name="adj1" fmla="val -34851"/>
              <a:gd name="adj2" fmla="val 50000"/>
              <a:gd name="adj3" fmla="val -34851"/>
            </a:avLst>
          </a:prstGeom>
          <a:ln w="19080">
            <a:solidFill>
              <a:srgbClr val="333399"/>
            </a:solidFill>
            <a:prstDash val="sysDash"/>
            <a:miter/>
            <a:headEnd len="med" type="diamond" w="med"/>
            <a:tailEnd len="lg" type="stealth" w="lg"/>
          </a:ln>
        </p:spPr>
      </p:cxnSp>
      <p:sp>
        <p:nvSpPr>
          <p:cNvPr id="225" name=""/>
          <p:cNvSpPr txBox="1"/>
          <p:nvPr/>
        </p:nvSpPr>
        <p:spPr>
          <a:xfrm>
            <a:off x="399960" y="4230360"/>
            <a:ext cx="8801280" cy="22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O statistics vary a lot from a sequence to another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9966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Calibri"/>
                <a:ea typeface="Calibri"/>
              </a:rPr>
              <a:t>Ctx1 cannot track BO/EO stats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O additional information (direction) is coded in SAO type but BO additional information (starting band) is coded separately as side information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O types have different code lengths. Logically, they should have the same code length. EO type statistics is </a:t>
            </a:r>
            <a:r>
              <a:rPr b="0" i="1" lang="en-US" sz="2000" spc="-1" strike="noStrike">
                <a:solidFill>
                  <a:srgbClr val="00b0f0"/>
                </a:solidFill>
                <a:latin typeface="Calibri"/>
                <a:ea typeface="Calibri"/>
              </a:rPr>
              <a:t>unifor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not </a:t>
            </a:r>
            <a:r>
              <a:rPr b="0" i="1" lang="en-US" sz="2000" spc="-1" strike="noStrike">
                <a:solidFill>
                  <a:srgbClr val="00b0f0"/>
                </a:solidFill>
                <a:latin typeface="Calibri"/>
                <a:ea typeface="Calibri"/>
              </a:rPr>
              <a:t>GEOMETRIC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Proposed vs WD6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D6BC-DC05-427D-ACEF-60821670A6D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I02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181240" y="1397160"/>
            <a:ext cx="5997600" cy="2292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2181240" y="3822840"/>
            <a:ext cx="5997600" cy="2465280"/>
          </a:xfrm>
          <a:prstGeom prst="rect">
            <a:avLst/>
          </a:prstGeom>
          <a:ln w="0">
            <a:noFill/>
          </a:ln>
        </p:spPr>
      </p:pic>
      <p:sp>
        <p:nvSpPr>
          <p:cNvPr id="231" name="TextBox 6"/>
          <p:cNvSpPr/>
          <p:nvPr/>
        </p:nvSpPr>
        <p:spPr>
          <a:xfrm>
            <a:off x="383400" y="2459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135000" y="46926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25280" y="1412640"/>
            <a:ext cx="8802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Cleaner, simplified design with a performance gain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Same number of contexts, but more bypass coding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Same length codewords for different EO directions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ymmetry in a large collection of images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EA1A-1B9D-4BBB-956F-99F26E81EF5E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I02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2114640" y="2187720"/>
            <a:ext cx="463860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Results (CE1 test conditions)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4424-B289-423E-BF9E-FBD8C7463C8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I02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04760" y="1397160"/>
          <a:ext cx="4464000" cy="4632120"/>
        </p:xfrm>
        <a:graphic>
          <a:graphicData uri="http://schemas.openxmlformats.org/drawingml/2006/table">
            <a:tbl>
              <a:tblPr/>
              <a:tblGrid>
                <a:gridCol w="757080"/>
                <a:gridCol w="617760"/>
                <a:gridCol w="617400"/>
                <a:gridCol w="617760"/>
                <a:gridCol w="618840"/>
                <a:gridCol w="617760"/>
                <a:gridCol w="617400"/>
              </a:tblGrid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Low delay B Main CU64x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Low delay B HE10 CU64x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9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Low delay B Main CU32x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Low delay B HE10 CU32x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Low delay B Main CU16x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Low delay B HE10 CU16x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4637160" y="2657520"/>
          <a:ext cx="4464000" cy="1876320"/>
        </p:xfrm>
        <a:graphic>
          <a:graphicData uri="http://schemas.openxmlformats.org/drawingml/2006/table">
            <a:tbl>
              <a:tblPr/>
              <a:tblGrid>
                <a:gridCol w="757080"/>
                <a:gridCol w="617760"/>
                <a:gridCol w="617400"/>
                <a:gridCol w="617400"/>
                <a:gridCol w="619200"/>
                <a:gridCol w="617760"/>
                <a:gridCol w="617400"/>
              </a:tblGrid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Random Access Ma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Random Access HE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1:41:31Z</dcterms:created>
  <dc:creator>Sony Customer</dc:creator>
  <dc:description/>
  <dc:language>en-US</dc:language>
  <cp:lastModifiedBy>Ehsan</cp:lastModifiedBy>
  <dcterms:modified xsi:type="dcterms:W3CDTF">2012-04-27T22:03:50Z</dcterms:modified>
  <cp:revision>175</cp:revision>
  <dc:subject/>
  <dc:title>Sony’s Perspective on the CE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20010AEFE09DCD06140A9660BDD0E512771</vt:lpwstr>
  </property>
  <property fmtid="{D5CDD505-2E9C-101B-9397-08002B2CF9AE}" pid="3" name="Description">
    <vt:lpwstr/>
  </property>
  <property fmtid="{D5CDD505-2E9C-101B-9397-08002B2CF9AE}" pid="4" name="ImageCreateDate">
    <vt:lpwstr/>
  </property>
  <property fmtid="{D5CDD505-2E9C-101B-9397-08002B2CF9AE}" pid="5" name="Published On">
    <vt:lpwstr>2011-03-31T00:00:00Z</vt:lpwstr>
  </property>
  <property fmtid="{D5CDD505-2E9C-101B-9397-08002B2CF9AE}" pid="6" name="Research Categories">
    <vt:lpwstr>;#ALL RESEARCH;#Market Overviews &amp; Share;#Sony Market Research;#ALL CONSUMER ELECTRONICS;#3D;#Blu-ray Disc &amp; DVD;#Digital Imaging;#eBook;#HDTV;#PC/Notebook/Netbook;#Tablets;#ALL BRAND RESEARCH;#Sony;#</vt:lpwstr>
  </property>
  <property fmtid="{D5CDD505-2E9C-101B-9397-08002B2CF9AE}" pid="7" name="Vendor">
    <vt:lpwstr>17</vt:lpwstr>
  </property>
</Properties>
</file>