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1480" y="91800"/>
            <a:ext cx="84582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33360" y="692280"/>
            <a:ext cx="8467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33360" y="3513240"/>
            <a:ext cx="8467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1480" y="91800"/>
            <a:ext cx="84582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33360" y="692280"/>
            <a:ext cx="413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440" y="692280"/>
            <a:ext cx="413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33360" y="3513240"/>
            <a:ext cx="413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2440" y="3513240"/>
            <a:ext cx="413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1480" y="91800"/>
            <a:ext cx="84582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33360" y="692280"/>
            <a:ext cx="2726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6440" y="692280"/>
            <a:ext cx="2726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9160" y="692280"/>
            <a:ext cx="2726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33360" y="3513240"/>
            <a:ext cx="2726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6440" y="3513240"/>
            <a:ext cx="2726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9160" y="3513240"/>
            <a:ext cx="2726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E940-58B4-4F67-AD74-7107DFD11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1480" y="91800"/>
            <a:ext cx="84582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33360" y="692280"/>
            <a:ext cx="846792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094D-6E5E-480C-A705-C0A81601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1480" y="91800"/>
            <a:ext cx="84582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33360" y="692280"/>
            <a:ext cx="84679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E291-E157-41BA-AD85-4F703A11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1480" y="91800"/>
            <a:ext cx="84582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3360" y="692280"/>
            <a:ext cx="4132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2440" y="692280"/>
            <a:ext cx="4132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1A68-3AC8-46F6-8169-93CB2A7A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1480" y="91800"/>
            <a:ext cx="84582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34AE-3FC4-4563-8D07-B5D6810C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31480" y="142560"/>
            <a:ext cx="845820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7899-3626-4946-B4E9-910F7483E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1480" y="91800"/>
            <a:ext cx="84582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33360" y="692280"/>
            <a:ext cx="413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2440" y="692280"/>
            <a:ext cx="4132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33360" y="3513240"/>
            <a:ext cx="413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204A-8FA8-4332-A0D0-C7287696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1480" y="91800"/>
            <a:ext cx="84582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33360" y="692280"/>
            <a:ext cx="846792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1480" y="91800"/>
            <a:ext cx="84582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3360" y="692280"/>
            <a:ext cx="4132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440" y="692280"/>
            <a:ext cx="413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2440" y="3513240"/>
            <a:ext cx="413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A541-04DD-44A5-94A2-756DA4B9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1480" y="91800"/>
            <a:ext cx="84582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33360" y="692280"/>
            <a:ext cx="413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440" y="692280"/>
            <a:ext cx="413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33360" y="3513240"/>
            <a:ext cx="8467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E3A6-5640-49C4-990C-8D597023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1480" y="91800"/>
            <a:ext cx="84582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33360" y="692280"/>
            <a:ext cx="8467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3360" y="3513240"/>
            <a:ext cx="8467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BB24-709E-4E30-9133-3936A024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1480" y="91800"/>
            <a:ext cx="84582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33360" y="692280"/>
            <a:ext cx="413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2440" y="692280"/>
            <a:ext cx="413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33360" y="3513240"/>
            <a:ext cx="413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2440" y="3513240"/>
            <a:ext cx="413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33A9-94F1-456F-8B37-B101D4B7A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31480" y="91800"/>
            <a:ext cx="84582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33360" y="692280"/>
            <a:ext cx="2726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96440" y="692280"/>
            <a:ext cx="2726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59160" y="692280"/>
            <a:ext cx="2726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33360" y="3513240"/>
            <a:ext cx="2726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96440" y="3513240"/>
            <a:ext cx="2726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59160" y="3513240"/>
            <a:ext cx="2726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DF12-C01B-4AA4-BA97-8F10C91F1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1480" y="91800"/>
            <a:ext cx="84582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33360" y="692280"/>
            <a:ext cx="84679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1480" y="91800"/>
            <a:ext cx="84582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3360" y="692280"/>
            <a:ext cx="4132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440" y="692280"/>
            <a:ext cx="4132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1480" y="91800"/>
            <a:ext cx="84582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1480" y="142560"/>
            <a:ext cx="845820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1480" y="91800"/>
            <a:ext cx="84582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33360" y="692280"/>
            <a:ext cx="413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440" y="692280"/>
            <a:ext cx="4132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33360" y="3513240"/>
            <a:ext cx="413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1480" y="91800"/>
            <a:ext cx="84582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33360" y="692280"/>
            <a:ext cx="4132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440" y="692280"/>
            <a:ext cx="413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2440" y="3513240"/>
            <a:ext cx="413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1480" y="91800"/>
            <a:ext cx="84582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33360" y="692280"/>
            <a:ext cx="413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440" y="692280"/>
            <a:ext cx="413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33360" y="3513240"/>
            <a:ext cx="8467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1480" y="142560"/>
            <a:ext cx="845820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3360" y="692280"/>
            <a:ext cx="84679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33280">
              <a:spcBef>
                <a:spcPts val="1624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853920" indent="-164880"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201680" indent="-233280">
              <a:spcBef>
                <a:spcPts val="1624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488960" indent="-172800">
              <a:spcBef>
                <a:spcPts val="1624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488960" indent="-172800">
              <a:spcBef>
                <a:spcPts val="1624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488960" indent="-172800">
              <a:spcBef>
                <a:spcPts val="1624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ti_stk_2c_pos_rgb"/>
          <p:cNvPicPr/>
          <p:nvPr/>
        </p:nvPicPr>
        <p:blipFill>
          <a:blip r:embed="rId2"/>
          <a:stretch/>
        </p:blipFill>
        <p:spPr>
          <a:xfrm>
            <a:off x="6629400" y="6418440"/>
            <a:ext cx="1136520" cy="280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 flipV="1">
            <a:off x="179280" y="545760"/>
            <a:ext cx="8785440" cy="763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6937200" y="6137280"/>
            <a:ext cx="195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0875496 / ramanujam@ti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9"/>
          <p:cNvSpPr/>
          <p:nvPr/>
        </p:nvSpPr>
        <p:spPr>
          <a:xfrm>
            <a:off x="324360" y="6137280"/>
            <a:ext cx="81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6/04/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1c_revBlack_rgb_powerpoint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" descr="ti_stk_2c_pos_rgb"/>
          <p:cNvPicPr/>
          <p:nvPr/>
        </p:nvPicPr>
        <p:blipFill>
          <a:blip r:embed="rId3"/>
          <a:stretch/>
        </p:blipFill>
        <p:spPr>
          <a:xfrm>
            <a:off x="6629400" y="6418440"/>
            <a:ext cx="1136520" cy="280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1480" y="142560"/>
            <a:ext cx="845820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33360" y="692280"/>
            <a:ext cx="84679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33280">
              <a:spcBef>
                <a:spcPts val="1624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853920" indent="-164880"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201680" indent="-233280">
              <a:spcBef>
                <a:spcPts val="1624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488960" indent="-172800">
              <a:spcBef>
                <a:spcPts val="1624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488960" indent="-172800">
              <a:spcBef>
                <a:spcPts val="1624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488960" indent="-172800">
              <a:spcBef>
                <a:spcPts val="1624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355680" y="6038640"/>
            <a:ext cx="213336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2475000" y="6038640"/>
            <a:ext cx="41637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E90B-6477-48F4-A878-9A124CE9510A}" type="slidenum"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LCU based Input order scanning for HASH SEI Message</a:t>
            </a:r>
            <a:br>
              <a:rPr sz="4400"/>
            </a:br>
            <a:endParaRPr b="1" lang="en-US" sz="36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42720" y="369864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uthors: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rinivasan, Ranga Ramanujam ; Mody, Mihir; Ghone, Chaitanya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ource: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exas Instrument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31480" y="142560"/>
            <a:ext cx="8458200" cy="40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Results</a:t>
            </a:r>
            <a:endParaRPr b="1" lang="en-US" sz="28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33000" y="692280"/>
            <a:ext cx="850572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here is no change in BD-PSNR/BD-Bitrate numbers as SEI messages are not counted as bits consumed for PSNR calculation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nables in loop LCU decoding process for easier implementation, enabling real-time calculation of Checksum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t saves 90 MB/second memory bandwidth for 1080p30 sequence and removes frame-end computation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1480" y="142560"/>
            <a:ext cx="8458200" cy="40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Introduction</a:t>
            </a:r>
            <a:endParaRPr b="1" lang="en-US" sz="28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33360" y="691920"/>
            <a:ext cx="84679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 Narrow"/>
              </a:rPr>
              <a:t>Hash SEI messages are defined to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vide checksum of the decoded picture in the current access uni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hecksum can be used for encoder-decoder bit-match, i.e., compliance testing purpos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hecksum can as well be used to detect error in the stream transmission or storage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is message computation as currently defined in standard, requires scanning of lines in raster order and calculating checksum at the end of fram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ere is a sequential dependency between lines in raster-scan order and also between different color component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hecksum computation can’t be done at LCU level decoding process as input pixel order to check-sum calculation is line based rast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is results in additional fetch of decoded frames from external memory, only purpose of checksu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31480" y="142560"/>
            <a:ext cx="8458200" cy="40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Checksum Calculation: Sequential Dependency</a:t>
            </a:r>
            <a:endParaRPr b="1" lang="en-US" sz="2800" spc="-1" strike="noStrike">
              <a:solidFill>
                <a:srgbClr val="ff0000"/>
              </a:solidFill>
              <a:latin typeface="Arial Narrow"/>
            </a:endParaRPr>
          </a:p>
        </p:txBody>
      </p:sp>
      <p:graphicFrame>
        <p:nvGraphicFramePr>
          <p:cNvPr id="93" name="Object 23"/>
          <p:cNvGraphicFramePr/>
          <p:nvPr/>
        </p:nvGraphicFramePr>
        <p:xfrm>
          <a:off x="1828800" y="685800"/>
          <a:ext cx="5410080" cy="55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685800"/>
                    <a:ext cx="5410080" cy="55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1480" y="142560"/>
            <a:ext cx="8458200" cy="40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Proposal – Part 1</a:t>
            </a:r>
            <a:endParaRPr b="1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33360" y="692280"/>
            <a:ext cx="84679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wo options suggested in this proposal to break the sequential dependenc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4360" indent="-34308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nd three checksums, one each for three color components (Y, Cb and Cr). This breaks the sequential dependency between different color component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4360" indent="-34308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o LCU based raster-scan of filtered component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hanges in standard specification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4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905120" y="2590920"/>
          <a:ext cx="4876560" cy="3475080"/>
        </p:xfrm>
        <a:graphic>
          <a:graphicData uri="http://schemas.openxmlformats.org/drawingml/2006/table">
            <a:tbl>
              <a:tblPr/>
              <a:tblGrid>
                <a:gridCol w="3512880"/>
                <a:gridCol w="13636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oded_picture_hash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payloadSize 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Descrip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sh_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f( hash_type  =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 0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(comp=0; comp&lt;3; comp++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( i = 0; i &lt; 16; i++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cture_md5[comp]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 i 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b(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se if( hash_type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 =  1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(comp=0; comp&lt;3; comp++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cture_crc[comp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1480" y="142560"/>
            <a:ext cx="8458200" cy="40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LCU Based scan-order</a:t>
            </a:r>
            <a:endParaRPr b="1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000" y="692280"/>
            <a:ext cx="43909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e new scan order proposed is similar to the decoding order of pixels and provides controls to handle the delay in final pixel data availability due to loop-filtering operation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nsider a stream with LCU size of 64x64, frame size 256x256 as shown below with de-blocking introducing a delay 4 pixels to the left and top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 this case, when the first LCU is decoded only Region0 will contain the final loop-filtered pixel data. So the scan-order shall be raster within Region 0 (12x12 block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0" name="Picture 99" descr=""/>
          <p:cNvPicPr/>
          <p:nvPr/>
        </p:nvPicPr>
        <p:blipFill>
          <a:blip r:embed="rId1"/>
          <a:srcRect l="2691" t="0" r="0" b="0"/>
          <a:stretch/>
        </p:blipFill>
        <p:spPr>
          <a:xfrm>
            <a:off x="4800600" y="1295280"/>
            <a:ext cx="434340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99" descr=""/>
          <p:cNvPicPr/>
          <p:nvPr/>
        </p:nvPicPr>
        <p:blipFill>
          <a:blip r:embed="rId1"/>
          <a:srcRect l="2691" t="0" r="0" b="0"/>
          <a:stretch/>
        </p:blipFill>
        <p:spPr>
          <a:xfrm>
            <a:off x="4800600" y="1295280"/>
            <a:ext cx="4343400" cy="50450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1480" y="142560"/>
            <a:ext cx="8458200" cy="40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LCU Based scan-order</a:t>
            </a:r>
            <a:endParaRPr b="1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09320" y="728640"/>
            <a:ext cx="43909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0320" indent="-220320"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s we move, to next LCU in decoding order, in Region 1 the scan-order shall span across the first and second LCU.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0320" indent="-220320"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lock sizes shall be 16x12 in Region1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0320" indent="-220320"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When we reach the last LCU, the block size shall be 20x12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0320" indent="-220320"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xample scan order are shown for the first row in the figure along sid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0320" indent="-220320"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s we move to further into picture decoding, the block sizes shall b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7280" indent="-226080">
              <a:spcBef>
                <a:spcPts val="34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16x12 in Region3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557280" indent="-226080">
              <a:spcBef>
                <a:spcPts val="34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16x16 in Region 4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557280" indent="-226080">
              <a:spcBef>
                <a:spcPts val="34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20x16 in Region 5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557280" indent="-226080">
              <a:spcBef>
                <a:spcPts val="34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20x12 in Region 6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557280" indent="-226080">
              <a:spcBef>
                <a:spcPts val="34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20x16 in Region 7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557280" indent="-226080">
              <a:spcBef>
                <a:spcPts val="34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20x20 in Region 8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557280" indent="-226080">
              <a:spcBef>
                <a:spcPts val="34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Freeform 16"/>
          <p:cNvSpPr/>
          <p:nvPr/>
        </p:nvSpPr>
        <p:spPr>
          <a:xfrm>
            <a:off x="4915080" y="1838160"/>
            <a:ext cx="542880" cy="628920"/>
          </a:xfrm>
          <a:custGeom>
            <a:avLst/>
            <a:gdLst/>
            <a:ahLst/>
            <a:rect l="l" t="t" r="r" b="b"/>
            <a:pathLst>
              <a:path w="542925" h="628650">
                <a:moveTo>
                  <a:pt x="0" y="0"/>
                </a:moveTo>
                <a:lnTo>
                  <a:pt x="542925" y="0"/>
                </a:lnTo>
                <a:lnTo>
                  <a:pt x="28575" y="104775"/>
                </a:lnTo>
                <a:lnTo>
                  <a:pt x="504825" y="95250"/>
                </a:lnTo>
                <a:lnTo>
                  <a:pt x="57150" y="219075"/>
                </a:lnTo>
                <a:lnTo>
                  <a:pt x="504825" y="200025"/>
                </a:lnTo>
                <a:lnTo>
                  <a:pt x="114300" y="352425"/>
                </a:lnTo>
                <a:lnTo>
                  <a:pt x="495300" y="352425"/>
                </a:lnTo>
                <a:lnTo>
                  <a:pt x="104775" y="485775"/>
                </a:lnTo>
                <a:lnTo>
                  <a:pt x="495300" y="466725"/>
                </a:lnTo>
                <a:lnTo>
                  <a:pt x="47625" y="628650"/>
                </a:lnTo>
                <a:lnTo>
                  <a:pt x="457200" y="61912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19"/>
          <p:cNvSpPr/>
          <p:nvPr/>
        </p:nvSpPr>
        <p:spPr>
          <a:xfrm>
            <a:off x="7858080" y="1838160"/>
            <a:ext cx="905040" cy="628920"/>
          </a:xfrm>
          <a:custGeom>
            <a:avLst/>
            <a:gdLst/>
            <a:ahLst/>
            <a:rect l="l" t="t" r="r" b="b"/>
            <a:pathLst>
              <a:path w="542925" h="628650">
                <a:moveTo>
                  <a:pt x="0" y="0"/>
                </a:moveTo>
                <a:lnTo>
                  <a:pt x="542925" y="0"/>
                </a:lnTo>
                <a:lnTo>
                  <a:pt x="28575" y="104775"/>
                </a:lnTo>
                <a:lnTo>
                  <a:pt x="504825" y="95250"/>
                </a:lnTo>
                <a:lnTo>
                  <a:pt x="57150" y="219075"/>
                </a:lnTo>
                <a:lnTo>
                  <a:pt x="504825" y="200025"/>
                </a:lnTo>
                <a:lnTo>
                  <a:pt x="114300" y="352425"/>
                </a:lnTo>
                <a:lnTo>
                  <a:pt x="495300" y="352425"/>
                </a:lnTo>
                <a:lnTo>
                  <a:pt x="104775" y="485775"/>
                </a:lnTo>
                <a:lnTo>
                  <a:pt x="495300" y="466725"/>
                </a:lnTo>
                <a:lnTo>
                  <a:pt x="47625" y="628650"/>
                </a:lnTo>
                <a:lnTo>
                  <a:pt x="457200" y="61912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20"/>
          <p:cNvSpPr/>
          <p:nvPr/>
        </p:nvSpPr>
        <p:spPr>
          <a:xfrm>
            <a:off x="5486400" y="1828800"/>
            <a:ext cx="704880" cy="628560"/>
          </a:xfrm>
          <a:custGeom>
            <a:avLst/>
            <a:gdLst/>
            <a:ahLst/>
            <a:rect l="l" t="t" r="r" b="b"/>
            <a:pathLst>
              <a:path w="542925" h="628650">
                <a:moveTo>
                  <a:pt x="0" y="0"/>
                </a:moveTo>
                <a:lnTo>
                  <a:pt x="542925" y="0"/>
                </a:lnTo>
                <a:lnTo>
                  <a:pt x="28575" y="104775"/>
                </a:lnTo>
                <a:lnTo>
                  <a:pt x="504825" y="95250"/>
                </a:lnTo>
                <a:lnTo>
                  <a:pt x="57150" y="219075"/>
                </a:lnTo>
                <a:lnTo>
                  <a:pt x="504825" y="200025"/>
                </a:lnTo>
                <a:lnTo>
                  <a:pt x="114300" y="352425"/>
                </a:lnTo>
                <a:lnTo>
                  <a:pt x="495300" y="352425"/>
                </a:lnTo>
                <a:lnTo>
                  <a:pt x="104775" y="485775"/>
                </a:lnTo>
                <a:lnTo>
                  <a:pt x="495300" y="466725"/>
                </a:lnTo>
                <a:lnTo>
                  <a:pt x="47625" y="628650"/>
                </a:lnTo>
                <a:lnTo>
                  <a:pt x="457200" y="61912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21"/>
          <p:cNvSpPr/>
          <p:nvPr/>
        </p:nvSpPr>
        <p:spPr>
          <a:xfrm>
            <a:off x="6315120" y="1838160"/>
            <a:ext cx="704880" cy="628920"/>
          </a:xfrm>
          <a:custGeom>
            <a:avLst/>
            <a:gdLst/>
            <a:ahLst/>
            <a:rect l="l" t="t" r="r" b="b"/>
            <a:pathLst>
              <a:path w="542925" h="628650">
                <a:moveTo>
                  <a:pt x="0" y="0"/>
                </a:moveTo>
                <a:lnTo>
                  <a:pt x="542925" y="0"/>
                </a:lnTo>
                <a:lnTo>
                  <a:pt x="28575" y="104775"/>
                </a:lnTo>
                <a:lnTo>
                  <a:pt x="504825" y="95250"/>
                </a:lnTo>
                <a:lnTo>
                  <a:pt x="57150" y="219075"/>
                </a:lnTo>
                <a:lnTo>
                  <a:pt x="504825" y="200025"/>
                </a:lnTo>
                <a:lnTo>
                  <a:pt x="114300" y="352425"/>
                </a:lnTo>
                <a:lnTo>
                  <a:pt x="495300" y="352425"/>
                </a:lnTo>
                <a:lnTo>
                  <a:pt x="104775" y="485775"/>
                </a:lnTo>
                <a:lnTo>
                  <a:pt x="495300" y="466725"/>
                </a:lnTo>
                <a:lnTo>
                  <a:pt x="47625" y="628650"/>
                </a:lnTo>
                <a:lnTo>
                  <a:pt x="457200" y="61912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22"/>
          <p:cNvSpPr/>
          <p:nvPr/>
        </p:nvSpPr>
        <p:spPr>
          <a:xfrm>
            <a:off x="7029360" y="1828800"/>
            <a:ext cx="704880" cy="628560"/>
          </a:xfrm>
          <a:custGeom>
            <a:avLst/>
            <a:gdLst/>
            <a:ahLst/>
            <a:rect l="l" t="t" r="r" b="b"/>
            <a:pathLst>
              <a:path w="542925" h="628650">
                <a:moveTo>
                  <a:pt x="0" y="0"/>
                </a:moveTo>
                <a:lnTo>
                  <a:pt x="542925" y="0"/>
                </a:lnTo>
                <a:lnTo>
                  <a:pt x="28575" y="104775"/>
                </a:lnTo>
                <a:lnTo>
                  <a:pt x="504825" y="95250"/>
                </a:lnTo>
                <a:lnTo>
                  <a:pt x="57150" y="219075"/>
                </a:lnTo>
                <a:lnTo>
                  <a:pt x="504825" y="200025"/>
                </a:lnTo>
                <a:lnTo>
                  <a:pt x="114300" y="352425"/>
                </a:lnTo>
                <a:lnTo>
                  <a:pt x="495300" y="352425"/>
                </a:lnTo>
                <a:lnTo>
                  <a:pt x="104775" y="485775"/>
                </a:lnTo>
                <a:lnTo>
                  <a:pt x="495300" y="466725"/>
                </a:lnTo>
                <a:lnTo>
                  <a:pt x="47625" y="628650"/>
                </a:lnTo>
                <a:lnTo>
                  <a:pt x="457200" y="61912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31480" y="142560"/>
            <a:ext cx="8458200" cy="40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LCU Based scan-order</a:t>
            </a:r>
            <a:endParaRPr b="1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33360" y="692280"/>
            <a:ext cx="84679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lock sizes shall differ with different types (ALFonly , SAO only, ALF+SAO, Deblock only, etc…) of loop-filtering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e delays in pixel decoding differ for each of the scenario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urther if image size is not multiple of LCU size, the block sizes need to be modified for the last row and last columns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e next slide provides the block sizes for a more generic scenario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99" descr=""/>
          <p:cNvPicPr/>
          <p:nvPr/>
        </p:nvPicPr>
        <p:blipFill>
          <a:blip r:embed="rId1"/>
          <a:srcRect l="2691" t="0" r="0" b="0"/>
          <a:stretch/>
        </p:blipFill>
        <p:spPr>
          <a:xfrm>
            <a:off x="5791320" y="1523880"/>
            <a:ext cx="3352680" cy="33530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1480" y="142560"/>
            <a:ext cx="8458200" cy="40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Region Definition </a:t>
            </a:r>
            <a:endParaRPr b="1" lang="en-US" sz="2800" spc="-1" strike="noStrike">
              <a:solidFill>
                <a:srgbClr val="ff0000"/>
              </a:solidFill>
              <a:latin typeface="Arial Narrow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62120" y="685800"/>
          <a:ext cx="4419360" cy="2906640"/>
        </p:xfrm>
        <a:graphic>
          <a:graphicData uri="http://schemas.openxmlformats.org/drawingml/2006/table">
            <a:tbl>
              <a:tblPr/>
              <a:tblGrid>
                <a:gridCol w="1420560"/>
                <a:gridCol w="1498680"/>
                <a:gridCol w="150012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 numb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igh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idt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26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cu_height - 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cu_width – 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cu_height - 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cu_width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6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cu_height - 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stColWid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cu_height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cu_width – 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cu_height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cu_width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6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cu_height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stColWid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stRowHeigh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cu_width – 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6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stRowHeigh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cu_width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stRowHeigh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stColWid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685800" y="3733920"/>
          <a:ext cx="5029200" cy="1523880"/>
        </p:xfrm>
        <a:graphic>
          <a:graphicData uri="http://schemas.openxmlformats.org/drawingml/2006/table">
            <a:tbl>
              <a:tblPr/>
              <a:tblGrid>
                <a:gridCol w="2376360"/>
                <a:gridCol w="1395720"/>
                <a:gridCol w="1257120"/>
              </a:tblGrid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ltering Proces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 for Lum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 for Chrom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27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Inloop de-block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ly De-blocking fil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6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ly SAO fil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ly AL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  <p:sp>
        <p:nvSpPr>
          <p:cNvPr id="115" name="Rectangle 1"/>
          <p:cNvSpPr/>
          <p:nvPr/>
        </p:nvSpPr>
        <p:spPr>
          <a:xfrm>
            <a:off x="609480" y="5342040"/>
            <a:ext cx="49532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Consolas"/>
                <a:ea typeface="Consolas"/>
              </a:rPr>
              <a:t>WidthModLcuSz  = ((floor)(Width + Lcu_width  - 1/Lcu_width) 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Consolas"/>
                <a:ea typeface="Consolas"/>
              </a:rPr>
              <a:t>LastColWidth   = Width – (WidthModLcuSz-1)* Lcu_width + 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Consolas"/>
                <a:ea typeface="Consolas"/>
              </a:rPr>
              <a:t>HeightModLcuSz = ((floor)(Height + Lcu_height  - 1/Lcu_height) 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Consolas"/>
                <a:ea typeface="Consolas"/>
              </a:rPr>
              <a:t>LastRowHeight  = Height – (HeightModLcuSz-1)* Lcu_height + 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Consolas"/>
                <a:ea typeface="Consolas"/>
              </a:rPr>
              <a:t>Lcu_height</a:t>
            </a:r>
            <a:r>
              <a:rPr b="0" lang="en-US" sz="800" spc="-1" strike="noStrike">
                <a:solidFill>
                  <a:srgbClr val="000000"/>
                </a:solidFill>
                <a:latin typeface="Consolas"/>
                <a:ea typeface="Consolas"/>
              </a:rPr>
              <a:t> and </a:t>
            </a:r>
            <a:r>
              <a:rPr b="0" i="1" lang="en-US" sz="800" spc="-1" strike="noStrike">
                <a:solidFill>
                  <a:srgbClr val="000000"/>
                </a:solidFill>
                <a:latin typeface="Consolas"/>
                <a:ea typeface="Consolas"/>
              </a:rPr>
              <a:t>Lcu_width</a:t>
            </a:r>
            <a:r>
              <a:rPr b="0" lang="en-US" sz="800" spc="-1" strike="noStrike">
                <a:solidFill>
                  <a:srgbClr val="000000"/>
                </a:solidFill>
                <a:latin typeface="Consolas"/>
                <a:ea typeface="Consolas"/>
              </a:rPr>
              <a:t> are height and width of Largest Coding Unit respective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99" descr=""/>
          <p:cNvPicPr/>
          <p:nvPr/>
        </p:nvPicPr>
        <p:blipFill>
          <a:blip r:embed="rId1"/>
          <a:srcRect l="2691" t="0" r="0" b="0"/>
          <a:stretch/>
        </p:blipFill>
        <p:spPr>
          <a:xfrm>
            <a:off x="5791320" y="1523880"/>
            <a:ext cx="3352680" cy="33530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1480" y="142560"/>
            <a:ext cx="8458200" cy="40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Region Definition (Example 176x144) </a:t>
            </a:r>
            <a:endParaRPr b="1" lang="en-US" sz="2800" spc="-1" strike="noStrike">
              <a:solidFill>
                <a:srgbClr val="ff0000"/>
              </a:solidFill>
              <a:latin typeface="Arial Narrow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5800" y="2427120"/>
          <a:ext cx="4419720" cy="2907000"/>
        </p:xfrm>
        <a:graphic>
          <a:graphicData uri="http://schemas.openxmlformats.org/drawingml/2006/table">
            <a:tbl>
              <a:tblPr/>
              <a:tblGrid>
                <a:gridCol w="1420920"/>
                <a:gridCol w="1498320"/>
                <a:gridCol w="1500480"/>
              </a:tblGrid>
              <a:tr h="50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 numb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igh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idt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268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66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68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66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66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68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66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68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66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  <p:sp>
        <p:nvSpPr>
          <p:cNvPr id="119" name="Rectangle 1"/>
          <p:cNvSpPr/>
          <p:nvPr/>
        </p:nvSpPr>
        <p:spPr>
          <a:xfrm>
            <a:off x="533520" y="838080"/>
            <a:ext cx="4952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6x144 stream where only deblocking and ALF is enabl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k value for Y will be 8 and for Cb/Cr will be 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low table is for steam where only SAO is enabled. K is 1 for both Luma and Chr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0T20:00:02Z</dcterms:created>
  <dc:creator>a0875496</dc:creator>
  <dc:description/>
  <dc:language>en-US</dc:language>
  <cp:lastModifiedBy>a0875496</cp:lastModifiedBy>
  <dcterms:modified xsi:type="dcterms:W3CDTF">2012-04-28T16:10:00Z</dcterms:modified>
  <cp:revision>508</cp:revision>
  <dc:subject/>
  <dc:title>Duplicate I-Frame for</dc:title>
</cp:coreProperties>
</file>