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46F5-AD07-4DBD-8E45-DBDDF8873DD6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A41D-E494-4A94-BB8C-E7B06217B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410F-2357-4CC4-8C60-601552491944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2135-09EE-409F-809F-51C2C3D870FD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86520" y="65977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I0225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522B-8FFA-44CA-8419-08918C08BA5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8760" y="1602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I0225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blocking of IPCM-coded block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2932200"/>
            <a:ext cx="7750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Semih Esenlik, Thomas Wedi, Steffen K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39200" y="6497640"/>
            <a:ext cx="504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9th JCT-VC meeting, Geneva, 27. April -07. May 2012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blocking of PCM blocks in C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posed deblocking of PCM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nd slice level Q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nd block level QP valu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blocking of PCM blocks in C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blocking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erage QP of neighboring block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QP=0 used for PCM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xed QP=0 may lead to degraded picture quality if quantization noise of PCM blocks does not correspond to QP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coder architectures deciding to use PCM in a final entropy coding step after deblocking w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45720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ed to perform deblocking again if they did not use QP=0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45720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pt drift between the encoder and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posed deblocking control for PCM bloc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Send slice level Q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QP=0, the slice level Q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C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Advantage: Solve problem 1 with a minimum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Send QP value for each PCM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JCTVC-suggestion of last meeting corresponding to scheme 2 of JCTVC-I0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: Avoid insertion of emulation_prevention_three_bytes by inversion of bits used to signal QP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Advantage: Solve problems 1 and 2 with smal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87280" y="3878280"/>
          <a:ext cx="7561440" cy="1854360"/>
        </p:xfrm>
        <a:graphic>
          <a:graphicData uri="http://schemas.openxmlformats.org/drawingml/2006/table">
            <a:tbl>
              <a:tblPr/>
              <a:tblGrid>
                <a:gridCol w="1011240"/>
                <a:gridCol w="3275280"/>
                <a:gridCol w="327492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P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224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inary representation of QP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224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version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224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224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0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224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111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224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0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11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...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...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...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001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01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on condition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CM is not used in the common conditions =&gt; No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ditional experiments following JCTVC-I0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d test sequence “Sandstorms”,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IF, 3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-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QPs: 2, 6, 10, and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7600" y="981000"/>
          <a:ext cx="8844120" cy="4402080"/>
        </p:xfrm>
        <a:graphic>
          <a:graphicData uri="http://schemas.openxmlformats.org/drawingml/2006/table">
            <a:tbl>
              <a:tblPr/>
              <a:tblGrid>
                <a:gridCol w="1976400"/>
                <a:gridCol w="935280"/>
                <a:gridCol w="1512720"/>
                <a:gridCol w="1079640"/>
                <a:gridCol w="936360"/>
                <a:gridCol w="1008360"/>
                <a:gridCol w="720720"/>
                <a:gridCol w="674640"/>
              </a:tblGrid>
              <a:tr h="1107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Mean rat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for QPs [kbps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Mean of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(Rate for QPs / Overall rate)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Mea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Y-PSN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iff. [dB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Mea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U-PSN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iff. [dB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Mea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V-PSN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iff. [dB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 Tim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iff.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 Tim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iff.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07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qp_pcm=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863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qp_pcm=Slice_QP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792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=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6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QP=Slice QP</a:t>
                      </a:r>
                      <a:br>
                        <a:rPr sz="1800"/>
                      </a:b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66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6"/>
          <p:cNvSpPr/>
          <p:nvPr/>
        </p:nvSpPr>
        <p:spPr>
          <a:xfrm>
            <a:off x="1187280" y="55497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b050"/>
                </a:solidFill>
                <a:latin typeface="Arial"/>
              </a:rPr>
              <a:t>=&gt; Very small overhead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059280" y="981000"/>
            <a:ext cx="1512720" cy="4402080"/>
          </a:xfrm>
          <a:prstGeom prst="rect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wo solutions for deblocking control of PCM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 slice level Q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 block level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oss check: Eric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Adoption of one of the two 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 Narroschke</cp:lastModifiedBy>
  <dcterms:modified xsi:type="dcterms:W3CDTF">2012-04-28T08:21:53Z</dcterms:modified>
  <cp:revision>1823</cp:revision>
  <dc:subject/>
  <dc:title>Deblocking filter using adaptive weighting factors</dc:title>
</cp:coreProperties>
</file>