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1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F0A45-AFDD-4B9A-A59E-D47A26F2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53B50-DDD6-4312-BB39-82034838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ED708-D0DD-4761-9537-7CD9534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7245C-4B1B-4F94-8BF9-CC7E125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C7B99-FA7A-4F65-97D9-12D2DBA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FB7020-E495-4500-ABDB-FAFEE751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C9515-039B-4203-8C55-9694EAF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E6749-BA1D-424C-837D-5319EF2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DCFC7-5255-4782-BDE9-A0E29500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DE6E6-AE1B-4D4E-808C-92515B85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789820-93FE-4446-ADEA-3C1A8F48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2FF22-ABF9-45F5-9171-AD9159FE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B98-5D39-4901-8EBB-3D58C58A19D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93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577-5C9D-4FAD-820A-3D0E6E8D007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37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DAB-7E39-4AE6-97D1-F931051830E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Isosceles Triangle 10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3C4F-A3B7-45EF-9055-4E0AE88BA6D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23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CF1-F47D-4614-B88B-CF04A63B17C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66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33D-02B6-4818-BB40-BEFCEAC325E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A7C1-3309-411B-A8F5-93DC3EC2E4D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10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5"/>
          </p:nvPr>
        </p:nvSpPr>
        <p:spPr>
          <a:xfrm>
            <a:off x="301320" y="6665760"/>
            <a:ext cx="338436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JCTVC-I0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933C-700A-4A37-B442-685999EA61A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53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16"/>
          </p:nvPr>
        </p:nvSpPr>
        <p:spPr>
          <a:xfrm>
            <a:off x="301320" y="6659280"/>
            <a:ext cx="3384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695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8534-0929-4DEE-92F7-56AFA36FC23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1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38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541-C821-46A7-994E-AFCAFB1650E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1" descr="Template-No-ba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81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321-F766-466F-9B05-12F7F301890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1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E28-3980-482A-A85C-B9CD1DDEDC3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825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2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1180-8A6B-4A74-BAA0-9024250642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-title.png"/>
          <p:cNvPicPr/>
          <p:nvPr/>
        </p:nvPicPr>
        <p:blipFill>
          <a:blip r:embed="rId3"/>
          <a:stretch/>
        </p:blipFill>
        <p:spPr>
          <a:xfrm>
            <a:off x="236520" y="5210280"/>
            <a:ext cx="161280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hadow.png"/>
          <p:cNvPicPr/>
          <p:nvPr/>
        </p:nvPicPr>
        <p:blipFill>
          <a:blip r:embed="rId3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hadow.png"/>
          <p:cNvPicPr/>
          <p:nvPr/>
        </p:nvPicPr>
        <p:blipFill>
          <a:blip r:embed="rId4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17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123-C983-48B6-90F3-D7CBD63C6B1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21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4F78-53A5-4DEC-BDC7-188A068CA8B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6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shadow.png"/>
          <p:cNvPicPr/>
          <p:nvPr/>
        </p:nvPicPr>
        <p:blipFill>
          <a:blip r:embed="rId3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hadow.png"/>
          <p:cNvPicPr/>
          <p:nvPr/>
        </p:nvPicPr>
        <p:blipFill>
          <a:blip r:embed="rId4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70D-95B5-4D8B-A914-3B64AEACB74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30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6C2F-D2EC-48B4-BA32-2705FB75CAE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49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EC9-0D4D-4469-8404-95E6225A9FE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4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to the Hash SEI calculation for improved usabili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JCTVC-I0218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022640" y="4930920"/>
            <a:ext cx="46785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86a9"/>
                </a:solidFill>
                <a:latin typeface="Arial"/>
              </a:rPr>
              <a:t>Tim Hellman and Wade W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22640" y="5667120"/>
            <a:ext cx="46864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roadcom Corpor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3760" y="1370160"/>
            <a:ext cx="84582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WD Presently Defines 2 Hash func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D5:  Excellent error detection, More complicated calcul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RC:  Simpler calculation, less robust detec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se are very valuable for testing and conformanc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oth hashes are order-depende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ixels </a:t>
            </a:r>
            <a:r>
              <a:rPr b="0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mu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be processed in the defined ord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blem: Both process Y/U/V in sequential raster orde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3 passes over memory to compute!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Object 1"/>
          <p:cNvGraphicFramePr/>
          <p:nvPr/>
        </p:nvGraphicFramePr>
        <p:xfrm>
          <a:off x="776160" y="4457880"/>
          <a:ext cx="688680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4457880"/>
                    <a:ext cx="688680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are Hashes used in Real System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83760" y="1370160"/>
            <a:ext cx="84582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: Decoder computes at video feeder stag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7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Content Placeholder 5"/>
          <p:cNvSpPr/>
          <p:nvPr/>
        </p:nvSpPr>
        <p:spPr>
          <a:xfrm>
            <a:off x="412920" y="3809880"/>
            <a:ext cx="84582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: Encoder/Decoder Compute At Decod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Order-independence is valuab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Object 3"/>
          <p:cNvGraphicFramePr/>
          <p:nvPr/>
        </p:nvGraphicFramePr>
        <p:xfrm>
          <a:off x="533520" y="1295280"/>
          <a:ext cx="642924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42924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4"/>
          <p:cNvGraphicFramePr/>
          <p:nvPr/>
        </p:nvGraphicFramePr>
        <p:xfrm>
          <a:off x="914400" y="4267080"/>
          <a:ext cx="6429240" cy="27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267080"/>
                    <a:ext cx="642924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Part 1: Break MD5 into 2 has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3760" y="1369800"/>
            <a:ext cx="84582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enerate Separate Y and UV Hash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an do UV together, because sub-sampling is the sam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coder can now compute this at display tim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6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"/>
          <p:cNvGraphicFramePr/>
          <p:nvPr/>
        </p:nvGraphicFramePr>
        <p:xfrm>
          <a:off x="776160" y="3352680"/>
          <a:ext cx="688680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3352680"/>
                    <a:ext cx="68868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Part 2: Replace CRC with Checks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3760" y="1370160"/>
            <a:ext cx="845820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32-bit Checksu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mpletely order-independ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an be easily generated by real-time encod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XOR in position to make ‘swap errors’ more detectab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mpute separately for Y/UV (consistent with part 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eneric Calculation Examp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xor_mask = (x &amp; 0xFF) ^ (y &amp; 0xFF) ^ (x &gt;&gt; 8) ^ (y &gt;&gt; 8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hecksum += component[ x ][ y ] ^ xor_mask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1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im Hellman</dc:creator>
  <dc:description/>
  <dc:language>en-US</dc:language>
  <cp:lastModifiedBy>Tim Hellman</cp:lastModifiedBy>
  <dcterms:modified xsi:type="dcterms:W3CDTF">2012-04-28T15:40:08Z</dcterms:modified>
  <cp:revision>41</cp:revision>
  <dc:subject/>
  <dc:title>Slide 1</dc:title>
</cp:coreProperties>
</file>