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97F53-4905-4637-94B1-6FBEDCDF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A6210-C2F1-45E3-8FA9-DB83F324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8F384-BFFE-47CB-929B-E4858F9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197D61-0E21-4A28-A1EE-F6616261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D20748-10F4-4033-B075-2372ACEF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77E78-05E5-48D2-9B37-4121248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85DAB-D194-4119-A6C1-B46E423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36E44-5EB5-4726-AD79-69C94D2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ECA514-C8A8-4127-971C-90A6C4F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ED6829-0D7A-48C7-8AAB-63A3AC09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A4F26-F6E8-45E5-85E0-51E34B6C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D463D5-8CD2-46A6-A9DC-3FB002B8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320" y="325080"/>
            <a:ext cx="780876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84120" y="3052080"/>
            <a:ext cx="8454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6720" y="137160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41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16720" y="3052080"/>
            <a:ext cx="412596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88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01640" y="137160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8412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88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01640" y="3052080"/>
            <a:ext cx="2722320" cy="15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8650-A7BA-4565-B688-E6F240E571B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93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CA87-9B17-45B1-80DE-1D91D021D7E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0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37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0DC-BB77-4D9F-870A-F9C94E41D8B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1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Isosceles Triangle 10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09B-CC18-4484-888B-9E6AB10CA26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23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D3A1-18B7-4D16-98DD-4652BCDCB234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566" name="Isosceles Triangle 11"/>
          <p:cNvSpPr/>
          <p:nvPr/>
        </p:nvSpPr>
        <p:spPr>
          <a:xfrm rot="10800000">
            <a:off x="441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2C65-E1CE-4EA7-A751-4A8F33724A8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DAB-FA65-4078-A897-662A302E6C56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10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5"/>
          </p:nvPr>
        </p:nvSpPr>
        <p:spPr>
          <a:xfrm>
            <a:off x="301320" y="6665760"/>
            <a:ext cx="338436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JCTVC-I02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68B-EA44-4E8B-9D01-0D77E292B6E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653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16"/>
          </p:nvPr>
        </p:nvSpPr>
        <p:spPr>
          <a:xfrm>
            <a:off x="301320" y="6659280"/>
            <a:ext cx="33843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695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96AA-4929-4704-9FE3-0FCCA277729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1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1" descr="Template-Design-2a-top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38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AE6-E552-4146-8481-7C8DFD2B3C2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1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1" descr="Template-No-ba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3" descr="logo-colors-white.png"/>
          <p:cNvPicPr/>
          <p:nvPr/>
        </p:nvPicPr>
        <p:blipFill>
          <a:blip r:embed="rId3"/>
          <a:stretch/>
        </p:blipFill>
        <p:spPr>
          <a:xfrm>
            <a:off x="8259840" y="168120"/>
            <a:ext cx="725400" cy="365400"/>
          </a:xfrm>
          <a:prstGeom prst="rect">
            <a:avLst/>
          </a:prstGeom>
          <a:ln w="0">
            <a:noFill/>
          </a:ln>
        </p:spPr>
      </p:pic>
      <p:sp>
        <p:nvSpPr>
          <p:cNvPr id="781" name="Isosceles Triangle 11"/>
          <p:cNvSpPr/>
          <p:nvPr/>
        </p:nvSpPr>
        <p:spPr>
          <a:xfrm rot="5400000">
            <a:off x="-71280" y="237960"/>
            <a:ext cx="306360" cy="163440"/>
          </a:xfrm>
          <a:prstGeom prst="triangle">
            <a:avLst>
              <a:gd name="adj" fmla="val 50000"/>
            </a:avLst>
          </a:prstGeom>
          <a:solidFill>
            <a:srgbClr val="0f86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5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6F75-AFA8-4BD3-BAEC-1F6E508032F5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ftr" idx="1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20" descr="Templat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8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24BB-82BB-4787-9016-2676C8DD553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10" descr="logo-colors-white.png"/>
          <p:cNvPicPr/>
          <p:nvPr/>
        </p:nvPicPr>
        <p:blipFill>
          <a:blip r:embed="rId3"/>
          <a:stretch/>
        </p:blipFill>
        <p:spPr>
          <a:xfrm>
            <a:off x="8263080" y="32544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825" name="Isosceles Triangle 12"/>
          <p:cNvSpPr/>
          <p:nvPr/>
        </p:nvSpPr>
        <p:spPr>
          <a:xfrm rot="5400000">
            <a:off x="-83880" y="383400"/>
            <a:ext cx="357480" cy="190440"/>
          </a:xfrm>
          <a:prstGeom prst="triangle">
            <a:avLst>
              <a:gd name="adj" fmla="val 50000"/>
            </a:avLst>
          </a:prstGeom>
          <a:solidFill>
            <a:srgbClr val="15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21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41B-98E5-4D1A-880F-98063D024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logos-chip.png"/>
          <p:cNvPicPr/>
          <p:nvPr/>
        </p:nvPicPr>
        <p:blipFill>
          <a:blip r:embed="rId3"/>
          <a:stretch/>
        </p:blipFill>
        <p:spPr>
          <a:xfrm>
            <a:off x="344520" y="4905360"/>
            <a:ext cx="1741320" cy="185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Title-Design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-title.png"/>
          <p:cNvPicPr/>
          <p:nvPr/>
        </p:nvPicPr>
        <p:blipFill>
          <a:blip r:embed="rId3"/>
          <a:stretch/>
        </p:blipFill>
        <p:spPr>
          <a:xfrm>
            <a:off x="236520" y="5210280"/>
            <a:ext cx="1612800" cy="81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shadow.png"/>
          <p:cNvPicPr/>
          <p:nvPr/>
        </p:nvPicPr>
        <p:blipFill>
          <a:blip r:embed="rId3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shadow.png"/>
          <p:cNvPicPr/>
          <p:nvPr/>
        </p:nvPicPr>
        <p:blipFill>
          <a:blip r:embed="rId4"/>
          <a:stretch/>
        </p:blipFill>
        <p:spPr>
          <a:xfrm>
            <a:off x="2336760" y="17096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17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0C2-DCFD-4636-AD23-C0380089D12A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21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72D-6FBE-462A-A5A7-06F38656878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6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1" descr="section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shadow.png"/>
          <p:cNvPicPr/>
          <p:nvPr/>
        </p:nvPicPr>
        <p:blipFill>
          <a:blip r:embed="rId3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hadow.png"/>
          <p:cNvPicPr/>
          <p:nvPr/>
        </p:nvPicPr>
        <p:blipFill>
          <a:blip r:embed="rId4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logo.png"/>
          <p:cNvPicPr/>
          <p:nvPr/>
        </p:nvPicPr>
        <p:blipFill>
          <a:blip r:embed="rId5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a0c2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E7A8-D2FA-42BD-A5B8-5B6754B3B6E8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1" descr="Section-Purpl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logo.png"/>
          <p:cNvPicPr/>
          <p:nvPr/>
        </p:nvPicPr>
        <p:blipFill>
          <a:blip r:embed="rId3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hadow.png"/>
          <p:cNvPicPr/>
          <p:nvPr/>
        </p:nvPicPr>
        <p:blipFill>
          <a:blip r:embed="rId4"/>
          <a:stretch/>
        </p:blipFill>
        <p:spPr>
          <a:xfrm>
            <a:off x="2825640" y="1738440"/>
            <a:ext cx="944640" cy="3405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hadow.png"/>
          <p:cNvPicPr/>
          <p:nvPr/>
        </p:nvPicPr>
        <p:blipFill>
          <a:blip r:embed="rId5"/>
          <a:stretch/>
        </p:blipFill>
        <p:spPr>
          <a:xfrm>
            <a:off x="-6480" y="1724040"/>
            <a:ext cx="911520" cy="3292560"/>
          </a:xfrm>
          <a:prstGeom prst="rect">
            <a:avLst/>
          </a:prstGeom>
          <a:ln w="0">
            <a:noFill/>
          </a:ln>
        </p:spPr>
      </p:pic>
      <p:sp>
        <p:nvSpPr>
          <p:cNvPr id="305" name="Isosceles Triangle 14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ce7a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33DF-5188-4D3D-AEC2-5D0950AA0D7E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Section-blue-4x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shadow.png"/>
          <p:cNvPicPr/>
          <p:nvPr/>
        </p:nvPicPr>
        <p:blipFill>
          <a:blip r:embed="rId3"/>
          <a:stretch/>
        </p:blipFill>
        <p:spPr>
          <a:xfrm>
            <a:off x="2484360" y="1944720"/>
            <a:ext cx="943200" cy="2838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logo.png"/>
          <p:cNvPicPr/>
          <p:nvPr/>
        </p:nvPicPr>
        <p:blipFill>
          <a:blip r:embed="rId4"/>
          <a:stretch/>
        </p:blipFill>
        <p:spPr>
          <a:xfrm>
            <a:off x="8045280" y="1365120"/>
            <a:ext cx="827280" cy="403200"/>
          </a:xfrm>
          <a:prstGeom prst="rect">
            <a:avLst/>
          </a:prstGeom>
          <a:ln w="0">
            <a:noFill/>
          </a:ln>
        </p:spPr>
      </p:pic>
      <p:sp>
        <p:nvSpPr>
          <p:cNvPr id="349" name="Isosceles Triangle 13"/>
          <p:cNvSpPr/>
          <p:nvPr/>
        </p:nvSpPr>
        <p:spPr>
          <a:xfrm rot="10800000">
            <a:off x="4032000" y="1914480"/>
            <a:ext cx="430200" cy="231840"/>
          </a:xfrm>
          <a:prstGeom prst="triangle">
            <a:avLst>
              <a:gd name="adj" fmla="val 50000"/>
            </a:avLst>
          </a:prstGeom>
          <a:solidFill>
            <a:srgbClr val="00a3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729640" y="671184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A2C-0CAA-4C11-A5EE-B830BE8104A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84120" y="1371600"/>
            <a:ext cx="8454960" cy="32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200240" indent="-23040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48752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48752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9"/>
          </p:nvPr>
        </p:nvSpPr>
        <p:spPr>
          <a:xfrm>
            <a:off x="301320" y="6711840"/>
            <a:ext cx="338436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228600" y="858960"/>
            <a:ext cx="86868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G7: Reducing HEVC worst-case memory bandwidth by restricting bi-directional 4x8 and 8x4 prediction uni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(JCTVC-I0216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022640" y="4930920"/>
            <a:ext cx="46785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86a9"/>
                </a:solidFill>
                <a:latin typeface="Arial"/>
              </a:rPr>
              <a:t>Tim Hellman and Wade Wa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22640" y="5667120"/>
            <a:ext cx="46864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roadcom Corpor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/Proposed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383760" y="1370160"/>
            <a:ext cx="8458200" cy="657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Unconstrained worst-case HEVC bandwidth is too high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VC had a constraint (16 MVs per MB pair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ulk of Bandwidth comes from small PU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4x8 Bidir, followed by 8x4 Bidi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posed Solution: Disallow 4x8 and 8x4 bidi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duces worst-case bandwidth by 44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purpose” 4x4_ena flag to 4x8_8x4_bidir fla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Don’t allow merge or 2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MVD when this flag is se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mple to check and enforce complainc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ther Alternativ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Limit MVs per LCU (like AVC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arder for encod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300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Very difficult to verify complianc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Just have an encoder restriction: higher loss, easy to evad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300"/>
              </a:spcBef>
              <a:buClr>
                <a:srgbClr val="c1132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c113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VC Worst-Case BW for small PU Siz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Chart 1" descr=""/>
          <p:cNvPicPr/>
          <p:nvPr/>
        </p:nvPicPr>
        <p:blipFill>
          <a:blip r:embed="rId1"/>
          <a:stretch/>
        </p:blipFill>
        <p:spPr>
          <a:xfrm>
            <a:off x="990720" y="1558800"/>
            <a:ext cx="7010280" cy="44960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VC Bandwidth versus AVC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Chart 1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09000" cy="4876920"/>
          </a:xfrm>
          <a:prstGeom prst="rect">
            <a:avLst/>
          </a:prstGeom>
          <a:ln w="0">
            <a:noFill/>
          </a:ln>
        </p:spPr>
      </p:pic>
      <p:sp>
        <p:nvSpPr>
          <p:cNvPr id="878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x8/8x4 Bidir Restriction: Text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Table 1" descr=""/>
          <p:cNvPicPr/>
          <p:nvPr/>
        </p:nvPicPr>
        <p:blipFill>
          <a:blip r:embed="rId1"/>
          <a:stretch/>
        </p:blipFill>
        <p:spPr>
          <a:xfrm>
            <a:off x="457200" y="1231920"/>
            <a:ext cx="777240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325080"/>
            <a:ext cx="7808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ing Loss with 4x8/8x4 Bidir Restri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Box 11"/>
          <p:cNvSpPr/>
          <p:nvPr/>
        </p:nvSpPr>
        <p:spPr>
          <a:xfrm>
            <a:off x="231840" y="6680160"/>
            <a:ext cx="10890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132f"/>
                </a:solidFill>
                <a:latin typeface="Arial"/>
              </a:rPr>
              <a:t>JCTVC-I0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219320"/>
          <a:ext cx="8229600" cy="5238720"/>
        </p:xfrm>
        <a:graphic>
          <a:graphicData uri="http://schemas.openxmlformats.org/drawingml/2006/table">
            <a:tbl>
              <a:tblPr/>
              <a:tblGrid>
                <a:gridCol w="1395360"/>
                <a:gridCol w="1139760"/>
                <a:gridCol w="1138320"/>
                <a:gridCol w="1139760"/>
                <a:gridCol w="1138320"/>
                <a:gridCol w="1139760"/>
                <a:gridCol w="1138320"/>
              </a:tblGrid>
              <a:tr h="28548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8548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30492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3045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728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30456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f1"/>
                    </a:solidFill>
                  </a:tcPr>
                </a:tc>
              </a:tr>
              <a:tr h="285840">
                <a:tc>
                  <a:txBody>
                    <a:bodyPr lIns="30600" rIns="306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86a9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  <a:tc>
                  <a:txBody>
                    <a:bodyPr lIns="30600" rIns="306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00" marR="3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9e2"/>
                    </a:solidFill>
                  </a:tcPr>
                </a:tc>
              </a:tr>
            </a:tbl>
          </a:graphicData>
        </a:graphic>
      </p:graphicFrame>
      <p:sp>
        <p:nvSpPr>
          <p:cNvPr id="885" name="Rectangle 3"/>
          <p:cNvSpPr/>
          <p:nvPr/>
        </p:nvSpPr>
        <p:spPr>
          <a:xfrm>
            <a:off x="380880" y="1828800"/>
            <a:ext cx="8458200" cy="533520"/>
          </a:xfrm>
          <a:prstGeom prst="rect">
            <a:avLst/>
          </a:prstGeom>
          <a:noFill/>
          <a:ln w="25560">
            <a:solidFill>
              <a:srgbClr val="e21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380880" y="4762440"/>
            <a:ext cx="8458200" cy="266760"/>
          </a:xfrm>
          <a:prstGeom prst="rect">
            <a:avLst/>
          </a:prstGeom>
          <a:noFill/>
          <a:ln w="25560">
            <a:solidFill>
              <a:srgbClr val="e21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Tim Hellman</dc:creator>
  <dc:description/>
  <dc:language>en-US</dc:language>
  <cp:lastModifiedBy>Tim Hellman</cp:lastModifiedBy>
  <dcterms:modified xsi:type="dcterms:W3CDTF">2012-04-28T09:12:37Z</dcterms:modified>
  <cp:revision>25</cp:revision>
  <dc:subject/>
  <dc:title>Slide 1</dc:title>
</cp:coreProperties>
</file>