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CC02-AAA8-4FF3-9988-7A7FB4DCC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FE5D-FA55-424C-9E76-241BB9FCB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F05F-EADC-4714-A005-7139C4402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F333-2673-45B2-BBC1-DC758AAEE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3A6D-2D1A-4AA8-8197-B5D3F8F28D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A247-F00D-448F-B85A-412C4D8C11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3B87-D869-4B6B-A06C-C39BEABED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907D-6B1E-434C-8998-F29703216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B71D-6586-4E3B-A9B5-FA257598D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EC18-DFD0-4714-A1A0-0648FC497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2F5B-8288-42E0-B21C-F38FFFD02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AE73-B806-4A07-8C16-721FF0E70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1DA8-EEDE-4DE8-BD84-F432A5826F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E3EF-40BE-4F52-AFB5-995A3E465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1624-2E83-43C7-A7E7-CC235A9327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B763-8C2D-4F5F-B865-B566C66E22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CAA2-E92B-4E3A-A54E-B6DEAB211B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C34-B9E6-4298-9A00-08BC934BEF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4BB-CC90-45B5-8525-5F71884800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8F0-B2EC-41AD-92E5-62A5996BC1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ECD-EA76-41D5-B866-309AA84F46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EF9-5E78-45BD-9F29-529F093C9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37D0-B173-46D1-B714-B2BC458C2D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4EE-FF57-402D-B698-2B65472E4E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D00-DF1D-4843-9A25-DC1019F973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579-4DDA-4F0E-AB57-64CE28D933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2C9-B8C5-481D-8160-EF57B3471E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A9D-BD85-4727-8020-79C69A90E2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141-DDD4-4408-917C-A9CD5F972F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6DE-2A50-4E73-92F8-97E98B77D9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54EB-1A8E-41AB-947B-B8809E1A1D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8BAAD-1F22-4DED-B359-B0E8EF2130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7967A-1B3E-4032-91E7-29B6C2F76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F109-368A-425C-9873-E1FB58B7BD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BBF8B-590C-4C9F-809D-69E8E17418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57EB3-DD8C-4B5D-B597-AD27720CAC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6C5FB-8CC6-44A7-8B0E-7B0FEAEC0F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E024-F924-4A47-8E8F-A9075DDDC7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65947-905C-4A91-A865-9CA26CD1C0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F066F-9DEE-4167-B67F-4A21266EAA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500F5-4BAA-41AD-A6A1-4D1BDDE1A2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06D0D-74E3-44F8-A9D1-4B70AE8AD9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CC43-1F48-4BF3-862F-7D7D5BB83B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2608E-1D3D-4F5C-A186-B827B53CE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7452-6764-4E19-9059-FC7E08E886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A4AF6-8B6A-4CA8-98E3-C0D4A83DF4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02AF5-96FD-488E-970A-EBD94DC47C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DE035-ADB6-43AC-86D3-C7368913F5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6D51E-7A15-4D86-B50B-87BE338AB5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D820B-5219-4677-A7CC-D3B51C4BC7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19E8D-E577-4574-866F-F4C29387E4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15EB4-6658-49A2-8886-6430E093D1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50B1-C432-485A-A825-7E5432C71C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94B49-FFBE-4867-BBA7-5FFE0CB7C9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9F81B-E5C7-4F51-92DC-B092E3F6C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60FA-A74E-49C8-BD4F-3D425B4471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9FC3C-4201-4D23-9939-1F918216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9220-85FB-4041-928D-D0720E9BA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0022-D8F4-41AC-BCC9-28BAE5C43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1FEB-8316-4857-80A3-308065BE1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9B8-F8E9-4B41-B087-5CF99340CC0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5E25-3081-4425-B729-40A06FE442F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3408-EE29-440D-998A-A31CFBA65A9B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9FDB-A61B-4D42-8A38-395A1FD1C92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C16-8CBB-4A45-B19C-E9AB86DF6E9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6007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01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JCTVC-I0200: Non-CE1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SAO Parameter Estimation Using Non-deblocked Pixels in Interleaving Mode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8A02-77ED-4F97-8E06-36F0D7C6B7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LCU Based SAO Parameter Estim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8477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leaving mode in HM-6.0 supports LCU based SAO parameter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lay occurs if deblocked pixels are used for parameter estimation because deblock filtering requires accessing neighboring L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dge offset also requires to access one pixel line depending on edge direction, while band offset does not caus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65280" y="3041640"/>
          <a:ext cx="3660120" cy="712440"/>
        </p:xfrm>
        <a:graphic>
          <a:graphicData uri="http://schemas.openxmlformats.org/drawingml/2006/table">
            <a:tbl>
              <a:tblPr/>
              <a:tblGrid>
                <a:gridCol w="244080"/>
                <a:gridCol w="244440"/>
                <a:gridCol w="243000"/>
                <a:gridCol w="242640"/>
                <a:gridCol w="246240"/>
                <a:gridCol w="244800"/>
                <a:gridCol w="242280"/>
                <a:gridCol w="244440"/>
                <a:gridCol w="242640"/>
                <a:gridCol w="244800"/>
                <a:gridCol w="246600"/>
                <a:gridCol w="242640"/>
                <a:gridCol w="242640"/>
                <a:gridCol w="244080"/>
                <a:gridCol w="244800"/>
              </a:tblGrid>
              <a:tr h="229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</a:tr>
              <a:tr h="229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5164920" y="2870280"/>
            <a:ext cx="3223080" cy="3241080"/>
            <a:chOff x="5164920" y="2870280"/>
            <a:chExt cx="3223080" cy="3241080"/>
          </a:xfrm>
        </p:grpSpPr>
        <p:sp>
          <p:nvSpPr>
            <p:cNvPr id="213" name=""/>
            <p:cNvSpPr/>
            <p:nvPr/>
          </p:nvSpPr>
          <p:spPr>
            <a:xfrm>
              <a:off x="5810400" y="3490920"/>
              <a:ext cx="1904760" cy="1904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6360" y="35668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9000" y="356688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91280" y="35668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43560" y="35668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62880" y="3566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10600" y="35668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7960" y="3566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86360" y="52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86360" y="50911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6360" y="49384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39000" y="5243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9000" y="5091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39000" y="493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2880" y="3719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10600" y="3719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57960" y="3719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62880" y="387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10600" y="387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7960" y="387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91280" y="52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91280" y="50911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91280" y="49384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3560" y="52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43560" y="50911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43560" y="49384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2880" y="40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10600" y="40240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7960" y="40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62880" y="49384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10600" y="493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57960" y="49384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62880" y="50911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10600" y="5091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57960" y="50911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62880" y="52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10600" y="5243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57960" y="52434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86360" y="37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9000" y="37195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1280" y="37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37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86360" y="38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39000" y="387180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1280" y="38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43560" y="38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86360" y="402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39000" y="40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91280" y="402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43560" y="402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54840" y="43290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54840" y="448128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54840" y="4633920"/>
              <a:ext cx="76320" cy="759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48480" y="47862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0760" y="47862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53400" y="4786200"/>
              <a:ext cx="7596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4840" y="356688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54840" y="3719520"/>
              <a:ext cx="76320" cy="759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54840" y="38718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4840" y="402408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86360" y="47862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39000" y="4786200"/>
              <a:ext cx="7596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91280" y="47862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43560" y="4786200"/>
              <a:ext cx="76320" cy="763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05480" y="4722840"/>
              <a:ext cx="14176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16680" y="3370320"/>
              <a:ext cx="0" cy="1363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647760" y="3795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800760" y="379548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724080" y="3795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724080" y="5167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76360" y="5167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00760" y="516708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486560" y="4405320"/>
              <a:ext cx="3672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486560" y="455760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486560" y="448128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114960" y="432900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14960" y="448128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114960" y="4405320"/>
              <a:ext cx="3672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47760" y="4329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800760" y="4481280"/>
              <a:ext cx="3672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724080" y="44053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rot="16200000">
              <a:off x="5580720" y="3261960"/>
              <a:ext cx="229320" cy="2293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5278680" y="30081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10720" y="2870280"/>
              <a:ext cx="217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ne line delay due to 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/>
            <p:nvPr/>
          </p:nvCxnSpPr>
          <p:spPr>
            <a:xfrm rot="5400000">
              <a:off x="6961320" y="3229200"/>
              <a:ext cx="392760" cy="305640"/>
            </a:xfrm>
            <a:prstGeom prst="curvedConnector5">
              <a:avLst>
                <a:gd name="adj1" fmla="val 48532"/>
                <a:gd name="adj2" fmla="val 50000"/>
                <a:gd name="adj3" fmla="val 485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8" name=""/>
            <p:cNvSpPr/>
            <p:nvPr/>
          </p:nvSpPr>
          <p:spPr>
            <a:xfrm>
              <a:off x="7128000" y="35733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28000" y="37256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28000" y="38782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28000" y="4030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29440" y="49402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29440" y="5092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9440" y="52448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64920" y="5591160"/>
              <a:ext cx="177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n-deblock-fil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305" idx="3"/>
              <a:endCxn id="250" idx="4"/>
            </p:cNvCxnSpPr>
            <p:nvPr/>
          </p:nvCxnSpPr>
          <p:spPr>
            <a:xfrm flipV="1">
              <a:off x="6939000" y="5319000"/>
              <a:ext cx="357840" cy="53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7" name=""/>
          <p:cNvSpPr/>
          <p:nvPr/>
        </p:nvSpPr>
        <p:spPr>
          <a:xfrm>
            <a:off x="333360" y="4322880"/>
            <a:ext cx="44672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E1 software removes 4 bottom lines and 5 right column lines from SAO estimation process for low-delay processing regardless to SAO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64320" y="3903840"/>
            <a:ext cx="24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 EO filter window shapes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B059-20E4-4604-8A12-93374A8E8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Low-delay Processing in CE1 Softwar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ccupancy ratio of removed pixels for SAO parameter estimation according to LCU sizes in CE1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79640" y="2360520"/>
          <a:ext cx="6994440" cy="1734840"/>
        </p:xfrm>
        <a:graphic>
          <a:graphicData uri="http://schemas.openxmlformats.org/drawingml/2006/table">
            <a:tbl>
              <a:tblPr/>
              <a:tblGrid>
                <a:gridCol w="1187280"/>
                <a:gridCol w="1770120"/>
                <a:gridCol w="2017440"/>
                <a:gridCol w="20196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LCU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umber of pixels in L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umber of removed pixels in L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occupancy ratio of removed pixel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2779200" y="4626000"/>
            <a:ext cx="370116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50% in case of 16x16 L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5C8A-CAF9-4B85-A4D0-CC221E84E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Method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3360" y="985680"/>
            <a:ext cx="84772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4640" indent="-22464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n-normative proposal to improve SAO encoding in interleaving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ccurate number of unavailable pixel lines depending on SAO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of non-deblocked pixels instead of removing unavailable pixels for low-delay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239840" y="2292480"/>
          <a:ext cx="6797520" cy="2923920"/>
        </p:xfrm>
        <a:graphic>
          <a:graphicData uri="http://schemas.openxmlformats.org/drawingml/2006/table">
            <a:tbl>
              <a:tblPr/>
              <a:tblGrid>
                <a:gridCol w="1550880"/>
                <a:gridCol w="1285920"/>
                <a:gridCol w="1344600"/>
                <a:gridCol w="1265040"/>
                <a:gridCol w="13510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ao_type_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ottom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ght column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ottom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ght column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43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5770-ED20-471F-A5A8-4DA79BDF2D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33360" y="955440"/>
            <a:ext cx="8477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71920" y="11746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17400" y="1574640"/>
          <a:ext cx="6995880" cy="3159000"/>
        </p:xfrm>
        <a:graphic>
          <a:graphicData uri="http://schemas.openxmlformats.org/drawingml/2006/table">
            <a:tbl>
              <a:tblPr/>
              <a:tblGrid>
                <a:gridCol w="1481760"/>
                <a:gridCol w="788400"/>
                <a:gridCol w="788400"/>
                <a:gridCol w="786960"/>
                <a:gridCol w="788760"/>
                <a:gridCol w="786600"/>
                <a:gridCol w="788400"/>
                <a:gridCol w="786600"/>
              </a:tblGrid>
              <a:tr h="37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U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excluding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in in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-delay B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-delay P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641520" y="5284800"/>
            <a:ext cx="80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or is CE1 software with bug fix to correct picture boundary condition for SAO type 0 (horizontal 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7B45-28BF-4F99-B296-6D7448B1A9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n-normative proposal to improve SAO encoding in interleaving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parameter estimation using non-deblocked pixels for unavailable area for low-delay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ing efficiency improvements by 1.8% in case of LCU size 16x16 and 0.3% in case of LCU size 64x64 in low-delay P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mmend to adopt in HM-7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4D8D-73E3-4992-B1CC-D4C867ED9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wskim</cp:lastModifiedBy>
  <dcterms:modified xsi:type="dcterms:W3CDTF">2012-04-27T22:08:45Z</dcterms:modified>
  <cp:revision>71</cp:revision>
  <dc:subject/>
  <dc:title>Presentation Title Here</dc:title>
</cp:coreProperties>
</file>