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A10A-1D02-4878-9137-3929B02E5A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785F-6C97-4F0C-8761-5E06A9781E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F167-589B-4BE2-9530-D3F49BAC38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4B5F-5655-4A10-993A-00E9DE44FC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6B8A-C828-4E1E-8DA5-28789EAA00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8D87-B62E-45D3-8E60-0CF4CD2C55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C1E4-A0A2-40B7-BB38-0A71168646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6000-B1E7-4001-8BAE-830A97081E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0D5-12A5-4514-B9A0-94210F00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0AD-4873-4D76-A4B4-9A21099E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12B-E9A8-4744-B1EB-451CC4B5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0BB-0FA6-4A32-8CAB-B5F99F89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8C39-6DB3-4FA2-9157-B2B72CD7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F82B-EE52-4358-9518-83BA0B29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6A26-58C8-4C3A-9BE8-66D945A2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0D42-A103-4C01-8A38-7C70D522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20C0-521B-49E9-9C35-D3633925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4552-2760-442A-82BA-B2E65617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EEEA-7DD4-4AD8-AA82-D8063B7C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833-C314-4587-805F-CD342D4C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E27D-67E6-4FF8-9EDC-33E67C8C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6348-F410-48BC-A312-89F8C2AA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97F2-5DE1-4672-A563-C12C932E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205B-9D74-4EE3-B6E7-FCE679AC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638A-B2EF-4260-9C1A-4EFBCF2E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392-8714-4D73-8211-81440C2E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354-EE37-41B3-BC26-2178C1FE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307-E702-4D29-B798-F9BAF903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D67-49A3-4934-8691-84A7EA19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F02-93A1-4F4C-83F7-CC4A3DF4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774-1CA5-4A21-A40B-8AD6CEED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3EB-22F1-4F31-B161-7EE877EF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6BB8-E645-41BA-824A-2DB44234E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471C-5273-45DA-99C9-D054D9429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D705-AE06-462E-9236-569B7A014A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79280" y="105264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 size reduction and CABAC context reduction for last significant position coding---JCTVC-I01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484360" y="414972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g Zou, Oscar C. Au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ingjing Dai, Xingyu Zhang, Chao P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K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-I0177 Test Condition and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341360"/>
          <a:ext cx="7777440" cy="5372280"/>
        </p:xfrm>
        <a:graphic>
          <a:graphicData uri="http://schemas.openxmlformats.org/drawingml/2006/table">
            <a:tbl>
              <a:tblPr/>
              <a:tblGrid>
                <a:gridCol w="1306800"/>
                <a:gridCol w="1096920"/>
                <a:gridCol w="1079280"/>
                <a:gridCol w="1098720"/>
                <a:gridCol w="995400"/>
                <a:gridCol w="1090440"/>
                <a:gridCol w="1109880"/>
              </a:tblGrid>
              <a:tr h="13824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All Intra Ma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All Intra HE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60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824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3788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824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3824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788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616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824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760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788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16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16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3968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andom Access Ma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andom Access HE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60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3788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2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680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3788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824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3968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4760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3824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4616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3788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16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60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968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ow delay B Ma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ow delay B HE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16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788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3824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3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824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3788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3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824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5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3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616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2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.2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788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1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1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2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4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760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0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2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0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-0.2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4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824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160">
                <a:tc>
                  <a:txBody>
                    <a:bodyPr lIns="47520" rIns="47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-I0177  Concl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the table size for significant coefficient position coding (28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,  14.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the CABAC contexts for significant coefficient position coding (15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,  20%) with no significant RD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 to adopt them into the HEVC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 I0177  Out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2750-EC9D-4C1D-B6DD-9CFAC2A08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11280" y="1700280"/>
            <a:ext cx="81374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xt modeling for last significant coefficient position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within the current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 with redundant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milar context states for several 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ed 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heme 1: Table siz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heme 2: Reduce CABAC contexts by allowing several bins to share the same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 I0177  Related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2C06-84B2-4DFC-92B4-82BFB54CC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11280" y="17002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HM6.0, last significant (none zero) coefficient position coding, compris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izontal position 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tical position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significant coefficient position is represented by a binary string which consist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p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e first part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ncated una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where each bin is encoded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AC contex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le the second part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xed binary c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-pass coding (no contex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 I0177  Related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2EC9-C25C-46E7-A553-BCBFE6983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11280" y="1700280"/>
            <a:ext cx="81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1. Last position coding for TU 4x4 Lu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1547640" y="2225520"/>
            <a:ext cx="6132600" cy="1490760"/>
          </a:xfrm>
          <a:prstGeom prst="rect">
            <a:avLst/>
          </a:prstGeom>
          <a:ln w="0">
            <a:noFill/>
          </a:ln>
        </p:spPr>
      </p:pic>
      <p:sp>
        <p:nvSpPr>
          <p:cNvPr id="102" name="矩形 1"/>
          <p:cNvSpPr/>
          <p:nvPr/>
        </p:nvSpPr>
        <p:spPr>
          <a:xfrm>
            <a:off x="628560" y="386064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2. Last position coding for TU 8x8 Lu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2" descr=""/>
          <p:cNvPicPr/>
          <p:nvPr/>
        </p:nvPicPr>
        <p:blipFill>
          <a:blip r:embed="rId2"/>
          <a:stretch/>
        </p:blipFill>
        <p:spPr>
          <a:xfrm>
            <a:off x="1547640" y="4362480"/>
            <a:ext cx="617724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 I0177  Related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58B7-D373-489D-ACA4-F7C769BB6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68360" y="11811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3. Last position coding for TU 16x16 L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612720" y="3348000"/>
            <a:ext cx="73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4. Last position coding for TU 32x32 L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1" descr=""/>
          <p:cNvPicPr/>
          <p:nvPr/>
        </p:nvPicPr>
        <p:blipFill>
          <a:blip r:embed="rId1"/>
          <a:stretch/>
        </p:blipFill>
        <p:spPr>
          <a:xfrm>
            <a:off x="1042920" y="1636560"/>
            <a:ext cx="5977080" cy="17211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4" descr=""/>
          <p:cNvPicPr/>
          <p:nvPr/>
        </p:nvPicPr>
        <p:blipFill>
          <a:blip r:embed="rId2"/>
          <a:stretch/>
        </p:blipFill>
        <p:spPr>
          <a:xfrm>
            <a:off x="1042920" y="3809880"/>
            <a:ext cx="59770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 I0177  Related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7887-8965-427D-9976-14CE529D23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68360" y="11811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 5. The context assignment for each bin in the truncated unary codeword for Lu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3" descr=""/>
          <p:cNvPicPr/>
          <p:nvPr/>
        </p:nvPicPr>
        <p:blipFill>
          <a:blip r:embed="rId1"/>
          <a:stretch/>
        </p:blipFill>
        <p:spPr>
          <a:xfrm>
            <a:off x="892080" y="1859040"/>
            <a:ext cx="6842160" cy="18698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6" descr=""/>
          <p:cNvPicPr/>
          <p:nvPr/>
        </p:nvPicPr>
        <p:blipFill>
          <a:blip r:embed="rId2"/>
          <a:stretch/>
        </p:blipFill>
        <p:spPr>
          <a:xfrm>
            <a:off x="985680" y="4535640"/>
            <a:ext cx="6812280" cy="2154240"/>
          </a:xfrm>
          <a:prstGeom prst="rect">
            <a:avLst/>
          </a:prstGeom>
          <a:ln w="0">
            <a:noFill/>
          </a:ln>
        </p:spPr>
      </p:pic>
      <p:sp>
        <p:nvSpPr>
          <p:cNvPr id="115" name="矩形 2"/>
          <p:cNvSpPr/>
          <p:nvPr/>
        </p:nvSpPr>
        <p:spPr>
          <a:xfrm>
            <a:off x="684360" y="386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 6. 1D table to store the CABAC context index for each bin of different TU sizes in HM6.0. (Note that the entries with red label are redunda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 I0177  Proposed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C741-0946-47ED-ABE0-3AE19DF10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68360" y="11811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Table Size reduction (Reduce the 1D table size from 28 to 24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11280" y="1700280"/>
          <a:ext cx="7921440" cy="2449440"/>
        </p:xfrm>
        <a:graphic>
          <a:graphicData uri="http://schemas.openxmlformats.org/drawingml/2006/table">
            <a:tbl>
              <a:tblPr/>
              <a:tblGrid>
                <a:gridCol w="1076400"/>
                <a:gridCol w="450720"/>
                <a:gridCol w="449280"/>
                <a:gridCol w="450720"/>
                <a:gridCol w="449280"/>
                <a:gridCol w="530280"/>
                <a:gridCol w="512640"/>
                <a:gridCol w="514440"/>
                <a:gridCol w="512640"/>
                <a:gridCol w="513000"/>
                <a:gridCol w="514440"/>
                <a:gridCol w="545760"/>
                <a:gridCol w="514440"/>
                <a:gridCol w="436680"/>
                <a:gridCol w="450720"/>
              </a:tblGrid>
              <a:tr h="612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astCtx[ i 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1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1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astCtx[ i 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20" name="TextBox 3"/>
          <p:cNvSpPr/>
          <p:nvPr/>
        </p:nvSpPr>
        <p:spPr>
          <a:xfrm>
            <a:off x="755640" y="443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D performance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 I0177  Proposed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18AC-12C0-42C5-B375-4F217A1DB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68360" y="1181160"/>
            <a:ext cx="813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CABAC context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ilar statistics for several bins for TU32x32, and therefore, several bins share the same CABAC contexts (Reducing the CABAC context from 15 to 12 for each direction  x /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07920" y="3648240"/>
          <a:ext cx="7489800" cy="2376360"/>
        </p:xfrm>
        <a:graphic>
          <a:graphicData uri="http://schemas.openxmlformats.org/drawingml/2006/table">
            <a:tbl>
              <a:tblPr/>
              <a:tblGrid>
                <a:gridCol w="1113120"/>
                <a:gridCol w="707760"/>
                <a:gridCol w="709560"/>
                <a:gridCol w="708120"/>
                <a:gridCol w="708120"/>
                <a:gridCol w="708120"/>
                <a:gridCol w="709560"/>
                <a:gridCol w="708120"/>
                <a:gridCol w="707760"/>
                <a:gridCol w="709560"/>
              </a:tblGrid>
              <a:tr h="47448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Bin in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7628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TU 4x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7448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TU 8x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7628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TU 16x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7484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TU 32x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25" name="矩形 5"/>
          <p:cNvSpPr/>
          <p:nvPr/>
        </p:nvSpPr>
        <p:spPr>
          <a:xfrm>
            <a:off x="684360" y="29671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 7. The CABAC context index for each bin of different TU sizes(Total contexts 12 for each direction x/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CTVC-I0177 Test Condition and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Condition a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chor is HM6.0 with encoding conditions specified in the common test conditions in JCTVC-H11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ults are verified at the decoder and cross checked by Inter-Digital in JCTVC-I042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ion results show that there is 0.01%, 0.02%, 0.03%, 0.05%, 0.01% and 0.05% Y-BD rate change for Intra Main, Intra HE10bit, RA Main, RA HE10bit, LD-B Main and LD-B HE10bit respectively under the common test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ngZou</dc:creator>
  <dc:description/>
  <dc:language>en-US</dc:language>
  <cp:lastModifiedBy>eeuser</cp:lastModifiedBy>
  <dcterms:modified xsi:type="dcterms:W3CDTF">2012-04-21T15:31:30Z</dcterms:modified>
  <cp:revision>1496</cp:revision>
  <dc:subject/>
  <dc:title>Edge-based Adaptive Directional Intra Prediction</dc:title>
</cp:coreProperties>
</file>