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886520" y="65977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I0167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A40B-76C5-4723-8298-EEB9683D262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09440" y="16020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I0167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06964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2: Line memory reduction fix at tile boundar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185720" y="3692520"/>
            <a:ext cx="3915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emih Esen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nn-Kathrin Seif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267080" y="6497640"/>
            <a:ext cx="481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9th JCT-VC meeting, Geneva 27 April-07 May 2012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18823" r="0" b="20290"/>
          <a:stretch/>
        </p:blipFill>
        <p:spPr>
          <a:xfrm>
            <a:off x="4716360" y="1557360"/>
            <a:ext cx="4175280" cy="3897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0" t="18823" r="0" b="20294"/>
          <a:stretch/>
        </p:blipFill>
        <p:spPr>
          <a:xfrm>
            <a:off x="289080" y="1557360"/>
            <a:ext cx="4211640" cy="3894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55640" y="62373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Arial"/>
              </a:rPr>
              <a:t>Jonny, LD_HE_B, QP37, frame no. 153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7520" y="3370320"/>
            <a:ext cx="4140360" cy="431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45160" y="3386160"/>
            <a:ext cx="4032000" cy="431640"/>
          </a:xfrm>
          <a:prstGeom prst="ellipse">
            <a:avLst/>
          </a:prstGeom>
          <a:noFill/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9900"/>
                </a:solidFill>
                <a:latin typeface="Arial"/>
                <a:ea typeface="Arial"/>
              </a:rPr>
              <a:t>Loop_filters_across_tiles_flag is set to 0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04616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ff"/>
                </a:solidFill>
                <a:latin typeface="Arial"/>
                <a:ea typeface="Arial"/>
              </a:rPr>
              <a:t>HM6.0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104616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ff"/>
                </a:solidFill>
                <a:latin typeface="Arial"/>
                <a:ea typeface="Arial"/>
              </a:rPr>
              <a:t>Proposal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360" y="5877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Arial"/>
              </a:rPr>
              <a:t>KristenAndSara, LD_HE_P, QP32, frame no. 372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9900"/>
                </a:solidFill>
                <a:latin typeface="Arial"/>
                <a:ea typeface="Arial"/>
              </a:rPr>
              <a:t>Loop_filters_across_tiles_flag is set to 0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2191" r="0" b="43470"/>
          <a:stretch/>
        </p:blipFill>
        <p:spPr>
          <a:xfrm>
            <a:off x="0" y="1484280"/>
            <a:ext cx="4572000" cy="3546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rcRect l="3059" t="1571" r="0" b="44609"/>
          <a:stretch/>
        </p:blipFill>
        <p:spPr>
          <a:xfrm>
            <a:off x="4606920" y="1484280"/>
            <a:ext cx="4537080" cy="3538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2871720"/>
            <a:ext cx="4572000" cy="360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08360" y="2862360"/>
            <a:ext cx="4535640" cy="360360"/>
          </a:xfrm>
          <a:prstGeom prst="ellipse">
            <a:avLst/>
          </a:prstGeom>
          <a:noFill/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1052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ff"/>
                </a:solidFill>
                <a:latin typeface="Arial"/>
                <a:ea typeface="Arial"/>
              </a:rPr>
              <a:t>HM6.0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052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ff"/>
                </a:solidFill>
                <a:latin typeface="Arial"/>
                <a:ea typeface="Arial"/>
              </a:rPr>
              <a:t>Proposal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0" t="0" r="0" b="50654"/>
          <a:stretch/>
        </p:blipFill>
        <p:spPr>
          <a:xfrm>
            <a:off x="4643280" y="1557360"/>
            <a:ext cx="4500720" cy="3149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2728" t="0" r="0" b="50649"/>
          <a:stretch/>
        </p:blipFill>
        <p:spPr>
          <a:xfrm>
            <a:off x="0" y="1557360"/>
            <a:ext cx="4500720" cy="3151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84360" y="49417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Arial"/>
              </a:rPr>
              <a:t>KristenAndSara, LD_HE_P, QP32, frame no. 435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052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ff"/>
                </a:solidFill>
                <a:latin typeface="Arial"/>
                <a:ea typeface="Arial"/>
              </a:rPr>
              <a:t>HM6.0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052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ff"/>
                </a:solidFill>
                <a:latin typeface="Arial"/>
                <a:ea typeface="Arial"/>
              </a:rPr>
              <a:t>Proposal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cc99"/>
                </a:solidFill>
                <a:latin typeface="Arial"/>
                <a:ea typeface="Arial"/>
              </a:rPr>
              <a:t>Only ALF is switched off across tile boundaries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2890800"/>
            <a:ext cx="3376800" cy="504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75480" y="2900520"/>
            <a:ext cx="3376440" cy="504720"/>
          </a:xfrm>
          <a:prstGeom prst="ellipse">
            <a:avLst/>
          </a:prstGeom>
          <a:noFill/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48360" y="1052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ff"/>
                </a:solidFill>
                <a:latin typeface="Arial"/>
                <a:ea typeface="Arial"/>
              </a:rPr>
              <a:t>Proposal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lication of double padding at tile boundaries when loop_filter_across_tiles_enabled_flag is set to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pos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rtual boundary padding is skipped at tile boundaries when loop_filter_across_tiles_enabled_flag is set to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oding gain of 0.1% for luma and 0.2% for chro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mprovement in the subjective qu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lication of double padding at tile boundaries when loop_filter_across_tiles_enabled_flag is set to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pos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rtual boundary padding is skipped at tile boundaries when loop_filter_across_tiles_enabled_flag is set to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Loop filtering accross tile boundaries</a:t>
            </a:r>
            <a:endParaRPr b="0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oop filters across the tile boundaries are controlled with the following flag in S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a0aff"/>
                </a:solidFill>
                <a:latin typeface="Arial"/>
              </a:rPr>
              <a:t>loop_filter_across_tiles_enabled_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CA" sz="2400" spc="-1" strike="noStrike">
                <a:solidFill>
                  <a:srgbClr val="0a0aff"/>
                </a:solidFill>
                <a:latin typeface="Arial"/>
              </a:rPr>
              <a:t>loop_filter_across_tiles_enabled_flag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s 0, loop filters do not cross tile bounda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re is no line memory at horizontal tile boundaries in this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Line memory at tile boundaries</a:t>
            </a:r>
            <a:endParaRPr b="0" lang="en-US" sz="2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147600" y="3984480"/>
            <a:ext cx="884412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4120" indent="-38412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xample (</a:t>
            </a:r>
            <a:r>
              <a:rPr b="0" lang="en-CA" sz="1800" spc="-1" strike="noStrike">
                <a:solidFill>
                  <a:srgbClr val="0a0aff"/>
                </a:solidFill>
                <a:latin typeface="Arial"/>
              </a:rPr>
              <a:t>loop_filter_across_tiles_enabled_flag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is equal to 0): 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lvl="1" marL="952560" indent="-37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uring the processing of LCU 8 with ALF, pixels from LCU 14 are not required.  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lvl="1" marL="952560" indent="-378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uring the processing of LCU 14 with ALF, pixels from LCU 8 are not required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CA" sz="1800" spc="-1" strike="noStrike">
                <a:solidFill>
                  <a:srgbClr val="0a0aff"/>
                </a:solidFill>
                <a:latin typeface="Arial"/>
              </a:rPr>
              <a:t>loop_filter_across_tiles_enabled_flag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is 0; no line memory required for ALF along tile boundaries.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grpSp>
        <p:nvGrpSpPr>
          <p:cNvPr id="93" name="Group 44"/>
          <p:cNvGrpSpPr/>
          <p:nvPr/>
        </p:nvGrpSpPr>
        <p:grpSpPr>
          <a:xfrm>
            <a:off x="2771640" y="1186920"/>
            <a:ext cx="3313080" cy="2250000"/>
            <a:chOff x="2771640" y="1186920"/>
            <a:chExt cx="3313080" cy="2250000"/>
          </a:xfrm>
        </p:grpSpPr>
        <p:sp>
          <p:nvSpPr>
            <p:cNvPr id="94" name="Rectangle 1"/>
            <p:cNvSpPr/>
            <p:nvPr/>
          </p:nvSpPr>
          <p:spPr>
            <a:xfrm>
              <a:off x="2771640" y="174960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3326400" y="174960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3881160" y="174960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97" name="Rectangle 9"/>
            <p:cNvSpPr/>
            <p:nvPr/>
          </p:nvSpPr>
          <p:spPr>
            <a:xfrm>
              <a:off x="4420440" y="174960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4975200" y="174960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>
              <a:off x="5529960" y="174960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2771640" y="231192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01" name="Rectangle 13"/>
            <p:cNvSpPr/>
            <p:nvPr/>
          </p:nvSpPr>
          <p:spPr>
            <a:xfrm>
              <a:off x="3326400" y="231192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02" name="Rectangle 14"/>
            <p:cNvSpPr/>
            <p:nvPr/>
          </p:nvSpPr>
          <p:spPr>
            <a:xfrm>
              <a:off x="3881160" y="231192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03" name="Rectangle 15"/>
            <p:cNvSpPr/>
            <p:nvPr/>
          </p:nvSpPr>
          <p:spPr>
            <a:xfrm>
              <a:off x="4420440" y="231192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04" name="Rectangle 16"/>
            <p:cNvSpPr/>
            <p:nvPr/>
          </p:nvSpPr>
          <p:spPr>
            <a:xfrm>
              <a:off x="4975200" y="231192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05" name="Rectangle 17"/>
            <p:cNvSpPr/>
            <p:nvPr/>
          </p:nvSpPr>
          <p:spPr>
            <a:xfrm>
              <a:off x="5529960" y="231192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06" name="Rectangle 18"/>
            <p:cNvSpPr/>
            <p:nvPr/>
          </p:nvSpPr>
          <p:spPr>
            <a:xfrm>
              <a:off x="2771640" y="118728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3326400" y="118728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08" name="Rectangle 20"/>
            <p:cNvSpPr/>
            <p:nvPr/>
          </p:nvSpPr>
          <p:spPr>
            <a:xfrm>
              <a:off x="3881160" y="118728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09" name="Rectangle 21"/>
            <p:cNvSpPr/>
            <p:nvPr/>
          </p:nvSpPr>
          <p:spPr>
            <a:xfrm>
              <a:off x="4420440" y="118728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0" name="Rectangle 22"/>
            <p:cNvSpPr/>
            <p:nvPr/>
          </p:nvSpPr>
          <p:spPr>
            <a:xfrm>
              <a:off x="4975200" y="118728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1" name="Rectangle 23"/>
            <p:cNvSpPr/>
            <p:nvPr/>
          </p:nvSpPr>
          <p:spPr>
            <a:xfrm>
              <a:off x="5529960" y="118728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2" name="Rectangle 24"/>
            <p:cNvSpPr/>
            <p:nvPr/>
          </p:nvSpPr>
          <p:spPr>
            <a:xfrm>
              <a:off x="2771640" y="287460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3" name="Rectangle 25"/>
            <p:cNvSpPr/>
            <p:nvPr/>
          </p:nvSpPr>
          <p:spPr>
            <a:xfrm>
              <a:off x="3326400" y="287460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4" name="Rectangle 26"/>
            <p:cNvSpPr/>
            <p:nvPr/>
          </p:nvSpPr>
          <p:spPr>
            <a:xfrm>
              <a:off x="3881160" y="287460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5" name="Rectangle 27"/>
            <p:cNvSpPr/>
            <p:nvPr/>
          </p:nvSpPr>
          <p:spPr>
            <a:xfrm>
              <a:off x="4420440" y="287460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6" name="Rectangle 28"/>
            <p:cNvSpPr/>
            <p:nvPr/>
          </p:nvSpPr>
          <p:spPr>
            <a:xfrm>
              <a:off x="4975200" y="287460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7" name="Rectangle 29"/>
            <p:cNvSpPr/>
            <p:nvPr/>
          </p:nvSpPr>
          <p:spPr>
            <a:xfrm>
              <a:off x="5529960" y="2874600"/>
              <a:ext cx="554760" cy="5623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8" name="Straight Connector 3"/>
            <p:cNvSpPr/>
            <p:nvPr/>
          </p:nvSpPr>
          <p:spPr>
            <a:xfrm>
              <a:off x="2771640" y="2311920"/>
              <a:ext cx="33130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  <p:sp>
          <p:nvSpPr>
            <p:cNvPr id="119" name="Straight Connector 32"/>
            <p:cNvSpPr/>
            <p:nvPr/>
          </p:nvSpPr>
          <p:spPr>
            <a:xfrm flipV="1">
              <a:off x="4420440" y="1186920"/>
              <a:ext cx="0" cy="2249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000066"/>
                </a:solidFill>
                <a:uFillTx/>
                <a:latin typeface="Arial"/>
              </a:endParaRPr>
            </a:p>
          </p:txBody>
        </p:sp>
      </p:grpSp>
      <p:sp>
        <p:nvSpPr>
          <p:cNvPr id="120" name="TextBox 35"/>
          <p:cNvSpPr/>
          <p:nvPr/>
        </p:nvSpPr>
        <p:spPr>
          <a:xfrm>
            <a:off x="5364000" y="1979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Tile2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" name="TextBox 39"/>
          <p:cNvSpPr/>
          <p:nvPr/>
        </p:nvSpPr>
        <p:spPr>
          <a:xfrm>
            <a:off x="5364000" y="3132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Tile4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" name="TextBox 40"/>
          <p:cNvSpPr/>
          <p:nvPr/>
        </p:nvSpPr>
        <p:spPr>
          <a:xfrm>
            <a:off x="3635280" y="1979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Tile1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" name="TextBox 41"/>
          <p:cNvSpPr/>
          <p:nvPr/>
        </p:nvSpPr>
        <p:spPr>
          <a:xfrm>
            <a:off x="3635280" y="3122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Tile3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" name="TextBox 36"/>
          <p:cNvSpPr/>
          <p:nvPr/>
        </p:nvSpPr>
        <p:spPr>
          <a:xfrm>
            <a:off x="3203640" y="173340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</a:rPr>
              <a:t>LCU 8</a:t>
            </a:r>
            <a:endParaRPr b="0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" name="TextBox 43"/>
          <p:cNvSpPr/>
          <p:nvPr/>
        </p:nvSpPr>
        <p:spPr>
          <a:xfrm>
            <a:off x="3203640" y="23097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</a:rPr>
              <a:t>LCU 14</a:t>
            </a:r>
            <a:endParaRPr b="0" lang="en-US" sz="1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Problem</a:t>
            </a:r>
            <a:endParaRPr b="0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127" name="Picture 1258" descr="Picture2"/>
          <p:cNvPicPr/>
          <p:nvPr/>
        </p:nvPicPr>
        <p:blipFill>
          <a:blip r:embed="rId1"/>
          <a:stretch/>
        </p:blipFill>
        <p:spPr>
          <a:xfrm>
            <a:off x="2050920" y="836640"/>
            <a:ext cx="4819680" cy="3097080"/>
          </a:xfrm>
          <a:prstGeom prst="rect">
            <a:avLst/>
          </a:prstGeom>
          <a:ln w="0">
            <a:noFill/>
          </a:ln>
        </p:spPr>
      </p:pic>
      <p:sp>
        <p:nvSpPr>
          <p:cNvPr id="128" name="Content Placeholder 2"/>
          <p:cNvSpPr/>
          <p:nvPr/>
        </p:nvSpPr>
        <p:spPr>
          <a:xfrm>
            <a:off x="395280" y="4292640"/>
            <a:ext cx="8064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oblem related to virtual boundary padding of ALF:</a:t>
            </a: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ouble padding occurs at independent tile boundaries. </a:t>
            </a: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Virtual Boundary padding is applied on top of boundary padding although it is not actually required.</a:t>
            </a: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9"/>
          <p:cNvSpPr/>
          <p:nvPr/>
        </p:nvSpPr>
        <p:spPr>
          <a:xfrm>
            <a:off x="108000" y="442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Proposal</a:t>
            </a:r>
            <a:endParaRPr b="0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147600" y="692280"/>
            <a:ext cx="88441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57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7892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following simple rule is included in Virtual Boundary padding operation of AL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CA" sz="2400" spc="-1" strike="noStrike">
                <a:solidFill>
                  <a:srgbClr val="0a0aff"/>
                </a:solidFill>
                <a:latin typeface="Arial"/>
              </a:rPr>
              <a:t>loop_filter_across_tiles_enabled_flag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s 0, then Virtual Boundary padding is not applied at horizontal tile boundari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Remark: Virtual Boundary padding is currently not applied at frame boundaries alrea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Simulation results Test 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147600" y="692280"/>
            <a:ext cx="86011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oop_filters_across_tiles_enabled_flag is set to 0.</a:t>
            </a: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8 tiles per frame for class D, 16 tiles per frame for class other sequences.</a:t>
            </a: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1"/>
          <a:srcRect l="0" t="0" r="0" b="51139"/>
          <a:stretch/>
        </p:blipFill>
        <p:spPr>
          <a:xfrm>
            <a:off x="2195640" y="2205000"/>
            <a:ext cx="2035080" cy="3889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2"/>
          <a:srcRect l="0" t="50710" r="0" b="0"/>
          <a:stretch/>
        </p:blipFill>
        <p:spPr>
          <a:xfrm>
            <a:off x="4551480" y="2193840"/>
            <a:ext cx="20365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Simulation results Test 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Content Placeholder 2"/>
          <p:cNvSpPr/>
          <p:nvPr/>
        </p:nvSpPr>
        <p:spPr>
          <a:xfrm>
            <a:off x="147600" y="692280"/>
            <a:ext cx="8888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ly ALF is not allowed to cross the tile boundaries.</a:t>
            </a: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8 tiles per frame for class D, 16 tiles per frame for class other sequences.</a:t>
            </a: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lvl="1" marL="574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rcRect l="0" t="0" r="0" b="51026"/>
          <a:stretch/>
        </p:blipFill>
        <p:spPr>
          <a:xfrm>
            <a:off x="2195640" y="2205000"/>
            <a:ext cx="2035080" cy="389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2"/>
          <a:srcRect l="0" t="50773" r="0" b="0"/>
          <a:stretch/>
        </p:blipFill>
        <p:spPr>
          <a:xfrm>
            <a:off x="4551480" y="2205000"/>
            <a:ext cx="203652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22192" r="7623" b="33575"/>
          <a:stretch/>
        </p:blipFill>
        <p:spPr>
          <a:xfrm>
            <a:off x="4651200" y="1627200"/>
            <a:ext cx="4492800" cy="3278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0" t="26237" r="0" b="23613"/>
          <a:stretch/>
        </p:blipFill>
        <p:spPr>
          <a:xfrm>
            <a:off x="0" y="1628640"/>
            <a:ext cx="4572000" cy="3279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4360" y="5877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  <a:ea typeface="Arial"/>
              </a:rPr>
              <a:t>Jonny, LD_HE_P, QP37, frame no. 218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341520"/>
            <a:ext cx="4572000" cy="4320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3341520"/>
            <a:ext cx="4500720" cy="432000"/>
          </a:xfrm>
          <a:prstGeom prst="ellipse">
            <a:avLst/>
          </a:prstGeom>
          <a:noFill/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2276640"/>
            <a:ext cx="1439640" cy="360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1120" y="2276640"/>
            <a:ext cx="1417680" cy="360360"/>
          </a:xfrm>
          <a:prstGeom prst="ellipse">
            <a:avLst/>
          </a:prstGeom>
          <a:noFill/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9900"/>
                </a:solidFill>
                <a:latin typeface="Arial"/>
                <a:ea typeface="Arial"/>
              </a:rPr>
              <a:t>Loop_filters_across_tiles_flag is set to 0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052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ff"/>
                </a:solidFill>
                <a:latin typeface="Arial"/>
                <a:ea typeface="Arial"/>
              </a:rPr>
              <a:t>HM6.0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1052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ff"/>
                </a:solidFill>
                <a:latin typeface="Arial"/>
                <a:ea typeface="Arial"/>
              </a:rPr>
              <a:t>Proposal</a:t>
            </a:r>
            <a:endParaRPr b="0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3280" y="3341520"/>
            <a:ext cx="4500720" cy="432000"/>
          </a:xfrm>
          <a:prstGeom prst="ellipse">
            <a:avLst/>
          </a:prstGeom>
          <a:noFill/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1120" y="2276640"/>
            <a:ext cx="1417680" cy="360360"/>
          </a:xfrm>
          <a:prstGeom prst="ellipse">
            <a:avLst/>
          </a:prstGeom>
          <a:noFill/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Thomas Wedi</dc:creator>
  <dc:description/>
  <dc:language>en-US</dc:language>
  <cp:lastModifiedBy>semih.esenlik</cp:lastModifiedBy>
  <dcterms:modified xsi:type="dcterms:W3CDTF">2012-04-27T18:09:52Z</dcterms:modified>
  <cp:revision>2078</cp:revision>
  <dc:subject/>
  <dc:title>Template</dc:title>
</cp:coreProperties>
</file>