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move the slide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35 Thi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35 Th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1208-571E-470F-9DE5-D18AFF951F70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9298-7E0A-447A-B6F0-61DCD01FFF32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18D1-FD58-4848-BEF1-B6E69089F0D6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2BBF-A1D6-4F50-A10A-9A4898FB5839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A2A9-D318-4B03-A5BD-51CCF2E6589D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B924-FCF6-4600-8E3C-241F9D490388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42F2-2186-4E00-8A1B-2B844D34C5A7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7A4A-B870-4DA6-9229-267EE7A5FAA6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6E12-30AE-48E0-967E-7C27C1043C78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10880" y="412920"/>
            <a:ext cx="709596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10880" y="412920"/>
            <a:ext cx="709596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" name="Rectangle 758"/>
          <p:cNvSpPr/>
          <p:nvPr/>
        </p:nvSpPr>
        <p:spPr>
          <a:xfrm>
            <a:off x="25560" y="6423120"/>
            <a:ext cx="73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82B8-610F-4879-9302-6717CABE286D}" type="slidenum">
              <a:rPr b="0" lang="fr-FR" sz="800" spc="-1" strike="noStrike">
                <a:solidFill>
                  <a:srgbClr val="000000"/>
                </a:solidFill>
                <a:latin typeface="Helvetica 55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3976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Helvetica 55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E1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8823240" y="2314440"/>
            <a:ext cx="1843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11240" y="2284200"/>
            <a:ext cx="785664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Helvetica 35 Thin"/>
              </a:rPr>
              <a:t>AHG 4: Proposals on entry points signalling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6600"/>
                </a:solidFill>
                <a:latin typeface="Helvetica 35 Thin"/>
              </a:rPr>
              <a:t>JCTVC-I0159</a:t>
            </a:r>
            <a:endParaRPr b="0" lang="en-US" sz="3600" spc="-1" strike="noStrike">
              <a:solidFill>
                <a:srgbClr val="ff6600"/>
              </a:solidFill>
              <a:latin typeface="Helvetica 65 Medium"/>
            </a:endParaRPr>
          </a:p>
        </p:txBody>
      </p:sp>
      <p:pic>
        <p:nvPicPr>
          <p:cNvPr id="87" name="Picture 6" descr="PP_orange"/>
          <p:cNvPicPr/>
          <p:nvPr/>
        </p:nvPicPr>
        <p:blipFill>
          <a:blip r:embed="rId1"/>
          <a:srcRect l="74671" t="0" r="0" b="0"/>
          <a:stretch/>
        </p:blipFill>
        <p:spPr>
          <a:xfrm>
            <a:off x="8028000" y="5769000"/>
            <a:ext cx="1093680" cy="1082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42920" y="5084280"/>
            <a:ext cx="64008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  <a:ea typeface="ＭＳ Ｐゴシック"/>
              </a:rPr>
              <a:t>Gordon Clare, Félix Henry, Stéphane Pateux </a:t>
            </a: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– ORANGE LAB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2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Conclusion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55640" y="119700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172080" indent="-1720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e proposed modifications of entry points provides the following functionalite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83640" indent="-25380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Cleaning of TileID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83640" indent="-25380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Low delay encoding when offset entry points are used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83640" indent="-25380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Enables picture raster scan decoding of multiple tile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72080" indent="-1720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Proposed modification is harmonious for WPP and tile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72080" indent="-1720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Proposed modification has negligible impact on R/D performance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72080" indent="-1720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It is suggested that the proposed modifications are adopted in the standard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72080" indent="-1720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ext is provided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72080" indent="-1720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We thank LGE for crosschecking this proposa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83640" indent="-25380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Crosscheck JCTVC-I0267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5" name="Espace réservé du pied de page 3"/>
          <p:cNvSpPr/>
          <p:nvPr/>
        </p:nvSpPr>
        <p:spPr>
          <a:xfrm>
            <a:off x="3059280" y="6524640"/>
            <a:ext cx="29001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9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Update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Source code/text of the proposa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Last tile/substream has no offset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However this creates a potential problem because  the decoder cannot identify the last substream/tile in a slic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Even the last substream/tile in a slice should have an offse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Problem is solved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Regular design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8" name="Espace réservé du pied de page 3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E196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Problem statement</a:t>
            </a: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	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163520" y="1241280"/>
            <a:ext cx="709776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This contribution proposes modifications of entry points signalling in order to solve the following issues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914400" indent="-457200">
              <a:lnSpc>
                <a:spcPct val="100000"/>
              </a:lnSpc>
              <a:spcAft>
                <a:spcPts val="1500"/>
              </a:spcAft>
              <a:buClr>
                <a:srgbClr val="ff6600"/>
              </a:buClr>
              <a:buSzPct val="70000"/>
              <a:buFont typeface="Helvetica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Unnecessary TileID index written with an entry point marker when WPP is used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914400" indent="-457200">
              <a:lnSpc>
                <a:spcPct val="100000"/>
              </a:lnSpc>
              <a:spcAft>
                <a:spcPts val="1500"/>
              </a:spcAft>
              <a:buClr>
                <a:srgbClr val="ff6600"/>
              </a:buClr>
              <a:buSzPct val="70000"/>
              <a:buFont typeface="Helvetica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Low delay encoding when offset entry points are used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914400" indent="-457200">
              <a:lnSpc>
                <a:spcPct val="100000"/>
              </a:lnSpc>
              <a:spcAft>
                <a:spcPts val="1500"/>
              </a:spcAft>
              <a:buClr>
                <a:srgbClr val="ff6600"/>
              </a:buClr>
              <a:buSzPct val="70000"/>
              <a:buFont typeface="Helvetica 45 Ligh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Necessary tile entry points in order to enable picture raster scan decoding of multiple tiles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914400" indent="-457200">
              <a:lnSpc>
                <a:spcPct val="100000"/>
              </a:lnSpc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914400" indent="-457200">
              <a:lnSpc>
                <a:spcPct val="100000"/>
              </a:lnSpc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914400" indent="-457200">
              <a:lnSpc>
                <a:spcPct val="100000"/>
              </a:lnSpc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914400" indent="-457200">
              <a:lnSpc>
                <a:spcPct val="100000"/>
              </a:lnSpc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914400" indent="-457200">
              <a:lnSpc>
                <a:spcPct val="100000"/>
              </a:lnSpc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914400" indent="-457200">
              <a:lnSpc>
                <a:spcPct val="100000"/>
              </a:lnSpc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914400" indent="-457200">
              <a:lnSpc>
                <a:spcPct val="100000"/>
              </a:lnSpc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914400" indent="-457200">
              <a:lnSpc>
                <a:spcPct val="100000"/>
              </a:lnSpc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914400" indent="-457200">
              <a:lnSpc>
                <a:spcPct val="100000"/>
              </a:lnSpc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914400" indent="-45720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914400" indent="-45720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914400" indent="-45720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914400" indent="-45720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914400" indent="-45720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914400" indent="-45720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914400" indent="-45720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914400" indent="-45720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749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914400" indent="-457200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1" name="Espace réservé du pied de page 3"/>
          <p:cNvSpPr/>
          <p:nvPr/>
        </p:nvSpPr>
        <p:spPr>
          <a:xfrm>
            <a:off x="3059280" y="6524640"/>
            <a:ext cx="29001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9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1. TileID cleaning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11240" y="148428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45 Light"/>
              </a:rPr>
              <a:t>Problem statement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624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urrently, when a marker is used to signal the start of a substream, a TileID is also written.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624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However this syntax element has no use when tiles_or_entropy_coding_sync_idc is equal to 2 (WPP).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45 Light"/>
              </a:rPr>
              <a:t>Proposed solution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624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It is proposed to write this syntax element only when tiles_or_entropy_coding_sync_idc is equal to 1.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4" name="Espace réservé du pied de page 3"/>
          <p:cNvSpPr/>
          <p:nvPr/>
        </p:nvSpPr>
        <p:spPr>
          <a:xfrm>
            <a:off x="3059280" y="6524640"/>
            <a:ext cx="29001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9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2. Encoder delay when using offset entry points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11240" y="1125000"/>
            <a:ext cx="7097760" cy="44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Problem statemen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25480" indent="-34272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Entry point offsets are written in the Slice Header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25480" indent="-34272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This can be done only when substream/tile sizes are known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25480" indent="-34272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This introduces encoder delay (both for single core and multiple core operations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25480" indent="-34272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Delay can be solved by using marker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244520" indent="-342720">
              <a:spcAft>
                <a:spcPts val="56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But RD performance is affected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341280" indent="-3412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Proposed solution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25480" indent="-34272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Writing offsets at the beginning of each substream/til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244520" indent="-342720">
              <a:spcAft>
                <a:spcPts val="56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Slice header can be built before processing the tiles/substream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244520" indent="-342720">
              <a:spcAft>
                <a:spcPts val="56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substreams/tiles can be written when ready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341280" indent="-3412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244520" indent="-342720">
              <a:spcAft>
                <a:spcPts val="56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25480" indent="-34272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341280" indent="-3412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7" name="Espace réservé du pied de page 3"/>
          <p:cNvSpPr/>
          <p:nvPr/>
        </p:nvSpPr>
        <p:spPr>
          <a:xfrm>
            <a:off x="3059280" y="6524640"/>
            <a:ext cx="29001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9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2. Encoder delay when using offset entry points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11240" y="1125000"/>
            <a:ext cx="7097760" cy="44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Byte aligning the offset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25480" indent="-34272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45 Light"/>
              </a:rPr>
              <a:t>Since the substream is generated before its offset, but the offset is written before the substream, this implies that a bit-aligned offset would require bit shifting of the whole substream. 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25480" indent="-34272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45 Light"/>
              </a:rPr>
              <a:t>Byte aligning the offset allows a simple byte level concatenation with the substream/tile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25480" indent="-34272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25480" indent="-34272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25480" indent="-34272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341280" indent="-341280">
              <a:spcAft>
                <a:spcPts val="876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marL="341280" indent="-3412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25480" indent="-34272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341280" indent="-341280"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0" name="Espace réservé du pied de page 3"/>
          <p:cNvSpPr/>
          <p:nvPr/>
        </p:nvSpPr>
        <p:spPr>
          <a:xfrm>
            <a:off x="3059280" y="6524640"/>
            <a:ext cx="29001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9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3. Mandatory offsets for Tiles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1240" y="1196640"/>
            <a:ext cx="709776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Problem statemen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Picture raster scan decoding of LCUs in tile-divided frames has been identified as a needed feature to avoid decoder delay/buffering.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56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Requires bitstream jumping (as described JCTVC-H0463 and JCTVC-I0158) See next slid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Bitstream jumping requires that each tile can be individually accessed in the bitstream.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This is not possible if some tiles do not have entry points.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Proposed solution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It is proposed that one entry point offset per tile is made mandatory.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3" name="Espace réservé du pied de page 3"/>
          <p:cNvSpPr/>
          <p:nvPr/>
        </p:nvSpPr>
        <p:spPr>
          <a:xfrm>
            <a:off x="3059280" y="6524640"/>
            <a:ext cx="29001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9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3. Mandatory offsets for Tiles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05" name="Espace réservé du pied de page 3"/>
          <p:cNvSpPr/>
          <p:nvPr/>
        </p:nvSpPr>
        <p:spPr>
          <a:xfrm>
            <a:off x="3059280" y="6524640"/>
            <a:ext cx="29001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9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grpSp>
        <p:nvGrpSpPr>
          <p:cNvPr id="106" name="Groupe 240"/>
          <p:cNvGrpSpPr/>
          <p:nvPr/>
        </p:nvGrpSpPr>
        <p:grpSpPr>
          <a:xfrm>
            <a:off x="1331640" y="981000"/>
            <a:ext cx="7628040" cy="5246640"/>
            <a:chOff x="1331640" y="981000"/>
            <a:chExt cx="7628040" cy="5246640"/>
          </a:xfrm>
        </p:grpSpPr>
        <p:sp>
          <p:nvSpPr>
            <p:cNvPr id="107" name="Rectangle 5"/>
            <p:cNvSpPr/>
            <p:nvPr/>
          </p:nvSpPr>
          <p:spPr>
            <a:xfrm>
              <a:off x="2933640" y="2205000"/>
              <a:ext cx="617400" cy="61596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67360" y="1587240"/>
              <a:ext cx="615960" cy="617400"/>
            </a:xfrm>
            <a:prstGeom prst="rect">
              <a:avLst/>
            </a:prstGeom>
            <a:solidFill>
              <a:srgbClr val="ffe0c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167360" y="2205000"/>
              <a:ext cx="615960" cy="615960"/>
            </a:xfrm>
            <a:prstGeom prst="rect">
              <a:avLst/>
            </a:prstGeom>
            <a:solidFill>
              <a:srgbClr val="ffe0c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4167360" y="2820960"/>
              <a:ext cx="615960" cy="615960"/>
            </a:xfrm>
            <a:prstGeom prst="rect">
              <a:avLst/>
            </a:prstGeom>
            <a:solidFill>
              <a:srgbClr val="ffe0c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783320" y="1587240"/>
              <a:ext cx="617400" cy="61740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4783320" y="2205000"/>
              <a:ext cx="617400" cy="6159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4783320" y="2820960"/>
              <a:ext cx="617400" cy="6159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167360" y="3436920"/>
              <a:ext cx="615960" cy="6159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4783320" y="3436920"/>
              <a:ext cx="617400" cy="61596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4167360" y="4052880"/>
              <a:ext cx="615960" cy="6159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4167360" y="4668840"/>
              <a:ext cx="615960" cy="617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4783320" y="4052880"/>
              <a:ext cx="617400" cy="61596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4783320" y="4668840"/>
              <a:ext cx="617400" cy="61740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1701720" y="1587240"/>
              <a:ext cx="617400" cy="61740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1701720" y="2205000"/>
              <a:ext cx="617400" cy="61596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2319120" y="1587240"/>
              <a:ext cx="614160" cy="61740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2319120" y="2205000"/>
              <a:ext cx="614160" cy="61596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24" name="Rectangle 22"/>
            <p:cNvSpPr/>
            <p:nvPr/>
          </p:nvSpPr>
          <p:spPr>
            <a:xfrm>
              <a:off x="2933640" y="1587240"/>
              <a:ext cx="617400" cy="61740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25" name="Rectangle 23"/>
            <p:cNvSpPr/>
            <p:nvPr/>
          </p:nvSpPr>
          <p:spPr>
            <a:xfrm>
              <a:off x="3551400" y="1587240"/>
              <a:ext cx="615960" cy="617400"/>
            </a:xfrm>
            <a:prstGeom prst="rect">
              <a:avLst/>
            </a:prstGeom>
            <a:solidFill>
              <a:srgbClr val="ffe0c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3551400" y="2205000"/>
              <a:ext cx="615960" cy="615960"/>
            </a:xfrm>
            <a:prstGeom prst="rect">
              <a:avLst/>
            </a:prstGeom>
            <a:solidFill>
              <a:srgbClr val="ffe0c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27" name="Rectangle 25"/>
            <p:cNvSpPr/>
            <p:nvPr/>
          </p:nvSpPr>
          <p:spPr>
            <a:xfrm>
              <a:off x="1701720" y="2820960"/>
              <a:ext cx="617400" cy="61596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28" name="Rectangle 26"/>
            <p:cNvSpPr/>
            <p:nvPr/>
          </p:nvSpPr>
          <p:spPr>
            <a:xfrm>
              <a:off x="1701720" y="3436920"/>
              <a:ext cx="617400" cy="61596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29" name="Rectangle 27"/>
            <p:cNvSpPr/>
            <p:nvPr/>
          </p:nvSpPr>
          <p:spPr>
            <a:xfrm>
              <a:off x="2319120" y="2820960"/>
              <a:ext cx="614160" cy="61596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30" name="Rectangle 28"/>
            <p:cNvSpPr/>
            <p:nvPr/>
          </p:nvSpPr>
          <p:spPr>
            <a:xfrm>
              <a:off x="2319120" y="3436920"/>
              <a:ext cx="614160" cy="61596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31" name="Rectangle 29"/>
            <p:cNvSpPr/>
            <p:nvPr/>
          </p:nvSpPr>
          <p:spPr>
            <a:xfrm>
              <a:off x="2933640" y="2820960"/>
              <a:ext cx="617400" cy="61596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32" name="Rectangle 30"/>
            <p:cNvSpPr/>
            <p:nvPr/>
          </p:nvSpPr>
          <p:spPr>
            <a:xfrm>
              <a:off x="2933640" y="3436920"/>
              <a:ext cx="617400" cy="61596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33" name="Rectangle 31"/>
            <p:cNvSpPr/>
            <p:nvPr/>
          </p:nvSpPr>
          <p:spPr>
            <a:xfrm>
              <a:off x="3551400" y="2820960"/>
              <a:ext cx="615960" cy="615960"/>
            </a:xfrm>
            <a:prstGeom prst="rect">
              <a:avLst/>
            </a:prstGeom>
            <a:solidFill>
              <a:srgbClr val="ffe0c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>
              <a:off x="3551400" y="3436920"/>
              <a:ext cx="615960" cy="6159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35" name="Rectangle 33"/>
            <p:cNvSpPr/>
            <p:nvPr/>
          </p:nvSpPr>
          <p:spPr>
            <a:xfrm>
              <a:off x="5400720" y="1587240"/>
              <a:ext cx="612720" cy="61740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36" name="Rectangle 34"/>
            <p:cNvSpPr/>
            <p:nvPr/>
          </p:nvSpPr>
          <p:spPr>
            <a:xfrm>
              <a:off x="5400720" y="2205000"/>
              <a:ext cx="612720" cy="6159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37" name="Rectangle 35"/>
            <p:cNvSpPr/>
            <p:nvPr/>
          </p:nvSpPr>
          <p:spPr>
            <a:xfrm>
              <a:off x="6013440" y="1587240"/>
              <a:ext cx="617400" cy="61740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38" name="Rectangle 36"/>
            <p:cNvSpPr/>
            <p:nvPr/>
          </p:nvSpPr>
          <p:spPr>
            <a:xfrm>
              <a:off x="6013440" y="2205000"/>
              <a:ext cx="617400" cy="6159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39" name="Rectangle 37"/>
            <p:cNvSpPr/>
            <p:nvPr/>
          </p:nvSpPr>
          <p:spPr>
            <a:xfrm>
              <a:off x="6631200" y="1587240"/>
              <a:ext cx="615960" cy="6174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40" name="Rectangle 38"/>
            <p:cNvSpPr/>
            <p:nvPr/>
          </p:nvSpPr>
          <p:spPr>
            <a:xfrm>
              <a:off x="6631200" y="2205000"/>
              <a:ext cx="615960" cy="6159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41" name="Rectangle 39"/>
            <p:cNvSpPr/>
            <p:nvPr/>
          </p:nvSpPr>
          <p:spPr>
            <a:xfrm>
              <a:off x="7247160" y="1587240"/>
              <a:ext cx="615960" cy="6174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42" name="Rectangle 40"/>
            <p:cNvSpPr/>
            <p:nvPr/>
          </p:nvSpPr>
          <p:spPr>
            <a:xfrm>
              <a:off x="7247160" y="2205000"/>
              <a:ext cx="615960" cy="6159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43" name="Rectangle 41"/>
            <p:cNvSpPr/>
            <p:nvPr/>
          </p:nvSpPr>
          <p:spPr>
            <a:xfrm>
              <a:off x="5400720" y="2820960"/>
              <a:ext cx="612720" cy="6159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44" name="Rectangle 42"/>
            <p:cNvSpPr/>
            <p:nvPr/>
          </p:nvSpPr>
          <p:spPr>
            <a:xfrm>
              <a:off x="5400720" y="3436920"/>
              <a:ext cx="612720" cy="61596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45" name="Rectangle 43"/>
            <p:cNvSpPr/>
            <p:nvPr/>
          </p:nvSpPr>
          <p:spPr>
            <a:xfrm>
              <a:off x="6013440" y="2820960"/>
              <a:ext cx="617400" cy="6159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46" name="Rectangle 44"/>
            <p:cNvSpPr/>
            <p:nvPr/>
          </p:nvSpPr>
          <p:spPr>
            <a:xfrm>
              <a:off x="6013440" y="3436920"/>
              <a:ext cx="617400" cy="61596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47" name="Rectangle 45"/>
            <p:cNvSpPr/>
            <p:nvPr/>
          </p:nvSpPr>
          <p:spPr>
            <a:xfrm>
              <a:off x="6631200" y="2820960"/>
              <a:ext cx="615960" cy="6159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48" name="Rectangle 46"/>
            <p:cNvSpPr/>
            <p:nvPr/>
          </p:nvSpPr>
          <p:spPr>
            <a:xfrm>
              <a:off x="6631200" y="3436920"/>
              <a:ext cx="615960" cy="615960"/>
            </a:xfrm>
            <a:prstGeom prst="rect">
              <a:avLst/>
            </a:prstGeom>
            <a:solidFill>
              <a:srgbClr val="698ea8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49" name="Rectangle 47"/>
            <p:cNvSpPr/>
            <p:nvPr/>
          </p:nvSpPr>
          <p:spPr>
            <a:xfrm>
              <a:off x="7247160" y="2820960"/>
              <a:ext cx="615960" cy="6159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50" name="Rectangle 48"/>
            <p:cNvSpPr/>
            <p:nvPr/>
          </p:nvSpPr>
          <p:spPr>
            <a:xfrm>
              <a:off x="7247160" y="3436920"/>
              <a:ext cx="615960" cy="615960"/>
            </a:xfrm>
            <a:prstGeom prst="rect">
              <a:avLst/>
            </a:prstGeom>
            <a:solidFill>
              <a:srgbClr val="698ea8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51" name="Rectangle 49"/>
            <p:cNvSpPr/>
            <p:nvPr/>
          </p:nvSpPr>
          <p:spPr>
            <a:xfrm>
              <a:off x="1701720" y="4052880"/>
              <a:ext cx="617400" cy="61596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52" name="Rectangle 50"/>
            <p:cNvSpPr/>
            <p:nvPr/>
          </p:nvSpPr>
          <p:spPr>
            <a:xfrm>
              <a:off x="1701720" y="4668840"/>
              <a:ext cx="617400" cy="61740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53" name="Rectangle 51"/>
            <p:cNvSpPr/>
            <p:nvPr/>
          </p:nvSpPr>
          <p:spPr>
            <a:xfrm>
              <a:off x="2319120" y="4052880"/>
              <a:ext cx="614160" cy="61596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54" name="Rectangle 52"/>
            <p:cNvSpPr/>
            <p:nvPr/>
          </p:nvSpPr>
          <p:spPr>
            <a:xfrm>
              <a:off x="2319120" y="4668840"/>
              <a:ext cx="614160" cy="61740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55" name="Rectangle 53"/>
            <p:cNvSpPr/>
            <p:nvPr/>
          </p:nvSpPr>
          <p:spPr>
            <a:xfrm>
              <a:off x="2933640" y="4052880"/>
              <a:ext cx="617400" cy="61596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56" name="Rectangle 54"/>
            <p:cNvSpPr/>
            <p:nvPr/>
          </p:nvSpPr>
          <p:spPr>
            <a:xfrm>
              <a:off x="2933640" y="4668840"/>
              <a:ext cx="617400" cy="61740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57" name="Rectangle 55"/>
            <p:cNvSpPr/>
            <p:nvPr/>
          </p:nvSpPr>
          <p:spPr>
            <a:xfrm>
              <a:off x="3551400" y="4052880"/>
              <a:ext cx="615960" cy="6159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58" name="Rectangle 56"/>
            <p:cNvSpPr/>
            <p:nvPr/>
          </p:nvSpPr>
          <p:spPr>
            <a:xfrm>
              <a:off x="3551400" y="4668840"/>
              <a:ext cx="615960" cy="617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59" name="Rectangle 57"/>
            <p:cNvSpPr/>
            <p:nvPr/>
          </p:nvSpPr>
          <p:spPr>
            <a:xfrm>
              <a:off x="5400720" y="4052880"/>
              <a:ext cx="612720" cy="61596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60" name="Rectangle 58"/>
            <p:cNvSpPr/>
            <p:nvPr/>
          </p:nvSpPr>
          <p:spPr>
            <a:xfrm>
              <a:off x="5400720" y="4668840"/>
              <a:ext cx="612720" cy="61740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61" name="Rectangle 59"/>
            <p:cNvSpPr/>
            <p:nvPr/>
          </p:nvSpPr>
          <p:spPr>
            <a:xfrm>
              <a:off x="6013440" y="4052880"/>
              <a:ext cx="617400" cy="61596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62" name="Rectangle 60"/>
            <p:cNvSpPr/>
            <p:nvPr/>
          </p:nvSpPr>
          <p:spPr>
            <a:xfrm>
              <a:off x="6013440" y="4668840"/>
              <a:ext cx="617400" cy="61740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63" name="Rectangle 61"/>
            <p:cNvSpPr/>
            <p:nvPr/>
          </p:nvSpPr>
          <p:spPr>
            <a:xfrm>
              <a:off x="6631200" y="4052880"/>
              <a:ext cx="615960" cy="615960"/>
            </a:xfrm>
            <a:prstGeom prst="rect">
              <a:avLst/>
            </a:prstGeom>
            <a:solidFill>
              <a:srgbClr val="698ea8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64" name="Rectangle 62"/>
            <p:cNvSpPr/>
            <p:nvPr/>
          </p:nvSpPr>
          <p:spPr>
            <a:xfrm>
              <a:off x="6631200" y="4668840"/>
              <a:ext cx="615960" cy="617400"/>
            </a:xfrm>
            <a:prstGeom prst="rect">
              <a:avLst/>
            </a:prstGeom>
            <a:solidFill>
              <a:srgbClr val="698ea8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65" name="Rectangle 63"/>
            <p:cNvSpPr/>
            <p:nvPr/>
          </p:nvSpPr>
          <p:spPr>
            <a:xfrm>
              <a:off x="7247160" y="4052880"/>
              <a:ext cx="615960" cy="615960"/>
            </a:xfrm>
            <a:prstGeom prst="rect">
              <a:avLst/>
            </a:prstGeom>
            <a:solidFill>
              <a:srgbClr val="698ea8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66" name="Rectangle 64"/>
            <p:cNvSpPr/>
            <p:nvPr/>
          </p:nvSpPr>
          <p:spPr>
            <a:xfrm>
              <a:off x="7247160" y="4668840"/>
              <a:ext cx="615960" cy="617400"/>
            </a:xfrm>
            <a:prstGeom prst="rect">
              <a:avLst/>
            </a:prstGeom>
            <a:solidFill>
              <a:srgbClr val="698ea8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67" name="Connecteur droit 65"/>
            <p:cNvSpPr/>
            <p:nvPr/>
          </p:nvSpPr>
          <p:spPr>
            <a:xfrm>
              <a:off x="3551400" y="1280880"/>
              <a:ext cx="0" cy="424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68" name="Connecteur droit 66"/>
            <p:cNvSpPr/>
            <p:nvPr/>
          </p:nvSpPr>
          <p:spPr>
            <a:xfrm>
              <a:off x="4783320" y="1280880"/>
              <a:ext cx="0" cy="424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69" name="Connecteur droit 67"/>
            <p:cNvSpPr/>
            <p:nvPr/>
          </p:nvSpPr>
          <p:spPr>
            <a:xfrm>
              <a:off x="6631200" y="1280880"/>
              <a:ext cx="0" cy="424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70" name="Connecteur droit 68"/>
            <p:cNvSpPr/>
            <p:nvPr/>
          </p:nvSpPr>
          <p:spPr>
            <a:xfrm flipH="1">
              <a:off x="1331640" y="3436920"/>
              <a:ext cx="708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71" name="Ellipse 69"/>
            <p:cNvSpPr/>
            <p:nvPr/>
          </p:nvSpPr>
          <p:spPr>
            <a:xfrm>
              <a:off x="3427560" y="2079360"/>
              <a:ext cx="60120" cy="63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72" name="Ellipse 70"/>
            <p:cNvSpPr/>
            <p:nvPr/>
          </p:nvSpPr>
          <p:spPr>
            <a:xfrm>
              <a:off x="3427560" y="2698560"/>
              <a:ext cx="60120" cy="60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73" name="Ellipse 71"/>
            <p:cNvSpPr/>
            <p:nvPr/>
          </p:nvSpPr>
          <p:spPr>
            <a:xfrm>
              <a:off x="3427560" y="3929040"/>
              <a:ext cx="60120" cy="615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74" name="Ellipse 72"/>
            <p:cNvSpPr/>
            <p:nvPr/>
          </p:nvSpPr>
          <p:spPr>
            <a:xfrm>
              <a:off x="3427560" y="4546440"/>
              <a:ext cx="60120" cy="60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75" name="Ellipse 73"/>
            <p:cNvSpPr/>
            <p:nvPr/>
          </p:nvSpPr>
          <p:spPr>
            <a:xfrm>
              <a:off x="4659480" y="3929040"/>
              <a:ext cx="61560" cy="615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76" name="Ellipse 74"/>
            <p:cNvSpPr/>
            <p:nvPr/>
          </p:nvSpPr>
          <p:spPr>
            <a:xfrm>
              <a:off x="4659480" y="4546440"/>
              <a:ext cx="61560" cy="60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77" name="Ellipse 75"/>
            <p:cNvSpPr/>
            <p:nvPr/>
          </p:nvSpPr>
          <p:spPr>
            <a:xfrm>
              <a:off x="4659480" y="2079360"/>
              <a:ext cx="61560" cy="63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78" name="Ellipse 76"/>
            <p:cNvSpPr/>
            <p:nvPr/>
          </p:nvSpPr>
          <p:spPr>
            <a:xfrm>
              <a:off x="4659480" y="2698560"/>
              <a:ext cx="61560" cy="60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79" name="Ellipse 77"/>
            <p:cNvSpPr/>
            <p:nvPr/>
          </p:nvSpPr>
          <p:spPr>
            <a:xfrm>
              <a:off x="6508800" y="2079360"/>
              <a:ext cx="58680" cy="63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80" name="Ellipse 78"/>
            <p:cNvSpPr/>
            <p:nvPr/>
          </p:nvSpPr>
          <p:spPr>
            <a:xfrm>
              <a:off x="6508800" y="2698560"/>
              <a:ext cx="58680" cy="60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81" name="Ellipse 79"/>
            <p:cNvSpPr/>
            <p:nvPr/>
          </p:nvSpPr>
          <p:spPr>
            <a:xfrm>
              <a:off x="6508800" y="3929040"/>
              <a:ext cx="58680" cy="615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82" name="Ellipse 80"/>
            <p:cNvSpPr/>
            <p:nvPr/>
          </p:nvSpPr>
          <p:spPr>
            <a:xfrm>
              <a:off x="6508800" y="4546440"/>
              <a:ext cx="58680" cy="60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83" name="Ellipse 81"/>
            <p:cNvSpPr/>
            <p:nvPr/>
          </p:nvSpPr>
          <p:spPr>
            <a:xfrm>
              <a:off x="7740720" y="2079360"/>
              <a:ext cx="60120" cy="63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84" name="Ellipse 82"/>
            <p:cNvSpPr/>
            <p:nvPr/>
          </p:nvSpPr>
          <p:spPr>
            <a:xfrm>
              <a:off x="7740720" y="2698560"/>
              <a:ext cx="60120" cy="60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85" name="Ellipse 83"/>
            <p:cNvSpPr/>
            <p:nvPr/>
          </p:nvSpPr>
          <p:spPr>
            <a:xfrm>
              <a:off x="7740720" y="3929040"/>
              <a:ext cx="60120" cy="615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86" name="Ellipse 84"/>
            <p:cNvSpPr/>
            <p:nvPr/>
          </p:nvSpPr>
          <p:spPr>
            <a:xfrm>
              <a:off x="7740720" y="4546440"/>
              <a:ext cx="60120" cy="60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grpSp>
          <p:nvGrpSpPr>
            <p:cNvPr id="187" name="Groupe 121"/>
            <p:cNvGrpSpPr/>
            <p:nvPr/>
          </p:nvGrpSpPr>
          <p:grpSpPr>
            <a:xfrm>
              <a:off x="1516680" y="6084000"/>
              <a:ext cx="6561360" cy="124920"/>
              <a:chOff x="1516680" y="6084000"/>
              <a:chExt cx="6561360" cy="124920"/>
            </a:xfrm>
          </p:grpSpPr>
          <p:sp>
            <p:nvSpPr>
              <p:cNvPr id="188" name="Rectangle 115"/>
              <p:cNvSpPr/>
              <p:nvPr/>
            </p:nvSpPr>
            <p:spPr>
              <a:xfrm>
                <a:off x="3230640" y="6085440"/>
                <a:ext cx="969480" cy="12348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Helvetica 45 Light"/>
                </a:endParaRPr>
              </a:p>
            </p:txBody>
          </p:sp>
          <p:sp>
            <p:nvSpPr>
              <p:cNvPr id="189" name="Rectangle 116"/>
              <p:cNvSpPr/>
              <p:nvPr/>
            </p:nvSpPr>
            <p:spPr>
              <a:xfrm>
                <a:off x="6584760" y="6085440"/>
                <a:ext cx="749160" cy="12348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Helvetica 45 Light"/>
                </a:endParaRPr>
              </a:p>
            </p:txBody>
          </p:sp>
          <p:sp>
            <p:nvSpPr>
              <p:cNvPr id="190" name="Rectangle 117"/>
              <p:cNvSpPr/>
              <p:nvPr/>
            </p:nvSpPr>
            <p:spPr>
              <a:xfrm>
                <a:off x="1516680" y="6084000"/>
                <a:ext cx="1044360" cy="12204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Helvetica 45 Light"/>
                </a:endParaRPr>
              </a:p>
            </p:txBody>
          </p:sp>
          <p:sp>
            <p:nvSpPr>
              <p:cNvPr id="191" name="Rectangle 118"/>
              <p:cNvSpPr/>
              <p:nvPr/>
            </p:nvSpPr>
            <p:spPr>
              <a:xfrm>
                <a:off x="2561040" y="6085440"/>
                <a:ext cx="669600" cy="123480"/>
              </a:xfrm>
              <a:prstGeom prst="rect">
                <a:avLst/>
              </a:prstGeom>
              <a:solidFill>
                <a:srgbClr val="ffe0cc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Helvetica 45 Light"/>
                </a:endParaRPr>
              </a:p>
            </p:txBody>
          </p:sp>
          <p:sp>
            <p:nvSpPr>
              <p:cNvPr id="192" name="Rectangle 119"/>
              <p:cNvSpPr/>
              <p:nvPr/>
            </p:nvSpPr>
            <p:spPr>
              <a:xfrm>
                <a:off x="4946400" y="6085440"/>
                <a:ext cx="894960" cy="12348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Helvetica 45 Light"/>
                </a:endParaRPr>
              </a:p>
            </p:txBody>
          </p:sp>
          <p:sp>
            <p:nvSpPr>
              <p:cNvPr id="193" name="Rectangle 120"/>
              <p:cNvSpPr/>
              <p:nvPr/>
            </p:nvSpPr>
            <p:spPr>
              <a:xfrm>
                <a:off x="5841720" y="6085440"/>
                <a:ext cx="742680" cy="123480"/>
              </a:xfrm>
              <a:prstGeom prst="rect">
                <a:avLst/>
              </a:prstGeom>
              <a:solidFill>
                <a:srgbClr val="c7c7c7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Helvetica 45 Light"/>
                </a:endParaRPr>
              </a:p>
            </p:txBody>
          </p:sp>
          <p:sp>
            <p:nvSpPr>
              <p:cNvPr id="194" name="Rectangle 121"/>
              <p:cNvSpPr/>
              <p:nvPr/>
            </p:nvSpPr>
            <p:spPr>
              <a:xfrm>
                <a:off x="4200480" y="6085440"/>
                <a:ext cx="745920" cy="12348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Helvetica 45 Light"/>
                </a:endParaRPr>
              </a:p>
            </p:txBody>
          </p:sp>
          <p:sp>
            <p:nvSpPr>
              <p:cNvPr id="195" name="Rectangle 122"/>
              <p:cNvSpPr/>
              <p:nvPr/>
            </p:nvSpPr>
            <p:spPr>
              <a:xfrm>
                <a:off x="7333920" y="6085440"/>
                <a:ext cx="744120" cy="123480"/>
              </a:xfrm>
              <a:prstGeom prst="rect">
                <a:avLst/>
              </a:prstGeom>
              <a:solidFill>
                <a:srgbClr val="698ea8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Helvetica 45 Light"/>
                </a:endParaRPr>
              </a:p>
            </p:txBody>
          </p:sp>
        </p:grpSp>
        <p:sp>
          <p:nvSpPr>
            <p:cNvPr id="196" name="Ellipse 86"/>
            <p:cNvSpPr/>
            <p:nvPr/>
          </p:nvSpPr>
          <p:spPr>
            <a:xfrm>
              <a:off x="3427560" y="3313080"/>
              <a:ext cx="60120" cy="61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97" name="Ellipse 87"/>
            <p:cNvSpPr/>
            <p:nvPr/>
          </p:nvSpPr>
          <p:spPr>
            <a:xfrm>
              <a:off x="4659480" y="3313080"/>
              <a:ext cx="61560" cy="61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98" name="Ellipse 88"/>
            <p:cNvSpPr/>
            <p:nvPr/>
          </p:nvSpPr>
          <p:spPr>
            <a:xfrm>
              <a:off x="6508800" y="3313080"/>
              <a:ext cx="58680" cy="61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99" name="Ellipse 89"/>
            <p:cNvSpPr/>
            <p:nvPr/>
          </p:nvSpPr>
          <p:spPr>
            <a:xfrm>
              <a:off x="3427560" y="5160960"/>
              <a:ext cx="60120" cy="63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00" name="Ellipse 90"/>
            <p:cNvSpPr/>
            <p:nvPr/>
          </p:nvSpPr>
          <p:spPr>
            <a:xfrm>
              <a:off x="4659480" y="5160960"/>
              <a:ext cx="61560" cy="63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01" name="Ellipse 91"/>
            <p:cNvSpPr/>
            <p:nvPr/>
          </p:nvSpPr>
          <p:spPr>
            <a:xfrm>
              <a:off x="6508800" y="5160960"/>
              <a:ext cx="58680" cy="63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02" name="Ellipse 92"/>
            <p:cNvSpPr/>
            <p:nvPr/>
          </p:nvSpPr>
          <p:spPr>
            <a:xfrm>
              <a:off x="5151600" y="1033200"/>
              <a:ext cx="63360" cy="633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03" name="Ellipse 93"/>
            <p:cNvSpPr/>
            <p:nvPr/>
          </p:nvSpPr>
          <p:spPr>
            <a:xfrm>
              <a:off x="5151600" y="1217520"/>
              <a:ext cx="63360" cy="63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04" name="ZoneTexte 119"/>
            <p:cNvSpPr/>
            <p:nvPr/>
          </p:nvSpPr>
          <p:spPr>
            <a:xfrm>
              <a:off x="4732560" y="981000"/>
              <a:ext cx="4227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Helvetica 45 Light"/>
                </a:rPr>
                <a:t>Bitstream jumping + pointer store + cabac state store/restore</a:t>
              </a:r>
              <a:endParaRPr b="0" lang="en-US" sz="11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05" name="ZoneTexte 120"/>
            <p:cNvSpPr/>
            <p:nvPr/>
          </p:nvSpPr>
          <p:spPr>
            <a:xfrm>
              <a:off x="4887000" y="1126080"/>
              <a:ext cx="2821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Helvetica 45 Light"/>
                </a:rPr>
                <a:t>Bitstream jumping + cabac state restore</a:t>
              </a:r>
              <a:endParaRPr b="0" lang="en-US" sz="11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06" name="Arc 96"/>
            <p:cNvSpPr/>
            <p:nvPr/>
          </p:nvSpPr>
          <p:spPr>
            <a:xfrm>
              <a:off x="1763640" y="5470560"/>
              <a:ext cx="799920" cy="43164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431640"/>
                <a:gd name="textAreaBottom" fmla="*/ 216000 h 431640"/>
              </a:gdLst>
              <a:ahLst/>
              <a:rect l="textAreaLeft" t="textAreaTop" r="textAreaRight" b="textAreaBottom"/>
              <a:pathLst>
                <a:path stroke="0" w="935012" h="504703">
                  <a:moveTo>
                    <a:pt x="57" y="248420"/>
                  </a:moveTo>
                  <a:lnTo>
                    <a:pt x="57" y="248420"/>
                  </a:lnTo>
                  <a:arcTo wR="467506" hR="252352" stAng="-10771084" swAng="10771091"/>
                  <a:lnTo>
                    <a:pt x="467506" y="252352"/>
                  </a:lnTo>
                  <a:close/>
                </a:path>
                <a:path fill="none" w="935012" h="504703">
                  <a:moveTo>
                    <a:pt x="57" y="248420"/>
                  </a:moveTo>
                  <a:lnTo>
                    <a:pt x="57" y="248420"/>
                  </a:lnTo>
                  <a:arcTo wR="467506" hR="252352" stAng="-10771084" swAng="10771091"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cxnSp>
          <p:nvCxnSpPr>
            <p:cNvPr id="207" name="Connecteur droit avec flèche 97"/>
            <p:cNvCxnSpPr/>
            <p:nvPr/>
          </p:nvCxnSpPr>
          <p:spPr>
            <a:xfrm>
              <a:off x="2071440" y="1895040"/>
              <a:ext cx="5607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08" name="Connecteur droit avec flèche 98"/>
            <p:cNvCxnSpPr/>
            <p:nvPr/>
          </p:nvCxnSpPr>
          <p:spPr>
            <a:xfrm>
              <a:off x="2071440" y="2512440"/>
              <a:ext cx="1910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9" name="Connecteur droit 99"/>
            <p:cNvSpPr/>
            <p:nvPr/>
          </p:nvSpPr>
          <p:spPr>
            <a:xfrm flipH="1">
              <a:off x="2071440" y="1895400"/>
              <a:ext cx="5545080" cy="617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10" name="Arc 100"/>
            <p:cNvSpPr/>
            <p:nvPr/>
          </p:nvSpPr>
          <p:spPr>
            <a:xfrm>
              <a:off x="2666880" y="5470560"/>
              <a:ext cx="554040" cy="43164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431640"/>
                <a:gd name="textAreaBottom" fmla="*/ 216000 h 431640"/>
              </a:gdLst>
              <a:ahLst/>
              <a:rect l="textAreaLeft" t="textAreaTop" r="textAreaRight" b="textAreaBottom"/>
              <a:pathLst>
                <a:path stroke="0" w="647459" h="504703">
                  <a:moveTo>
                    <a:pt x="19" y="249629"/>
                  </a:moveTo>
                  <a:lnTo>
                    <a:pt x="19" y="249629"/>
                  </a:lnTo>
                  <a:arcTo wR="323730" hR="252352" stAng="-10771083" swAng="10771094"/>
                  <a:lnTo>
                    <a:pt x="323730" y="252352"/>
                  </a:lnTo>
                  <a:close/>
                </a:path>
                <a:path fill="none" w="647459" h="504703">
                  <a:moveTo>
                    <a:pt x="19" y="249629"/>
                  </a:moveTo>
                  <a:lnTo>
                    <a:pt x="19" y="249629"/>
                  </a:lnTo>
                  <a:arcTo wR="323730" hR="252352" stAng="-10771083" swAng="10771094"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11" name="Arc 101"/>
            <p:cNvSpPr/>
            <p:nvPr/>
          </p:nvSpPr>
          <p:spPr>
            <a:xfrm>
              <a:off x="3427560" y="5470560"/>
              <a:ext cx="861840" cy="431640"/>
            </a:xfrm>
            <a:custGeom>
              <a:avLst/>
              <a:gdLst>
                <a:gd name="textAreaLeft" fmla="*/ 0 w 861840"/>
                <a:gd name="textAreaRight" fmla="*/ 862200 w 861840"/>
                <a:gd name="textAreaTop" fmla="*/ 0 h 431640"/>
                <a:gd name="textAreaBottom" fmla="*/ 216000 h 431640"/>
              </a:gdLst>
              <a:ahLst/>
              <a:rect l="textAreaLeft" t="textAreaTop" r="textAreaRight" b="textAreaBottom"/>
              <a:pathLst>
                <a:path stroke="0" w="1007363" h="504703">
                  <a:moveTo>
                    <a:pt x="71" y="248115"/>
                  </a:moveTo>
                  <a:lnTo>
                    <a:pt x="71" y="248115"/>
                  </a:lnTo>
                  <a:arcTo wR="503682" hR="252352" stAng="-10771085" swAng="10771092"/>
                  <a:lnTo>
                    <a:pt x="503682" y="252352"/>
                  </a:lnTo>
                  <a:close/>
                </a:path>
                <a:path fill="none" w="1007363" h="504703">
                  <a:moveTo>
                    <a:pt x="71" y="248115"/>
                  </a:moveTo>
                  <a:lnTo>
                    <a:pt x="71" y="248115"/>
                  </a:lnTo>
                  <a:arcTo wR="503682" hR="252352" stAng="-10771085" swAng="10771092"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12" name="Arc 102"/>
            <p:cNvSpPr/>
            <p:nvPr/>
          </p:nvSpPr>
          <p:spPr>
            <a:xfrm flipH="1">
              <a:off x="1763640" y="5735520"/>
              <a:ext cx="2649600" cy="368280"/>
            </a:xfrm>
            <a:custGeom>
              <a:avLst/>
              <a:gdLst>
                <a:gd name="textAreaLeft" fmla="*/ 2520 w 2649600"/>
                <a:gd name="textAreaRight" fmla="*/ 2650320 w 2649600"/>
                <a:gd name="textAreaTop" fmla="*/ 0 h 368280"/>
                <a:gd name="textAreaBottom" fmla="*/ 183960 h 368280"/>
              </a:gdLst>
              <a:ahLst/>
              <a:rect l="textAreaLeft" t="textAreaTop" r="textAreaRight" b="textAreaBottom"/>
              <a:pathLst>
                <a:path stroke="0" w="3096299" h="430482">
                  <a:moveTo>
                    <a:pt x="2826" y="202242"/>
                  </a:moveTo>
                  <a:lnTo>
                    <a:pt x="2826" y="202242"/>
                  </a:lnTo>
                  <a:arcTo wR="1548150" hR="215241" stAng="-10771083" swAng="10771090"/>
                  <a:lnTo>
                    <a:pt x="1548150" y="215241"/>
                  </a:lnTo>
                  <a:close/>
                </a:path>
                <a:path fill="none" w="3096299" h="430482">
                  <a:moveTo>
                    <a:pt x="2826" y="202242"/>
                  </a:moveTo>
                  <a:lnTo>
                    <a:pt x="2826" y="202242"/>
                  </a:lnTo>
                  <a:arcTo wR="1548150" hR="215241" stAng="-10771083" swAng="10771090"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13" name="Arc 103"/>
            <p:cNvSpPr/>
            <p:nvPr/>
          </p:nvSpPr>
          <p:spPr>
            <a:xfrm>
              <a:off x="2009880" y="5796000"/>
              <a:ext cx="801720" cy="431640"/>
            </a:xfrm>
            <a:custGeom>
              <a:avLst/>
              <a:gdLst>
                <a:gd name="textAreaLeft" fmla="*/ 0 w 801720"/>
                <a:gd name="textAreaRight" fmla="*/ 802080 w 801720"/>
                <a:gd name="textAreaTop" fmla="*/ 0 h 431640"/>
                <a:gd name="textAreaBottom" fmla="*/ 216000 h 431640"/>
              </a:gdLst>
              <a:ahLst/>
              <a:rect l="textAreaLeft" t="textAreaTop" r="textAreaRight" b="textAreaBottom"/>
              <a:pathLst>
                <a:path stroke="0" w="936868" h="504703">
                  <a:moveTo>
                    <a:pt x="57" y="248412"/>
                  </a:moveTo>
                  <a:lnTo>
                    <a:pt x="57" y="248412"/>
                  </a:lnTo>
                  <a:arcTo wR="468434" hR="252352" stAng="-10771082" swAng="10771090"/>
                  <a:lnTo>
                    <a:pt x="468434" y="252352"/>
                  </a:lnTo>
                  <a:close/>
                </a:path>
                <a:path fill="none" w="936868" h="504703">
                  <a:moveTo>
                    <a:pt x="57" y="248412"/>
                  </a:moveTo>
                  <a:lnTo>
                    <a:pt x="57" y="248412"/>
                  </a:lnTo>
                  <a:arcTo wR="468434" hR="252352" stAng="-10771082" swAng="10771090"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14" name="ZoneTexte 136"/>
            <p:cNvSpPr/>
            <p:nvPr/>
          </p:nvSpPr>
          <p:spPr>
            <a:xfrm>
              <a:off x="3978720" y="232812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Helvetica 45 Light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15" name="ZoneTexte 137"/>
            <p:cNvSpPr/>
            <p:nvPr/>
          </p:nvSpPr>
          <p:spPr>
            <a:xfrm>
              <a:off x="2800800" y="577836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Helvetica 45 Light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16" name="Connecteur droit 106"/>
            <p:cNvSpPr/>
            <p:nvPr/>
          </p:nvSpPr>
          <p:spPr>
            <a:xfrm>
              <a:off x="1763640" y="56545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17" name="Connecteur droit 107"/>
            <p:cNvSpPr/>
            <p:nvPr/>
          </p:nvSpPr>
          <p:spPr>
            <a:xfrm>
              <a:off x="2563920" y="564984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18" name="Connecteur droit 108"/>
            <p:cNvSpPr/>
            <p:nvPr/>
          </p:nvSpPr>
          <p:spPr>
            <a:xfrm>
              <a:off x="2671560" y="56545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19" name="Connecteur droit 109"/>
            <p:cNvSpPr/>
            <p:nvPr/>
          </p:nvSpPr>
          <p:spPr>
            <a:xfrm>
              <a:off x="3220920" y="56545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20" name="Connecteur droit 110"/>
            <p:cNvSpPr/>
            <p:nvPr/>
          </p:nvSpPr>
          <p:spPr>
            <a:xfrm>
              <a:off x="3427560" y="56545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21" name="Connecteur droit 111"/>
            <p:cNvSpPr/>
            <p:nvPr/>
          </p:nvSpPr>
          <p:spPr>
            <a:xfrm>
              <a:off x="4289400" y="56545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22" name="Connecteur droit 112"/>
            <p:cNvSpPr/>
            <p:nvPr/>
          </p:nvSpPr>
          <p:spPr>
            <a:xfrm>
              <a:off x="4413240" y="590220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23" name="Connecteur droit 113"/>
            <p:cNvSpPr/>
            <p:nvPr/>
          </p:nvSpPr>
          <p:spPr>
            <a:xfrm>
              <a:off x="2009880" y="6008760"/>
              <a:ext cx="0" cy="77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24" name="Connecteur droit 114"/>
            <p:cNvSpPr/>
            <p:nvPr/>
          </p:nvSpPr>
          <p:spPr>
            <a:xfrm>
              <a:off x="2811600" y="5962680"/>
              <a:ext cx="0" cy="123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3640" y="42876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Performance using WPP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6720" y="1052640"/>
            <a:ext cx="399564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JCTVC-H1100 test conditions using HM.6.1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with WPP activated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one WPP substream per LCU row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Negligible impac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0.0%(I), 0.0%(RA), 0.1% (LDB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3997440" y="447840"/>
            <a:ext cx="4895640" cy="5962320"/>
          </a:xfrm>
          <a:prstGeom prst="rect">
            <a:avLst/>
          </a:prstGeom>
          <a:ln w="0">
            <a:noFill/>
          </a:ln>
        </p:spPr>
      </p:pic>
      <p:sp>
        <p:nvSpPr>
          <p:cNvPr id="228" name="Espace réservé du pied de page 3"/>
          <p:cNvSpPr/>
          <p:nvPr/>
        </p:nvSpPr>
        <p:spPr>
          <a:xfrm>
            <a:off x="3059280" y="6524640"/>
            <a:ext cx="29001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9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3640" y="42876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Performance using tiles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28520" y="1052640"/>
            <a:ext cx="38289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JCTVC-H1100 test conditions using HM.6.1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with tiles activated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tiles of size class D (as per JCTVC-F335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Negligible impac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0.0%(I), 0.0%(RA), 0.0% (LDB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3924360" y="447840"/>
            <a:ext cx="4895640" cy="5962320"/>
          </a:xfrm>
          <a:prstGeom prst="rect">
            <a:avLst/>
          </a:prstGeom>
          <a:ln w="0">
            <a:noFill/>
          </a:ln>
        </p:spPr>
      </p:pic>
      <p:sp>
        <p:nvSpPr>
          <p:cNvPr id="232" name="Espace réservé du pied de page 3"/>
          <p:cNvSpPr/>
          <p:nvPr/>
        </p:nvSpPr>
        <p:spPr>
          <a:xfrm>
            <a:off x="3059280" y="6524640"/>
            <a:ext cx="29001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9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0:59:47Z</dcterms:created>
  <dc:creator> </dc:creator>
  <dc:description/>
  <dc:language>en-US</dc:language>
  <cp:lastModifiedBy>JCTVC-G197</cp:lastModifiedBy>
  <cp:lastPrinted>2006-12-08T11:02:13Z</cp:lastPrinted>
  <dcterms:modified xsi:type="dcterms:W3CDTF">2012-04-30T08:44:19Z</dcterms:modified>
  <cp:revision>485</cp:revision>
  <dc:subject/>
  <dc:title>presentation template Or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