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0800" cy="974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Helvetica 65 Medium"/>
              </a:rPr>
              <a:t>Click to move the slide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35 Thi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35 Thi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85CA-7C3C-4006-9F6E-001ACF3830D5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F4D6-618F-47B5-9A9A-4473702747D6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F373-3C46-4EB6-AE9D-DF486A6611C3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7E77-EAB8-4944-BD10-E12D2A79C740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9DFC-20F3-4049-8E83-53CC016A9693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65CC-7886-42CA-B815-690A747128A4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2513-BB61-41CD-B63A-B066973D7DF5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E259-F7F3-4ABB-8867-1091161D396D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2902-38AA-4EEC-90EC-D950518494FA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11240" y="409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4832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100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1112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1124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100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1112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010880" y="412920"/>
            <a:ext cx="7095960" cy="45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4832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011240" y="409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4832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1100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81112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01124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1100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81112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010880" y="412920"/>
            <a:ext cx="7095960" cy="45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4832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87280" indent="-228600">
              <a:spcAft>
                <a:spcPts val="125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3" marL="160668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4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5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6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Helvetica 65 Medium"/>
              </a:rPr>
              <a:t>Click to edit the title text format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" name="Rectangle 758"/>
          <p:cNvSpPr/>
          <p:nvPr/>
        </p:nvSpPr>
        <p:spPr>
          <a:xfrm>
            <a:off x="25560" y="6423120"/>
            <a:ext cx="73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56E1-D5D0-492B-83E5-3DE758F1C858}" type="slidenum">
              <a:rPr b="0" lang="fr-FR" sz="800" spc="-1" strike="noStrike">
                <a:solidFill>
                  <a:srgbClr val="000000"/>
                </a:solidFill>
                <a:latin typeface="Helvetica 55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839760" y="6407280"/>
            <a:ext cx="290052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Helvetica 55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E1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8"/>
          <p:cNvSpPr/>
          <p:nvPr/>
        </p:nvSpPr>
        <p:spPr>
          <a:xfrm>
            <a:off x="8823240" y="2314440"/>
            <a:ext cx="1843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87280" indent="-228600">
              <a:spcAft>
                <a:spcPts val="125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3" marL="160668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4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5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6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Helvetica 65 Medium"/>
              </a:rPr>
              <a:t>Click to edit the title text format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11240" y="2284200"/>
            <a:ext cx="7856640" cy="16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Helvetica 35 Thin"/>
              </a:rPr>
              <a:t>AHG 4: Picture Raster Scan Decoding in the presence of multiple tiles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6600"/>
                </a:solidFill>
                <a:latin typeface="Helvetica 35 Thin"/>
              </a:rPr>
              <a:t>JCTVC-I0158</a:t>
            </a:r>
            <a:endParaRPr b="0" lang="en-US" sz="3600" spc="-1" strike="noStrike">
              <a:solidFill>
                <a:srgbClr val="ff6600"/>
              </a:solidFill>
              <a:latin typeface="Helvetica 65 Medium"/>
            </a:endParaRPr>
          </a:p>
        </p:txBody>
      </p:sp>
      <p:pic>
        <p:nvPicPr>
          <p:cNvPr id="87" name="Picture 6" descr="PP_orange"/>
          <p:cNvPicPr/>
          <p:nvPr/>
        </p:nvPicPr>
        <p:blipFill>
          <a:blip r:embed="rId1"/>
          <a:srcRect l="74671" t="0" r="0" b="0"/>
          <a:stretch/>
        </p:blipFill>
        <p:spPr>
          <a:xfrm>
            <a:off x="8028000" y="5769000"/>
            <a:ext cx="1093680" cy="1082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042920" y="5084280"/>
            <a:ext cx="64008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Helvetica 45 Light"/>
                <a:ea typeface="ＭＳ Ｐゴシック"/>
              </a:rPr>
              <a:t>Gordon Clare, Félix Henry, Stéphane Pateux </a:t>
            </a:r>
            <a:r>
              <a:rPr b="0" lang="fr-FR" sz="1600" spc="-1" strike="noStrike">
                <a:solidFill>
                  <a:srgbClr val="000000"/>
                </a:solidFill>
                <a:latin typeface="Helvetica 45 Light"/>
              </a:rPr>
              <a:t>– ORANGE LAB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Problem statement</a:t>
            </a: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	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163520" y="907920"/>
            <a:ext cx="709776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Multiple tiles introduce delay &amp; buffering when doing single core decoding (problem already identified in JCTVC-H0463 [1]) 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876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Helvetica 45 Light"/>
              </a:rPr>
              <a:t>[1] W. Wan, T. Hellman, “Comments on specifying tile support in HEVC Profiles and Levels”, JCTVC-H0463, San Jose, February 2012.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876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12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12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50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  <p:grpSp>
        <p:nvGrpSpPr>
          <p:cNvPr id="91" name="Groupe 142"/>
          <p:cNvGrpSpPr/>
          <p:nvPr/>
        </p:nvGrpSpPr>
        <p:grpSpPr>
          <a:xfrm>
            <a:off x="1187280" y="1636560"/>
            <a:ext cx="6696360" cy="4529160"/>
            <a:chOff x="1187280" y="1636560"/>
            <a:chExt cx="6696360" cy="4529160"/>
          </a:xfrm>
        </p:grpSpPr>
        <p:sp>
          <p:nvSpPr>
            <p:cNvPr id="92" name="Rectangle 72"/>
            <p:cNvSpPr/>
            <p:nvPr/>
          </p:nvSpPr>
          <p:spPr>
            <a:xfrm>
              <a:off x="3878280" y="1963440"/>
              <a:ext cx="657000" cy="65700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93" name="Rectangle 73"/>
            <p:cNvSpPr/>
            <p:nvPr/>
          </p:nvSpPr>
          <p:spPr>
            <a:xfrm>
              <a:off x="3878280" y="2620800"/>
              <a:ext cx="657000" cy="65700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94" name="Rectangle 74"/>
            <p:cNvSpPr/>
            <p:nvPr/>
          </p:nvSpPr>
          <p:spPr>
            <a:xfrm>
              <a:off x="3878280" y="3278160"/>
              <a:ext cx="657000" cy="65556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95" name="Rectangle 75"/>
            <p:cNvSpPr/>
            <p:nvPr/>
          </p:nvSpPr>
          <p:spPr>
            <a:xfrm>
              <a:off x="4535640" y="1963440"/>
              <a:ext cx="657000" cy="65700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96" name="Rectangle 76"/>
            <p:cNvSpPr/>
            <p:nvPr/>
          </p:nvSpPr>
          <p:spPr>
            <a:xfrm>
              <a:off x="4535640" y="2620800"/>
              <a:ext cx="657000" cy="65700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97" name="Rectangle 77"/>
            <p:cNvSpPr/>
            <p:nvPr/>
          </p:nvSpPr>
          <p:spPr>
            <a:xfrm>
              <a:off x="4535640" y="3278160"/>
              <a:ext cx="657000" cy="65556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98" name="Rectangle 78"/>
            <p:cNvSpPr/>
            <p:nvPr/>
          </p:nvSpPr>
          <p:spPr>
            <a:xfrm>
              <a:off x="3878280" y="3933720"/>
              <a:ext cx="657000" cy="65700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99" name="Rectangle 79"/>
            <p:cNvSpPr/>
            <p:nvPr/>
          </p:nvSpPr>
          <p:spPr>
            <a:xfrm>
              <a:off x="4535640" y="3933720"/>
              <a:ext cx="657000" cy="65700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00" name="Rectangle 80"/>
            <p:cNvSpPr/>
            <p:nvPr/>
          </p:nvSpPr>
          <p:spPr>
            <a:xfrm>
              <a:off x="3878280" y="4591080"/>
              <a:ext cx="657000" cy="65556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01" name="Rectangle 81"/>
            <p:cNvSpPr/>
            <p:nvPr/>
          </p:nvSpPr>
          <p:spPr>
            <a:xfrm>
              <a:off x="3878280" y="5246640"/>
              <a:ext cx="657000" cy="65700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02" name="Rectangle 82"/>
            <p:cNvSpPr/>
            <p:nvPr/>
          </p:nvSpPr>
          <p:spPr>
            <a:xfrm>
              <a:off x="4535640" y="4591080"/>
              <a:ext cx="657000" cy="65556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03" name="Rectangle 83"/>
            <p:cNvSpPr/>
            <p:nvPr/>
          </p:nvSpPr>
          <p:spPr>
            <a:xfrm>
              <a:off x="4535640" y="5246640"/>
              <a:ext cx="657000" cy="65700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04" name="Rectangle 84"/>
            <p:cNvSpPr/>
            <p:nvPr/>
          </p:nvSpPr>
          <p:spPr>
            <a:xfrm>
              <a:off x="1252080" y="1963440"/>
              <a:ext cx="657000" cy="65700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05" name="Rectangle 85"/>
            <p:cNvSpPr/>
            <p:nvPr/>
          </p:nvSpPr>
          <p:spPr>
            <a:xfrm>
              <a:off x="1252080" y="2620800"/>
              <a:ext cx="657000" cy="65700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06" name="Rectangle 86"/>
            <p:cNvSpPr/>
            <p:nvPr/>
          </p:nvSpPr>
          <p:spPr>
            <a:xfrm>
              <a:off x="1909440" y="1963440"/>
              <a:ext cx="655560" cy="65700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07" name="Rectangle 87"/>
            <p:cNvSpPr/>
            <p:nvPr/>
          </p:nvSpPr>
          <p:spPr>
            <a:xfrm>
              <a:off x="1909440" y="2620800"/>
              <a:ext cx="655560" cy="65700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08" name="Rectangle 88"/>
            <p:cNvSpPr/>
            <p:nvPr/>
          </p:nvSpPr>
          <p:spPr>
            <a:xfrm>
              <a:off x="2565360" y="1963440"/>
              <a:ext cx="657000" cy="65700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09" name="Rectangle 89"/>
            <p:cNvSpPr/>
            <p:nvPr/>
          </p:nvSpPr>
          <p:spPr>
            <a:xfrm>
              <a:off x="3222360" y="1963440"/>
              <a:ext cx="655560" cy="65700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10" name="Rectangle 90"/>
            <p:cNvSpPr/>
            <p:nvPr/>
          </p:nvSpPr>
          <p:spPr>
            <a:xfrm>
              <a:off x="3222360" y="2620800"/>
              <a:ext cx="655560" cy="65700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11" name="Rectangle 91"/>
            <p:cNvSpPr/>
            <p:nvPr/>
          </p:nvSpPr>
          <p:spPr>
            <a:xfrm>
              <a:off x="1252080" y="3278160"/>
              <a:ext cx="657000" cy="65556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12" name="Rectangle 92"/>
            <p:cNvSpPr/>
            <p:nvPr/>
          </p:nvSpPr>
          <p:spPr>
            <a:xfrm>
              <a:off x="1252080" y="3933720"/>
              <a:ext cx="657000" cy="65700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13" name="Rectangle 93"/>
            <p:cNvSpPr/>
            <p:nvPr/>
          </p:nvSpPr>
          <p:spPr>
            <a:xfrm>
              <a:off x="1909440" y="3278160"/>
              <a:ext cx="655560" cy="65556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14" name="Rectangle 94"/>
            <p:cNvSpPr/>
            <p:nvPr/>
          </p:nvSpPr>
          <p:spPr>
            <a:xfrm>
              <a:off x="1909440" y="3933720"/>
              <a:ext cx="655560" cy="65700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15" name="Rectangle 95"/>
            <p:cNvSpPr/>
            <p:nvPr/>
          </p:nvSpPr>
          <p:spPr>
            <a:xfrm>
              <a:off x="2565360" y="3278160"/>
              <a:ext cx="657000" cy="65556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16" name="Rectangle 96"/>
            <p:cNvSpPr/>
            <p:nvPr/>
          </p:nvSpPr>
          <p:spPr>
            <a:xfrm>
              <a:off x="2565360" y="3933720"/>
              <a:ext cx="657000" cy="65700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17" name="Rectangle 97"/>
            <p:cNvSpPr/>
            <p:nvPr/>
          </p:nvSpPr>
          <p:spPr>
            <a:xfrm>
              <a:off x="3222360" y="3278160"/>
              <a:ext cx="655560" cy="65556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18" name="Rectangle 98"/>
            <p:cNvSpPr/>
            <p:nvPr/>
          </p:nvSpPr>
          <p:spPr>
            <a:xfrm>
              <a:off x="3222360" y="3933720"/>
              <a:ext cx="655560" cy="65700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19" name="Rectangle 99"/>
            <p:cNvSpPr/>
            <p:nvPr/>
          </p:nvSpPr>
          <p:spPr>
            <a:xfrm>
              <a:off x="5192640" y="1963440"/>
              <a:ext cx="655560" cy="65700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20" name="Rectangle 100"/>
            <p:cNvSpPr/>
            <p:nvPr/>
          </p:nvSpPr>
          <p:spPr>
            <a:xfrm>
              <a:off x="5192640" y="2620800"/>
              <a:ext cx="655560" cy="65700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21" name="Rectangle 101"/>
            <p:cNvSpPr/>
            <p:nvPr/>
          </p:nvSpPr>
          <p:spPr>
            <a:xfrm>
              <a:off x="5848560" y="1963440"/>
              <a:ext cx="657000" cy="65700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22" name="Rectangle 102"/>
            <p:cNvSpPr/>
            <p:nvPr/>
          </p:nvSpPr>
          <p:spPr>
            <a:xfrm>
              <a:off x="5848560" y="2620800"/>
              <a:ext cx="657000" cy="65700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23" name="Rectangle 103"/>
            <p:cNvSpPr/>
            <p:nvPr/>
          </p:nvSpPr>
          <p:spPr>
            <a:xfrm>
              <a:off x="6505560" y="1963440"/>
              <a:ext cx="655560" cy="65700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24" name="Rectangle 104"/>
            <p:cNvSpPr/>
            <p:nvPr/>
          </p:nvSpPr>
          <p:spPr>
            <a:xfrm>
              <a:off x="6505560" y="2620800"/>
              <a:ext cx="655560" cy="65700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25" name="Rectangle 105"/>
            <p:cNvSpPr/>
            <p:nvPr/>
          </p:nvSpPr>
          <p:spPr>
            <a:xfrm>
              <a:off x="7161480" y="1963440"/>
              <a:ext cx="657000" cy="65700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26" name="Rectangle 106"/>
            <p:cNvSpPr/>
            <p:nvPr/>
          </p:nvSpPr>
          <p:spPr>
            <a:xfrm>
              <a:off x="7161480" y="2620800"/>
              <a:ext cx="657000" cy="65700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27" name="Rectangle 107"/>
            <p:cNvSpPr/>
            <p:nvPr/>
          </p:nvSpPr>
          <p:spPr>
            <a:xfrm>
              <a:off x="5192640" y="3278160"/>
              <a:ext cx="655560" cy="65556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28" name="Rectangle 108"/>
            <p:cNvSpPr/>
            <p:nvPr/>
          </p:nvSpPr>
          <p:spPr>
            <a:xfrm>
              <a:off x="5192640" y="3933720"/>
              <a:ext cx="655560" cy="65700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29" name="Rectangle 109"/>
            <p:cNvSpPr/>
            <p:nvPr/>
          </p:nvSpPr>
          <p:spPr>
            <a:xfrm>
              <a:off x="5848560" y="3278160"/>
              <a:ext cx="657000" cy="65556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30" name="Rectangle 110"/>
            <p:cNvSpPr/>
            <p:nvPr/>
          </p:nvSpPr>
          <p:spPr>
            <a:xfrm>
              <a:off x="5848560" y="3933720"/>
              <a:ext cx="657000" cy="65700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31" name="Rectangle 111"/>
            <p:cNvSpPr/>
            <p:nvPr/>
          </p:nvSpPr>
          <p:spPr>
            <a:xfrm>
              <a:off x="6505560" y="3278160"/>
              <a:ext cx="655560" cy="65556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32" name="Rectangle 112"/>
            <p:cNvSpPr/>
            <p:nvPr/>
          </p:nvSpPr>
          <p:spPr>
            <a:xfrm>
              <a:off x="6505560" y="3933720"/>
              <a:ext cx="655560" cy="65700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33" name="Rectangle 113"/>
            <p:cNvSpPr/>
            <p:nvPr/>
          </p:nvSpPr>
          <p:spPr>
            <a:xfrm>
              <a:off x="7161480" y="3278160"/>
              <a:ext cx="657000" cy="65556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34" name="Rectangle 114"/>
            <p:cNvSpPr/>
            <p:nvPr/>
          </p:nvSpPr>
          <p:spPr>
            <a:xfrm>
              <a:off x="7161480" y="3933720"/>
              <a:ext cx="657000" cy="65700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35" name="Rectangle 115"/>
            <p:cNvSpPr/>
            <p:nvPr/>
          </p:nvSpPr>
          <p:spPr>
            <a:xfrm>
              <a:off x="1252080" y="4591080"/>
              <a:ext cx="657000" cy="65556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36" name="Rectangle 116"/>
            <p:cNvSpPr/>
            <p:nvPr/>
          </p:nvSpPr>
          <p:spPr>
            <a:xfrm>
              <a:off x="1252080" y="5246640"/>
              <a:ext cx="657000" cy="65700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37" name="Rectangle 117"/>
            <p:cNvSpPr/>
            <p:nvPr/>
          </p:nvSpPr>
          <p:spPr>
            <a:xfrm>
              <a:off x="1909440" y="4591080"/>
              <a:ext cx="655560" cy="65556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38" name="Rectangle 118"/>
            <p:cNvSpPr/>
            <p:nvPr/>
          </p:nvSpPr>
          <p:spPr>
            <a:xfrm>
              <a:off x="1909440" y="5246640"/>
              <a:ext cx="655560" cy="65700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39" name="Rectangle 119"/>
            <p:cNvSpPr/>
            <p:nvPr/>
          </p:nvSpPr>
          <p:spPr>
            <a:xfrm>
              <a:off x="2565360" y="4591080"/>
              <a:ext cx="657000" cy="65556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40" name="Rectangle 120"/>
            <p:cNvSpPr/>
            <p:nvPr/>
          </p:nvSpPr>
          <p:spPr>
            <a:xfrm>
              <a:off x="2565360" y="5246640"/>
              <a:ext cx="657000" cy="65700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41" name="Rectangle 121"/>
            <p:cNvSpPr/>
            <p:nvPr/>
          </p:nvSpPr>
          <p:spPr>
            <a:xfrm>
              <a:off x="3222360" y="4591080"/>
              <a:ext cx="655560" cy="65556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42" name="Rectangle 122"/>
            <p:cNvSpPr/>
            <p:nvPr/>
          </p:nvSpPr>
          <p:spPr>
            <a:xfrm>
              <a:off x="3222360" y="5246640"/>
              <a:ext cx="655560" cy="65700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43" name="Rectangle 123"/>
            <p:cNvSpPr/>
            <p:nvPr/>
          </p:nvSpPr>
          <p:spPr>
            <a:xfrm>
              <a:off x="5192640" y="4591080"/>
              <a:ext cx="655560" cy="65556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44" name="Rectangle 124"/>
            <p:cNvSpPr/>
            <p:nvPr/>
          </p:nvSpPr>
          <p:spPr>
            <a:xfrm>
              <a:off x="5192640" y="5246640"/>
              <a:ext cx="655560" cy="65700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45" name="Rectangle 125"/>
            <p:cNvSpPr/>
            <p:nvPr/>
          </p:nvSpPr>
          <p:spPr>
            <a:xfrm>
              <a:off x="5848560" y="4591080"/>
              <a:ext cx="657000" cy="65556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46" name="Rectangle 126"/>
            <p:cNvSpPr/>
            <p:nvPr/>
          </p:nvSpPr>
          <p:spPr>
            <a:xfrm>
              <a:off x="5848560" y="5246640"/>
              <a:ext cx="657000" cy="65700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47" name="Rectangle 127"/>
            <p:cNvSpPr/>
            <p:nvPr/>
          </p:nvSpPr>
          <p:spPr>
            <a:xfrm>
              <a:off x="6505560" y="4591080"/>
              <a:ext cx="655560" cy="65556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48" name="Rectangle 128"/>
            <p:cNvSpPr/>
            <p:nvPr/>
          </p:nvSpPr>
          <p:spPr>
            <a:xfrm>
              <a:off x="6505560" y="5246640"/>
              <a:ext cx="655560" cy="65700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49" name="Rectangle 129"/>
            <p:cNvSpPr/>
            <p:nvPr/>
          </p:nvSpPr>
          <p:spPr>
            <a:xfrm>
              <a:off x="7161480" y="4591080"/>
              <a:ext cx="657000" cy="65556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50" name="Rectangle 130"/>
            <p:cNvSpPr/>
            <p:nvPr/>
          </p:nvSpPr>
          <p:spPr>
            <a:xfrm>
              <a:off x="7161480" y="5246640"/>
              <a:ext cx="657000" cy="65700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51" name="Connecteur droit 133"/>
            <p:cNvSpPr/>
            <p:nvPr/>
          </p:nvSpPr>
          <p:spPr>
            <a:xfrm>
              <a:off x="4535640" y="1636560"/>
              <a:ext cx="0" cy="452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52" name="Connecteur droit 134"/>
            <p:cNvSpPr/>
            <p:nvPr/>
          </p:nvSpPr>
          <p:spPr>
            <a:xfrm>
              <a:off x="7161480" y="1636560"/>
              <a:ext cx="0" cy="452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53" name="Rectangle 135"/>
            <p:cNvSpPr/>
            <p:nvPr/>
          </p:nvSpPr>
          <p:spPr>
            <a:xfrm>
              <a:off x="2565360" y="2620800"/>
              <a:ext cx="657000" cy="65700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54" name="ZoneTexte 120"/>
            <p:cNvSpPr/>
            <p:nvPr/>
          </p:nvSpPr>
          <p:spPr>
            <a:xfrm>
              <a:off x="1866240" y="3736800"/>
              <a:ext cx="75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Helvetica 45 Light"/>
                </a:rPr>
                <a:t>tile 1</a:t>
              </a: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55" name="ZoneTexte 121"/>
            <p:cNvSpPr/>
            <p:nvPr/>
          </p:nvSpPr>
          <p:spPr>
            <a:xfrm>
              <a:off x="3507840" y="3736800"/>
              <a:ext cx="75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Helvetica 45 Light"/>
                </a:rPr>
                <a:t>tile 2</a:t>
              </a: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56" name="ZoneTexte 122"/>
            <p:cNvSpPr/>
            <p:nvPr/>
          </p:nvSpPr>
          <p:spPr>
            <a:xfrm>
              <a:off x="5543280" y="3736800"/>
              <a:ext cx="75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Helvetica 45 Light"/>
                </a:rPr>
                <a:t>tile 3</a:t>
              </a: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57" name="ZoneTexte 123"/>
            <p:cNvSpPr/>
            <p:nvPr/>
          </p:nvSpPr>
          <p:spPr>
            <a:xfrm>
              <a:off x="7119000" y="3736800"/>
              <a:ext cx="75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Helvetica 45 Light"/>
                </a:rPr>
                <a:t>tile 4</a:t>
              </a: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58" name="Rectangle 140"/>
            <p:cNvSpPr/>
            <p:nvPr/>
          </p:nvSpPr>
          <p:spPr>
            <a:xfrm>
              <a:off x="1187280" y="1898280"/>
              <a:ext cx="6696360" cy="787320"/>
            </a:xfrm>
            <a:prstGeom prst="rect">
              <a:avLst/>
            </a:prstGeom>
            <a:noFill/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59" name="Connecteur droit 132"/>
            <p:cNvSpPr/>
            <p:nvPr/>
          </p:nvSpPr>
          <p:spPr>
            <a:xfrm>
              <a:off x="3222360" y="1636560"/>
              <a:ext cx="0" cy="452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</p:grpSp>
      <p:sp>
        <p:nvSpPr>
          <p:cNvPr id="160" name="Espace réservé du pied de page 3"/>
          <p:cNvSpPr/>
          <p:nvPr/>
        </p:nvSpPr>
        <p:spPr>
          <a:xfrm>
            <a:off x="3059280" y="6607080"/>
            <a:ext cx="29001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I0158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Existing approach to handle delay and buffering issues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1163520" y="1314360"/>
            <a:ext cx="709776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3680" indent="-193680">
              <a:spcAft>
                <a:spcPts val="150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Helvetica 45 Light"/>
              </a:rPr>
              <a:t>In order to reduce delay and buffering, the decoder needs to decode LCUs in picture raster scan order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50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749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45 Light"/>
            </a:endParaRPr>
          </a:p>
        </p:txBody>
      </p:sp>
      <p:grpSp>
        <p:nvGrpSpPr>
          <p:cNvPr id="163" name="Groupe 240"/>
          <p:cNvGrpSpPr/>
          <p:nvPr/>
        </p:nvGrpSpPr>
        <p:grpSpPr>
          <a:xfrm>
            <a:off x="1476000" y="2049480"/>
            <a:ext cx="6946920" cy="4604040"/>
            <a:chOff x="1476000" y="2049480"/>
            <a:chExt cx="6946920" cy="4604040"/>
          </a:xfrm>
        </p:grpSpPr>
        <p:sp>
          <p:nvSpPr>
            <p:cNvPr id="164" name="Rectangle 121"/>
            <p:cNvSpPr/>
            <p:nvPr/>
          </p:nvSpPr>
          <p:spPr>
            <a:xfrm>
              <a:off x="2879640" y="3122640"/>
              <a:ext cx="541080" cy="53964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65" name="Rectangle 122"/>
            <p:cNvSpPr/>
            <p:nvPr/>
          </p:nvSpPr>
          <p:spPr>
            <a:xfrm>
              <a:off x="3960720" y="2581200"/>
              <a:ext cx="539640" cy="541080"/>
            </a:xfrm>
            <a:prstGeom prst="rect">
              <a:avLst/>
            </a:prstGeom>
            <a:solidFill>
              <a:srgbClr val="ffe0cc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66" name="Rectangle 123"/>
            <p:cNvSpPr/>
            <p:nvPr/>
          </p:nvSpPr>
          <p:spPr>
            <a:xfrm>
              <a:off x="3960720" y="3122640"/>
              <a:ext cx="539640" cy="539640"/>
            </a:xfrm>
            <a:prstGeom prst="rect">
              <a:avLst/>
            </a:prstGeom>
            <a:solidFill>
              <a:srgbClr val="ffe0cc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67" name="Rectangle 124"/>
            <p:cNvSpPr/>
            <p:nvPr/>
          </p:nvSpPr>
          <p:spPr>
            <a:xfrm>
              <a:off x="3960720" y="3662280"/>
              <a:ext cx="539640" cy="539640"/>
            </a:xfrm>
            <a:prstGeom prst="rect">
              <a:avLst/>
            </a:prstGeom>
            <a:solidFill>
              <a:srgbClr val="ffe0cc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68" name="Rectangle 125"/>
            <p:cNvSpPr/>
            <p:nvPr/>
          </p:nvSpPr>
          <p:spPr>
            <a:xfrm>
              <a:off x="4500720" y="2581200"/>
              <a:ext cx="541080" cy="54108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69" name="Rectangle 126"/>
            <p:cNvSpPr/>
            <p:nvPr/>
          </p:nvSpPr>
          <p:spPr>
            <a:xfrm>
              <a:off x="4500720" y="3122640"/>
              <a:ext cx="541080" cy="53964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70" name="Rectangle 127"/>
            <p:cNvSpPr/>
            <p:nvPr/>
          </p:nvSpPr>
          <p:spPr>
            <a:xfrm>
              <a:off x="4500720" y="3662280"/>
              <a:ext cx="541080" cy="53964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71" name="Rectangle 128"/>
            <p:cNvSpPr/>
            <p:nvPr/>
          </p:nvSpPr>
          <p:spPr>
            <a:xfrm>
              <a:off x="3960720" y="4202280"/>
              <a:ext cx="539640" cy="53964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72" name="Rectangle 129"/>
            <p:cNvSpPr/>
            <p:nvPr/>
          </p:nvSpPr>
          <p:spPr>
            <a:xfrm>
              <a:off x="4500720" y="4202280"/>
              <a:ext cx="541080" cy="539640"/>
            </a:xfrm>
            <a:prstGeom prst="rect">
              <a:avLst/>
            </a:prstGeom>
            <a:solidFill>
              <a:srgbClr val="7030a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73" name="Rectangle 130"/>
            <p:cNvSpPr/>
            <p:nvPr/>
          </p:nvSpPr>
          <p:spPr>
            <a:xfrm>
              <a:off x="3960720" y="4741920"/>
              <a:ext cx="539640" cy="53964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74" name="Rectangle 132"/>
            <p:cNvSpPr/>
            <p:nvPr/>
          </p:nvSpPr>
          <p:spPr>
            <a:xfrm>
              <a:off x="3960720" y="5281560"/>
              <a:ext cx="539640" cy="54108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75" name="Rectangle 133"/>
            <p:cNvSpPr/>
            <p:nvPr/>
          </p:nvSpPr>
          <p:spPr>
            <a:xfrm>
              <a:off x="4500720" y="4741920"/>
              <a:ext cx="541080" cy="539640"/>
            </a:xfrm>
            <a:prstGeom prst="rect">
              <a:avLst/>
            </a:prstGeom>
            <a:solidFill>
              <a:srgbClr val="7030a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76" name="Rectangle 134"/>
            <p:cNvSpPr/>
            <p:nvPr/>
          </p:nvSpPr>
          <p:spPr>
            <a:xfrm>
              <a:off x="4500720" y="5281560"/>
              <a:ext cx="541080" cy="541080"/>
            </a:xfrm>
            <a:prstGeom prst="rect">
              <a:avLst/>
            </a:prstGeom>
            <a:solidFill>
              <a:srgbClr val="7030a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77" name="Rectangle 135"/>
            <p:cNvSpPr/>
            <p:nvPr/>
          </p:nvSpPr>
          <p:spPr>
            <a:xfrm>
              <a:off x="1800000" y="2581200"/>
              <a:ext cx="541080" cy="54108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78" name="Rectangle 136"/>
            <p:cNvSpPr/>
            <p:nvPr/>
          </p:nvSpPr>
          <p:spPr>
            <a:xfrm>
              <a:off x="1800000" y="3122640"/>
              <a:ext cx="541080" cy="53964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79" name="Rectangle 137"/>
            <p:cNvSpPr/>
            <p:nvPr/>
          </p:nvSpPr>
          <p:spPr>
            <a:xfrm>
              <a:off x="2341440" y="2581200"/>
              <a:ext cx="537840" cy="54108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80" name="Rectangle 138"/>
            <p:cNvSpPr/>
            <p:nvPr/>
          </p:nvSpPr>
          <p:spPr>
            <a:xfrm>
              <a:off x="2341440" y="3122640"/>
              <a:ext cx="537840" cy="53964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81" name="Rectangle 139"/>
            <p:cNvSpPr/>
            <p:nvPr/>
          </p:nvSpPr>
          <p:spPr>
            <a:xfrm>
              <a:off x="2879640" y="2581200"/>
              <a:ext cx="541080" cy="54108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82" name="Rectangle 140"/>
            <p:cNvSpPr/>
            <p:nvPr/>
          </p:nvSpPr>
          <p:spPr>
            <a:xfrm>
              <a:off x="3421080" y="2581200"/>
              <a:ext cx="539640" cy="541080"/>
            </a:xfrm>
            <a:prstGeom prst="rect">
              <a:avLst/>
            </a:prstGeom>
            <a:solidFill>
              <a:srgbClr val="ffe0cc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83" name="Rectangle 141"/>
            <p:cNvSpPr/>
            <p:nvPr/>
          </p:nvSpPr>
          <p:spPr>
            <a:xfrm>
              <a:off x="3421080" y="3122640"/>
              <a:ext cx="539640" cy="539640"/>
            </a:xfrm>
            <a:prstGeom prst="rect">
              <a:avLst/>
            </a:prstGeom>
            <a:solidFill>
              <a:srgbClr val="ffe0cc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84" name="Rectangle 142"/>
            <p:cNvSpPr/>
            <p:nvPr/>
          </p:nvSpPr>
          <p:spPr>
            <a:xfrm>
              <a:off x="1800000" y="3662280"/>
              <a:ext cx="541080" cy="53964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85" name="Rectangle 143"/>
            <p:cNvSpPr/>
            <p:nvPr/>
          </p:nvSpPr>
          <p:spPr>
            <a:xfrm>
              <a:off x="1800000" y="4202280"/>
              <a:ext cx="541080" cy="53964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86" name="Rectangle 144"/>
            <p:cNvSpPr/>
            <p:nvPr/>
          </p:nvSpPr>
          <p:spPr>
            <a:xfrm>
              <a:off x="2341440" y="3662280"/>
              <a:ext cx="537840" cy="53964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87" name="Rectangle 145"/>
            <p:cNvSpPr/>
            <p:nvPr/>
          </p:nvSpPr>
          <p:spPr>
            <a:xfrm>
              <a:off x="2341440" y="4202280"/>
              <a:ext cx="537840" cy="53964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88" name="Rectangle 146"/>
            <p:cNvSpPr/>
            <p:nvPr/>
          </p:nvSpPr>
          <p:spPr>
            <a:xfrm>
              <a:off x="2879640" y="3662280"/>
              <a:ext cx="541080" cy="53964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89" name="Rectangle 147"/>
            <p:cNvSpPr/>
            <p:nvPr/>
          </p:nvSpPr>
          <p:spPr>
            <a:xfrm>
              <a:off x="2879640" y="4202280"/>
              <a:ext cx="541080" cy="53964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90" name="Rectangle 148"/>
            <p:cNvSpPr/>
            <p:nvPr/>
          </p:nvSpPr>
          <p:spPr>
            <a:xfrm>
              <a:off x="3421080" y="3662280"/>
              <a:ext cx="539640" cy="539640"/>
            </a:xfrm>
            <a:prstGeom prst="rect">
              <a:avLst/>
            </a:prstGeom>
            <a:solidFill>
              <a:srgbClr val="ffe0cc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91" name="Rectangle 149"/>
            <p:cNvSpPr/>
            <p:nvPr/>
          </p:nvSpPr>
          <p:spPr>
            <a:xfrm>
              <a:off x="3421080" y="4202280"/>
              <a:ext cx="539640" cy="53964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92" name="Rectangle 150"/>
            <p:cNvSpPr/>
            <p:nvPr/>
          </p:nvSpPr>
          <p:spPr>
            <a:xfrm>
              <a:off x="5041800" y="2581200"/>
              <a:ext cx="537840" cy="54108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93" name="Rectangle 151"/>
            <p:cNvSpPr/>
            <p:nvPr/>
          </p:nvSpPr>
          <p:spPr>
            <a:xfrm>
              <a:off x="5041800" y="3122640"/>
              <a:ext cx="537840" cy="53964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94" name="Rectangle 152"/>
            <p:cNvSpPr/>
            <p:nvPr/>
          </p:nvSpPr>
          <p:spPr>
            <a:xfrm>
              <a:off x="5580000" y="2581200"/>
              <a:ext cx="541080" cy="54108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95" name="Rectangle 153"/>
            <p:cNvSpPr/>
            <p:nvPr/>
          </p:nvSpPr>
          <p:spPr>
            <a:xfrm>
              <a:off x="5580000" y="3122640"/>
              <a:ext cx="541080" cy="53964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96" name="Rectangle 154"/>
            <p:cNvSpPr/>
            <p:nvPr/>
          </p:nvSpPr>
          <p:spPr>
            <a:xfrm>
              <a:off x="6121440" y="2581200"/>
              <a:ext cx="539640" cy="5410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97" name="Rectangle 155"/>
            <p:cNvSpPr/>
            <p:nvPr/>
          </p:nvSpPr>
          <p:spPr>
            <a:xfrm>
              <a:off x="6121440" y="3122640"/>
              <a:ext cx="539640" cy="53964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98" name="Rectangle 156"/>
            <p:cNvSpPr/>
            <p:nvPr/>
          </p:nvSpPr>
          <p:spPr>
            <a:xfrm>
              <a:off x="6661440" y="2581200"/>
              <a:ext cx="539640" cy="5410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199" name="Rectangle 157"/>
            <p:cNvSpPr/>
            <p:nvPr/>
          </p:nvSpPr>
          <p:spPr>
            <a:xfrm>
              <a:off x="6661440" y="3122640"/>
              <a:ext cx="539640" cy="53964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00" name="Rectangle 158"/>
            <p:cNvSpPr/>
            <p:nvPr/>
          </p:nvSpPr>
          <p:spPr>
            <a:xfrm>
              <a:off x="5041800" y="3662280"/>
              <a:ext cx="537840" cy="53964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01" name="Rectangle 159"/>
            <p:cNvSpPr/>
            <p:nvPr/>
          </p:nvSpPr>
          <p:spPr>
            <a:xfrm>
              <a:off x="5041800" y="4202280"/>
              <a:ext cx="537840" cy="539640"/>
            </a:xfrm>
            <a:prstGeom prst="rect">
              <a:avLst/>
            </a:prstGeom>
            <a:solidFill>
              <a:srgbClr val="7030a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02" name="Rectangle 160"/>
            <p:cNvSpPr/>
            <p:nvPr/>
          </p:nvSpPr>
          <p:spPr>
            <a:xfrm>
              <a:off x="5580000" y="3662280"/>
              <a:ext cx="541080" cy="53964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03" name="Rectangle 161"/>
            <p:cNvSpPr/>
            <p:nvPr/>
          </p:nvSpPr>
          <p:spPr>
            <a:xfrm>
              <a:off x="5580000" y="4202280"/>
              <a:ext cx="541080" cy="539640"/>
            </a:xfrm>
            <a:prstGeom prst="rect">
              <a:avLst/>
            </a:prstGeom>
            <a:solidFill>
              <a:srgbClr val="7030a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04" name="Rectangle 162"/>
            <p:cNvSpPr/>
            <p:nvPr/>
          </p:nvSpPr>
          <p:spPr>
            <a:xfrm>
              <a:off x="6121440" y="3662280"/>
              <a:ext cx="539640" cy="53964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05" name="Rectangle 163"/>
            <p:cNvSpPr/>
            <p:nvPr/>
          </p:nvSpPr>
          <p:spPr>
            <a:xfrm>
              <a:off x="6121440" y="4202280"/>
              <a:ext cx="539640" cy="539640"/>
            </a:xfrm>
            <a:prstGeom prst="rect">
              <a:avLst/>
            </a:prstGeom>
            <a:solidFill>
              <a:srgbClr val="698ea8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06" name="Rectangle 164"/>
            <p:cNvSpPr/>
            <p:nvPr/>
          </p:nvSpPr>
          <p:spPr>
            <a:xfrm>
              <a:off x="6661440" y="3662280"/>
              <a:ext cx="539640" cy="53964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07" name="Rectangle 165"/>
            <p:cNvSpPr/>
            <p:nvPr/>
          </p:nvSpPr>
          <p:spPr>
            <a:xfrm>
              <a:off x="6661440" y="4202280"/>
              <a:ext cx="539640" cy="539640"/>
            </a:xfrm>
            <a:prstGeom prst="rect">
              <a:avLst/>
            </a:prstGeom>
            <a:solidFill>
              <a:srgbClr val="698ea8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08" name="Rectangle 166"/>
            <p:cNvSpPr/>
            <p:nvPr/>
          </p:nvSpPr>
          <p:spPr>
            <a:xfrm>
              <a:off x="1800000" y="4741920"/>
              <a:ext cx="541080" cy="53964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09" name="Rectangle 167"/>
            <p:cNvSpPr/>
            <p:nvPr/>
          </p:nvSpPr>
          <p:spPr>
            <a:xfrm>
              <a:off x="1800000" y="5281560"/>
              <a:ext cx="541080" cy="54108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10" name="Rectangle 168"/>
            <p:cNvSpPr/>
            <p:nvPr/>
          </p:nvSpPr>
          <p:spPr>
            <a:xfrm>
              <a:off x="2341440" y="4741920"/>
              <a:ext cx="537840" cy="53964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11" name="Rectangle 169"/>
            <p:cNvSpPr/>
            <p:nvPr/>
          </p:nvSpPr>
          <p:spPr>
            <a:xfrm>
              <a:off x="2341440" y="5281560"/>
              <a:ext cx="537840" cy="54108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12" name="Rectangle 170"/>
            <p:cNvSpPr/>
            <p:nvPr/>
          </p:nvSpPr>
          <p:spPr>
            <a:xfrm>
              <a:off x="2879640" y="4741920"/>
              <a:ext cx="541080" cy="53964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13" name="Rectangle 171"/>
            <p:cNvSpPr/>
            <p:nvPr/>
          </p:nvSpPr>
          <p:spPr>
            <a:xfrm>
              <a:off x="2879640" y="5281560"/>
              <a:ext cx="541080" cy="54108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14" name="Rectangle 172"/>
            <p:cNvSpPr/>
            <p:nvPr/>
          </p:nvSpPr>
          <p:spPr>
            <a:xfrm>
              <a:off x="3421080" y="4741920"/>
              <a:ext cx="539640" cy="53964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15" name="Rectangle 173"/>
            <p:cNvSpPr/>
            <p:nvPr/>
          </p:nvSpPr>
          <p:spPr>
            <a:xfrm>
              <a:off x="3421080" y="5281560"/>
              <a:ext cx="539640" cy="54108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16" name="Rectangle 174"/>
            <p:cNvSpPr/>
            <p:nvPr/>
          </p:nvSpPr>
          <p:spPr>
            <a:xfrm>
              <a:off x="5041800" y="4741920"/>
              <a:ext cx="537840" cy="539640"/>
            </a:xfrm>
            <a:prstGeom prst="rect">
              <a:avLst/>
            </a:prstGeom>
            <a:solidFill>
              <a:srgbClr val="7030a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17" name="Rectangle 175"/>
            <p:cNvSpPr/>
            <p:nvPr/>
          </p:nvSpPr>
          <p:spPr>
            <a:xfrm>
              <a:off x="5041800" y="5281560"/>
              <a:ext cx="537840" cy="541080"/>
            </a:xfrm>
            <a:prstGeom prst="rect">
              <a:avLst/>
            </a:prstGeom>
            <a:solidFill>
              <a:srgbClr val="7030a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18" name="Rectangle 176"/>
            <p:cNvSpPr/>
            <p:nvPr/>
          </p:nvSpPr>
          <p:spPr>
            <a:xfrm>
              <a:off x="5580000" y="4741920"/>
              <a:ext cx="541080" cy="539640"/>
            </a:xfrm>
            <a:prstGeom prst="rect">
              <a:avLst/>
            </a:prstGeom>
            <a:solidFill>
              <a:srgbClr val="7030a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19" name="Rectangle 177"/>
            <p:cNvSpPr/>
            <p:nvPr/>
          </p:nvSpPr>
          <p:spPr>
            <a:xfrm>
              <a:off x="5580000" y="5281560"/>
              <a:ext cx="541080" cy="541080"/>
            </a:xfrm>
            <a:prstGeom prst="rect">
              <a:avLst/>
            </a:prstGeom>
            <a:solidFill>
              <a:srgbClr val="7030a0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20" name="Rectangle 178"/>
            <p:cNvSpPr/>
            <p:nvPr/>
          </p:nvSpPr>
          <p:spPr>
            <a:xfrm>
              <a:off x="6121440" y="4741920"/>
              <a:ext cx="539640" cy="539640"/>
            </a:xfrm>
            <a:prstGeom prst="rect">
              <a:avLst/>
            </a:prstGeom>
            <a:solidFill>
              <a:srgbClr val="698ea8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21" name="Rectangle 179"/>
            <p:cNvSpPr/>
            <p:nvPr/>
          </p:nvSpPr>
          <p:spPr>
            <a:xfrm>
              <a:off x="6121440" y="5281560"/>
              <a:ext cx="539640" cy="541080"/>
            </a:xfrm>
            <a:prstGeom prst="rect">
              <a:avLst/>
            </a:prstGeom>
            <a:solidFill>
              <a:srgbClr val="698ea8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22" name="Rectangle 180"/>
            <p:cNvSpPr/>
            <p:nvPr/>
          </p:nvSpPr>
          <p:spPr>
            <a:xfrm>
              <a:off x="6661440" y="4741920"/>
              <a:ext cx="539640" cy="539640"/>
            </a:xfrm>
            <a:prstGeom prst="rect">
              <a:avLst/>
            </a:prstGeom>
            <a:solidFill>
              <a:srgbClr val="698ea8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23" name="Rectangle 181"/>
            <p:cNvSpPr/>
            <p:nvPr/>
          </p:nvSpPr>
          <p:spPr>
            <a:xfrm>
              <a:off x="6661440" y="5281560"/>
              <a:ext cx="539640" cy="541080"/>
            </a:xfrm>
            <a:prstGeom prst="rect">
              <a:avLst/>
            </a:prstGeom>
            <a:solidFill>
              <a:srgbClr val="698ea8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24" name="Connecteur droit 182"/>
            <p:cNvSpPr/>
            <p:nvPr/>
          </p:nvSpPr>
          <p:spPr>
            <a:xfrm>
              <a:off x="3421080" y="2313000"/>
              <a:ext cx="0" cy="372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25" name="Connecteur droit 183"/>
            <p:cNvSpPr/>
            <p:nvPr/>
          </p:nvSpPr>
          <p:spPr>
            <a:xfrm>
              <a:off x="4500720" y="2313000"/>
              <a:ext cx="0" cy="372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26" name="Connecteur droit 184"/>
            <p:cNvSpPr/>
            <p:nvPr/>
          </p:nvSpPr>
          <p:spPr>
            <a:xfrm>
              <a:off x="6121440" y="2313000"/>
              <a:ext cx="0" cy="372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27" name="Connecteur droit 185"/>
            <p:cNvSpPr/>
            <p:nvPr/>
          </p:nvSpPr>
          <p:spPr>
            <a:xfrm flipH="1">
              <a:off x="1476000" y="4202280"/>
              <a:ext cx="621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28" name="Ellipse 186"/>
            <p:cNvSpPr/>
            <p:nvPr/>
          </p:nvSpPr>
          <p:spPr>
            <a:xfrm>
              <a:off x="3313080" y="3012840"/>
              <a:ext cx="52200" cy="55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29" name="Ellipse 187"/>
            <p:cNvSpPr/>
            <p:nvPr/>
          </p:nvSpPr>
          <p:spPr>
            <a:xfrm>
              <a:off x="3313080" y="3554280"/>
              <a:ext cx="52200" cy="53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30" name="Ellipse 188"/>
            <p:cNvSpPr/>
            <p:nvPr/>
          </p:nvSpPr>
          <p:spPr>
            <a:xfrm>
              <a:off x="3313080" y="4633920"/>
              <a:ext cx="52200" cy="53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31" name="Ellipse 189"/>
            <p:cNvSpPr/>
            <p:nvPr/>
          </p:nvSpPr>
          <p:spPr>
            <a:xfrm>
              <a:off x="3313080" y="5175360"/>
              <a:ext cx="52200" cy="522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32" name="Ellipse 190"/>
            <p:cNvSpPr/>
            <p:nvPr/>
          </p:nvSpPr>
          <p:spPr>
            <a:xfrm>
              <a:off x="4392720" y="4633920"/>
              <a:ext cx="53640" cy="53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33" name="Ellipse 191"/>
            <p:cNvSpPr/>
            <p:nvPr/>
          </p:nvSpPr>
          <p:spPr>
            <a:xfrm>
              <a:off x="4392720" y="5175360"/>
              <a:ext cx="53640" cy="522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34" name="Ellipse 192"/>
            <p:cNvSpPr/>
            <p:nvPr/>
          </p:nvSpPr>
          <p:spPr>
            <a:xfrm>
              <a:off x="4392720" y="3012840"/>
              <a:ext cx="53640" cy="55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35" name="Ellipse 193"/>
            <p:cNvSpPr/>
            <p:nvPr/>
          </p:nvSpPr>
          <p:spPr>
            <a:xfrm>
              <a:off x="4392720" y="3554280"/>
              <a:ext cx="53640" cy="53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36" name="Ellipse 194"/>
            <p:cNvSpPr/>
            <p:nvPr/>
          </p:nvSpPr>
          <p:spPr>
            <a:xfrm>
              <a:off x="6013440" y="3012840"/>
              <a:ext cx="52200" cy="55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37" name="Ellipse 195"/>
            <p:cNvSpPr/>
            <p:nvPr/>
          </p:nvSpPr>
          <p:spPr>
            <a:xfrm>
              <a:off x="6013440" y="3554280"/>
              <a:ext cx="52200" cy="53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38" name="Ellipse 196"/>
            <p:cNvSpPr/>
            <p:nvPr/>
          </p:nvSpPr>
          <p:spPr>
            <a:xfrm>
              <a:off x="6013440" y="4633920"/>
              <a:ext cx="52200" cy="53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39" name="Ellipse 197"/>
            <p:cNvSpPr/>
            <p:nvPr/>
          </p:nvSpPr>
          <p:spPr>
            <a:xfrm>
              <a:off x="6013440" y="5175360"/>
              <a:ext cx="52200" cy="522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40" name="Ellipse 198"/>
            <p:cNvSpPr/>
            <p:nvPr/>
          </p:nvSpPr>
          <p:spPr>
            <a:xfrm>
              <a:off x="7093080" y="3012840"/>
              <a:ext cx="53640" cy="55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41" name="Ellipse 199"/>
            <p:cNvSpPr/>
            <p:nvPr/>
          </p:nvSpPr>
          <p:spPr>
            <a:xfrm>
              <a:off x="7093080" y="3554280"/>
              <a:ext cx="53640" cy="53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42" name="Ellipse 200"/>
            <p:cNvSpPr/>
            <p:nvPr/>
          </p:nvSpPr>
          <p:spPr>
            <a:xfrm>
              <a:off x="7093080" y="4633920"/>
              <a:ext cx="53640" cy="53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43" name="Ellipse 201"/>
            <p:cNvSpPr/>
            <p:nvPr/>
          </p:nvSpPr>
          <p:spPr>
            <a:xfrm>
              <a:off x="7093080" y="5175360"/>
              <a:ext cx="53640" cy="522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grpSp>
          <p:nvGrpSpPr>
            <p:cNvPr id="244" name="Groupe 121"/>
            <p:cNvGrpSpPr/>
            <p:nvPr/>
          </p:nvGrpSpPr>
          <p:grpSpPr>
            <a:xfrm>
              <a:off x="1638000" y="6522480"/>
              <a:ext cx="5751000" cy="109440"/>
              <a:chOff x="1638000" y="6522480"/>
              <a:chExt cx="5751000" cy="109440"/>
            </a:xfrm>
          </p:grpSpPr>
          <p:sp>
            <p:nvSpPr>
              <p:cNvPr id="245" name="Rectangle 203"/>
              <p:cNvSpPr/>
              <p:nvPr/>
            </p:nvSpPr>
            <p:spPr>
              <a:xfrm>
                <a:off x="3141000" y="6523920"/>
                <a:ext cx="849240" cy="108000"/>
              </a:xfrm>
              <a:prstGeom prst="rect">
                <a:avLst/>
              </a:prstGeom>
              <a:solidFill>
                <a:srgbClr val="92d050"/>
              </a:solidFill>
              <a:ln w="2556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Helvetica 45 Light"/>
                </a:endParaRPr>
              </a:p>
            </p:txBody>
          </p:sp>
          <p:sp>
            <p:nvSpPr>
              <p:cNvPr id="246" name="Rectangle 204"/>
              <p:cNvSpPr/>
              <p:nvPr/>
            </p:nvSpPr>
            <p:spPr>
              <a:xfrm>
                <a:off x="6081120" y="6523920"/>
                <a:ext cx="655560" cy="108000"/>
              </a:xfrm>
              <a:prstGeom prst="rect">
                <a:avLst/>
              </a:prstGeom>
              <a:solidFill>
                <a:srgbClr val="7030a0"/>
              </a:solidFill>
              <a:ln w="2556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Helvetica 45 Light"/>
                </a:endParaRPr>
              </a:p>
            </p:txBody>
          </p:sp>
          <p:sp>
            <p:nvSpPr>
              <p:cNvPr id="247" name="Rectangle 205"/>
              <p:cNvSpPr/>
              <p:nvPr/>
            </p:nvSpPr>
            <p:spPr>
              <a:xfrm>
                <a:off x="1638000" y="6522480"/>
                <a:ext cx="915840" cy="108000"/>
              </a:xfrm>
              <a:prstGeom prst="rect">
                <a:avLst/>
              </a:prstGeom>
              <a:solidFill>
                <a:srgbClr val="ffc000"/>
              </a:solidFill>
              <a:ln w="2556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Helvetica 45 Light"/>
                </a:endParaRPr>
              </a:p>
            </p:txBody>
          </p:sp>
          <p:sp>
            <p:nvSpPr>
              <p:cNvPr id="248" name="Rectangle 206"/>
              <p:cNvSpPr/>
              <p:nvPr/>
            </p:nvSpPr>
            <p:spPr>
              <a:xfrm>
                <a:off x="2553840" y="6523920"/>
                <a:ext cx="587160" cy="108000"/>
              </a:xfrm>
              <a:prstGeom prst="rect">
                <a:avLst/>
              </a:prstGeom>
              <a:solidFill>
                <a:srgbClr val="ffe0cc"/>
              </a:solidFill>
              <a:ln w="2556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Helvetica 45 Light"/>
                </a:endParaRPr>
              </a:p>
            </p:txBody>
          </p:sp>
          <p:sp>
            <p:nvSpPr>
              <p:cNvPr id="249" name="Rectangle 207"/>
              <p:cNvSpPr/>
              <p:nvPr/>
            </p:nvSpPr>
            <p:spPr>
              <a:xfrm>
                <a:off x="4644360" y="6523920"/>
                <a:ext cx="784080" cy="108000"/>
              </a:xfrm>
              <a:prstGeom prst="rect">
                <a:avLst/>
              </a:prstGeom>
              <a:solidFill>
                <a:srgbClr val="00b0f0"/>
              </a:solidFill>
              <a:ln w="2556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Helvetica 45 Light"/>
                </a:endParaRPr>
              </a:p>
            </p:txBody>
          </p:sp>
          <p:sp>
            <p:nvSpPr>
              <p:cNvPr id="250" name="Rectangle 208"/>
              <p:cNvSpPr/>
              <p:nvPr/>
            </p:nvSpPr>
            <p:spPr>
              <a:xfrm>
                <a:off x="5428800" y="6523920"/>
                <a:ext cx="652320" cy="108000"/>
              </a:xfrm>
              <a:prstGeom prst="rect">
                <a:avLst/>
              </a:prstGeom>
              <a:solidFill>
                <a:srgbClr val="c7c7c7"/>
              </a:solidFill>
              <a:ln w="2556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Helvetica 45 Light"/>
                </a:endParaRPr>
              </a:p>
            </p:txBody>
          </p:sp>
          <p:sp>
            <p:nvSpPr>
              <p:cNvPr id="251" name="Rectangle 209"/>
              <p:cNvSpPr/>
              <p:nvPr/>
            </p:nvSpPr>
            <p:spPr>
              <a:xfrm>
                <a:off x="3990600" y="6523920"/>
                <a:ext cx="653760" cy="1080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Helvetica 45 Light"/>
                </a:endParaRPr>
              </a:p>
            </p:txBody>
          </p:sp>
          <p:sp>
            <p:nvSpPr>
              <p:cNvPr id="252" name="Rectangle 210"/>
              <p:cNvSpPr/>
              <p:nvPr/>
            </p:nvSpPr>
            <p:spPr>
              <a:xfrm>
                <a:off x="6736680" y="6523920"/>
                <a:ext cx="652320" cy="108000"/>
              </a:xfrm>
              <a:prstGeom prst="rect">
                <a:avLst/>
              </a:prstGeom>
              <a:solidFill>
                <a:srgbClr val="698ea8"/>
              </a:solidFill>
              <a:ln w="2556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Helvetica 45 Light"/>
                </a:endParaRPr>
              </a:p>
            </p:txBody>
          </p:sp>
        </p:grpSp>
        <p:sp>
          <p:nvSpPr>
            <p:cNvPr id="253" name="Ellipse 211"/>
            <p:cNvSpPr/>
            <p:nvPr/>
          </p:nvSpPr>
          <p:spPr>
            <a:xfrm>
              <a:off x="3313080" y="4094280"/>
              <a:ext cx="52200" cy="53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54" name="Ellipse 212"/>
            <p:cNvSpPr/>
            <p:nvPr/>
          </p:nvSpPr>
          <p:spPr>
            <a:xfrm>
              <a:off x="4392720" y="4094280"/>
              <a:ext cx="53640" cy="53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55" name="Ellipse 213"/>
            <p:cNvSpPr/>
            <p:nvPr/>
          </p:nvSpPr>
          <p:spPr>
            <a:xfrm>
              <a:off x="6013440" y="4094280"/>
              <a:ext cx="52200" cy="53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56" name="Ellipse 214"/>
            <p:cNvSpPr/>
            <p:nvPr/>
          </p:nvSpPr>
          <p:spPr>
            <a:xfrm>
              <a:off x="3313080" y="5713560"/>
              <a:ext cx="52200" cy="55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57" name="Ellipse 215"/>
            <p:cNvSpPr/>
            <p:nvPr/>
          </p:nvSpPr>
          <p:spPr>
            <a:xfrm>
              <a:off x="4392720" y="5713560"/>
              <a:ext cx="53640" cy="55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58" name="Ellipse 216"/>
            <p:cNvSpPr/>
            <p:nvPr/>
          </p:nvSpPr>
          <p:spPr>
            <a:xfrm>
              <a:off x="6013440" y="5713560"/>
              <a:ext cx="52200" cy="55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59" name="Ellipse 217"/>
            <p:cNvSpPr/>
            <p:nvPr/>
          </p:nvSpPr>
          <p:spPr>
            <a:xfrm>
              <a:off x="4824360" y="2095200"/>
              <a:ext cx="55440" cy="55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60" name="Ellipse 218"/>
            <p:cNvSpPr/>
            <p:nvPr/>
          </p:nvSpPr>
          <p:spPr>
            <a:xfrm>
              <a:off x="4824360" y="2257200"/>
              <a:ext cx="55440" cy="55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61" name="ZoneTexte 119"/>
            <p:cNvSpPr/>
            <p:nvPr/>
          </p:nvSpPr>
          <p:spPr>
            <a:xfrm>
              <a:off x="4195800" y="2049480"/>
              <a:ext cx="42271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Helvetica 45 Light"/>
                </a:rPr>
                <a:t>Bitstream jumping + pointer store + cabac state store/restore</a:t>
              </a:r>
              <a:endParaRPr b="0" lang="en-US" sz="11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62" name="ZoneTexte 120"/>
            <p:cNvSpPr/>
            <p:nvPr/>
          </p:nvSpPr>
          <p:spPr>
            <a:xfrm>
              <a:off x="4417920" y="2176560"/>
              <a:ext cx="28216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Helvetica 45 Light"/>
                </a:rPr>
                <a:t>Bitstream jumping + cabac state restore</a:t>
              </a:r>
              <a:endParaRPr b="0" lang="en-US" sz="11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63" name="Arc 221"/>
            <p:cNvSpPr/>
            <p:nvPr/>
          </p:nvSpPr>
          <p:spPr>
            <a:xfrm>
              <a:off x="1854000" y="5985000"/>
              <a:ext cx="701640" cy="377640"/>
            </a:xfrm>
            <a:custGeom>
              <a:avLst/>
              <a:gdLst>
                <a:gd name="textAreaLeft" fmla="*/ 0 w 701640"/>
                <a:gd name="textAreaRight" fmla="*/ 702000 w 701640"/>
                <a:gd name="textAreaTop" fmla="*/ 0 h 377640"/>
                <a:gd name="textAreaBottom" fmla="*/ 189000 h 377640"/>
              </a:gdLst>
              <a:ahLst/>
              <a:rect l="textAreaLeft" t="textAreaTop" r="textAreaRight" b="textAreaBottom"/>
              <a:pathLst>
                <a:path stroke="0" w="935567" h="503810">
                  <a:moveTo>
                    <a:pt x="57" y="247971"/>
                  </a:moveTo>
                  <a:lnTo>
                    <a:pt x="57" y="247971"/>
                  </a:lnTo>
                  <a:arcTo wR="467784" hR="251905" stAng="-10771086" swAng="10771094"/>
                  <a:lnTo>
                    <a:pt x="467784" y="251905"/>
                  </a:lnTo>
                  <a:close/>
                </a:path>
                <a:path fill="none" w="935567" h="503810">
                  <a:moveTo>
                    <a:pt x="57" y="247971"/>
                  </a:moveTo>
                  <a:lnTo>
                    <a:pt x="57" y="247971"/>
                  </a:lnTo>
                  <a:arcTo wR="467784" hR="251905" stAng="-10771086" swAng="10771094"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cxnSp>
          <p:nvCxnSpPr>
            <p:cNvPr id="264" name="Connecteur droit avec flèche 222"/>
            <p:cNvCxnSpPr/>
            <p:nvPr/>
          </p:nvCxnSpPr>
          <p:spPr>
            <a:xfrm>
              <a:off x="2123640" y="2850840"/>
              <a:ext cx="49158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65" name="Connecteur droit avec flèche 223"/>
            <p:cNvCxnSpPr/>
            <p:nvPr/>
          </p:nvCxnSpPr>
          <p:spPr>
            <a:xfrm>
              <a:off x="2124000" y="3391920"/>
              <a:ext cx="1675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66" name="Connecteur droit 224"/>
            <p:cNvSpPr/>
            <p:nvPr/>
          </p:nvSpPr>
          <p:spPr>
            <a:xfrm flipH="1">
              <a:off x="2123640" y="2851200"/>
              <a:ext cx="4861080" cy="541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67" name="Arc 225"/>
            <p:cNvSpPr/>
            <p:nvPr/>
          </p:nvSpPr>
          <p:spPr>
            <a:xfrm>
              <a:off x="2646360" y="5985000"/>
              <a:ext cx="485640" cy="37764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377640"/>
                <a:gd name="textAreaBottom" fmla="*/ 189000 h 377640"/>
              </a:gdLst>
              <a:ahLst/>
              <a:rect l="textAreaLeft" t="textAreaTop" r="textAreaRight" b="textAreaBottom"/>
              <a:pathLst>
                <a:path stroke="0" w="647700" h="503810">
                  <a:moveTo>
                    <a:pt x="19" y="249181"/>
                  </a:moveTo>
                  <a:lnTo>
                    <a:pt x="19" y="249181"/>
                  </a:lnTo>
                  <a:arcTo wR="323850" hR="251905" stAng="-10771083" swAng="10771094"/>
                  <a:lnTo>
                    <a:pt x="323850" y="251905"/>
                  </a:lnTo>
                  <a:close/>
                </a:path>
                <a:path fill="none" w="647700" h="503810">
                  <a:moveTo>
                    <a:pt x="19" y="249181"/>
                  </a:moveTo>
                  <a:lnTo>
                    <a:pt x="19" y="249181"/>
                  </a:lnTo>
                  <a:arcTo wR="323850" hR="251905" stAng="-10771083" swAng="10771094"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68" name="Arc 226"/>
            <p:cNvSpPr/>
            <p:nvPr/>
          </p:nvSpPr>
          <p:spPr>
            <a:xfrm>
              <a:off x="3313080" y="5985000"/>
              <a:ext cx="755640" cy="377640"/>
            </a:xfrm>
            <a:custGeom>
              <a:avLst/>
              <a:gdLst>
                <a:gd name="textAreaLeft" fmla="*/ 0 w 755640"/>
                <a:gd name="textAreaRight" fmla="*/ 756000 w 755640"/>
                <a:gd name="textAreaTop" fmla="*/ 0 h 377640"/>
                <a:gd name="textAreaBottom" fmla="*/ 189000 h 377640"/>
              </a:gdLst>
              <a:ahLst/>
              <a:rect l="textAreaLeft" t="textAreaTop" r="textAreaRight" b="textAreaBottom"/>
              <a:pathLst>
                <a:path stroke="0" w="1007533" h="503810">
                  <a:moveTo>
                    <a:pt x="71" y="247668"/>
                  </a:moveTo>
                  <a:lnTo>
                    <a:pt x="71" y="247668"/>
                  </a:lnTo>
                  <a:arcTo wR="503767" hR="251905" stAng="-10771083" swAng="10771090"/>
                  <a:lnTo>
                    <a:pt x="503767" y="251905"/>
                  </a:lnTo>
                  <a:close/>
                </a:path>
                <a:path fill="none" w="1007533" h="503810">
                  <a:moveTo>
                    <a:pt x="71" y="247668"/>
                  </a:moveTo>
                  <a:lnTo>
                    <a:pt x="71" y="247668"/>
                  </a:lnTo>
                  <a:arcTo wR="503767" hR="251905" stAng="-10771083" swAng="10771090"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69" name="Arc 227"/>
            <p:cNvSpPr/>
            <p:nvPr/>
          </p:nvSpPr>
          <p:spPr>
            <a:xfrm flipH="1">
              <a:off x="1853280" y="6216840"/>
              <a:ext cx="2322360" cy="323640"/>
            </a:xfrm>
            <a:custGeom>
              <a:avLst/>
              <a:gdLst>
                <a:gd name="textAreaLeft" fmla="*/ 1800 w 2322360"/>
                <a:gd name="textAreaRight" fmla="*/ 2322720 w 2322360"/>
                <a:gd name="textAreaTop" fmla="*/ 0 h 323640"/>
                <a:gd name="textAreaBottom" fmla="*/ 162000 h 323640"/>
              </a:gdLst>
              <a:ahLst/>
              <a:rect l="textAreaLeft" t="textAreaTop" r="textAreaRight" b="textAreaBottom"/>
              <a:pathLst>
                <a:path stroke="0" w="3096684" h="431837">
                  <a:moveTo>
                    <a:pt x="2809" y="202918"/>
                  </a:moveTo>
                  <a:lnTo>
                    <a:pt x="2809" y="202918"/>
                  </a:lnTo>
                  <a:arcTo wR="1548342" hR="215919" stAng="-10771085" swAng="10771094"/>
                  <a:lnTo>
                    <a:pt x="1548342" y="215919"/>
                  </a:lnTo>
                  <a:close/>
                </a:path>
                <a:path fill="none" w="3096684" h="431837">
                  <a:moveTo>
                    <a:pt x="2809" y="202918"/>
                  </a:moveTo>
                  <a:lnTo>
                    <a:pt x="2809" y="202918"/>
                  </a:lnTo>
                  <a:arcTo wR="1548342" hR="215919" stAng="-10771085" swAng="10771094"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70" name="Arc 228"/>
            <p:cNvSpPr/>
            <p:nvPr/>
          </p:nvSpPr>
          <p:spPr>
            <a:xfrm>
              <a:off x="2070000" y="6270840"/>
              <a:ext cx="703080" cy="377640"/>
            </a:xfrm>
            <a:custGeom>
              <a:avLst/>
              <a:gdLst>
                <a:gd name="textAreaLeft" fmla="*/ 0 w 703080"/>
                <a:gd name="textAreaRight" fmla="*/ 703440 w 703080"/>
                <a:gd name="textAreaTop" fmla="*/ 0 h 377640"/>
                <a:gd name="textAreaBottom" fmla="*/ 189000 h 377640"/>
              </a:gdLst>
              <a:ahLst/>
              <a:rect l="textAreaLeft" t="textAreaTop" r="textAreaRight" b="textAreaBottom"/>
              <a:pathLst>
                <a:path stroke="0" w="937684" h="503810">
                  <a:moveTo>
                    <a:pt x="57" y="247962"/>
                  </a:moveTo>
                  <a:lnTo>
                    <a:pt x="57" y="247962"/>
                  </a:lnTo>
                  <a:arcTo wR="468842" hR="251905" stAng="-10771085" swAng="10771093"/>
                  <a:lnTo>
                    <a:pt x="468842" y="251905"/>
                  </a:lnTo>
                  <a:close/>
                </a:path>
                <a:path fill="none" w="937684" h="503810">
                  <a:moveTo>
                    <a:pt x="57" y="247962"/>
                  </a:moveTo>
                  <a:lnTo>
                    <a:pt x="57" y="247962"/>
                  </a:lnTo>
                  <a:arcTo wR="468842" hR="251905" stAng="-10771085" swAng="10771093"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71" name="ZoneTexte 136"/>
            <p:cNvSpPr/>
            <p:nvPr/>
          </p:nvSpPr>
          <p:spPr>
            <a:xfrm>
              <a:off x="3772440" y="323028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Helvetica 45 Light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72" name="ZoneTexte 137"/>
            <p:cNvSpPr/>
            <p:nvPr/>
          </p:nvSpPr>
          <p:spPr>
            <a:xfrm>
              <a:off x="2740320" y="625464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Helvetica 45 Light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73" name="Connecteur droit 231"/>
            <p:cNvSpPr/>
            <p:nvPr/>
          </p:nvSpPr>
          <p:spPr>
            <a:xfrm>
              <a:off x="1854000" y="6147000"/>
              <a:ext cx="0" cy="377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74" name="Connecteur droit 232"/>
            <p:cNvSpPr/>
            <p:nvPr/>
          </p:nvSpPr>
          <p:spPr>
            <a:xfrm>
              <a:off x="2555640" y="6142320"/>
              <a:ext cx="0" cy="379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75" name="Connecteur droit 233"/>
            <p:cNvSpPr/>
            <p:nvPr/>
          </p:nvSpPr>
          <p:spPr>
            <a:xfrm>
              <a:off x="2651040" y="6147000"/>
              <a:ext cx="0" cy="377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76" name="Connecteur droit 234"/>
            <p:cNvSpPr/>
            <p:nvPr/>
          </p:nvSpPr>
          <p:spPr>
            <a:xfrm>
              <a:off x="3132000" y="6147000"/>
              <a:ext cx="0" cy="377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77" name="Connecteur droit 235"/>
            <p:cNvSpPr/>
            <p:nvPr/>
          </p:nvSpPr>
          <p:spPr>
            <a:xfrm>
              <a:off x="3313080" y="6147000"/>
              <a:ext cx="0" cy="377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78" name="Connecteur droit 236"/>
            <p:cNvSpPr/>
            <p:nvPr/>
          </p:nvSpPr>
          <p:spPr>
            <a:xfrm>
              <a:off x="4068720" y="6147000"/>
              <a:ext cx="0" cy="377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79" name="Connecteur droit 237"/>
            <p:cNvSpPr/>
            <p:nvPr/>
          </p:nvSpPr>
          <p:spPr>
            <a:xfrm>
              <a:off x="4176720" y="6363000"/>
              <a:ext cx="0" cy="161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80" name="Connecteur droit 238"/>
            <p:cNvSpPr/>
            <p:nvPr/>
          </p:nvSpPr>
          <p:spPr>
            <a:xfrm>
              <a:off x="2070000" y="6456600"/>
              <a:ext cx="0" cy="680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281" name="Connecteur droit 239"/>
            <p:cNvSpPr/>
            <p:nvPr/>
          </p:nvSpPr>
          <p:spPr>
            <a:xfrm>
              <a:off x="2773080" y="641700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</p:grpSp>
      <p:sp>
        <p:nvSpPr>
          <p:cNvPr id="282" name="Espace réservé du pied de page 3"/>
          <p:cNvSpPr/>
          <p:nvPr/>
        </p:nvSpPr>
        <p:spPr>
          <a:xfrm>
            <a:off x="3059280" y="6595920"/>
            <a:ext cx="290016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I0158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Summary of decoder requirements for single core raster scan decoding of multiple tiles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180000" indent="-18000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Additional processing steps compared to single tile decoding, required at the end of each LCU row in a tile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7520" indent="-318600">
              <a:spcAft>
                <a:spcPts val="561"/>
              </a:spcAft>
              <a:buClr>
                <a:srgbClr val="000000"/>
              </a:buClr>
              <a:buFont typeface="Helvetica 45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Bit-level bitstream pointer storage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7520" indent="-318600">
              <a:spcAft>
                <a:spcPts val="561"/>
              </a:spcAft>
              <a:buClr>
                <a:srgbClr val="000000"/>
              </a:buClr>
              <a:buFont typeface="Helvetica 45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Bit-level bitstream pointer restore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7520" indent="-318600">
              <a:spcAft>
                <a:spcPts val="561"/>
              </a:spcAft>
              <a:buClr>
                <a:srgbClr val="000000"/>
              </a:buClr>
              <a:buFont typeface="Helvetica 45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Cabac state (codIRange &amp; codIOffset) storage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7520" indent="-318600">
              <a:spcAft>
                <a:spcPts val="561"/>
              </a:spcAft>
              <a:buClr>
                <a:srgbClr val="000000"/>
              </a:buClr>
              <a:buFont typeface="Helvetica 45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Cabac state (codIRange &amp; codIOffset) restore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7520" indent="-318600">
              <a:spcAft>
                <a:spcPts val="561"/>
              </a:spcAft>
              <a:buClr>
                <a:srgbClr val="000000"/>
              </a:buClr>
              <a:buFont typeface="Helvetica 45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Bitstream jump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80000" indent="-18000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Not all operations are needed in corner cases (eg. end of tile)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80000" indent="-18000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Helvetica 45 Light"/>
              </a:rPr>
              <a:t>Example 1080p Main Profile, worst case happens with 5 tile columns and LCU width of 8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7520" indent="-31860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Helvetica 45 Light"/>
              </a:rPr>
              <a:t>Each of the above processing steps is performed about 675 times per frame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04120" indent="-212400" algn="ctr">
              <a:spcAft>
                <a:spcPts val="437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45 Light"/>
              </a:rPr>
              <a:t>5*(1080/8)=675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marL="180000" indent="-180000">
              <a:spcAft>
                <a:spcPts val="876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85" name="Espace réservé du pied de page 3"/>
          <p:cNvSpPr/>
          <p:nvPr/>
        </p:nvSpPr>
        <p:spPr>
          <a:xfrm>
            <a:off x="3059280" y="6595920"/>
            <a:ext cx="290016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I0158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Summary of decoder requirements for single core raster scan decoding of multiple tiles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7680" indent="-337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Additional buffers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817200" indent="-33912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1 bit level bitsream pointer per tile column (at least 4 bytes)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817200" indent="-33912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1 Cabac state buffer for each tile column (4 bytes)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817200" indent="-33912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337680" indent="-337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Helvetica 45 Light"/>
              </a:rPr>
              <a:t>Example worst case for 1080p Main Profile (5 tile columns)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817200" indent="-33912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Helvetica 45 Light"/>
              </a:rPr>
              <a:t>40 bytes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75400" indent="-226080" algn="ctr">
              <a:spcAft>
                <a:spcPts val="437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45 Light"/>
              </a:rPr>
              <a:t>(4+4)*5=40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marL="337680" indent="-337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Helvetica 45 Light"/>
              </a:rPr>
              <a:t>Example worst case for 1080p outside Main Profile (tile width = 1 LCU with LCU width of 8)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817200" indent="-33912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Helvetica 45 Light"/>
              </a:rPr>
              <a:t>960 bytes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75400" indent="-226080" algn="ctr">
              <a:spcAft>
                <a:spcPts val="437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45 Light"/>
              </a:rPr>
              <a:t>(4+4)*1920/8=960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marL="337680" indent="-337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75400" indent="-226080">
              <a:spcAft>
                <a:spcPts val="56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817200" indent="-33912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337680" indent="-337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88" name="Espace réservé du pied de page 3"/>
          <p:cNvSpPr/>
          <p:nvPr/>
        </p:nvSpPr>
        <p:spPr>
          <a:xfrm>
            <a:off x="3059280" y="6595920"/>
            <a:ext cx="290016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I0158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Proposal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50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Helvetica 45 Light"/>
              </a:rPr>
              <a:t>Bit level Cabac flush at the end of each LCU row in a tile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624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Except last row in a tile were flush and byte alignment is already performed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91" name="Espace réservé du pied de page 3"/>
          <p:cNvSpPr/>
          <p:nvPr/>
        </p:nvSpPr>
        <p:spPr>
          <a:xfrm>
            <a:off x="3059280" y="6595920"/>
            <a:ext cx="290016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I0158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Impact of Proposal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Additional processing steps compared to single tile decoding, required at the end of each LCU row in a tile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825480" indent="-342720">
              <a:spcAft>
                <a:spcPts val="561"/>
              </a:spcAft>
              <a:buClr>
                <a:srgbClr val="000000"/>
              </a:buClr>
              <a:buFont typeface="Helvetica 45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Bit-level bitstream pointer storage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825480" indent="-342720">
              <a:spcAft>
                <a:spcPts val="561"/>
              </a:spcAft>
              <a:buClr>
                <a:srgbClr val="000000"/>
              </a:buClr>
              <a:buFont typeface="Helvetica 45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Bit-level bitstream pointer restore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825480" indent="-342720">
              <a:spcAft>
                <a:spcPts val="561"/>
              </a:spcAft>
              <a:buClr>
                <a:srgbClr val="000000"/>
              </a:buClr>
              <a:buFont typeface="Helvetica 45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Cabac state (codIRange &amp; codIOffset) storage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825480" indent="-342720">
              <a:spcAft>
                <a:spcPts val="561"/>
              </a:spcAft>
              <a:buClr>
                <a:srgbClr val="000000"/>
              </a:buClr>
              <a:buFont typeface="Helvetica 45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Cabac state (codIRange &amp; codIOffset) restore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825480" indent="-342720">
              <a:spcAft>
                <a:spcPts val="561"/>
              </a:spcAft>
              <a:buClr>
                <a:srgbClr val="000000"/>
              </a:buClr>
              <a:buFont typeface="Helvetica 45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Bitstream jump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Additional buffers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825480" indent="-34272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1 bit level bitstream pointer per tile column (at least 4  bytes)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825480" indent="-34272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1 Cabac state buffer for each tile column (4 bytes)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825480" indent="-342720">
              <a:spcAft>
                <a:spcPts val="561"/>
              </a:spcAft>
              <a:buClr>
                <a:srgbClr val="000000"/>
              </a:buClr>
              <a:buFont typeface="Helvetica 45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94" name="Connecteur droit 4"/>
          <p:cNvSpPr/>
          <p:nvPr/>
        </p:nvSpPr>
        <p:spPr>
          <a:xfrm>
            <a:off x="1763640" y="3357720"/>
            <a:ext cx="468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95" name="Connecteur droit 5"/>
          <p:cNvSpPr/>
          <p:nvPr/>
        </p:nvSpPr>
        <p:spPr>
          <a:xfrm>
            <a:off x="1763640" y="3706920"/>
            <a:ext cx="468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96" name="Connecteur droit 6"/>
          <p:cNvSpPr/>
          <p:nvPr/>
        </p:nvSpPr>
        <p:spPr>
          <a:xfrm>
            <a:off x="1876320" y="5187960"/>
            <a:ext cx="468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97" name="Espace réservé du pied de page 3"/>
          <p:cNvSpPr/>
          <p:nvPr/>
        </p:nvSpPr>
        <p:spPr>
          <a:xfrm>
            <a:off x="3059280" y="6595920"/>
            <a:ext cx="290016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I0158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Performance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24000" y="1052640"/>
            <a:ext cx="331128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JCTVC-H1100 test conditions with tile size of class D (as per JCTVC-F335)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Anchor is HM6.1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Measure is the proposal (additional Cabac Flush)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Impact is 0.1% (I), 0.6% (RA), 1.5% (LDB) 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3635280" y="549360"/>
            <a:ext cx="5329440" cy="5968800"/>
          </a:xfrm>
          <a:prstGeom prst="rect">
            <a:avLst/>
          </a:prstGeom>
          <a:ln w="0">
            <a:noFill/>
          </a:ln>
        </p:spPr>
      </p:pic>
      <p:sp>
        <p:nvSpPr>
          <p:cNvPr id="301" name="Espace réservé du pied de page 3"/>
          <p:cNvSpPr/>
          <p:nvPr/>
        </p:nvSpPr>
        <p:spPr>
          <a:xfrm>
            <a:off x="3059280" y="6595920"/>
            <a:ext cx="290016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I0158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Conclusion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011240" y="119700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176040" indent="-176040">
              <a:spcAft>
                <a:spcPts val="150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Helvetica 45 Light"/>
              </a:rPr>
              <a:t>Picture raster scan single core decoding is needed in the presence of multiple tiles in order to avoid delay and buffering 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marL="176040" indent="-176040">
              <a:spcAft>
                <a:spcPts val="150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Helvetica 45 Light"/>
              </a:rPr>
              <a:t>Proposed modification allows the removal of processing steps and associated buffers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marL="176040" indent="-176040">
              <a:spcAft>
                <a:spcPts val="150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Helvetica 45 Light"/>
              </a:rPr>
              <a:t>Suggested to adopt this modification in the standard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marL="176040" indent="-176040">
              <a:spcAft>
                <a:spcPts val="150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Helvetica 45 Light"/>
              </a:rPr>
              <a:t>Text is provided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marL="176040" indent="-176040">
              <a:spcAft>
                <a:spcPts val="150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Helvetica 45 Light"/>
              </a:rPr>
              <a:t>We thank Qualcomm for crosschecking this proposal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98760" indent="-259560">
              <a:spcAft>
                <a:spcPts val="624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Crosscheck JCTVC-I0387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4" name="Espace réservé du pied de page 3"/>
          <p:cNvSpPr/>
          <p:nvPr/>
        </p:nvSpPr>
        <p:spPr>
          <a:xfrm>
            <a:off x="3059280" y="6595920"/>
            <a:ext cx="290016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I0158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10:59:47Z</dcterms:created>
  <dc:creator> </dc:creator>
  <dc:description/>
  <dc:language>en-US</dc:language>
  <cp:lastModifiedBy>JCTVC-G197</cp:lastModifiedBy>
  <cp:lastPrinted>2006-12-08T11:02:13Z</cp:lastPrinted>
  <dcterms:modified xsi:type="dcterms:W3CDTF">2012-04-28T10:24:59Z</dcterms:modified>
  <cp:revision>474</cp:revision>
  <dc:subject/>
  <dc:title>presentation template Oran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