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A21-EEC6-401F-B1FE-FB4B08B1EAF7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3A3B-6FF7-42BB-9C7A-24756435665C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71CF-7831-4150-891B-395B2E72A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4B3A-F869-4125-8A6A-0D74CF0F2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91BE-A450-4D1C-B2CC-D6FD2FCE5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759-33F5-4FE3-8E9E-F5DE784EA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8A67-DF14-4324-AB80-6EF4C81F2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374F-1D35-42C0-92D1-F1CBC386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5981-4F7B-4C74-85B1-D0FE0BF88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0CEA-3EE0-4B40-9956-2E857F066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313F-F4FD-4D57-961B-87A1F88AC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406D-1374-4C00-BDE1-819A73A47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2B6A-1BB5-4D99-8AC7-9B1DD7B7D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6E6F-3D55-48E2-B7BF-336505AE3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3EF-F46B-4055-ADB7-BB735A180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052640"/>
            <a:ext cx="864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Syntax on </a:t>
            </a: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wavefront</a:t>
            </a:r>
            <a:r>
              <a:rPr b="1" lang="fr-FR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I0139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79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yul Kim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ungsoo Jeo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VC has many tools to support parallel processing in multi-core enviro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iles, WPP, Slice, Entropy Slic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last meeting, it was adopted that Tiles, WPP and Entropy Slice shall be used exclusively and any combination of those is disallow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purpose of those tools is regarded as similar each other, these tools’ syntaxes can be designed and controlled in a same mann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, in Tile &amp; WPP, signaling information is sent by the syntax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les_or_entropy_coding_sync_idc” ( 0: nothing, 1: Tile, 2: WPP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ile case, the number of T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s signal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PS level after parsing the syntax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les_or_entropy_coding_sync_idc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PP case, the number of substrea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s not signal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PS level after parsing the syntax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les_or_entropy_coding_sync_idc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proposed to unify syntax design by sending WPP information in SPS level to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52B-386A-4405-B0E2-767737E63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6336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 the syntax “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_substreams_minus1” from PPS to SP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dd substreams_info_present_flag into 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942-E10E-4240-BDEA-D03D120EBE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88000" y="1916280"/>
          <a:ext cx="3887640" cy="4114800"/>
        </p:xfrm>
        <a:graphic>
          <a:graphicData uri="http://schemas.openxmlformats.org/drawingml/2006/table">
            <a:tbl>
              <a:tblPr/>
              <a:tblGrid>
                <a:gridCol w="3095640"/>
                <a:gridCol w="792000"/>
              </a:tblGrid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ic_parameter_set_rbsp( 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s_or_entropy_coding_sync_idc  = =  1 ) {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_info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_control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_info_present_flag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column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row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iform_spacing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!uniform_spacing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column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lumn_width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row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ow_height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_control_present_flag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op_filter_across_tiles_enabled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lse if( tiles_or_entropy_coding_sync_idc  = =  2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0644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substreams_info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          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if(substreams_info_present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0660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substream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          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1916280"/>
          <a:ext cx="3881520" cy="3047760"/>
        </p:xfrm>
        <a:graphic>
          <a:graphicData uri="http://schemas.openxmlformats.org/drawingml/2006/table">
            <a:tbl>
              <a:tblPr/>
              <a:tblGrid>
                <a:gridCol w="3089520"/>
                <a:gridCol w="79200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_parameter_set_rbsp( 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s_or_entropy_coding_sync_id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2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s_or_entropy_coding_sync_idc  = =  1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columns_minus1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row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iform_spacing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!uniform_spacing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column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lumn_width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row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ow_height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op_filter_across_tiles_enabled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else if( tiles_or_entropy_coding_sync_idc  = =  2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0660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num_substream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1440" y="892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ing that WPP is never turned off within a sequence if it is signalled as enabled in SPS, the number of substreams would be the greater than or equal to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ntax “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_substreams_minus1” is changed t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ntax “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_substreams_minus2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84A-86F3-434C-A8B1-7C5BC4C6D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15000" y="2421000"/>
          <a:ext cx="3887640" cy="4114800"/>
        </p:xfrm>
        <a:graphic>
          <a:graphicData uri="http://schemas.openxmlformats.org/drawingml/2006/table">
            <a:tbl>
              <a:tblPr/>
              <a:tblGrid>
                <a:gridCol w="3095640"/>
                <a:gridCol w="792000"/>
              </a:tblGrid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ic_parameter_set_rbsp( 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s_or_entropy_coding_sync_idc  = =  1 ) {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_info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_control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_info_present_flag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column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row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iform_spacing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!uniform_spacing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column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lumn_width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row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ow_height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_control_present_flag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op_filter_across_tiles_enabled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lse if( tiles_or_entropy_coding_sync_idc  = =  2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0644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substreams_info_present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          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if(substreams_info_present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0660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num_substreams_minus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          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66640" y="2421000"/>
          <a:ext cx="3881520" cy="3047760"/>
        </p:xfrm>
        <a:graphic>
          <a:graphicData uri="http://schemas.openxmlformats.org/drawingml/2006/table">
            <a:tbl>
              <a:tblPr/>
              <a:tblGrid>
                <a:gridCol w="3089520"/>
                <a:gridCol w="79200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_parameter_set_rbsp( 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s_or_entropy_coding_sync_id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2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tiles_or_entropy_coding_sync_idc  = =  1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columns_minus1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tile_row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iform_spacing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!uniform_spacing_flag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column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lumn_width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( i = 0; i &lt; num_tile_rows_minus1; i++ 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ow_height[ i 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op_filter_across_tiles_enabled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else if( tiles_or_entropy_coding_sync_idc  = =  2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0660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num_substreams_minus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6"/>
          <p:cNvSpPr/>
          <p:nvPr/>
        </p:nvSpPr>
        <p:spPr>
          <a:xfrm>
            <a:off x="395280" y="5580000"/>
            <a:ext cx="432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num_substreams_minus2 </a:t>
            </a: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plus 2 specifies the maximum number of subsets included in a slice when tiles_or_entropy_coding_sync_idc is equal to 2. When not present, the value of num_substreams_minus2 is inferred to be equal to 0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1413000"/>
          <a:ext cx="6916680" cy="4525920"/>
        </p:xfrm>
        <a:graphic>
          <a:graphicData uri="http://schemas.openxmlformats.org/drawingml/2006/table">
            <a:tbl>
              <a:tblPr/>
              <a:tblGrid>
                <a:gridCol w="6067440"/>
                <a:gridCol w="849240"/>
              </a:tblGrid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lice_data( )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bAddrRS = SliceCtbAddr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bAddrTS = CtbAddrRStoTS[ CtbAddrRS ]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moreDataFlag = 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adaptive_loop_filter_flag &amp;&amp; alf_cu_control_flag 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lfCuFlagIdx  =  −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o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Ctb =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verseRasterScan( CtbAddrRS, CtbSize, CtbSize, pic_width_in_luma_samples, 0 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yCtb =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verseRasterScan( CtbAddrRS, CtbSize, CtbSize, pic_width_in_luma_samples, 1 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PCMBlock = 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b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InSlice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= CtbAddrRS − ( slice_address &gt;&gt; SliceGranularity 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Up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= CtbAddrRS –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 Pic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WidthInCtb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   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moreDataFlag &amp;&amp; ( ( 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s_or_entropy_coding_sync_idc  = =  1 &amp;&amp;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Id[ CtbAddrTS ] != TileId[ CtbAddrTS − 1 ] )  | |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( 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s_or_entropy_coding_sync_idc  = =  2 &amp;&amp;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( num_substream_minus2 + 1)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&gt; 0  &amp;&amp;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CtbAddrTS / PicWidthInCtbs  &lt;=  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( num_substream_minus2 + 1) 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&amp;&amp;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CtbAddrTS % PicWidthInCtbs  = =  0 ) )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)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bsp_trailing_bits( 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nextbits(24) = = 0x000002 )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try_point_marker_two_3by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(2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ile_idx_minus_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while( moreDataFlag 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D25-A825-4970-8415-C4A70A24F5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proposed to signal the number of substreams in SPS as well as in PPS to make current syntax design of WPP be more consistent with other parallel processing tool ( eg. Tile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s a decoding strategy efficient according to decoder system to inform how many substreams are coded at higher syntax level (SP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that WPP is never turned off within a sequence if it is signalled as enabled in SPS, it is also proposed to signal the number of substreams as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_substreams_minus2” instead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_substreams_minus1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DBC2-FF5D-4D95-9CEE-E58E552DA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Tammy</cp:lastModifiedBy>
  <dcterms:modified xsi:type="dcterms:W3CDTF">2012-04-27T04:31:41Z</dcterms:modified>
  <cp:revision>4698</cp:revision>
  <dc:subject/>
  <dc:title>Visual SNHC Tools</dc:title>
</cp:coreProperties>
</file>