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8795-1A16-47B6-A7A0-CE853E617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11C4-22BF-4200-A8A8-C8EBEF579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F2DF-F77A-4106-B0C7-08D8F32BB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6CDF-5DAC-432C-B496-571F89032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FC16-A0FA-45C3-A937-EB612B8042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04D8-07CC-443C-BAFC-5FCBA27BE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2A80-45D3-4475-971D-69205F2633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DFA8-D7D3-4CED-88AB-C3BA12CD7F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2243-79CD-4438-A320-AB94ED700B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58E5-E311-4357-A27B-9F3A56EE8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16A9-F5F1-4A63-A108-E6284ED16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3DEA-B098-4C07-BE39-509348EBE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7D81-D416-43E1-A575-B048DAB0D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F8F0-B5C8-4FAD-8618-A2D45BDF96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75F4-F942-49CF-A140-9C6E068A94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346C-338B-4B69-8FE6-144713F47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291D-A961-4A1F-AFC5-B78ABF01F2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3D3-24E8-4664-A488-776609F25F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8E2-ECF8-49DA-8274-687883411D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469-9D46-45BF-BAF8-1F04628381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416-7302-4F61-91DD-2FA58630B5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06C-54A8-45F3-8A05-DFD4D5D33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E4F4-C6EF-4E31-8F78-1EDF4D9CBB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8EF-68F6-49D2-A175-0382CEED3F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255-8961-4C44-9D1D-65EAE5FC35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683-7D2A-4F68-86FB-55532931EC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85B-E03F-48F6-BB05-5EEE09829B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2FD-80F6-4F05-B7A3-8C9F6133E3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96D-BB6C-4142-91B7-B2FAAB6512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492-4E96-4F81-A68C-4AF341013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50E9-66A2-4CE2-B890-ECBDA9912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01EB-1E7A-46BE-A1BE-56BBA47A8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52DC-793B-400D-944D-AE81811EB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1D13-E61B-4220-8613-537C16017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2093-98A1-4F51-882E-E425D4D67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C508-2FAC-433E-9C67-DF77B73DB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5370-08E2-4C8F-9D16-4C21A14CE007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3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8F8-21AA-48CD-9326-A68176141A0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83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5" name="テキスト ボックス 6"/>
          <p:cNvSpPr/>
          <p:nvPr/>
        </p:nvSpPr>
        <p:spPr>
          <a:xfrm>
            <a:off x="8408880" y="6535800"/>
            <a:ext cx="1440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H0135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2143-D5A8-4D11-A7C3-16D972C736D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1EBC-11EC-4D66-8E54-92760D87E92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74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I0135:</a:t>
            </a: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HG15: Modification on picture mark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50D-DE3A-45E3-A801-880EE119934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blem statement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8520" y="731520"/>
            <a:ext cx="9648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urrent CD text, a picture marking process is described in section 8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long term picture marking process is conducted at fir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that, a short term picture marking process is condu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HM6.1 softwa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hort term picture marking process seems to be conducted at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that, a long term picture marking process is condu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t seems a mismatch between text an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over, if one picture is assigned to both long term and short term picture at the same time, “no reference picture” would be assigned to either RefPicSetStCurrBefore or RefPicSetStCurr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t would not satisfy below bitstream con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urrent specification, it seems possible to assign one picture to both long term and short term at the same time by 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er has to take care of whether or not RPS includes the picture which should be assigned to long term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encoder would set them illegally or mistakenly, the conformance error would be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4520" y="3933720"/>
            <a:ext cx="9288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n the first coded picture in the bitstream is an IDR picture or the current coded 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icture is not a leading picture of the first coded picture in the bitstream, 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there shall be no entry in RefPicSetStCurrBefore, RefPicSetStCurrAfter or RefPicSetLtCurr that is equal to "no reference picture".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15440" y="1052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prevent conformance error ev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picture is assigned to both long term and short term picture at the same time by 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dified picture marking process is pro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posed method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5440" y="692280"/>
            <a:ext cx="9217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icture could be assigned to both long term and short term picture at the same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long term assignment would be taken high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ssignment on short term picture would be ignored if a picture has been already marked as long term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er would not be needed to take care of whether or not RPS includes the picture which should be assigned to long term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if encoder would set them illegally or mistakenly, conformance error would be avoi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change RPS for short term picture even if long term picture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PS in SPS could be reused base on the position of cod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31800" y="3902040"/>
            <a:ext cx="8623440" cy="2840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dified picture marking process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Rectangle 68"/>
          <p:cNvGraphicFramePr/>
          <p:nvPr/>
        </p:nvGraphicFramePr>
        <p:xfrm>
          <a:off x="920880" y="1052640"/>
          <a:ext cx="5573520" cy="541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Rectangle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052640"/>
                    <a:ext cx="5573520" cy="5413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dified part of CD text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9" name=""/>
          <p:cNvSpPr/>
          <p:nvPr/>
        </p:nvSpPr>
        <p:spPr>
          <a:xfrm>
            <a:off x="361800" y="666720"/>
            <a:ext cx="740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derivation process for the reference picture set and picture mark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section 8.3.2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0" name=""/>
          <p:cNvSpPr/>
          <p:nvPr/>
        </p:nvSpPr>
        <p:spPr>
          <a:xfrm>
            <a:off x="6608880" y="1197000"/>
            <a:ext cx="287280" cy="4464000"/>
          </a:xfrm>
          <a:custGeom>
            <a:avLst/>
            <a:gdLst>
              <a:gd name="textAreaLeft" fmla="*/ 0 w 287280"/>
              <a:gd name="textAreaRight" fmla="*/ 103680 w 28728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1" name=""/>
          <p:cNvSpPr/>
          <p:nvPr/>
        </p:nvSpPr>
        <p:spPr>
          <a:xfrm>
            <a:off x="6890040" y="328464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hort term picture marking process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2" name=""/>
          <p:cNvSpPr/>
          <p:nvPr/>
        </p:nvSpPr>
        <p:spPr>
          <a:xfrm>
            <a:off x="6608880" y="5877000"/>
            <a:ext cx="215640" cy="504720"/>
          </a:xfrm>
          <a:custGeom>
            <a:avLst/>
            <a:gdLst>
              <a:gd name="textAreaLeft" fmla="*/ 0 w 215640"/>
              <a:gd name="textAreaRight" fmla="*/ 77760 w 215640"/>
              <a:gd name="textAreaTop" fmla="*/ 39240 h 504720"/>
              <a:gd name="textAreaBottom" fmla="*/ 4654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3" name=""/>
          <p:cNvSpPr/>
          <p:nvPr/>
        </p:nvSpPr>
        <p:spPr>
          <a:xfrm>
            <a:off x="6893640" y="595008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alculate NumPocTotalCurr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4" name=""/>
          <p:cNvSpPr/>
          <p:nvPr/>
        </p:nvSpPr>
        <p:spPr>
          <a:xfrm>
            <a:off x="4515120" y="4724280"/>
            <a:ext cx="360504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f picX has already been assigned to long term,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hort term picture assignment would be ignored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305240" y="2276280"/>
            <a:ext cx="1224000" cy="24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231800" y="3789000"/>
            <a:ext cx="129708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31800" y="4941720"/>
            <a:ext cx="28908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elated issue on NumPocTotalCurr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9" name=""/>
          <p:cNvSpPr/>
          <p:nvPr/>
        </p:nvSpPr>
        <p:spPr>
          <a:xfrm>
            <a:off x="200160" y="692280"/>
            <a:ext cx="9432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D text, decoding process for RPS in section 8.3.2 is invoke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ter decoding of a slice header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the variable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NumPocTotalCu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used to parse list_entry_lX parameter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 the slice hea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en though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NumPocTotalCu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calculated in section 8.3.2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would seem inconsistent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ependency might cause increasing waiting time for decoding a slice header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ly, in this proposal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NumPocTotalCu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ould be calculated after picture marking process to reflect ignored assignment of short term pictu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ependency would affect more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osal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_entry_lX parameters are decoded by using ue(v) instead of u(v)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ndition “NumPocTotalCurr &gt; 1” is remo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65240" y="4149720"/>
          <a:ext cx="7561080" cy="2093760"/>
        </p:xfrm>
        <a:graphic>
          <a:graphicData uri="http://schemas.openxmlformats.org/drawingml/2006/table">
            <a:tbl>
              <a:tblPr/>
              <a:tblGrid>
                <a:gridCol w="6480000"/>
                <a:gridCol w="10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_pic_list_modification( ) {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slice_type   = =  P  | |  slice_type  = =  B ) { 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_pic_list_modification_flag_l0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ref_pic_list_modification_flag_l0  </a:t>
                      </a:r>
                      <a:r>
                        <a:rPr b="0" lang="en-GB" sz="12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&amp;&amp;  NumPocTotalCurr &gt; 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( i = 0; i &lt;= num_ref_idx_l0_active_minus1; i++ )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_entry_l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 i ]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e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 (v)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3647880" y="6356520"/>
            <a:ext cx="496620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lve inconsistency in CD text and remove dependency 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364E-B5EB-41AF-8075-4281B483BFA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44520" y="620640"/>
            <a:ext cx="9217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明朝"/>
              </a:rPr>
              <a:t>Condition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6.1-dev-ahg15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t was evaluated whether bitstream conformance error would be happened or not if one picture is assigned to both long term picture and short term picture at the same tim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test case 2.6 in the common conditions for reference picture marking and list construction described in JCTVC-H0725 was us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encoder function “rpsContainsShortTermReference()” was comment out to evaluate without encoder based restriction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明朝"/>
              </a:rPr>
              <a:t>Result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t was confirmed that decoding errors would be happened without this proposa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f the picture was marked as both long term and short term picture at the same tim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t was confirmed tha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any errors would not be happened by applying this propos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ven though the picture was marked as both long term and short term picture at the same tim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5" name=""/>
          <p:cNvSpPr/>
          <p:nvPr/>
        </p:nvSpPr>
        <p:spPr>
          <a:xfrm>
            <a:off x="5178240" y="5661000"/>
            <a:ext cx="43945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 checked by JCTVC-I0538 (Thanks to Sharp) 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91CB-4894-4D4E-AFAD-31B83C0771FE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880" y="731520"/>
            <a:ext cx="92822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match on picture marking process between CD text and HM6.1 software was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proposed to ignore short tem picture assignment for a picture which got duplicated assignment of long term and short term referenc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confirmed that any errors would not be happened by applying this proposa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though the picture was marked as both long term and short term pictur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he proposed method be adopted in the DIS of HE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2-04-30T07:58:41Z</dcterms:modified>
  <cp:revision>2306</cp:revision>
  <dc:subject/>
  <dc:title>Title</dc:title>
</cp:coreProperties>
</file>