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356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59360" y="-360"/>
            <a:ext cx="30240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23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713520"/>
            <a:ext cx="310356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59360" y="9713520"/>
            <a:ext cx="30240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B75B-267A-4694-BF8C-E5FF4892EFC0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059360" y="9713880"/>
            <a:ext cx="3024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BC53-9441-4ED7-8BF3-EF71B13B50B3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01448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212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F447-B0FF-4B12-9D23-B089440F0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AFDE-1283-463A-9B70-11FE90C0B8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F16CB-93A0-40E6-BD19-FB45035BA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46C48-363F-4634-A231-08B066ED07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4D6FD-C3D2-4E03-A38D-71FFB603B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8866-818E-41A2-9796-85AB7886C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1BDB6-526E-4B89-8BB1-ED65801B9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37249-D6F4-4D0F-A86F-3635A378D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83A9B-098F-4167-A8BA-735C5E917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CCAD-B59A-444F-9FCC-32838971C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6C3D-DD4A-4734-9BAF-6A9B18B5F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C8482-6D9E-4AE3-B5E4-5FBC03C73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43DE-A7F1-46D3-AD9A-0E29E9C240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1562040"/>
            <a:ext cx="86421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ahoma"/>
                <a:ea typeface="HY헤드라인M"/>
              </a:rPr>
              <a:t>POC signalling for CRA pict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3357720"/>
            <a:ext cx="83059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eongdoo Choi, Chanyul Kim, Jaehyun Kim, Jeonghoon Pa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Samsung Electronics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., Lt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Apr., 20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roposal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signaling of POC MSB in CRA pi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8b"/>
                </a:solidFill>
                <a:latin typeface="맑은 고딕"/>
              </a:rPr>
              <a:t> </a:t>
            </a:r>
            <a:r>
              <a:rPr b="1" lang="en-US" sz="2000" spc="-1" strike="noStrike">
                <a:solidFill>
                  <a:srgbClr val="22228b"/>
                </a:solidFill>
                <a:latin typeface="맑은 고딕"/>
              </a:rPr>
              <a:t>Benefit</a:t>
            </a:r>
            <a:endParaRPr b="0" lang="en-US" sz="2000" spc="-1" strike="noStrike">
              <a:solidFill>
                <a:srgbClr val="000066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8b"/>
                </a:solidFill>
                <a:latin typeface="맑은 고딕"/>
              </a:rPr>
              <a:t>Detection of random access and frame loss without system’s notification</a:t>
            </a:r>
            <a:endParaRPr b="0" lang="en-US" sz="2000" spc="-1" strike="noStrike">
              <a:solidFill>
                <a:srgbClr val="3333cc"/>
              </a:solidFill>
              <a:latin typeface="맑은 고딕"/>
            </a:endParaRPr>
          </a:p>
          <a:p>
            <a:pPr lvl="3" marL="1600200" indent="-22860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228b"/>
                </a:solidFill>
                <a:latin typeface="맑은 고딕"/>
              </a:rPr>
              <a:t>By comparing the POC MSB inferred from the previous POC and the POC MSB signaled explicitly.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맑은 고딕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8b"/>
                </a:solidFill>
                <a:latin typeface="맑은 고딕"/>
              </a:rPr>
              <a:t>POC synchronization in multiview extension</a:t>
            </a:r>
            <a:endParaRPr b="0" lang="en-US" sz="2000" spc="-1" strike="noStrike">
              <a:solidFill>
                <a:srgbClr val="3333cc"/>
              </a:solidFill>
              <a:latin typeface="맑은 고딕"/>
            </a:endParaRPr>
          </a:p>
          <a:p>
            <a:pPr lvl="3" marL="1600200" indent="-22860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228b"/>
                </a:solidFill>
                <a:latin typeface="맑은 고딕"/>
              </a:rPr>
              <a:t>Prevention of POC mismatch between views in view-point/layer switching point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4269-0FF1-410A-A2A6-7A31BEFC63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ction of random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맑은 고딕"/>
              </a:rPr>
              <a:t>Detection of random access in CRA pictures without a notification from systems is helpful for discarding unused leading pictures at decoders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ction of frame lo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맑은 고딕"/>
              </a:rPr>
              <a:t>The corrupted POC MSB shall be corrected by the MSB calculated from the cycle of MSB signalled in slice headers. 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맑은 고딕"/>
              </a:rPr>
              <a:t>It is asserted that error propagation should be stopped at random access points.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xplicit signaling of POC MSB in CRA pictures would have a negligible effect on coding efficienc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tection of random access and frame los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C842-9F4F-4815-9649-B3A26DE4B2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POC synchronizatio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vention of the POC mismatch in multi-views/multi-lay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5F66-93DF-4342-B719-9662BD93A3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130"/>
          <p:cNvSpPr/>
          <p:nvPr/>
        </p:nvSpPr>
        <p:spPr>
          <a:xfrm>
            <a:off x="1549080" y="2286000"/>
            <a:ext cx="577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yer switching or random access of each layer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y result in POC mismatch between layers(view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그룹 6"/>
          <p:cNvGrpSpPr/>
          <p:nvPr/>
        </p:nvGrpSpPr>
        <p:grpSpPr>
          <a:xfrm>
            <a:off x="79920" y="3282840"/>
            <a:ext cx="8951400" cy="2502720"/>
            <a:chOff x="79920" y="3282840"/>
            <a:chExt cx="8951400" cy="2502720"/>
          </a:xfrm>
        </p:grpSpPr>
        <p:sp>
          <p:nvSpPr>
            <p:cNvPr id="103" name="직사각형 7"/>
            <p:cNvSpPr/>
            <p:nvPr/>
          </p:nvSpPr>
          <p:spPr>
            <a:xfrm>
              <a:off x="763560" y="4640400"/>
              <a:ext cx="252360" cy="708120"/>
            </a:xfrm>
            <a:prstGeom prst="rect">
              <a:avLst/>
            </a:prstGeom>
            <a:solidFill>
              <a:srgbClr val="e1b1de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I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직사각형 8"/>
            <p:cNvSpPr/>
            <p:nvPr/>
          </p:nvSpPr>
          <p:spPr>
            <a:xfrm>
              <a:off x="1758960" y="4640400"/>
              <a:ext cx="252360" cy="708120"/>
            </a:xfrm>
            <a:prstGeom prst="rect">
              <a:avLst/>
            </a:prstGeom>
            <a:solidFill>
              <a:srgbClr val="b4ceea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직사각형 9"/>
            <p:cNvSpPr/>
            <p:nvPr/>
          </p:nvSpPr>
          <p:spPr>
            <a:xfrm>
              <a:off x="2754360" y="4640400"/>
              <a:ext cx="252360" cy="708120"/>
            </a:xfrm>
            <a:prstGeom prst="rect">
              <a:avLst/>
            </a:prstGeom>
            <a:solidFill>
              <a:srgbClr val="e1b1de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I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직사각형 10"/>
            <p:cNvSpPr/>
            <p:nvPr/>
          </p:nvSpPr>
          <p:spPr>
            <a:xfrm>
              <a:off x="1272960" y="4640400"/>
              <a:ext cx="250560" cy="708120"/>
            </a:xfrm>
            <a:prstGeom prst="rect">
              <a:avLst/>
            </a:prstGeom>
            <a:solidFill>
              <a:srgbClr val="b4ceea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직사각형 11"/>
            <p:cNvSpPr/>
            <p:nvPr/>
          </p:nvSpPr>
          <p:spPr>
            <a:xfrm>
              <a:off x="2268360" y="4640400"/>
              <a:ext cx="252360" cy="708120"/>
            </a:xfrm>
            <a:prstGeom prst="rect">
              <a:avLst/>
            </a:prstGeom>
            <a:solidFill>
              <a:srgbClr val="b4ceea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아래로 구부러진 화살표 12"/>
            <p:cNvSpPr/>
            <p:nvPr/>
          </p:nvSpPr>
          <p:spPr>
            <a:xfrm>
              <a:off x="977760" y="4516560"/>
              <a:ext cx="884160" cy="141120"/>
            </a:xfrm>
            <a:custGeom>
              <a:avLst/>
              <a:gdLst>
                <a:gd name="textAreaLeft" fmla="*/ 207720 w 884160"/>
                <a:gd name="textAreaRight" fmla="*/ 658800 w 884160"/>
                <a:gd name="textAreaTop" fmla="*/ 18720 h 141120"/>
                <a:gd name="textAreaBottom" fmla="*/ 12240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153" hR="21600" stAng="10800000" swAng="5400000"/>
                  <a:lnTo>
                    <a:pt x="11015" y="0"/>
                  </a:lnTo>
                  <a:arcTo wR="10153" hR="21600" stAng="-5400000" swAng="3673187"/>
                  <a:lnTo>
                    <a:pt x="21278" y="16200"/>
                  </a:lnTo>
                  <a:lnTo>
                    <a:pt x="20737" y="21600"/>
                  </a:lnTo>
                  <a:lnTo>
                    <a:pt x="19552" y="16200"/>
                  </a:lnTo>
                  <a:lnTo>
                    <a:pt x="19984" y="16200"/>
                  </a:lnTo>
                  <a:arcTo wR="10153" hR="21600" stAng="-1726813" swAng="-3604538"/>
                  <a:lnTo>
                    <a:pt x="10584" y="19"/>
                  </a:lnTo>
                  <a:arcTo wR="10153" hR="21600" stAng="-5468649" swAng="-5331351"/>
                  <a:close/>
                </a:path>
                <a:path fill="darkenLess" w="21600" h="21600">
                  <a:moveTo>
                    <a:pt x="0" y="21600"/>
                  </a:moveTo>
                  <a:arcTo wR="10153" hR="21600" stAng="10800000" swAng="5400000"/>
                  <a:lnTo>
                    <a:pt x="10153" y="0"/>
                  </a:lnTo>
                  <a:arcTo wR="10153" hR="21600" stAng="-5400000" swAng="68649"/>
                  <a:lnTo>
                    <a:pt x="10584" y="19"/>
                  </a:lnTo>
                  <a:arcTo wR="10153" hR="21600" stAng="-5468649" swAng="-5331351"/>
                  <a:close/>
                </a:path>
              </a:pathLst>
            </a:custGeom>
            <a:solidFill>
              <a:srgbClr val="b4ceea"/>
            </a:solidFill>
            <a:ln w="25560">
              <a:solidFill>
                <a:srgbClr val="262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아래로 구부러진 화살표 13"/>
            <p:cNvSpPr/>
            <p:nvPr/>
          </p:nvSpPr>
          <p:spPr>
            <a:xfrm flipH="1">
              <a:off x="1928880" y="4516560"/>
              <a:ext cx="884160" cy="141120"/>
            </a:xfrm>
            <a:custGeom>
              <a:avLst/>
              <a:gdLst>
                <a:gd name="textAreaLeft" fmla="*/ 208080 w 884160"/>
                <a:gd name="textAreaRight" fmla="*/ 659160 w 884160"/>
                <a:gd name="textAreaTop" fmla="*/ 18720 h 141120"/>
                <a:gd name="textAreaBottom" fmla="*/ 12240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153" hR="21600" stAng="10800000" swAng="5400000"/>
                  <a:lnTo>
                    <a:pt x="11015" y="0"/>
                  </a:lnTo>
                  <a:arcTo wR="10153" hR="21600" stAng="-5400000" swAng="3673187"/>
                  <a:lnTo>
                    <a:pt x="21278" y="16200"/>
                  </a:lnTo>
                  <a:lnTo>
                    <a:pt x="20737" y="21600"/>
                  </a:lnTo>
                  <a:lnTo>
                    <a:pt x="19552" y="16200"/>
                  </a:lnTo>
                  <a:lnTo>
                    <a:pt x="19984" y="16200"/>
                  </a:lnTo>
                  <a:arcTo wR="10153" hR="21600" stAng="-1726813" swAng="-3604538"/>
                  <a:lnTo>
                    <a:pt x="10584" y="19"/>
                  </a:lnTo>
                  <a:arcTo wR="10153" hR="21600" stAng="-5468649" swAng="-5331351"/>
                  <a:close/>
                </a:path>
                <a:path fill="darkenLess" w="21600" h="21600">
                  <a:moveTo>
                    <a:pt x="0" y="21600"/>
                  </a:moveTo>
                  <a:arcTo wR="10153" hR="21600" stAng="10800000" swAng="5400000"/>
                  <a:lnTo>
                    <a:pt x="10153" y="0"/>
                  </a:lnTo>
                  <a:arcTo wR="10153" hR="21600" stAng="-5400000" swAng="68649"/>
                  <a:lnTo>
                    <a:pt x="10584" y="19"/>
                  </a:lnTo>
                  <a:arcTo wR="10153" hR="21600" stAng="-5468649" swAng="-5331351"/>
                  <a:close/>
                </a:path>
              </a:pathLst>
            </a:custGeom>
            <a:solidFill>
              <a:srgbClr val="b4ceea"/>
            </a:solidFill>
            <a:ln w="25560">
              <a:solidFill>
                <a:srgbClr val="262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오른쪽 화살표 14"/>
            <p:cNvSpPr/>
            <p:nvPr/>
          </p:nvSpPr>
          <p:spPr>
            <a:xfrm>
              <a:off x="1057320" y="5018040"/>
              <a:ext cx="176040" cy="29880"/>
            </a:xfrm>
            <a:prstGeom prst="rightArrow">
              <a:avLst>
                <a:gd name="adj1" fmla="val 50000"/>
                <a:gd name="adj2" fmla="val 50433"/>
              </a:avLst>
            </a:prstGeom>
            <a:solidFill>
              <a:srgbClr val="b4ceea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오른쪽 화살표 15"/>
            <p:cNvSpPr/>
            <p:nvPr/>
          </p:nvSpPr>
          <p:spPr>
            <a:xfrm rot="10800000">
              <a:off x="1564920" y="5017680"/>
              <a:ext cx="177480" cy="29880"/>
            </a:xfrm>
            <a:prstGeom prst="rightArrow">
              <a:avLst>
                <a:gd name="adj1" fmla="val 50000"/>
                <a:gd name="adj2" fmla="val 50378"/>
              </a:avLst>
            </a:prstGeom>
            <a:solidFill>
              <a:srgbClr val="b4ceea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오른쪽 화살표 16"/>
            <p:cNvSpPr/>
            <p:nvPr/>
          </p:nvSpPr>
          <p:spPr>
            <a:xfrm rot="10800000">
              <a:off x="2538000" y="5017680"/>
              <a:ext cx="177480" cy="29880"/>
            </a:xfrm>
            <a:prstGeom prst="rightArrow">
              <a:avLst>
                <a:gd name="adj1" fmla="val 50000"/>
                <a:gd name="adj2" fmla="val 50378"/>
              </a:avLst>
            </a:prstGeom>
            <a:solidFill>
              <a:srgbClr val="b4ceea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오른쪽 화살표 17"/>
            <p:cNvSpPr/>
            <p:nvPr/>
          </p:nvSpPr>
          <p:spPr>
            <a:xfrm>
              <a:off x="2052720" y="5018040"/>
              <a:ext cx="177480" cy="29880"/>
            </a:xfrm>
            <a:prstGeom prst="rightArrow">
              <a:avLst>
                <a:gd name="adj1" fmla="val 50000"/>
                <a:gd name="adj2" fmla="val 50378"/>
              </a:avLst>
            </a:prstGeom>
            <a:solidFill>
              <a:srgbClr val="b4ceea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Box 130"/>
            <p:cNvSpPr/>
            <p:nvPr/>
          </p:nvSpPr>
          <p:spPr>
            <a:xfrm>
              <a:off x="79920" y="3930480"/>
              <a:ext cx="65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ew N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Box 131"/>
            <p:cNvSpPr/>
            <p:nvPr/>
          </p:nvSpPr>
          <p:spPr>
            <a:xfrm>
              <a:off x="95760" y="481644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ew 0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base)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직사각형 20"/>
            <p:cNvSpPr/>
            <p:nvPr/>
          </p:nvSpPr>
          <p:spPr>
            <a:xfrm>
              <a:off x="3759120" y="4640400"/>
              <a:ext cx="252360" cy="708120"/>
            </a:xfrm>
            <a:prstGeom prst="rect">
              <a:avLst/>
            </a:prstGeom>
            <a:solidFill>
              <a:srgbClr val="b4ceea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직사각형 21"/>
            <p:cNvSpPr/>
            <p:nvPr/>
          </p:nvSpPr>
          <p:spPr>
            <a:xfrm>
              <a:off x="4754520" y="4640400"/>
              <a:ext cx="252360" cy="708120"/>
            </a:xfrm>
            <a:prstGeom prst="rect">
              <a:avLst/>
            </a:prstGeom>
            <a:solidFill>
              <a:srgbClr val="e1b1de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I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직사각형 22"/>
            <p:cNvSpPr/>
            <p:nvPr/>
          </p:nvSpPr>
          <p:spPr>
            <a:xfrm>
              <a:off x="3271680" y="4640400"/>
              <a:ext cx="252360" cy="708120"/>
            </a:xfrm>
            <a:prstGeom prst="rect">
              <a:avLst/>
            </a:prstGeom>
            <a:solidFill>
              <a:srgbClr val="b4ceea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직사각형 23"/>
            <p:cNvSpPr/>
            <p:nvPr/>
          </p:nvSpPr>
          <p:spPr>
            <a:xfrm>
              <a:off x="4268880" y="4640400"/>
              <a:ext cx="252360" cy="708120"/>
            </a:xfrm>
            <a:prstGeom prst="rect">
              <a:avLst/>
            </a:prstGeom>
            <a:solidFill>
              <a:srgbClr val="b4ceea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아래로 구부러진 화살표 24"/>
            <p:cNvSpPr/>
            <p:nvPr/>
          </p:nvSpPr>
          <p:spPr>
            <a:xfrm flipH="1">
              <a:off x="3929040" y="4516560"/>
              <a:ext cx="884160" cy="141120"/>
            </a:xfrm>
            <a:custGeom>
              <a:avLst/>
              <a:gdLst>
                <a:gd name="textAreaLeft" fmla="*/ 208080 w 884160"/>
                <a:gd name="textAreaRight" fmla="*/ 659160 w 884160"/>
                <a:gd name="textAreaTop" fmla="*/ 18720 h 141120"/>
                <a:gd name="textAreaBottom" fmla="*/ 12240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153" hR="21600" stAng="10800000" swAng="5400000"/>
                  <a:lnTo>
                    <a:pt x="11015" y="0"/>
                  </a:lnTo>
                  <a:arcTo wR="10153" hR="21600" stAng="-5400000" swAng="3673187"/>
                  <a:lnTo>
                    <a:pt x="21278" y="16200"/>
                  </a:lnTo>
                  <a:lnTo>
                    <a:pt x="20737" y="21600"/>
                  </a:lnTo>
                  <a:lnTo>
                    <a:pt x="19552" y="16200"/>
                  </a:lnTo>
                  <a:lnTo>
                    <a:pt x="19984" y="16200"/>
                  </a:lnTo>
                  <a:arcTo wR="10153" hR="21600" stAng="-1726813" swAng="-3604538"/>
                  <a:lnTo>
                    <a:pt x="10584" y="19"/>
                  </a:lnTo>
                  <a:arcTo wR="10153" hR="21600" stAng="-5468649" swAng="-5331351"/>
                  <a:close/>
                </a:path>
                <a:path fill="darkenLess" w="21600" h="21600">
                  <a:moveTo>
                    <a:pt x="0" y="21600"/>
                  </a:moveTo>
                  <a:arcTo wR="10153" hR="21600" stAng="10800000" swAng="5400000"/>
                  <a:lnTo>
                    <a:pt x="10153" y="0"/>
                  </a:lnTo>
                  <a:arcTo wR="10153" hR="21600" stAng="-5400000" swAng="68649"/>
                  <a:lnTo>
                    <a:pt x="10584" y="19"/>
                  </a:lnTo>
                  <a:arcTo wR="10153" hR="21600" stAng="-5468649" swAng="-5331351"/>
                  <a:close/>
                </a:path>
              </a:pathLst>
            </a:custGeom>
            <a:solidFill>
              <a:srgbClr val="b4ceea"/>
            </a:solidFill>
            <a:ln w="25560">
              <a:solidFill>
                <a:srgbClr val="262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오른쪽 화살표 25"/>
            <p:cNvSpPr/>
            <p:nvPr/>
          </p:nvSpPr>
          <p:spPr>
            <a:xfrm rot="10800000">
              <a:off x="3565080" y="5017680"/>
              <a:ext cx="177480" cy="29880"/>
            </a:xfrm>
            <a:prstGeom prst="rightArrow">
              <a:avLst>
                <a:gd name="adj1" fmla="val 50000"/>
                <a:gd name="adj2" fmla="val 50378"/>
              </a:avLst>
            </a:prstGeom>
            <a:solidFill>
              <a:srgbClr val="b4ceea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오른쪽 화살표 26"/>
            <p:cNvSpPr/>
            <p:nvPr/>
          </p:nvSpPr>
          <p:spPr>
            <a:xfrm rot="10800000">
              <a:off x="4538520" y="5017680"/>
              <a:ext cx="177480" cy="29880"/>
            </a:xfrm>
            <a:prstGeom prst="rightArrow">
              <a:avLst>
                <a:gd name="adj1" fmla="val 50000"/>
                <a:gd name="adj2" fmla="val 50378"/>
              </a:avLst>
            </a:prstGeom>
            <a:solidFill>
              <a:srgbClr val="b4ceea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오른쪽 화살표 27"/>
            <p:cNvSpPr/>
            <p:nvPr/>
          </p:nvSpPr>
          <p:spPr>
            <a:xfrm>
              <a:off x="4052880" y="5018040"/>
              <a:ext cx="177480" cy="29880"/>
            </a:xfrm>
            <a:prstGeom prst="rightArrow">
              <a:avLst>
                <a:gd name="adj1" fmla="val 50000"/>
                <a:gd name="adj2" fmla="val 50378"/>
              </a:avLst>
            </a:prstGeom>
            <a:solidFill>
              <a:srgbClr val="b4ceea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위쪽 화살표 28"/>
            <p:cNvSpPr/>
            <p:nvPr/>
          </p:nvSpPr>
          <p:spPr>
            <a:xfrm>
              <a:off x="4896000" y="4368600"/>
              <a:ext cx="14040" cy="330120"/>
            </a:xfrm>
            <a:prstGeom prst="upArrow">
              <a:avLst>
                <a:gd name="adj1" fmla="val 50000"/>
                <a:gd name="adj2" fmla="val 50836"/>
              </a:avLst>
            </a:prstGeom>
            <a:solidFill>
              <a:srgbClr val="ffc00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아래로 구부러진 화살표 29"/>
            <p:cNvSpPr/>
            <p:nvPr/>
          </p:nvSpPr>
          <p:spPr>
            <a:xfrm>
              <a:off x="2968560" y="4516560"/>
              <a:ext cx="882360" cy="141120"/>
            </a:xfrm>
            <a:custGeom>
              <a:avLst/>
              <a:gdLst>
                <a:gd name="textAreaLeft" fmla="*/ 207360 w 882360"/>
                <a:gd name="textAreaRight" fmla="*/ 657360 w 882360"/>
                <a:gd name="textAreaTop" fmla="*/ 18720 h 141120"/>
                <a:gd name="textAreaBottom" fmla="*/ 12240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152" hR="21600" stAng="10800000" swAng="5400000"/>
                  <a:lnTo>
                    <a:pt x="11017" y="0"/>
                  </a:lnTo>
                  <a:arcTo wR="10152" hR="21600" stAng="-5400000" swAng="3672972"/>
                  <a:lnTo>
                    <a:pt x="21278" y="16200"/>
                  </a:lnTo>
                  <a:lnTo>
                    <a:pt x="20736" y="21600"/>
                  </a:lnTo>
                  <a:lnTo>
                    <a:pt x="19549" y="16200"/>
                  </a:lnTo>
                  <a:lnTo>
                    <a:pt x="19981" y="16200"/>
                  </a:lnTo>
                  <a:arcTo wR="10152" hR="21600" stAng="-1727028" swAng="-3604084"/>
                  <a:lnTo>
                    <a:pt x="10584" y="20"/>
                  </a:lnTo>
                  <a:arcTo wR="10152" hR="21600" stAng="-5468888" swAng="-5331112"/>
                  <a:close/>
                </a:path>
                <a:path fill="darkenLess" w="21600" h="21600">
                  <a:moveTo>
                    <a:pt x="0" y="21600"/>
                  </a:moveTo>
                  <a:arcTo wR="10152" hR="21600" stAng="10800000" swAng="5400000"/>
                  <a:lnTo>
                    <a:pt x="10152" y="0"/>
                  </a:lnTo>
                  <a:arcTo wR="10152" hR="21600" stAng="-5400000" swAng="68888"/>
                  <a:lnTo>
                    <a:pt x="10584" y="20"/>
                  </a:lnTo>
                  <a:arcTo wR="10152" hR="21600" stAng="-5468888" swAng="-5331112"/>
                  <a:close/>
                </a:path>
              </a:pathLst>
            </a:custGeom>
            <a:solidFill>
              <a:srgbClr val="b4ceea"/>
            </a:solidFill>
            <a:ln w="25560">
              <a:solidFill>
                <a:srgbClr val="262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오른쪽 화살표 30"/>
            <p:cNvSpPr/>
            <p:nvPr/>
          </p:nvSpPr>
          <p:spPr>
            <a:xfrm>
              <a:off x="3046320" y="5018040"/>
              <a:ext cx="176040" cy="29880"/>
            </a:xfrm>
            <a:prstGeom prst="rightArrow">
              <a:avLst>
                <a:gd name="adj1" fmla="val 50000"/>
                <a:gd name="adj2" fmla="val 50433"/>
              </a:avLst>
            </a:prstGeom>
            <a:solidFill>
              <a:srgbClr val="b4ceea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직사각형 31"/>
            <p:cNvSpPr/>
            <p:nvPr/>
          </p:nvSpPr>
          <p:spPr>
            <a:xfrm>
              <a:off x="5784840" y="3693960"/>
              <a:ext cx="249120" cy="709560"/>
            </a:xfrm>
            <a:prstGeom prst="rect">
              <a:avLst/>
            </a:prstGeom>
            <a:solidFill>
              <a:srgbClr val="b4ceea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직사각형 32"/>
            <p:cNvSpPr/>
            <p:nvPr/>
          </p:nvSpPr>
          <p:spPr>
            <a:xfrm>
              <a:off x="6778800" y="3693960"/>
              <a:ext cx="252360" cy="70956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P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직사각형 33"/>
            <p:cNvSpPr/>
            <p:nvPr/>
          </p:nvSpPr>
          <p:spPr>
            <a:xfrm>
              <a:off x="5297400" y="3693960"/>
              <a:ext cx="250560" cy="709560"/>
            </a:xfrm>
            <a:prstGeom prst="rect">
              <a:avLst/>
            </a:prstGeom>
            <a:solidFill>
              <a:srgbClr val="b4ceea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직사각형 34"/>
            <p:cNvSpPr/>
            <p:nvPr/>
          </p:nvSpPr>
          <p:spPr>
            <a:xfrm>
              <a:off x="6292800" y="3693960"/>
              <a:ext cx="250560" cy="709560"/>
            </a:xfrm>
            <a:prstGeom prst="rect">
              <a:avLst/>
            </a:prstGeom>
            <a:solidFill>
              <a:srgbClr val="b4ceea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직사각형 35"/>
            <p:cNvSpPr/>
            <p:nvPr/>
          </p:nvSpPr>
          <p:spPr>
            <a:xfrm>
              <a:off x="5784840" y="4640400"/>
              <a:ext cx="249120" cy="708120"/>
            </a:xfrm>
            <a:prstGeom prst="rect">
              <a:avLst/>
            </a:prstGeom>
            <a:solidFill>
              <a:srgbClr val="b4ceea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직사각형 36"/>
            <p:cNvSpPr/>
            <p:nvPr/>
          </p:nvSpPr>
          <p:spPr>
            <a:xfrm>
              <a:off x="6778800" y="4640400"/>
              <a:ext cx="252360" cy="708120"/>
            </a:xfrm>
            <a:prstGeom prst="rect">
              <a:avLst/>
            </a:prstGeom>
            <a:solidFill>
              <a:srgbClr val="e1b1de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I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직사각형 37"/>
            <p:cNvSpPr/>
            <p:nvPr/>
          </p:nvSpPr>
          <p:spPr>
            <a:xfrm>
              <a:off x="5297400" y="4640400"/>
              <a:ext cx="250560" cy="708120"/>
            </a:xfrm>
            <a:prstGeom prst="rect">
              <a:avLst/>
            </a:prstGeom>
            <a:solidFill>
              <a:srgbClr val="b4ceea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직사각형 38"/>
            <p:cNvSpPr/>
            <p:nvPr/>
          </p:nvSpPr>
          <p:spPr>
            <a:xfrm>
              <a:off x="6292800" y="4640400"/>
              <a:ext cx="250560" cy="708120"/>
            </a:xfrm>
            <a:prstGeom prst="rect">
              <a:avLst/>
            </a:prstGeom>
            <a:solidFill>
              <a:srgbClr val="b4ceea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아래로 구부러진 화살표 39"/>
            <p:cNvSpPr/>
            <p:nvPr/>
          </p:nvSpPr>
          <p:spPr>
            <a:xfrm>
              <a:off x="4992840" y="3552480"/>
              <a:ext cx="884160" cy="141120"/>
            </a:xfrm>
            <a:custGeom>
              <a:avLst/>
              <a:gdLst>
                <a:gd name="textAreaLeft" fmla="*/ 207720 w 884160"/>
                <a:gd name="textAreaRight" fmla="*/ 658800 w 884160"/>
                <a:gd name="textAreaTop" fmla="*/ 18720 h 141120"/>
                <a:gd name="textAreaBottom" fmla="*/ 12240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153" hR="21600" stAng="10800000" swAng="5400000"/>
                  <a:lnTo>
                    <a:pt x="11015" y="0"/>
                  </a:lnTo>
                  <a:arcTo wR="10153" hR="21600" stAng="-5400000" swAng="3673187"/>
                  <a:lnTo>
                    <a:pt x="21278" y="16200"/>
                  </a:lnTo>
                  <a:lnTo>
                    <a:pt x="20737" y="21600"/>
                  </a:lnTo>
                  <a:lnTo>
                    <a:pt x="19552" y="16200"/>
                  </a:lnTo>
                  <a:lnTo>
                    <a:pt x="19984" y="16200"/>
                  </a:lnTo>
                  <a:arcTo wR="10153" hR="21600" stAng="-1726813" swAng="-3604538"/>
                  <a:lnTo>
                    <a:pt x="10584" y="19"/>
                  </a:lnTo>
                  <a:arcTo wR="10153" hR="21600" stAng="-5468649" swAng="-5331351"/>
                  <a:close/>
                </a:path>
                <a:path fill="darkenLess" w="21600" h="21600">
                  <a:moveTo>
                    <a:pt x="0" y="21600"/>
                  </a:moveTo>
                  <a:arcTo wR="10153" hR="21600" stAng="10800000" swAng="5400000"/>
                  <a:lnTo>
                    <a:pt x="10153" y="0"/>
                  </a:lnTo>
                  <a:arcTo wR="10153" hR="21600" stAng="-5400000" swAng="68649"/>
                  <a:lnTo>
                    <a:pt x="10584" y="19"/>
                  </a:lnTo>
                  <a:arcTo wR="10153" hR="21600" stAng="-5468649" swAng="-5331351"/>
                  <a:close/>
                </a:path>
              </a:pathLst>
            </a:custGeom>
            <a:solidFill>
              <a:srgbClr val="b4ceea"/>
            </a:solidFill>
            <a:ln w="25560">
              <a:solidFill>
                <a:srgbClr val="262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아래로 구부러진 화살표 40"/>
            <p:cNvSpPr/>
            <p:nvPr/>
          </p:nvSpPr>
          <p:spPr>
            <a:xfrm flipH="1">
              <a:off x="5945400" y="3552480"/>
              <a:ext cx="884160" cy="141120"/>
            </a:xfrm>
            <a:custGeom>
              <a:avLst/>
              <a:gdLst>
                <a:gd name="textAreaLeft" fmla="*/ 208080 w 884160"/>
                <a:gd name="textAreaRight" fmla="*/ 659160 w 884160"/>
                <a:gd name="textAreaTop" fmla="*/ 18720 h 141120"/>
                <a:gd name="textAreaBottom" fmla="*/ 12240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153" hR="21600" stAng="10800000" swAng="5400000"/>
                  <a:lnTo>
                    <a:pt x="11015" y="0"/>
                  </a:lnTo>
                  <a:arcTo wR="10153" hR="21600" stAng="-5400000" swAng="3673187"/>
                  <a:lnTo>
                    <a:pt x="21278" y="16200"/>
                  </a:lnTo>
                  <a:lnTo>
                    <a:pt x="20737" y="21600"/>
                  </a:lnTo>
                  <a:lnTo>
                    <a:pt x="19552" y="16200"/>
                  </a:lnTo>
                  <a:lnTo>
                    <a:pt x="19984" y="16200"/>
                  </a:lnTo>
                  <a:arcTo wR="10153" hR="21600" stAng="-1726813" swAng="-3604538"/>
                  <a:lnTo>
                    <a:pt x="10584" y="19"/>
                  </a:lnTo>
                  <a:arcTo wR="10153" hR="21600" stAng="-5468649" swAng="-5331351"/>
                  <a:close/>
                </a:path>
                <a:path fill="darkenLess" w="21600" h="21600">
                  <a:moveTo>
                    <a:pt x="0" y="21600"/>
                  </a:moveTo>
                  <a:arcTo wR="10153" hR="21600" stAng="10800000" swAng="5400000"/>
                  <a:lnTo>
                    <a:pt x="10153" y="0"/>
                  </a:lnTo>
                  <a:arcTo wR="10153" hR="21600" stAng="-5400000" swAng="68649"/>
                  <a:lnTo>
                    <a:pt x="10584" y="19"/>
                  </a:lnTo>
                  <a:arcTo wR="10153" hR="21600" stAng="-5468649" swAng="-5331351"/>
                  <a:close/>
                </a:path>
              </a:pathLst>
            </a:custGeom>
            <a:solidFill>
              <a:srgbClr val="b4ceea"/>
            </a:solidFill>
            <a:ln w="25560">
              <a:solidFill>
                <a:srgbClr val="262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오른쪽 화살표 41"/>
            <p:cNvSpPr/>
            <p:nvPr/>
          </p:nvSpPr>
          <p:spPr>
            <a:xfrm>
              <a:off x="5081760" y="4025880"/>
              <a:ext cx="176040" cy="28440"/>
            </a:xfrm>
            <a:prstGeom prst="rightArrow">
              <a:avLst>
                <a:gd name="adj1" fmla="val 50000"/>
                <a:gd name="adj2" fmla="val 50178"/>
              </a:avLst>
            </a:prstGeom>
            <a:solidFill>
              <a:srgbClr val="b4ceea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오른쪽 화살표 42"/>
            <p:cNvSpPr/>
            <p:nvPr/>
          </p:nvSpPr>
          <p:spPr>
            <a:xfrm rot="10800000">
              <a:off x="5589360" y="4025520"/>
              <a:ext cx="177480" cy="28440"/>
            </a:xfrm>
            <a:prstGeom prst="rightArrow">
              <a:avLst>
                <a:gd name="adj1" fmla="val 50000"/>
                <a:gd name="adj2" fmla="val 50155"/>
              </a:avLst>
            </a:prstGeom>
            <a:solidFill>
              <a:srgbClr val="b4ceea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오른쪽 화살표 43"/>
            <p:cNvSpPr/>
            <p:nvPr/>
          </p:nvSpPr>
          <p:spPr>
            <a:xfrm rot="10800000">
              <a:off x="6562440" y="4025520"/>
              <a:ext cx="177480" cy="28440"/>
            </a:xfrm>
            <a:prstGeom prst="rightArrow">
              <a:avLst>
                <a:gd name="adj1" fmla="val 50000"/>
                <a:gd name="adj2" fmla="val 50155"/>
              </a:avLst>
            </a:prstGeom>
            <a:solidFill>
              <a:srgbClr val="b4ceea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오른쪽 화살표 44"/>
            <p:cNvSpPr/>
            <p:nvPr/>
          </p:nvSpPr>
          <p:spPr>
            <a:xfrm>
              <a:off x="6077160" y="4025880"/>
              <a:ext cx="176040" cy="28440"/>
            </a:xfrm>
            <a:prstGeom prst="rightArrow">
              <a:avLst>
                <a:gd name="adj1" fmla="val 50000"/>
                <a:gd name="adj2" fmla="val 50178"/>
              </a:avLst>
            </a:prstGeom>
            <a:solidFill>
              <a:srgbClr val="b4ceea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아래로 구부러진 화살표 45"/>
            <p:cNvSpPr/>
            <p:nvPr/>
          </p:nvSpPr>
          <p:spPr>
            <a:xfrm>
              <a:off x="5002200" y="4516560"/>
              <a:ext cx="884160" cy="141120"/>
            </a:xfrm>
            <a:custGeom>
              <a:avLst/>
              <a:gdLst>
                <a:gd name="textAreaLeft" fmla="*/ 207720 w 884160"/>
                <a:gd name="textAreaRight" fmla="*/ 658800 w 884160"/>
                <a:gd name="textAreaTop" fmla="*/ 18720 h 141120"/>
                <a:gd name="textAreaBottom" fmla="*/ 12240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153" hR="21600" stAng="10800000" swAng="5400000"/>
                  <a:lnTo>
                    <a:pt x="11015" y="0"/>
                  </a:lnTo>
                  <a:arcTo wR="10153" hR="21600" stAng="-5400000" swAng="3673187"/>
                  <a:lnTo>
                    <a:pt x="21278" y="16200"/>
                  </a:lnTo>
                  <a:lnTo>
                    <a:pt x="20737" y="21600"/>
                  </a:lnTo>
                  <a:lnTo>
                    <a:pt x="19552" y="16200"/>
                  </a:lnTo>
                  <a:lnTo>
                    <a:pt x="19984" y="16200"/>
                  </a:lnTo>
                  <a:arcTo wR="10153" hR="21600" stAng="-1726813" swAng="-3604538"/>
                  <a:lnTo>
                    <a:pt x="10584" y="19"/>
                  </a:lnTo>
                  <a:arcTo wR="10153" hR="21600" stAng="-5468649" swAng="-5331351"/>
                  <a:close/>
                </a:path>
                <a:path fill="darkenLess" w="21600" h="21600">
                  <a:moveTo>
                    <a:pt x="0" y="21600"/>
                  </a:moveTo>
                  <a:arcTo wR="10153" hR="21600" stAng="10800000" swAng="5400000"/>
                  <a:lnTo>
                    <a:pt x="10153" y="0"/>
                  </a:lnTo>
                  <a:arcTo wR="10153" hR="21600" stAng="-5400000" swAng="68649"/>
                  <a:lnTo>
                    <a:pt x="10584" y="19"/>
                  </a:lnTo>
                  <a:arcTo wR="10153" hR="21600" stAng="-5468649" swAng="-5331351"/>
                  <a:close/>
                </a:path>
              </a:pathLst>
            </a:custGeom>
            <a:solidFill>
              <a:srgbClr val="b4ceea"/>
            </a:solidFill>
            <a:ln w="25560">
              <a:solidFill>
                <a:srgbClr val="262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아래로 구부러진 화살표 46"/>
            <p:cNvSpPr/>
            <p:nvPr/>
          </p:nvSpPr>
          <p:spPr>
            <a:xfrm flipH="1">
              <a:off x="5953320" y="4516560"/>
              <a:ext cx="885600" cy="141120"/>
            </a:xfrm>
            <a:custGeom>
              <a:avLst/>
              <a:gdLst>
                <a:gd name="textAreaLeft" fmla="*/ 208440 w 885600"/>
                <a:gd name="textAreaRight" fmla="*/ 660240 w 885600"/>
                <a:gd name="textAreaTop" fmla="*/ 18720 h 141120"/>
                <a:gd name="textAreaBottom" fmla="*/ 12240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154" hR="21600" stAng="10800000" swAng="5400000"/>
                  <a:lnTo>
                    <a:pt x="11015" y="0"/>
                  </a:lnTo>
                  <a:arcTo wR="10154" hR="21600" stAng="-5400000" swAng="3673330"/>
                  <a:lnTo>
                    <a:pt x="21278" y="16200"/>
                  </a:lnTo>
                  <a:lnTo>
                    <a:pt x="20739" y="21600"/>
                  </a:lnTo>
                  <a:lnTo>
                    <a:pt x="19555" y="16200"/>
                  </a:lnTo>
                  <a:lnTo>
                    <a:pt x="19986" y="16200"/>
                  </a:lnTo>
                  <a:arcTo wR="10154" hR="21600" stAng="-1726670" swAng="-3604761"/>
                  <a:lnTo>
                    <a:pt x="10585" y="19"/>
                  </a:lnTo>
                  <a:arcTo wR="10154" hR="21600" stAng="-5468569" swAng="-5331431"/>
                  <a:close/>
                </a:path>
                <a:path fill="darkenLess" w="21600" h="21600">
                  <a:moveTo>
                    <a:pt x="0" y="21600"/>
                  </a:moveTo>
                  <a:arcTo wR="10154" hR="21600" stAng="10800000" swAng="5400000"/>
                  <a:lnTo>
                    <a:pt x="10154" y="0"/>
                  </a:lnTo>
                  <a:arcTo wR="10154" hR="21600" stAng="-5400000" swAng="68569"/>
                  <a:lnTo>
                    <a:pt x="10585" y="19"/>
                  </a:lnTo>
                  <a:arcTo wR="10154" hR="21600" stAng="-5468569" swAng="-5331431"/>
                  <a:close/>
                </a:path>
              </a:pathLst>
            </a:custGeom>
            <a:solidFill>
              <a:srgbClr val="b4ceea"/>
            </a:solidFill>
            <a:ln w="25560">
              <a:solidFill>
                <a:srgbClr val="262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오른쪽 화살표 47"/>
            <p:cNvSpPr/>
            <p:nvPr/>
          </p:nvSpPr>
          <p:spPr>
            <a:xfrm>
              <a:off x="5081760" y="5018040"/>
              <a:ext cx="176040" cy="29880"/>
            </a:xfrm>
            <a:prstGeom prst="rightArrow">
              <a:avLst>
                <a:gd name="adj1" fmla="val 50000"/>
                <a:gd name="adj2" fmla="val 50433"/>
              </a:avLst>
            </a:prstGeom>
            <a:solidFill>
              <a:srgbClr val="b4ceea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오른쪽 화살표 48"/>
            <p:cNvSpPr/>
            <p:nvPr/>
          </p:nvSpPr>
          <p:spPr>
            <a:xfrm rot="10800000">
              <a:off x="5589360" y="5017680"/>
              <a:ext cx="177480" cy="29880"/>
            </a:xfrm>
            <a:prstGeom prst="rightArrow">
              <a:avLst>
                <a:gd name="adj1" fmla="val 50000"/>
                <a:gd name="adj2" fmla="val 50378"/>
              </a:avLst>
            </a:prstGeom>
            <a:solidFill>
              <a:srgbClr val="b4ceea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오른쪽 화살표 49"/>
            <p:cNvSpPr/>
            <p:nvPr/>
          </p:nvSpPr>
          <p:spPr>
            <a:xfrm rot="10800000">
              <a:off x="6562440" y="5017680"/>
              <a:ext cx="177480" cy="29880"/>
            </a:xfrm>
            <a:prstGeom prst="rightArrow">
              <a:avLst>
                <a:gd name="adj1" fmla="val 50000"/>
                <a:gd name="adj2" fmla="val 50378"/>
              </a:avLst>
            </a:prstGeom>
            <a:solidFill>
              <a:srgbClr val="b4ceea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오른쪽 화살표 50"/>
            <p:cNvSpPr/>
            <p:nvPr/>
          </p:nvSpPr>
          <p:spPr>
            <a:xfrm>
              <a:off x="6077160" y="5018040"/>
              <a:ext cx="176040" cy="29880"/>
            </a:xfrm>
            <a:prstGeom prst="rightArrow">
              <a:avLst>
                <a:gd name="adj1" fmla="val 50000"/>
                <a:gd name="adj2" fmla="val 50433"/>
              </a:avLst>
            </a:prstGeom>
            <a:solidFill>
              <a:srgbClr val="b4ceea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위쪽 화살표 51"/>
            <p:cNvSpPr/>
            <p:nvPr/>
          </p:nvSpPr>
          <p:spPr>
            <a:xfrm>
              <a:off x="5413320" y="4368600"/>
              <a:ext cx="12600" cy="330120"/>
            </a:xfrm>
            <a:prstGeom prst="upArrow">
              <a:avLst>
                <a:gd name="adj1" fmla="val 50000"/>
                <a:gd name="adj2" fmla="val 50338"/>
              </a:avLst>
            </a:prstGeom>
            <a:solidFill>
              <a:srgbClr val="b4ceea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위쪽 화살표 52"/>
            <p:cNvSpPr/>
            <p:nvPr/>
          </p:nvSpPr>
          <p:spPr>
            <a:xfrm>
              <a:off x="5900760" y="4368600"/>
              <a:ext cx="12600" cy="330120"/>
            </a:xfrm>
            <a:prstGeom prst="upArrow">
              <a:avLst>
                <a:gd name="adj1" fmla="val 50000"/>
                <a:gd name="adj2" fmla="val 50338"/>
              </a:avLst>
            </a:prstGeom>
            <a:solidFill>
              <a:srgbClr val="b4ceea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위쪽 화살표 53"/>
            <p:cNvSpPr/>
            <p:nvPr/>
          </p:nvSpPr>
          <p:spPr>
            <a:xfrm>
              <a:off x="6408720" y="4368600"/>
              <a:ext cx="14040" cy="330120"/>
            </a:xfrm>
            <a:prstGeom prst="upArrow">
              <a:avLst>
                <a:gd name="adj1" fmla="val 50000"/>
                <a:gd name="adj2" fmla="val 50836"/>
              </a:avLst>
            </a:prstGeom>
            <a:solidFill>
              <a:srgbClr val="b4ceea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위쪽 화살표 54"/>
            <p:cNvSpPr/>
            <p:nvPr/>
          </p:nvSpPr>
          <p:spPr>
            <a:xfrm>
              <a:off x="6912000" y="4368600"/>
              <a:ext cx="14040" cy="330120"/>
            </a:xfrm>
            <a:prstGeom prst="upArrow">
              <a:avLst>
                <a:gd name="adj1" fmla="val 50000"/>
                <a:gd name="adj2" fmla="val 50836"/>
              </a:avLst>
            </a:prstGeom>
            <a:solidFill>
              <a:srgbClr val="ffc00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직사각형 55"/>
            <p:cNvSpPr/>
            <p:nvPr/>
          </p:nvSpPr>
          <p:spPr>
            <a:xfrm>
              <a:off x="7785360" y="3693960"/>
              <a:ext cx="249120" cy="709560"/>
            </a:xfrm>
            <a:prstGeom prst="rect">
              <a:avLst/>
            </a:prstGeom>
            <a:solidFill>
              <a:srgbClr val="b4ceea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직사각형 56"/>
            <p:cNvSpPr/>
            <p:nvPr/>
          </p:nvSpPr>
          <p:spPr>
            <a:xfrm>
              <a:off x="8778960" y="3693960"/>
              <a:ext cx="252360" cy="70956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P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직사각형 57"/>
            <p:cNvSpPr/>
            <p:nvPr/>
          </p:nvSpPr>
          <p:spPr>
            <a:xfrm>
              <a:off x="7296480" y="3693960"/>
              <a:ext cx="252360" cy="709560"/>
            </a:xfrm>
            <a:prstGeom prst="rect">
              <a:avLst/>
            </a:prstGeom>
            <a:solidFill>
              <a:srgbClr val="b4ceea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직사각형 58"/>
            <p:cNvSpPr/>
            <p:nvPr/>
          </p:nvSpPr>
          <p:spPr>
            <a:xfrm>
              <a:off x="8293320" y="3693960"/>
              <a:ext cx="250560" cy="709560"/>
            </a:xfrm>
            <a:prstGeom prst="rect">
              <a:avLst/>
            </a:prstGeom>
            <a:solidFill>
              <a:srgbClr val="b4ceea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직사각형 59"/>
            <p:cNvSpPr/>
            <p:nvPr/>
          </p:nvSpPr>
          <p:spPr>
            <a:xfrm>
              <a:off x="7785360" y="4640400"/>
              <a:ext cx="249120" cy="708120"/>
            </a:xfrm>
            <a:prstGeom prst="rect">
              <a:avLst/>
            </a:prstGeom>
            <a:solidFill>
              <a:srgbClr val="b4ceea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직사각형 60"/>
            <p:cNvSpPr/>
            <p:nvPr/>
          </p:nvSpPr>
          <p:spPr>
            <a:xfrm>
              <a:off x="8778960" y="4640400"/>
              <a:ext cx="252360" cy="708120"/>
            </a:xfrm>
            <a:prstGeom prst="rect">
              <a:avLst/>
            </a:prstGeom>
            <a:solidFill>
              <a:srgbClr val="e1b1de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I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직사각형 61"/>
            <p:cNvSpPr/>
            <p:nvPr/>
          </p:nvSpPr>
          <p:spPr>
            <a:xfrm>
              <a:off x="7296480" y="4640400"/>
              <a:ext cx="252360" cy="708120"/>
            </a:xfrm>
            <a:prstGeom prst="rect">
              <a:avLst/>
            </a:prstGeom>
            <a:solidFill>
              <a:srgbClr val="b4ceea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직사각형 62"/>
            <p:cNvSpPr/>
            <p:nvPr/>
          </p:nvSpPr>
          <p:spPr>
            <a:xfrm>
              <a:off x="8293320" y="4640400"/>
              <a:ext cx="250560" cy="708120"/>
            </a:xfrm>
            <a:prstGeom prst="rect">
              <a:avLst/>
            </a:prstGeom>
            <a:solidFill>
              <a:srgbClr val="b4ceea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b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아래로 구부러진 화살표 63"/>
            <p:cNvSpPr/>
            <p:nvPr/>
          </p:nvSpPr>
          <p:spPr>
            <a:xfrm flipH="1">
              <a:off x="7945560" y="3552480"/>
              <a:ext cx="884160" cy="141120"/>
            </a:xfrm>
            <a:custGeom>
              <a:avLst/>
              <a:gdLst>
                <a:gd name="textAreaLeft" fmla="*/ 208080 w 884160"/>
                <a:gd name="textAreaRight" fmla="*/ 659160 w 884160"/>
                <a:gd name="textAreaTop" fmla="*/ 18720 h 141120"/>
                <a:gd name="textAreaBottom" fmla="*/ 12240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153" hR="21600" stAng="10800000" swAng="5400000"/>
                  <a:lnTo>
                    <a:pt x="11015" y="0"/>
                  </a:lnTo>
                  <a:arcTo wR="10153" hR="21600" stAng="-5400000" swAng="3673187"/>
                  <a:lnTo>
                    <a:pt x="21278" y="16200"/>
                  </a:lnTo>
                  <a:lnTo>
                    <a:pt x="20737" y="21600"/>
                  </a:lnTo>
                  <a:lnTo>
                    <a:pt x="19552" y="16200"/>
                  </a:lnTo>
                  <a:lnTo>
                    <a:pt x="19984" y="16200"/>
                  </a:lnTo>
                  <a:arcTo wR="10153" hR="21600" stAng="-1726813" swAng="-3604538"/>
                  <a:lnTo>
                    <a:pt x="10584" y="19"/>
                  </a:lnTo>
                  <a:arcTo wR="10153" hR="21600" stAng="-5468649" swAng="-5331351"/>
                  <a:close/>
                </a:path>
                <a:path fill="darkenLess" w="21600" h="21600">
                  <a:moveTo>
                    <a:pt x="0" y="21600"/>
                  </a:moveTo>
                  <a:arcTo wR="10153" hR="21600" stAng="10800000" swAng="5400000"/>
                  <a:lnTo>
                    <a:pt x="10153" y="0"/>
                  </a:lnTo>
                  <a:arcTo wR="10153" hR="21600" stAng="-5400000" swAng="68649"/>
                  <a:lnTo>
                    <a:pt x="10584" y="19"/>
                  </a:lnTo>
                  <a:arcTo wR="10153" hR="21600" stAng="-5468649" swAng="-5331351"/>
                  <a:close/>
                </a:path>
              </a:pathLst>
            </a:custGeom>
            <a:solidFill>
              <a:srgbClr val="b4ceea"/>
            </a:solidFill>
            <a:ln w="25560">
              <a:solidFill>
                <a:srgbClr val="262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오른쪽 화살표 64"/>
            <p:cNvSpPr/>
            <p:nvPr/>
          </p:nvSpPr>
          <p:spPr>
            <a:xfrm rot="10800000">
              <a:off x="7589520" y="4025520"/>
              <a:ext cx="177480" cy="28440"/>
            </a:xfrm>
            <a:prstGeom prst="rightArrow">
              <a:avLst>
                <a:gd name="adj1" fmla="val 50000"/>
                <a:gd name="adj2" fmla="val 50155"/>
              </a:avLst>
            </a:prstGeom>
            <a:solidFill>
              <a:srgbClr val="b4ceea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오른쪽 화살표 65"/>
            <p:cNvSpPr/>
            <p:nvPr/>
          </p:nvSpPr>
          <p:spPr>
            <a:xfrm rot="10800000">
              <a:off x="8562960" y="4025520"/>
              <a:ext cx="177480" cy="28440"/>
            </a:xfrm>
            <a:prstGeom prst="rightArrow">
              <a:avLst>
                <a:gd name="adj1" fmla="val 50000"/>
                <a:gd name="adj2" fmla="val 50155"/>
              </a:avLst>
            </a:prstGeom>
            <a:solidFill>
              <a:srgbClr val="b4ceea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오른쪽 화살표 66"/>
            <p:cNvSpPr/>
            <p:nvPr/>
          </p:nvSpPr>
          <p:spPr>
            <a:xfrm>
              <a:off x="8077320" y="4025880"/>
              <a:ext cx="176040" cy="28440"/>
            </a:xfrm>
            <a:prstGeom prst="rightArrow">
              <a:avLst>
                <a:gd name="adj1" fmla="val 50000"/>
                <a:gd name="adj2" fmla="val 50178"/>
              </a:avLst>
            </a:prstGeom>
            <a:solidFill>
              <a:srgbClr val="b4ceea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아래로 구부러진 화살표 67"/>
            <p:cNvSpPr/>
            <p:nvPr/>
          </p:nvSpPr>
          <p:spPr>
            <a:xfrm flipH="1">
              <a:off x="7953480" y="4516560"/>
              <a:ext cx="885600" cy="141120"/>
            </a:xfrm>
            <a:custGeom>
              <a:avLst/>
              <a:gdLst>
                <a:gd name="textAreaLeft" fmla="*/ 208440 w 885600"/>
                <a:gd name="textAreaRight" fmla="*/ 660240 w 885600"/>
                <a:gd name="textAreaTop" fmla="*/ 18720 h 141120"/>
                <a:gd name="textAreaBottom" fmla="*/ 12240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154" hR="21600" stAng="10800000" swAng="5400000"/>
                  <a:lnTo>
                    <a:pt x="11015" y="0"/>
                  </a:lnTo>
                  <a:arcTo wR="10154" hR="21600" stAng="-5400000" swAng="3673330"/>
                  <a:lnTo>
                    <a:pt x="21278" y="16200"/>
                  </a:lnTo>
                  <a:lnTo>
                    <a:pt x="20739" y="21600"/>
                  </a:lnTo>
                  <a:lnTo>
                    <a:pt x="19555" y="16200"/>
                  </a:lnTo>
                  <a:lnTo>
                    <a:pt x="19986" y="16200"/>
                  </a:lnTo>
                  <a:arcTo wR="10154" hR="21600" stAng="-1726670" swAng="-3604761"/>
                  <a:lnTo>
                    <a:pt x="10585" y="19"/>
                  </a:lnTo>
                  <a:arcTo wR="10154" hR="21600" stAng="-5468569" swAng="-5331431"/>
                  <a:close/>
                </a:path>
                <a:path fill="darkenLess" w="21600" h="21600">
                  <a:moveTo>
                    <a:pt x="0" y="21600"/>
                  </a:moveTo>
                  <a:arcTo wR="10154" hR="21600" stAng="10800000" swAng="5400000"/>
                  <a:lnTo>
                    <a:pt x="10154" y="0"/>
                  </a:lnTo>
                  <a:arcTo wR="10154" hR="21600" stAng="-5400000" swAng="68569"/>
                  <a:lnTo>
                    <a:pt x="10585" y="19"/>
                  </a:lnTo>
                  <a:arcTo wR="10154" hR="21600" stAng="-5468569" swAng="-5331431"/>
                  <a:close/>
                </a:path>
              </a:pathLst>
            </a:custGeom>
            <a:solidFill>
              <a:srgbClr val="b4ceea"/>
            </a:solidFill>
            <a:ln w="25560">
              <a:solidFill>
                <a:srgbClr val="262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오른쪽 화살표 68"/>
            <p:cNvSpPr/>
            <p:nvPr/>
          </p:nvSpPr>
          <p:spPr>
            <a:xfrm rot="10800000">
              <a:off x="7589520" y="5017680"/>
              <a:ext cx="177480" cy="29880"/>
            </a:xfrm>
            <a:prstGeom prst="rightArrow">
              <a:avLst>
                <a:gd name="adj1" fmla="val 50000"/>
                <a:gd name="adj2" fmla="val 50378"/>
              </a:avLst>
            </a:prstGeom>
            <a:solidFill>
              <a:srgbClr val="b4ceea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오른쪽 화살표 69"/>
            <p:cNvSpPr/>
            <p:nvPr/>
          </p:nvSpPr>
          <p:spPr>
            <a:xfrm rot="10800000">
              <a:off x="8562960" y="5017680"/>
              <a:ext cx="177480" cy="29880"/>
            </a:xfrm>
            <a:prstGeom prst="rightArrow">
              <a:avLst>
                <a:gd name="adj1" fmla="val 50000"/>
                <a:gd name="adj2" fmla="val 50378"/>
              </a:avLst>
            </a:prstGeom>
            <a:solidFill>
              <a:srgbClr val="b4ceea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오른쪽 화살표 70"/>
            <p:cNvSpPr/>
            <p:nvPr/>
          </p:nvSpPr>
          <p:spPr>
            <a:xfrm>
              <a:off x="8077320" y="5018040"/>
              <a:ext cx="176040" cy="29880"/>
            </a:xfrm>
            <a:prstGeom prst="rightArrow">
              <a:avLst>
                <a:gd name="adj1" fmla="val 50000"/>
                <a:gd name="adj2" fmla="val 50433"/>
              </a:avLst>
            </a:prstGeom>
            <a:solidFill>
              <a:srgbClr val="b4ceea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위쪽 화살표 71"/>
            <p:cNvSpPr/>
            <p:nvPr/>
          </p:nvSpPr>
          <p:spPr>
            <a:xfrm>
              <a:off x="7413840" y="4368600"/>
              <a:ext cx="12600" cy="330120"/>
            </a:xfrm>
            <a:prstGeom prst="upArrow">
              <a:avLst>
                <a:gd name="adj1" fmla="val 50000"/>
                <a:gd name="adj2" fmla="val 50338"/>
              </a:avLst>
            </a:prstGeom>
            <a:solidFill>
              <a:srgbClr val="b4ceea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위쪽 화살표 72"/>
            <p:cNvSpPr/>
            <p:nvPr/>
          </p:nvSpPr>
          <p:spPr>
            <a:xfrm>
              <a:off x="7901280" y="4368600"/>
              <a:ext cx="12600" cy="330120"/>
            </a:xfrm>
            <a:prstGeom prst="upArrow">
              <a:avLst>
                <a:gd name="adj1" fmla="val 50000"/>
                <a:gd name="adj2" fmla="val 50338"/>
              </a:avLst>
            </a:prstGeom>
            <a:solidFill>
              <a:srgbClr val="b4ceea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위쪽 화살표 73"/>
            <p:cNvSpPr/>
            <p:nvPr/>
          </p:nvSpPr>
          <p:spPr>
            <a:xfrm>
              <a:off x="8409240" y="4368600"/>
              <a:ext cx="14040" cy="330120"/>
            </a:xfrm>
            <a:prstGeom prst="upArrow">
              <a:avLst>
                <a:gd name="adj1" fmla="val 50000"/>
                <a:gd name="adj2" fmla="val 50836"/>
              </a:avLst>
            </a:prstGeom>
            <a:solidFill>
              <a:srgbClr val="b4ceea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위쪽 화살표 74"/>
            <p:cNvSpPr/>
            <p:nvPr/>
          </p:nvSpPr>
          <p:spPr>
            <a:xfrm>
              <a:off x="8929800" y="4368600"/>
              <a:ext cx="14040" cy="330120"/>
            </a:xfrm>
            <a:prstGeom prst="upArrow">
              <a:avLst>
                <a:gd name="adj1" fmla="val 50000"/>
                <a:gd name="adj2" fmla="val 50836"/>
              </a:avLst>
            </a:prstGeom>
            <a:solidFill>
              <a:srgbClr val="ffc00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아래로 구부러진 화살표 75"/>
            <p:cNvSpPr/>
            <p:nvPr/>
          </p:nvSpPr>
          <p:spPr>
            <a:xfrm>
              <a:off x="6991560" y="4516560"/>
              <a:ext cx="884160" cy="141120"/>
            </a:xfrm>
            <a:custGeom>
              <a:avLst/>
              <a:gdLst>
                <a:gd name="textAreaLeft" fmla="*/ 207720 w 884160"/>
                <a:gd name="textAreaRight" fmla="*/ 658800 w 884160"/>
                <a:gd name="textAreaTop" fmla="*/ 18720 h 141120"/>
                <a:gd name="textAreaBottom" fmla="*/ 12240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153" hR="21600" stAng="10800000" swAng="5400000"/>
                  <a:lnTo>
                    <a:pt x="11015" y="0"/>
                  </a:lnTo>
                  <a:arcTo wR="10153" hR="21600" stAng="-5400000" swAng="3673187"/>
                  <a:lnTo>
                    <a:pt x="21278" y="16200"/>
                  </a:lnTo>
                  <a:lnTo>
                    <a:pt x="20737" y="21600"/>
                  </a:lnTo>
                  <a:lnTo>
                    <a:pt x="19552" y="16200"/>
                  </a:lnTo>
                  <a:lnTo>
                    <a:pt x="19984" y="16200"/>
                  </a:lnTo>
                  <a:arcTo wR="10153" hR="21600" stAng="-1726813" swAng="-3604538"/>
                  <a:lnTo>
                    <a:pt x="10584" y="19"/>
                  </a:lnTo>
                  <a:arcTo wR="10153" hR="21600" stAng="-5468649" swAng="-5331351"/>
                  <a:close/>
                </a:path>
                <a:path fill="darkenLess" w="21600" h="21600">
                  <a:moveTo>
                    <a:pt x="0" y="21600"/>
                  </a:moveTo>
                  <a:arcTo wR="10153" hR="21600" stAng="10800000" swAng="5400000"/>
                  <a:lnTo>
                    <a:pt x="10153" y="0"/>
                  </a:lnTo>
                  <a:arcTo wR="10153" hR="21600" stAng="-5400000" swAng="68649"/>
                  <a:lnTo>
                    <a:pt x="10584" y="19"/>
                  </a:lnTo>
                  <a:arcTo wR="10153" hR="21600" stAng="-5468649" swAng="-5331351"/>
                  <a:close/>
                </a:path>
              </a:pathLst>
            </a:custGeom>
            <a:solidFill>
              <a:srgbClr val="b4ceea"/>
            </a:solidFill>
            <a:ln w="25560">
              <a:solidFill>
                <a:srgbClr val="262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아래로 구부러진 화살표 76"/>
            <p:cNvSpPr/>
            <p:nvPr/>
          </p:nvSpPr>
          <p:spPr>
            <a:xfrm>
              <a:off x="6981840" y="3555720"/>
              <a:ext cx="884160" cy="141120"/>
            </a:xfrm>
            <a:custGeom>
              <a:avLst/>
              <a:gdLst>
                <a:gd name="textAreaLeft" fmla="*/ 207720 w 884160"/>
                <a:gd name="textAreaRight" fmla="*/ 658800 w 884160"/>
                <a:gd name="textAreaTop" fmla="*/ 18720 h 141120"/>
                <a:gd name="textAreaBottom" fmla="*/ 122400 h 14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153" hR="21600" stAng="10800000" swAng="5400000"/>
                  <a:lnTo>
                    <a:pt x="11015" y="0"/>
                  </a:lnTo>
                  <a:arcTo wR="10153" hR="21600" stAng="-5400000" swAng="3673187"/>
                  <a:lnTo>
                    <a:pt x="21278" y="16200"/>
                  </a:lnTo>
                  <a:lnTo>
                    <a:pt x="20737" y="21600"/>
                  </a:lnTo>
                  <a:lnTo>
                    <a:pt x="19552" y="16200"/>
                  </a:lnTo>
                  <a:lnTo>
                    <a:pt x="19984" y="16200"/>
                  </a:lnTo>
                  <a:arcTo wR="10153" hR="21600" stAng="-1726813" swAng="-3604538"/>
                  <a:lnTo>
                    <a:pt x="10584" y="19"/>
                  </a:lnTo>
                  <a:arcTo wR="10153" hR="21600" stAng="-5468649" swAng="-5331351"/>
                  <a:close/>
                </a:path>
                <a:path fill="darkenLess" w="21600" h="21600">
                  <a:moveTo>
                    <a:pt x="0" y="21600"/>
                  </a:moveTo>
                  <a:arcTo wR="10153" hR="21600" stAng="10800000" swAng="5400000"/>
                  <a:lnTo>
                    <a:pt x="10153" y="0"/>
                  </a:lnTo>
                  <a:arcTo wR="10153" hR="21600" stAng="-5400000" swAng="68649"/>
                  <a:lnTo>
                    <a:pt x="10584" y="19"/>
                  </a:lnTo>
                  <a:arcTo wR="10153" hR="21600" stAng="-5468649" swAng="-5331351"/>
                  <a:close/>
                </a:path>
              </a:pathLst>
            </a:custGeom>
            <a:solidFill>
              <a:srgbClr val="b4ceea"/>
            </a:solidFill>
            <a:ln w="25560">
              <a:solidFill>
                <a:srgbClr val="262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오른쪽 화살표 77"/>
            <p:cNvSpPr/>
            <p:nvPr/>
          </p:nvSpPr>
          <p:spPr>
            <a:xfrm>
              <a:off x="7070760" y="4025880"/>
              <a:ext cx="177480" cy="28440"/>
            </a:xfrm>
            <a:prstGeom prst="rightArrow">
              <a:avLst>
                <a:gd name="adj1" fmla="val 50000"/>
                <a:gd name="adj2" fmla="val 50155"/>
              </a:avLst>
            </a:prstGeom>
            <a:solidFill>
              <a:srgbClr val="b4ceea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오른쪽 화살표 78"/>
            <p:cNvSpPr/>
            <p:nvPr/>
          </p:nvSpPr>
          <p:spPr>
            <a:xfrm>
              <a:off x="7070760" y="5018040"/>
              <a:ext cx="177480" cy="29880"/>
            </a:xfrm>
            <a:prstGeom prst="rightArrow">
              <a:avLst>
                <a:gd name="adj1" fmla="val 50000"/>
                <a:gd name="adj2" fmla="val 50378"/>
              </a:avLst>
            </a:prstGeom>
            <a:solidFill>
              <a:srgbClr val="b4ceea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직사각형 79"/>
            <p:cNvSpPr/>
            <p:nvPr/>
          </p:nvSpPr>
          <p:spPr>
            <a:xfrm>
              <a:off x="4754520" y="3689280"/>
              <a:ext cx="252360" cy="708120"/>
            </a:xfrm>
            <a:prstGeom prst="rect">
              <a:avLst/>
            </a:prstGeom>
            <a:solidFill>
              <a:srgbClr val="e1b1de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맑은 고딕"/>
                </a:rPr>
                <a:t>I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Box 86"/>
            <p:cNvSpPr/>
            <p:nvPr/>
          </p:nvSpPr>
          <p:spPr>
            <a:xfrm>
              <a:off x="4610880" y="4100760"/>
              <a:ext cx="58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R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Box 130"/>
            <p:cNvSpPr/>
            <p:nvPr/>
          </p:nvSpPr>
          <p:spPr>
            <a:xfrm>
              <a:off x="3538800" y="3282840"/>
              <a:ext cx="269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OC MSB is equal to 0 at view N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Box 130"/>
            <p:cNvSpPr/>
            <p:nvPr/>
          </p:nvSpPr>
          <p:spPr>
            <a:xfrm>
              <a:off x="3400200" y="5478480"/>
              <a:ext cx="29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OC MSB is equal to k at base view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Box 90"/>
            <p:cNvSpPr/>
            <p:nvPr/>
          </p:nvSpPr>
          <p:spPr>
            <a:xfrm>
              <a:off x="4600800" y="5055120"/>
              <a:ext cx="58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CR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직사각형 91"/>
            <p:cNvSpPr/>
            <p:nvPr/>
          </p:nvSpPr>
          <p:spPr>
            <a:xfrm>
              <a:off x="4589640" y="3576240"/>
              <a:ext cx="647280" cy="1970280"/>
            </a:xfrm>
            <a:prstGeom prst="rect">
              <a:avLst/>
            </a:prstGeom>
            <a:noFill/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직선 연결선 93"/>
            <p:cNvSpPr/>
            <p:nvPr/>
          </p:nvSpPr>
          <p:spPr>
            <a:xfrm flipH="1">
              <a:off x="3909600" y="3921840"/>
              <a:ext cx="609480" cy="6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Box 130"/>
            <p:cNvSpPr/>
            <p:nvPr/>
          </p:nvSpPr>
          <p:spPr>
            <a:xfrm>
              <a:off x="2217600" y="395496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ew-point/layer switching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How to signal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1C12-A6C5-4964-9ED3-6BE55EE6F4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000160" y="2428920"/>
          <a:ext cx="4444920" cy="2103480"/>
        </p:xfrm>
        <a:graphic>
          <a:graphicData uri="http://schemas.openxmlformats.org/drawingml/2006/table">
            <a:tbl>
              <a:tblPr/>
              <a:tblGrid>
                <a:gridCol w="3692520"/>
                <a:gridCol w="752400"/>
              </a:tblGrid>
              <a:tr h="342000">
                <a:tc>
                  <a:txBody>
                    <a:bodyPr lIns="58320" rIns="58320" tIns="684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lice_header( ) {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684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escriptor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58320" rIns="58320" tIns="684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……………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684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(1)</a:t>
                      </a: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58320" rIns="58320" tIns="684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f( IdrPicFlag ) {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58320" rIns="58320" tIns="684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dr_pic_id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684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e(v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58320" rIns="58320" tIns="684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o_output_of_prior_pics_flag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684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(1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58320" rIns="58320" tIns="684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} else {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58320" rIns="58320" tIns="684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if( nal_unit_type ==  4 )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8320" rIns="583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74600">
                <a:tc>
                  <a:txBody>
                    <a:bodyPr lIns="58320" rIns="58320" tIns="684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93640"/>
                          <a:tab algn="l" pos="685800"/>
                          <a:tab algn="l" pos="822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ic_order_cnt_msb_cycl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8320" rIns="58320" tIns="684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(v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74600">
                <a:tc>
                  <a:txBody>
                    <a:bodyPr lIns="58320" rIns="58320" tIns="684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ic_order_cnt_lsb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684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(v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58320" rIns="58320" tIns="684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hort_term_ref_pic_set_sps_flag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684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(1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58320" rIns="58320" tIns="684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……………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58320" rIns="58320" tIns="684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	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}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내용 개체 틀 2"/>
          <p:cNvSpPr/>
          <p:nvPr/>
        </p:nvSpPr>
        <p:spPr>
          <a:xfrm>
            <a:off x="152280" y="914400"/>
            <a:ext cx="9144000" cy="5562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맑은 고딕"/>
              </a:rPr>
              <a:t>In Slice head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ic_order_cnt_msb_cyc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used to determine the value of the most significant bits of the picture order count value of the CRA pictur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How to calculate POC MSB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B317-07B5-4711-AE97-0E02DB51B2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"/>
          <p:cNvSpPr/>
          <p:nvPr/>
        </p:nvSpPr>
        <p:spPr>
          <a:xfrm>
            <a:off x="-52560" y="1306440"/>
            <a:ext cx="9093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04720"/>
                <a:tab algn="r" pos="539640"/>
                <a:tab algn="r" pos="900000"/>
                <a:tab algn="l" pos="1008000"/>
                <a:tab algn="ctr" pos="3079800"/>
                <a:tab algn="r" pos="615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cOrderCntMsb of the current picture is derived as follow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4720"/>
                <a:tab algn="r" pos="539640"/>
                <a:tab algn="r" pos="900000"/>
                <a:tab algn="l" pos="1008000"/>
                <a:tab algn="ctr" pos="3079800"/>
                <a:tab algn="r" pos="615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If the current picture is a CDR picture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4720"/>
                <a:tab algn="r" pos="539640"/>
                <a:tab algn="r" pos="900000"/>
                <a:tab algn="l" pos="1008000"/>
                <a:tab algn="ctr" pos="3079800"/>
                <a:tab algn="r" pos="615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cOrderCntMsb =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ic_order_cnt_msb_cyc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MaxPicOrderCntLs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04720"/>
                <a:tab algn="r" pos="539640"/>
                <a:tab algn="r" pos="900000"/>
                <a:tab algn="l" pos="1008000"/>
                <a:tab algn="ctr" pos="3079800"/>
                <a:tab algn="r" pos="615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Otherwise as specified by the following pseudo-code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504720"/>
                <a:tab algn="r" pos="539640"/>
                <a:tab algn="r" pos="900000"/>
                <a:tab algn="l" pos="1008000"/>
                <a:tab algn="ctr" pos="3079800"/>
                <a:tab algn="r" pos="615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f( ( pic_order_cnt_lsb &lt;  prevPicOrderCntLsb )  &amp;&amp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 ( prevPicOrderCntLsb − pic_order_cnt_lsb )  &gt;=  ( MaxPicOrderCntLsb / 2 ) ) 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PicOrderCntMsb = prevPicOrderCntMsb + MaxPicOrderCntLsb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else if( (pic_order_cnt_lsb  &gt;  prevPicOrderCntLsb )  &amp;&amp;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( (pic_order_cnt_lsb − prevPicOrderCntLsb )  &gt;  ( MaxPicOrderCntLsb / 2 ) ) 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PicOrderCntMsb = prevPicOrderCntMsb − MaxPicOrderCntLsb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els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PicOrderCntMsb = prevPicOrderCntMs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We recommend to adopt the explicit signaling of POC MSB in slice header because of the following benefi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2228b"/>
                </a:solidFill>
                <a:latin typeface="맑은 고딕"/>
              </a:rPr>
              <a:t>Detection of random access and frame loss without system’s notification</a:t>
            </a:r>
            <a:endParaRPr b="0" lang="en-US" sz="22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2228b"/>
                </a:solidFill>
                <a:latin typeface="맑은 고딕"/>
              </a:rPr>
              <a:t>POC synchronization in multiview extension</a:t>
            </a:r>
            <a:endParaRPr b="0" lang="en-US" sz="22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맑은 고딕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249E-14CC-490E-AC42-2D7F9641F1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80B6-0401-4D1D-B487-C0562FB63A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Windows 사용자</cp:lastModifiedBy>
  <dcterms:modified xsi:type="dcterms:W3CDTF">2012-04-24T14:10:31Z</dcterms:modified>
  <cp:revision>4584</cp:revision>
  <dc:subject/>
  <dc:title>Visual SNHC Tools</dc:title>
</cp:coreProperties>
</file>