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02CC-8CF7-4E43-AFBB-6A2F31953911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8C04-1B5C-4CCC-A911-67655F1188F2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4FAD-6AD7-428D-A3E2-45EB34ACF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7A67-B300-47C3-80F9-BFCCC53E9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228B-5294-436E-968B-9AD3C5D6C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4FE9-045B-4867-868B-53FBB9DCD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EE81-AC0A-458E-B5A5-838E4A5A8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298E-B657-45C9-86F5-B4472BBB3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9C21-3E76-4F4B-84D2-AEEFF5361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6FC2-CBBC-4716-8E03-1A9161780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15AF-589E-4099-8FE4-C5E53B940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B1EA-01F7-4573-B5B9-7ABCBFDF0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4778-C226-4AEB-85A9-4819896C1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C538-A5D3-4765-AE3C-2D76073DC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967A-BC63-4864-B506-25B47ACBE3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HY헤드라인M"/>
              </a:rPr>
              <a:t>NAL Unit header for scalable exten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ongdoo Choi, Chanyul Kim, Jaehyun Kim, Jeonghoon Pa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Apr., 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041C-B7DF-4838-BAF6-EAC48A2172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L unit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MVC/SVC : base (1 byte), non-base (4 bytes) -&gt; variabl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Extended 3 byte : view ID, priority ID, temporal ID, dependency ID, quality ID are present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HEVC-extension : 2 bytes -&gt; fixe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Reserved 5 bits for 3D/scalable extension 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    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           </a:t>
            </a: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Needs on flexible design of NAL unit header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                </a:t>
            </a: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for signaling scalability information  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8AA6-A850-4A4B-8279-B4C0691A9E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아래쪽 화살표 4"/>
          <p:cNvSpPr/>
          <p:nvPr/>
        </p:nvSpPr>
        <p:spPr>
          <a:xfrm>
            <a:off x="4071960" y="3929040"/>
            <a:ext cx="85716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87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 most of useful scalability information in NAL unit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n order that Network Elements get the important scalability information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only by parsing NAL unit header for bitstream management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No needs to parse any parameter set in Network-level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hange to the current specification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Without change to NAL unit header or new parameter set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 modification is only swapping the position of the temporal_id and the reserved_one_5bits in NAL unit header, but not mandatory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CB29-1A34-4EDD-8C2C-B9D22AFB0B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NAL unit header of HEV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NAL unit desig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9A1E-0C8E-4C86-A7B9-5F90D458F4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그룹 181" descr=""/>
          <p:cNvPicPr/>
          <p:nvPr/>
        </p:nvPicPr>
        <p:blipFill>
          <a:blip r:embed="rId1"/>
          <a:stretch/>
        </p:blipFill>
        <p:spPr>
          <a:xfrm>
            <a:off x="274680" y="2200320"/>
            <a:ext cx="8594640" cy="1171440"/>
          </a:xfrm>
          <a:prstGeom prst="rect">
            <a:avLst/>
          </a:prstGeom>
          <a:ln w="0">
            <a:noFill/>
          </a:ln>
        </p:spPr>
      </p:pic>
      <p:sp>
        <p:nvSpPr>
          <p:cNvPr id="107" name="직사각형 203"/>
          <p:cNvSpPr/>
          <p:nvPr/>
        </p:nvSpPr>
        <p:spPr>
          <a:xfrm>
            <a:off x="357120" y="385776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: forbidden_zero_bi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F: nal_ref_fla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: nal_unit_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D : temporal_i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 : reserved_one_5bi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ep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C154-EE4D-4E39-875F-1CA27AFA11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직사각형 4"/>
          <p:cNvSpPr/>
          <p:nvPr/>
        </p:nvSpPr>
        <p:spPr>
          <a:xfrm>
            <a:off x="500040" y="400068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layer    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직사각형 5"/>
          <p:cNvSpPr/>
          <p:nvPr/>
        </p:nvSpPr>
        <p:spPr>
          <a:xfrm>
            <a:off x="428760" y="2376360"/>
            <a:ext cx="207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 layer 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base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그룹 6" descr=""/>
          <p:cNvPicPr/>
          <p:nvPr/>
        </p:nvPicPr>
        <p:blipFill>
          <a:blip r:embed="rId1"/>
          <a:stretch/>
        </p:blipFill>
        <p:spPr>
          <a:xfrm>
            <a:off x="2633760" y="4200480"/>
            <a:ext cx="4163760" cy="596880"/>
          </a:xfrm>
          <a:prstGeom prst="rect">
            <a:avLst/>
          </a:prstGeom>
          <a:ln w="0">
            <a:noFill/>
          </a:ln>
        </p:spPr>
      </p:pic>
      <p:sp>
        <p:nvSpPr>
          <p:cNvPr id="113" name="직사각형 30"/>
          <p:cNvSpPr/>
          <p:nvPr/>
        </p:nvSpPr>
        <p:spPr>
          <a:xfrm>
            <a:off x="3286080" y="37148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 unit header of HEV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직사각형 31"/>
          <p:cNvSpPr/>
          <p:nvPr/>
        </p:nvSpPr>
        <p:spPr>
          <a:xfrm>
            <a:off x="7000920" y="39481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          VC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직사각형 32"/>
          <p:cNvSpPr/>
          <p:nvPr/>
        </p:nvSpPr>
        <p:spPr>
          <a:xfrm>
            <a:off x="3214800" y="2214720"/>
            <a:ext cx="257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AL unit head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직사각형 33"/>
          <p:cNvSpPr/>
          <p:nvPr/>
        </p:nvSpPr>
        <p:spPr>
          <a:xfrm>
            <a:off x="7000920" y="244800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          VC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그룹 35" descr=""/>
          <p:cNvPicPr/>
          <p:nvPr/>
        </p:nvPicPr>
        <p:blipFill>
          <a:blip r:embed="rId2"/>
          <a:stretch/>
        </p:blipFill>
        <p:spPr>
          <a:xfrm>
            <a:off x="2633760" y="2633760"/>
            <a:ext cx="4163760" cy="590400"/>
          </a:xfrm>
          <a:prstGeom prst="rect">
            <a:avLst/>
          </a:prstGeom>
          <a:ln w="0">
            <a:noFill/>
          </a:ln>
        </p:spPr>
      </p:pic>
      <p:sp>
        <p:nvSpPr>
          <p:cNvPr id="118" name="직사각형 57"/>
          <p:cNvSpPr/>
          <p:nvPr/>
        </p:nvSpPr>
        <p:spPr>
          <a:xfrm>
            <a:off x="357120" y="2000160"/>
            <a:ext cx="8143920" cy="15717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직사각형 58"/>
          <p:cNvSpPr/>
          <p:nvPr/>
        </p:nvSpPr>
        <p:spPr>
          <a:xfrm>
            <a:off x="357120" y="3571920"/>
            <a:ext cx="8143920" cy="15717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sed NAL unit header for scalable/3D ext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NAL unit desig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7173-C3A4-410B-8968-5CC940B2EB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직사각형 203"/>
          <p:cNvSpPr/>
          <p:nvPr/>
        </p:nvSpPr>
        <p:spPr>
          <a:xfrm>
            <a:off x="357120" y="4643280"/>
            <a:ext cx="807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: scalable_extension_typ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type of scalability currently used, and how to map the layer_id into several scalability identifiers, e.g. dependency_id, quality_id, view_id, temporal_id, priority_id and so 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 : layer_i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layer identifier, which can be mapped into the dependency_id, quality_id, view_id, temporal_id, priority_id and so 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그룹 52"/>
          <p:cNvGrpSpPr/>
          <p:nvPr/>
        </p:nvGrpSpPr>
        <p:grpSpPr>
          <a:xfrm>
            <a:off x="433440" y="2286000"/>
            <a:ext cx="8210520" cy="2050200"/>
            <a:chOff x="433440" y="2286000"/>
            <a:chExt cx="8210520" cy="2050200"/>
          </a:xfrm>
        </p:grpSpPr>
        <p:sp>
          <p:nvSpPr>
            <p:cNvPr id="125" name="직사각형 173"/>
            <p:cNvSpPr/>
            <p:nvPr/>
          </p:nvSpPr>
          <p:spPr>
            <a:xfrm>
              <a:off x="43344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직사각형 174"/>
            <p:cNvSpPr/>
            <p:nvPr/>
          </p:nvSpPr>
          <p:spPr>
            <a:xfrm>
              <a:off x="94572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직사각형 175"/>
            <p:cNvSpPr/>
            <p:nvPr/>
          </p:nvSpPr>
          <p:spPr>
            <a:xfrm>
              <a:off x="145836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직사각형 176"/>
            <p:cNvSpPr/>
            <p:nvPr/>
          </p:nvSpPr>
          <p:spPr>
            <a:xfrm>
              <a:off x="197100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직사각형 177"/>
            <p:cNvSpPr/>
            <p:nvPr/>
          </p:nvSpPr>
          <p:spPr>
            <a:xfrm>
              <a:off x="248364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직사각형 178"/>
            <p:cNvSpPr/>
            <p:nvPr/>
          </p:nvSpPr>
          <p:spPr>
            <a:xfrm>
              <a:off x="299628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직사각형 179"/>
            <p:cNvSpPr/>
            <p:nvPr/>
          </p:nvSpPr>
          <p:spPr>
            <a:xfrm>
              <a:off x="350892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직사각형 180"/>
            <p:cNvSpPr/>
            <p:nvPr/>
          </p:nvSpPr>
          <p:spPr>
            <a:xfrm>
              <a:off x="402156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직사각형 181"/>
            <p:cNvSpPr/>
            <p:nvPr/>
          </p:nvSpPr>
          <p:spPr>
            <a:xfrm>
              <a:off x="454320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직사각형 182"/>
            <p:cNvSpPr/>
            <p:nvPr/>
          </p:nvSpPr>
          <p:spPr>
            <a:xfrm>
              <a:off x="505584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직사각형 183"/>
            <p:cNvSpPr/>
            <p:nvPr/>
          </p:nvSpPr>
          <p:spPr>
            <a:xfrm>
              <a:off x="556848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직사각형 184"/>
            <p:cNvSpPr/>
            <p:nvPr/>
          </p:nvSpPr>
          <p:spPr>
            <a:xfrm>
              <a:off x="608112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직사각형 185"/>
            <p:cNvSpPr/>
            <p:nvPr/>
          </p:nvSpPr>
          <p:spPr>
            <a:xfrm>
              <a:off x="659376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직사각형 186"/>
            <p:cNvSpPr/>
            <p:nvPr/>
          </p:nvSpPr>
          <p:spPr>
            <a:xfrm>
              <a:off x="710640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직사각형 187"/>
            <p:cNvSpPr/>
            <p:nvPr/>
          </p:nvSpPr>
          <p:spPr>
            <a:xfrm>
              <a:off x="761904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직사각형 188"/>
            <p:cNvSpPr/>
            <p:nvPr/>
          </p:nvSpPr>
          <p:spPr>
            <a:xfrm>
              <a:off x="8131680" y="228600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직사각형 43"/>
            <p:cNvSpPr/>
            <p:nvPr/>
          </p:nvSpPr>
          <p:spPr>
            <a:xfrm>
              <a:off x="433440" y="283824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직사각형 44"/>
            <p:cNvSpPr/>
            <p:nvPr/>
          </p:nvSpPr>
          <p:spPr>
            <a:xfrm>
              <a:off x="937080" y="2838240"/>
              <a:ext cx="5122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RF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직사각형 45"/>
            <p:cNvSpPr/>
            <p:nvPr/>
          </p:nvSpPr>
          <p:spPr>
            <a:xfrm>
              <a:off x="1458360" y="2838240"/>
              <a:ext cx="30754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UT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직사각형 46"/>
            <p:cNvSpPr/>
            <p:nvPr/>
          </p:nvSpPr>
          <p:spPr>
            <a:xfrm>
              <a:off x="5568480" y="2838240"/>
              <a:ext cx="307548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직사각형 47"/>
            <p:cNvSpPr/>
            <p:nvPr/>
          </p:nvSpPr>
          <p:spPr>
            <a:xfrm>
              <a:off x="4534200" y="2838240"/>
              <a:ext cx="1033920" cy="54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T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왼쪽 중괄호 197"/>
            <p:cNvSpPr/>
            <p:nvPr/>
          </p:nvSpPr>
          <p:spPr>
            <a:xfrm rot="16200000">
              <a:off x="4899600" y="3069360"/>
              <a:ext cx="311760" cy="1024920"/>
            </a:xfrm>
            <a:custGeom>
              <a:avLst/>
              <a:gdLst>
                <a:gd name="textAreaLeft" fmla="*/ 199080 w 311760"/>
                <a:gd name="textAreaRight" fmla="*/ 312120 w 311760"/>
                <a:gd name="textAreaTop" fmla="*/ 7920 h 1024920"/>
                <a:gd name="textAreaBottom" fmla="*/ 1017000 h 102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2"/>
                    <a:pt x="10800" y="543"/>
                  </a:cubicBezTo>
                  <a:lnTo>
                    <a:pt x="10800" y="10257"/>
                  </a:lnTo>
                  <a:cubicBezTo>
                    <a:pt x="10800" y="10529"/>
                    <a:pt x="5400" y="10800"/>
                    <a:pt x="0" y="10800"/>
                  </a:cubicBezTo>
                  <a:cubicBezTo>
                    <a:pt x="5400" y="10800"/>
                    <a:pt x="10800" y="11072"/>
                    <a:pt x="10800" y="11343"/>
                  </a:cubicBezTo>
                  <a:lnTo>
                    <a:pt x="10800" y="21057"/>
                  </a:lnTo>
                  <a:cubicBezTo>
                    <a:pt x="10800" y="2132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왼쪽 중괄호 198"/>
            <p:cNvSpPr/>
            <p:nvPr/>
          </p:nvSpPr>
          <p:spPr>
            <a:xfrm rot="16200000">
              <a:off x="6950160" y="2044080"/>
              <a:ext cx="311760" cy="3075480"/>
            </a:xfrm>
            <a:custGeom>
              <a:avLst/>
              <a:gdLst>
                <a:gd name="textAreaLeft" fmla="*/ 199080 w 311760"/>
                <a:gd name="textAreaRight" fmla="*/ 312120 w 311760"/>
                <a:gd name="textAreaTop" fmla="*/ 7920 h 3075480"/>
                <a:gd name="textAreaBottom" fmla="*/ 3067560 h 307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1"/>
                    <a:pt x="10800" y="181"/>
                  </a:cubicBezTo>
                  <a:lnTo>
                    <a:pt x="10800" y="10619"/>
                  </a:lnTo>
                  <a:cubicBezTo>
                    <a:pt x="10800" y="10710"/>
                    <a:pt x="5400" y="10800"/>
                    <a:pt x="0" y="10800"/>
                  </a:cubicBezTo>
                  <a:cubicBezTo>
                    <a:pt x="5400" y="10800"/>
                    <a:pt x="10800" y="10891"/>
                    <a:pt x="10800" y="10981"/>
                  </a:cubicBezTo>
                  <a:lnTo>
                    <a:pt x="10800" y="21419"/>
                  </a:lnTo>
                  <a:cubicBezTo>
                    <a:pt x="10800" y="2151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Box 199"/>
            <p:cNvSpPr/>
            <p:nvPr/>
          </p:nvSpPr>
          <p:spPr>
            <a:xfrm>
              <a:off x="4566240" y="3755520"/>
              <a:ext cx="99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bit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~3 bits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Box 200"/>
            <p:cNvSpPr/>
            <p:nvPr/>
          </p:nvSpPr>
          <p:spPr>
            <a:xfrm>
              <a:off x="6651000" y="3755520"/>
              <a:ext cx="93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 bit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5~6bits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apping method of layer_id #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80D3-0AC1-4DB7-9143-91C5D42B3F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00080" y="3357720"/>
          <a:ext cx="6068880" cy="838080"/>
        </p:xfrm>
        <a:graphic>
          <a:graphicData uri="http://schemas.openxmlformats.org/drawingml/2006/table">
            <a:tbl>
              <a:tblPr/>
              <a:tblGrid>
                <a:gridCol w="2022480"/>
                <a:gridCol w="2024280"/>
                <a:gridCol w="2022120"/>
              </a:tblGrid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T (2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ayer_id_0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ayer_id_1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iority_id (6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ew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emporal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endency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quality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endency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emporal_id (3bit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mapping into scalability ID by splitting sub-layer 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 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  <a:ea typeface="Times New Roman"/>
              </a:rPr>
              <a:t>layer_id (6bits) can be split into two or three sub_layer_id,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  <a:ea typeface="Times New Roman"/>
              </a:rPr>
              <a:t>and each sub_layer_id can be mapped into a specific identifier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apping method of layer_id #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CE4A-AAE2-44FF-B30C-6A9F8FA0E1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rect mapping with predefined mapping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 mapping method using a look-up table, which is signaled in SEI message or predefined in the specification text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28840" y="2857680"/>
          <a:ext cx="5940360" cy="2331720"/>
        </p:xfrm>
        <a:graphic>
          <a:graphicData uri="http://schemas.openxmlformats.org/drawingml/2006/table">
            <a:tbl>
              <a:tblPr/>
              <a:tblGrid>
                <a:gridCol w="1350720"/>
                <a:gridCol w="1148040"/>
                <a:gridCol w="1145880"/>
                <a:gridCol w="1148040"/>
                <a:gridCol w="11476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ayer ID (SET = k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endency ID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Quality ID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iew ID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emporal ID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7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Without change to HEVC specification 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All scalable/3D extension is possibl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Most of useful information for scalability can be delivered in NAL unit header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Only one syntax modification recommended is to swap the position of the temporal_id and the reserved_one_5bits in NAL unit hea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E15F-8191-4265-9E0D-FA9882C73C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Windows 사용자</cp:lastModifiedBy>
  <dcterms:modified xsi:type="dcterms:W3CDTF">2012-04-24T13:33:21Z</dcterms:modified>
  <cp:revision>4574</cp:revision>
  <dc:subject/>
  <dc:title>Visual SNHC Tools</dc:title>
</cp:coreProperties>
</file>