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082-AB68-4B00-AA6A-B64ABB6A0BB1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18E-5467-4871-8325-5476031FDA76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28F5-8BB0-4F83-982C-54EE2953B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7F6D-3547-4B38-B175-BC42D3B6F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6FD7-BD76-45FB-9B0E-4B6821393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C53F-6A80-4C98-A37C-7C6FE9383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12A0-2952-497B-A89A-94B115579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A484-257B-4FFB-8BC3-9908DB53C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9287-CE1F-4332-8146-519A87EF9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3E37-ABA1-4D95-BD25-AFB7003EF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3200-CDD2-426E-ABB3-0A9642C1A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E4FB-414E-4F6C-9660-F779315E3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7F3B-0BC8-4E54-9E75-3948E6262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A633-E775-4411-B398-485F41A6F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DB0-0315-4F44-ADC7-C362CE922B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HY헤드라인M"/>
              </a:rPr>
              <a:t>I0130: Simplification on SAO synta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ena Alsh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April. XX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APS SAO parameters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108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PS specified SAO parame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here are syntaxes exists for APS mode: one unit flags and repeat row flags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One unit flags exist for each color components and specify that all coding treeblocks are processed using the same SAO parameters or not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34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맑은 고딕"/>
              </a:rPr>
              <a:t>Repeat row flags exist for each color components and specify that </a:t>
            </a:r>
            <a:r>
              <a:rPr b="0" lang="en-GB" sz="1400" spc="-1" strike="noStrike">
                <a:solidFill>
                  <a:srgbClr val="3333cc"/>
                </a:solidFill>
                <a:latin typeface="맑은 고딕"/>
              </a:rPr>
              <a:t>the SAO parameters of coding treeblocks in the current coding treeblock row are the same as those of above coding treeblocks</a:t>
            </a:r>
            <a:endParaRPr b="0" lang="en-US" sz="1400" spc="-1" strike="noStrike">
              <a:solidFill>
                <a:srgbClr val="3333cc"/>
              </a:solidFill>
              <a:latin typeface="맑은 고딕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80A-3872-4291-B020-619E7EBE01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APS SAO parameters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1440" y="892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yntax and semantics o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unit flags and repeat row fla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CC6-38E0-408C-87E2-186E480B9E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표 5" descr=""/>
          <p:cNvPicPr/>
          <p:nvPr/>
        </p:nvPicPr>
        <p:blipFill>
          <a:blip r:embed="rId1"/>
          <a:stretch/>
        </p:blipFill>
        <p:spPr>
          <a:xfrm>
            <a:off x="4138560" y="1195560"/>
            <a:ext cx="4908600" cy="5376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73"/>
          <p:cNvSpPr/>
          <p:nvPr/>
        </p:nvSpPr>
        <p:spPr>
          <a:xfrm>
            <a:off x="324000" y="1303560"/>
            <a:ext cx="381636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50328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sao_one_luma_unit_flag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equal to 1 specifies that all of coding treeblocks in luma component of current slice are processed using the same SAO parameters; equal to 0 specifies that the SAO parameters for the luma component are signalled on a coding treeblock basi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50328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sao_one_cb_unit_flag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equal to 1 specifies … for the Cb component 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50328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sao_one_cr_unit_flag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equal to 1 specifies … for the Cr component 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228600"/>
                <a:tab algn="l" pos="457200"/>
                <a:tab algn="l" pos="50328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sao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_repeat_row_flag[ c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Idx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 ]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equal to 1 specifies that the SAO parameters of coding treeblocks in the current coding treeblock row are the same as those of above coding treeblocks for the colour component cIdx;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equal to 0 specifies that the current coding treeblock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row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as new SAO paramete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s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When sao_repeat_row_flag is not present, it is inferred to be equal to 0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Experimental results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440" y="1108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E1 SW where the most right and bottom pixels (which are modified during deblocking filter) are not used for statistics collection as the base SW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nd follows the CE1 test condit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he anchor data is SAO off and the test conditions are RA Main and RA HE10 for LCU size of 64, 32 and 1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he following results summarize overall performance difference from SAO on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6CD2-023D-46BF-9DD3-E0BC3B393C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3303720"/>
          <a:ext cx="8064360" cy="1854000"/>
        </p:xfrm>
        <a:graphic>
          <a:graphicData uri="http://schemas.openxmlformats.org/drawingml/2006/table">
            <a:tbl>
              <a:tblPr/>
              <a:tblGrid>
                <a:gridCol w="863280"/>
                <a:gridCol w="1200240"/>
                <a:gridCol w="1200240"/>
                <a:gridCol w="1200240"/>
                <a:gridCol w="1199880"/>
                <a:gridCol w="1200240"/>
                <a:gridCol w="12002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No One Unit Flag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No Repeat Row Flag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No One Unit &amp; Repeat Row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LCU Siz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RA_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ahoma"/>
                          <a:ea typeface="맑은 고딕"/>
                        </a:rPr>
                        <a:t>0.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440" y="1108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nce there is negligible performance drop by removing “one unit flags” while keeping syntax as clean, it is proposed to remove one unit fl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However, “repeat row flags” proves coding efficiency in small LCU siz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9961-09CA-41A0-A729-34E6F4FAB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7CE5-2A90-4E0C-A546-CC51A23CCD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Tammy</cp:lastModifiedBy>
  <dcterms:modified xsi:type="dcterms:W3CDTF">2012-04-26T11:17:37Z</dcterms:modified>
  <cp:revision>4480</cp:revision>
  <dc:subject/>
  <dc:title>Visual SNHC Tools</dc:title>
</cp:coreProperties>
</file>