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777600" y="767880"/>
            <a:ext cx="55436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38C2-FDE9-43B5-BC33-DACECF229B62}" type="slidenum"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A30B-48F0-4185-9A43-E9C810D1738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49320" y="48589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267-020A-4719-92EF-DCC05BBC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AEC-D1A1-410E-AF69-ECFFAFE1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A24-030F-4932-AD40-A5343DBE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B32-09D6-4E9C-A7A9-83F291B2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A91-98FD-4732-818C-F65A45B2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971-0A00-490A-9B15-CA6CA19A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0E4-117A-4138-A73B-AE72931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CAC-0255-45EE-B7A5-9499CE9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279-0610-4CC7-8A6F-090B274E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6D4-BD7C-4955-A60E-1C7CF1B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007-3036-44FB-9A3C-CCE6BF66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1BD-8941-42DF-A911-DDB05360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EF80-50D5-4DF1-8418-F392AC513007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7"/>
          <p:cNvGraphicFramePr/>
          <p:nvPr/>
        </p:nvGraphicFramePr>
        <p:xfrm>
          <a:off x="380880" y="1125360"/>
          <a:ext cx="91440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25360"/>
                    <a:ext cx="91440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Picture 3" descr="LG"/>
          <p:cNvPicPr/>
          <p:nvPr/>
        </p:nvPicPr>
        <p:blipFill>
          <a:blip r:embed="rId4"/>
          <a:stretch/>
        </p:blipFill>
        <p:spPr>
          <a:xfrm>
            <a:off x="3705120" y="6222960"/>
            <a:ext cx="2094120" cy="4255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EBO_Logo_01"/>
          <p:cNvPicPr/>
          <p:nvPr/>
        </p:nvPicPr>
        <p:blipFill>
          <a:blip r:embed="rId5"/>
          <a:stretch/>
        </p:blipFill>
        <p:spPr>
          <a:xfrm>
            <a:off x="8775720" y="115920"/>
            <a:ext cx="979560" cy="25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"/>
          <p:cNvSpPr/>
          <p:nvPr/>
        </p:nvSpPr>
        <p:spPr>
          <a:xfrm>
            <a:off x="0" y="484200"/>
            <a:ext cx="9906120" cy="38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3" descr=""/>
          <p:cNvPicPr/>
          <p:nvPr/>
        </p:nvPicPr>
        <p:blipFill>
          <a:blip r:embed="rId2"/>
          <a:srcRect l="33537" t="59262" r="44881" b="33952"/>
          <a:stretch/>
        </p:blipFill>
        <p:spPr>
          <a:xfrm>
            <a:off x="39600" y="6486480"/>
            <a:ext cx="190836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9274320" y="0"/>
            <a:ext cx="598320" cy="522360"/>
          </a:xfrm>
          <a:prstGeom prst="rect">
            <a:avLst/>
          </a:prstGeom>
          <a:ln w="0">
            <a:noFill/>
          </a:ln>
        </p:spPr>
      </p:pic>
      <p:sp>
        <p:nvSpPr>
          <p:cNvPr id="47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309680" y="1357200"/>
            <a:ext cx="7527960" cy="129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CT-VC- I0126: Ne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antization Matrices for HE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440600" y="5743440"/>
            <a:ext cx="1502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g로고"/>
          <p:cNvPicPr/>
          <p:nvPr/>
        </p:nvPicPr>
        <p:blipFill>
          <a:blip r:embed="rId1"/>
          <a:stretch/>
        </p:blipFill>
        <p:spPr>
          <a:xfrm>
            <a:off x="3807000" y="5715000"/>
            <a:ext cx="466560" cy="428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047040" y="4724280"/>
            <a:ext cx="376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ngoh Jeong and Byeongmoon Je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9"/>
          <p:cNvSpPr/>
          <p:nvPr/>
        </p:nvSpPr>
        <p:spPr>
          <a:xfrm>
            <a:off x="-47520" y="500040"/>
            <a:ext cx="990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6680" y="71280"/>
            <a:ext cx="6500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1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urrent  Quantiztion Matrices (QM’s or Scaling List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09600" y="738360"/>
            <a:ext cx="9286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82520" indent="-182520">
              <a:lnSpc>
                <a:spcPct val="11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 4x4 QM: Sub-sampled from 8x8 Intra Q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 16x16 QM and Intra 32x32 QM: Up-sampled from 8x8 Intra Q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 QM’s : Predicted from Intra QM’s, using the linear relationship between the Intra QM’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orresponding inter QM’s in AVC/H.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14280" y="1881360"/>
            <a:ext cx="8853480" cy="3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82520" indent="-182520">
              <a:lnSpc>
                <a:spcPct val="11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 8x8 QM: Uses the same QM developed for JPEG in 1999, based on an HVS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52520" y="2381400"/>
            <a:ext cx="8643960" cy="2643120"/>
          </a:xfrm>
          <a:prstGeom prst="roundRect">
            <a:avLst>
              <a:gd name="adj" fmla="val 97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1899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ra 8x8 QM(i, j) = Round[16 / MTF(i, j)] = 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, where MTF(i, j)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6  16  16  16  17  18  21  24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1.0000 1.0000 1.0000 1.0000 0.9599 0.8746 0.7684 0.657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6  16  16  16  17  19  22  25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1.0000 1.0000 1.0000 1.0000 0.9283 0.8404 0.7371 0.63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6  16  17  18  20  22  25  29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1.0000 1.0000 0.9571 0.8898 0.8192 0.7371 0.6471 0.555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6  16  18  21  24  27  31  36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1.0000 1.0000 0.8898 0.7617 0.6669 0.5912 0.5196 0.449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7  17  20  24  30  35  41  47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0.9599 0.9283 0.8192 0.6669 0.5419 0.4564 0.3930 0.339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8  19  22  27  35  44  54  65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0.8746 0.8404 0.7371 0.5912 0.4564 0.3598 0.2948 0.248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1  22  25  31  41  54  70  88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0.7684 0.7371 0.6471 0.5196 0.3930 0.2948 0.2278 0.182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4  25  29  36  47  65  88  115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0.6571 0.6306 0.5558 0.4495 0.3393 0.2480 0.1828 0.13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523800" y="4952880"/>
            <a:ext cx="8643960" cy="1333800"/>
          </a:xfrm>
          <a:prstGeom prst="roundRect">
            <a:avLst>
              <a:gd name="adj" fmla="val 97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1899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cerns: Simple adoption of an existing QM without considering much about fine-tuning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jective quality and selection criteri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parameters and an assumption of 80 DPI for the MTF(Modulation Transfer Fun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fit with HEVC and a variety of display de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66680" y="71280"/>
            <a:ext cx="60008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. Proposed  QM’s (Scaling Lists): Motivation and Mod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52520" y="1785960"/>
            <a:ext cx="9072360" cy="1143000"/>
          </a:xfrm>
          <a:prstGeom prst="roundRect">
            <a:avLst>
              <a:gd name="adj" fmla="val 97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14280" y="696960"/>
            <a:ext cx="906768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82520" indent="-182520">
              <a:lnSpc>
                <a:spcPct val="11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tivation: Tuning the 4 parameters and the assumption for a better QM can be difficul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18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a simpler model to find a QM having relatively more objective quality gain than relative bitrate incr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18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key properties of using HVS: quantizing low frequency components more than high frequenc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9600" y="1714680"/>
            <a:ext cx="885348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82520" indent="-182520">
              <a:lnSpc>
                <a:spcPct val="11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osed intra 8x8 QM: Based on a generalized HVS model with one control parameter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18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tra 8x8 QM (i, j)= Round [16  /  MTF(i, j)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18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3"/>
              <p:cNvSpPr txBox="1"/>
              <p:nvPr/>
            </p:nvSpPr>
            <p:spPr>
              <a:xfrm>
                <a:off x="8381880" y="1714680"/>
                <a:ext cx="57168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5"/>
              <p:cNvSpPr txBox="1"/>
              <p:nvPr/>
            </p:nvSpPr>
            <p:spPr>
              <a:xfrm>
                <a:off x="6167520" y="1928880"/>
                <a:ext cx="214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1" name="Picture 54" descr="Diagonals"/>
          <p:cNvPicPr/>
          <p:nvPr/>
        </p:nvPicPr>
        <p:blipFill>
          <a:blip r:embed="rId1"/>
          <a:stretch/>
        </p:blipFill>
        <p:spPr>
          <a:xfrm>
            <a:off x="1739880" y="2459160"/>
            <a:ext cx="5857920" cy="3684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8"/>
          <p:cNvSpPr/>
          <p:nvPr/>
        </p:nvSpPr>
        <p:spPr>
          <a:xfrm>
            <a:off x="1025640" y="2571840"/>
            <a:ext cx="128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맑은 고딕"/>
              </a:rPr>
              <a:t>Diagonal Elements of proposed Q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6595920" y="5857920"/>
            <a:ext cx="128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맑은 고딕"/>
              </a:rPr>
              <a:t>Diagonal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0"/>
              <p:cNvSpPr txBox="1"/>
              <p:nvPr/>
            </p:nvSpPr>
            <p:spPr>
              <a:xfrm>
                <a:off x="6238800" y="3065400"/>
                <a:ext cx="64764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2"/>
              <p:cNvSpPr txBox="1"/>
              <p:nvPr/>
            </p:nvSpPr>
            <p:spPr>
              <a:xfrm>
                <a:off x="6524640" y="3929040"/>
                <a:ext cx="47304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 Box 47"/>
          <p:cNvSpPr/>
          <p:nvPr/>
        </p:nvSpPr>
        <p:spPr>
          <a:xfrm>
            <a:off x="7024680" y="3643200"/>
            <a:ext cx="1357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맑은 고딕"/>
              </a:rPr>
              <a:t>(Default Q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4"/>
              <p:cNvSpPr txBox="1"/>
              <p:nvPr/>
            </p:nvSpPr>
            <p:spPr>
              <a:xfrm>
                <a:off x="6381720" y="4495680"/>
                <a:ext cx="6429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6"/>
              <p:cNvSpPr txBox="1"/>
              <p:nvPr/>
            </p:nvSpPr>
            <p:spPr>
              <a:xfrm>
                <a:off x="6256440" y="5000760"/>
                <a:ext cx="6300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8"/>
              <p:cNvSpPr txBox="1"/>
              <p:nvPr/>
            </p:nvSpPr>
            <p:spPr>
              <a:xfrm>
                <a:off x="6453360" y="5429160"/>
                <a:ext cx="5047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47"/>
          <p:cNvSpPr/>
          <p:nvPr/>
        </p:nvSpPr>
        <p:spPr>
          <a:xfrm>
            <a:off x="7024680" y="528624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맑은 고딕"/>
              </a:rPr>
              <a:t>(Flat Q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166680" y="71280"/>
            <a:ext cx="7858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. Proposed  QM’s (Scaling Lists): Proposed 8x8/4x4 intra and inter QM’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14280" y="696960"/>
            <a:ext cx="8853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82520" indent="-182520">
              <a:lnSpc>
                <a:spcPct val="11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osed intra 8x8 QM: With           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(0.8333)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1899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ra 8x8 QM(i, j) = Round[16 / MTF(i, j)            ] =        , where MTF(i, j)           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6  16  16  16  17  18  20  23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1.0000 1.0000 1.0000 1.0000 0.9665 0.8944 0.8029 0.7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6  16  16  16  17  18  21  23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1.0000 1.0000 1.0000 1.0000 0.9399 0.8651 0.7755 0.68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6  16  17  18  19  21  23  26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1.0000 1.0000 0.9641 0.9073 0.8469 0.7755 0.6958 0.6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6  16  18  20  22  25  28  31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1.0000 1.0000 0.9073 0.7971 0.7135 0.6453 0.5795 0.51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7  17  19  22  27  31  35  39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0.9665 0.9399 0.8469 0.7135 0.6002 0.5201 0.4592 0.40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8  18  21  25  31  38  44  51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0.8944 0.8651 0.7755 0.6453 0.5201 0.4266 0.3614 0.31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0  21  23  28  35  44  55  66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0.8029 0.7755 0.6958 0.5795 0.4592 0.3614 0.2915 0.24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3  23  26  31  39  51  66  83  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0.7047 0.6810 0.6130 0.5136 0.4063 0.3129 0.2426 0.19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1899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er 8x8 QM =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ra 4x4 QM =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inter 4x4 QM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 16  16  16  17  18  19  23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 16  17  20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6  16  17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 16  16  17  18  19  23  2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 17  19  2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 17  20 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 16  17  18  19  23  23  25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19  27  35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20  22 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 17  18  19  23  23  25  28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 23  35  55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 22  31  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18  19  23  23  25  28  34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19  23  23  25  28  34  42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 23  23  25  28  34  42  53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 23  25  28  34  42  53 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18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3238560" y="714240"/>
                <a:ext cx="78588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3166920" y="1181160"/>
                <a:ext cx="5335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5310360" y="1214280"/>
                <a:ext cx="5713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9"/>
          <p:cNvSpPr/>
          <p:nvPr/>
        </p:nvSpPr>
        <p:spPr>
          <a:xfrm>
            <a:off x="0" y="47628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66680" y="71280"/>
            <a:ext cx="5286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. Experimental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38360" y="857160"/>
          <a:ext cx="8286480" cy="1013040"/>
        </p:xfrm>
        <a:graphic>
          <a:graphicData uri="http://schemas.openxmlformats.org/drawingml/2006/table">
            <a:tbl>
              <a:tblPr/>
              <a:tblGrid>
                <a:gridCol w="2214360"/>
                <a:gridCol w="1571760"/>
                <a:gridCol w="1714320"/>
                <a:gridCol w="1589040"/>
                <a:gridCol w="1197000"/>
              </a:tblGrid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ll Intra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SNR-Y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Fla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Defaul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0%, 6.1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4.6%, -6.4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.25, -3.17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Proposed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, 4.3%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4.0%, -5.6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.04, -2.52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38360" y="2286000"/>
          <a:ext cx="8286480" cy="1012680"/>
        </p:xfrm>
        <a:graphic>
          <a:graphicData uri="http://schemas.openxmlformats.org/drawingml/2006/table">
            <a:tbl>
              <a:tblPr/>
              <a:tblGrid>
                <a:gridCol w="2180880"/>
                <a:gridCol w="1605240"/>
                <a:gridCol w="1571400"/>
                <a:gridCol w="1571760"/>
                <a:gridCol w="1357200"/>
              </a:tblGrid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ll Intra 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SNR-Y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Fla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Defaul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, 5.4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4.5%, -6.1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.14, -2.98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Proposed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, 3.7%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3.9%, -5.4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94, -2.36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38360" y="3630600"/>
          <a:ext cx="8286480" cy="1012680"/>
        </p:xfrm>
        <a:graphic>
          <a:graphicData uri="http://schemas.openxmlformats.org/drawingml/2006/table">
            <a:tbl>
              <a:tblPr/>
              <a:tblGrid>
                <a:gridCol w="2143080"/>
                <a:gridCol w="1643040"/>
                <a:gridCol w="1571400"/>
                <a:gridCol w="1571760"/>
                <a:gridCol w="1357200"/>
              </a:tblGrid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ndom Access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SNR-Y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Fla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Defaul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, 6.8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4.3%, -4.7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66, -2.47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Proposed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, 4.9%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3.8%, -4.1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54, -1.95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38360" y="4987800"/>
          <a:ext cx="8286480" cy="1013040"/>
        </p:xfrm>
        <a:graphic>
          <a:graphicData uri="http://schemas.openxmlformats.org/drawingml/2006/table">
            <a:tbl>
              <a:tblPr/>
              <a:tblGrid>
                <a:gridCol w="2143080"/>
                <a:gridCol w="1643040"/>
                <a:gridCol w="1571400"/>
                <a:gridCol w="1571760"/>
                <a:gridCol w="1357200"/>
              </a:tblGrid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B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SNR-Y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Fla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Defaul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, 4.8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4.0%, -4.0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55, -1.84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Proposed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, 3.3%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3.5%, -3.6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44, -1.45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29"/>
          <p:cNvSpPr/>
          <p:nvPr/>
        </p:nvSpPr>
        <p:spPr>
          <a:xfrm>
            <a:off x="0" y="47628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66680" y="71280"/>
            <a:ext cx="5286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. Experimental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85880" y="714240"/>
          <a:ext cx="8096040" cy="1013040"/>
        </p:xfrm>
        <a:graphic>
          <a:graphicData uri="http://schemas.openxmlformats.org/drawingml/2006/table">
            <a:tbl>
              <a:tblPr/>
              <a:tblGrid>
                <a:gridCol w="2152440"/>
                <a:gridCol w="1435320"/>
                <a:gridCol w="1579320"/>
                <a:gridCol w="1571760"/>
                <a:gridCol w="1357200"/>
              </a:tblGrid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B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SNR-Y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Fla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Defaul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, 4.8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4.0%, -4.0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55, -1.84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Proposed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, 3.3%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3.5%, -3.6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44, -1.45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85880" y="1916280"/>
          <a:ext cx="8096040" cy="1012680"/>
        </p:xfrm>
        <a:graphic>
          <a:graphicData uri="http://schemas.openxmlformats.org/drawingml/2006/table">
            <a:tbl>
              <a:tblPr/>
              <a:tblGrid>
                <a:gridCol w="2152440"/>
                <a:gridCol w="1435320"/>
                <a:gridCol w="1579320"/>
                <a:gridCol w="1571760"/>
                <a:gridCol w="1357200"/>
              </a:tblGrid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B 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SNR-Y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Fla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Default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, 4.1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3.8%, -3.8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48, -1.67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6.0 Proposed 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7%, 2.9%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3.2%, -3.2%(F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39, -1.31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6"/>
          <p:cNvSpPr/>
          <p:nvPr/>
        </p:nvSpPr>
        <p:spPr>
          <a:xfrm>
            <a:off x="523800" y="3214800"/>
            <a:ext cx="88534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82520" indent="-182520">
              <a:lnSpc>
                <a:spcPct val="11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ection: Find the      as follows, when the change in y becomes the bigg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18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880920" y="3286080"/>
                <a:ext cx="2858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3166920" y="3143160"/>
                <a:ext cx="3574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3033720" y="3830760"/>
                <a:ext cx="157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α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53" name="Text Box 4"/>
          <p:cNvSpPr/>
          <p:nvPr/>
        </p:nvSpPr>
        <p:spPr>
          <a:xfrm>
            <a:off x="2738520" y="4572000"/>
            <a:ext cx="214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ative BD-rate incr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ative bitrate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5"/>
          <p:cNvCxnSpPr/>
          <p:nvPr/>
        </p:nvCxnSpPr>
        <p:spPr>
          <a:xfrm>
            <a:off x="2738160" y="4881600"/>
            <a:ext cx="214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5381640" y="4714920"/>
                <a:ext cx="1090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α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166840" y="4753080"/>
                <a:ext cx="4762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309920" y="3591000"/>
                <a:ext cx="1857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α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Text Box 4"/>
          <p:cNvSpPr/>
          <p:nvPr/>
        </p:nvSpPr>
        <p:spPr>
          <a:xfrm>
            <a:off x="1309680" y="4714920"/>
            <a:ext cx="7286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here,                                                             ,                               ,                            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three values are next to each other.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6810480" y="4714920"/>
                <a:ext cx="1197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2381400" y="5338800"/>
                <a:ext cx="1036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Text Box 4"/>
          <p:cNvSpPr/>
          <p:nvPr/>
        </p:nvSpPr>
        <p:spPr>
          <a:xfrm>
            <a:off x="1166760" y="571500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)  For “All Intra Main”, the relative BD-rate increase = 0.7% / 3.0% = 0.23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relative bitrate decrease = 0.6% / 4.6% = 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9"/>
          <p:cNvSpPr/>
          <p:nvPr/>
        </p:nvSpPr>
        <p:spPr>
          <a:xfrm>
            <a:off x="0" y="47628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66680" y="71280"/>
            <a:ext cx="5286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. Experimental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ratios"/>
          <p:cNvPicPr/>
          <p:nvPr/>
        </p:nvPicPr>
        <p:blipFill>
          <a:blip r:embed="rId1"/>
          <a:stretch/>
        </p:blipFill>
        <p:spPr>
          <a:xfrm>
            <a:off x="1157400" y="1143000"/>
            <a:ext cx="8010360" cy="49849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165" name="Text Box 4"/>
          <p:cNvSpPr/>
          <p:nvPr/>
        </p:nvSpPr>
        <p:spPr>
          <a:xfrm>
            <a:off x="958680" y="857160"/>
            <a:ext cx="18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ive BD-rate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ive bitrate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5"/>
          <p:cNvCxnSpPr/>
          <p:nvPr/>
        </p:nvCxnSpPr>
        <p:spPr>
          <a:xfrm>
            <a:off x="1029960" y="1143000"/>
            <a:ext cx="1786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"/>
              <p:cNvSpPr txBox="1"/>
              <p:nvPr/>
            </p:nvSpPr>
            <p:spPr>
              <a:xfrm>
                <a:off x="8674200" y="5500800"/>
                <a:ext cx="31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4699080" y="2838600"/>
                <a:ext cx="8794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459400" y="1785960"/>
                <a:ext cx="47304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1" name="직선 화살표 연결선 18"/>
          <p:cNvCxnSpPr/>
          <p:nvPr/>
        </p:nvCxnSpPr>
        <p:spPr>
          <a:xfrm>
            <a:off x="4459320" y="3929040"/>
            <a:ext cx="643320" cy="5724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</p:cxnSp>
      <p:cxnSp>
        <p:nvCxnSpPr>
          <p:cNvPr id="172" name="직선 화살표 연결선 23"/>
          <p:cNvCxnSpPr/>
          <p:nvPr/>
        </p:nvCxnSpPr>
        <p:spPr>
          <a:xfrm>
            <a:off x="5888160" y="2071440"/>
            <a:ext cx="643320" cy="8578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3" name="Object 66"/>
              <p:cNvSpPr txBox="1"/>
              <p:nvPr/>
            </p:nvSpPr>
            <p:spPr>
              <a:xfrm>
                <a:off x="3554280" y="3543480"/>
                <a:ext cx="123840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74" name="직선 화살표 연결선 18"/>
          <p:cNvCxnSpPr/>
          <p:nvPr/>
        </p:nvCxnSpPr>
        <p:spPr>
          <a:xfrm>
            <a:off x="5244120" y="3214440"/>
            <a:ext cx="572040" cy="929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601560" y="1031760"/>
                <a:ext cx="428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7"/>
          <p:cNvSpPr/>
          <p:nvPr/>
        </p:nvSpPr>
        <p:spPr>
          <a:xfrm>
            <a:off x="166680" y="71280"/>
            <a:ext cx="5286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4. Conclu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14280" y="696960"/>
            <a:ext cx="899640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82520" indent="-18252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the proposed QM’s, in comparison with the current QM’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0.7% ~ -0.4% BD-rate change and 0.4% ~ 0.6% bi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 for A,B,C, and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.9% ~ -1.2% BD-rate change and 0.4% ~ 0.8% bit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 for 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d objective criteria for HVS-based QM se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the selected           , the relative benefit in BD-rate is higher than the relative disadvantage in bitrate, in comparison with the current QM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the HVS property: low frequency components are less quantized  than high frequency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ion of the proposed QM’s as the default QM’s is requ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2952720" y="3119400"/>
                <a:ext cx="9288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0:52:29Z</dcterms:created>
  <dc:creator/>
  <dc:description/>
  <dc:language>en-US</dc:language>
  <cp:lastModifiedBy>admin</cp:lastModifiedBy>
  <dcterms:modified xsi:type="dcterms:W3CDTF">2012-04-28T14:29:42Z</dcterms:modified>
  <cp:revision>8311</cp:revision>
  <dc:subject/>
  <dc:title>Healthcare TDR</dc:title>
</cp:coreProperties>
</file>