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356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59360" y="-360"/>
            <a:ext cx="3024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23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356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59360" y="9713520"/>
            <a:ext cx="3024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983B-9C74-4AA8-B72A-9B1C4B3FBB9E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4059360" y="9713880"/>
            <a:ext cx="3024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48F1-7709-449F-9D7D-117813FF1B23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1448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54893-4523-49ED-BC8A-2FAB1FDB5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68C7-51FB-49B6-A717-2323116A7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B2CA-C758-4142-9FBF-E7B7D42D8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8D10-752A-40A4-AF82-903ADC342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53DD4-9734-4CDD-92D1-FF74BC14A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135F-7CDF-4A63-B29A-DB590EED8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370A-D85B-435B-B067-0B28FBB5B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06CC-1E1E-41A4-9388-C62E7BBA0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2F4F-3A4B-4468-8BBE-CD4A2E466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F0AB-4A68-48E1-ACE9-348E5FCF6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971B-A27E-4F78-8DBC-82B97D4B1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12712-BFC2-4B11-9D03-61D2AB91C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E883-2185-47EB-8240-A3964492C6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562040"/>
            <a:ext cx="8642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b9"/>
                </a:solidFill>
                <a:latin typeface="Tahoma"/>
                <a:ea typeface="HY헤드라인M"/>
              </a:rPr>
              <a:t>I0125: On</a:t>
            </a:r>
            <a:r>
              <a:rPr b="1" lang="ko-KR" sz="3200" spc="-1" strike="noStrike">
                <a:solidFill>
                  <a:srgbClr val="2d2db9"/>
                </a:solidFill>
                <a:latin typeface="Tahoma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2d2db9"/>
                </a:solidFill>
                <a:latin typeface="Tahoma"/>
                <a:ea typeface="HY헤드라인M"/>
              </a:rPr>
              <a:t>Reference List Combin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57720"/>
            <a:ext cx="83059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lkoo Ki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Samsung Electronic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., Lt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April. XX, 20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ined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Non-normative part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2" marL="1062720" indent="-212400">
              <a:spcBef>
                <a:spcPts val="349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맑은 고딕"/>
              </a:rPr>
              <a:t>Restrict encoder search for duplicated reference pictures in both lists for uni-directional prediction search</a:t>
            </a:r>
            <a:endParaRPr b="0" lang="en-US" sz="1400" spc="-1" strike="noStrike">
              <a:solidFill>
                <a:srgbClr val="3333cc"/>
              </a:solidFill>
              <a:latin typeface="맑은 고딕"/>
            </a:endParaRPr>
          </a:p>
          <a:p>
            <a:pPr lvl="2" marL="1062720" indent="-212400">
              <a:spcBef>
                <a:spcPts val="349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맑은 고딕"/>
              </a:rPr>
              <a:t>In the above example, Ref4 in List0 and Ref2 in List1 are restricted to be searched</a:t>
            </a:r>
            <a:endParaRPr b="0" lang="en-US" sz="1400" spc="-1" strike="noStrike">
              <a:solidFill>
                <a:srgbClr val="3333cc"/>
              </a:solidFill>
              <a:latin typeface="맑은 고딕"/>
            </a:endParaRPr>
          </a:p>
          <a:p>
            <a:pPr lvl="1" marL="690840" indent="-26568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Normative part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2" marL="1062720" indent="-212400">
              <a:spcBef>
                <a:spcPts val="349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맑은 고딕"/>
              </a:rPr>
              <a:t>Construction process for combined list (By default or By explicit signaling)</a:t>
            </a:r>
            <a:endParaRPr b="0" lang="en-US" sz="1400" spc="-1" strike="noStrike">
              <a:solidFill>
                <a:srgbClr val="3333cc"/>
              </a:solidFill>
              <a:latin typeface="맑은 고딕"/>
            </a:endParaRPr>
          </a:p>
          <a:p>
            <a:pPr lvl="2" marL="1062720" indent="-212400">
              <a:spcBef>
                <a:spcPts val="349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맑은 고딕"/>
              </a:rPr>
              <a:t>Need to keep where each element in the combined list is originated from in each list</a:t>
            </a:r>
            <a:endParaRPr b="0" lang="en-US" sz="1400" spc="-1" strike="noStrike">
              <a:solidFill>
                <a:srgbClr val="3333cc"/>
              </a:solidFill>
              <a:latin typeface="맑은 고딕"/>
            </a:endParaRPr>
          </a:p>
          <a:p>
            <a:pPr lvl="2" marL="1062720" indent="-212400">
              <a:spcBef>
                <a:spcPts val="349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맑은 고딕"/>
              </a:rPr>
              <a:t>Mapping motion information of LC to motion information of L0 or L1 to be used motion information prediction</a:t>
            </a:r>
            <a:endParaRPr b="0" lang="en-US" sz="1400" spc="-1" strike="noStrike">
              <a:solidFill>
                <a:srgbClr val="3333cc"/>
              </a:solidFill>
              <a:latin typeface="맑은 고딕"/>
            </a:endParaRPr>
          </a:p>
          <a:p>
            <a:pPr lvl="2" marL="1062720" indent="-212400">
              <a:spcBef>
                <a:spcPts val="349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맑은 고딕"/>
              </a:rPr>
              <a:t>Needs condition checking whether it goes with L0 or L1 ref index coding or LC ref index coding</a:t>
            </a:r>
            <a:endParaRPr b="0" lang="en-US" sz="1400" spc="-1" strike="noStrike">
              <a:solidFill>
                <a:srgbClr val="3333cc"/>
              </a:solidFill>
              <a:latin typeface="맑은 고딕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5B69-B675-48C5-9603-862EC7DC3A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843280" y="1052640"/>
            <a:ext cx="4249800" cy="129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2268360" y="2421000"/>
            <a:ext cx="539928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1440" y="103644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Keep non-normative part and cleanup normative p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맑은 고딕"/>
              </a:rPr>
              <a:t>Maintaining encoder search restriction by reference list combination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2" marL="1143000" indent="-228600">
              <a:spcBef>
                <a:spcPts val="349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3333cc"/>
                </a:solidFill>
                <a:latin typeface="맑은 고딕"/>
              </a:rPr>
              <a:t>If the encoder doesn’t restrict uni-directional prediction search for duplicated pictures, then it potentially improves coding efficiency while complexity is increased by flexibility</a:t>
            </a:r>
            <a:endParaRPr b="0" lang="en-US" sz="1400" spc="-1" strike="noStrike">
              <a:solidFill>
                <a:srgbClr val="3333cc"/>
              </a:solidFill>
              <a:latin typeface="맑은 고딕"/>
            </a:endParaRPr>
          </a:p>
          <a:p>
            <a:pPr lvl="2" marL="1143000" indent="-228600">
              <a:spcBef>
                <a:spcPts val="349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3333cc"/>
                </a:solidFill>
                <a:latin typeface="맑은 고딕"/>
              </a:rPr>
              <a:t>The decoder doesn’t construct the combined list</a:t>
            </a:r>
            <a:endParaRPr b="0" lang="en-US" sz="1400" spc="-1" strike="noStrike">
              <a:solidFill>
                <a:srgbClr val="3333cc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맑은 고딕"/>
              </a:rPr>
              <a:t>Unify reference index coding for uni-directional and bi-directional prediction in B slice type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2" marL="1143000" indent="-228600">
              <a:spcBef>
                <a:spcPts val="349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3333cc"/>
                </a:solidFill>
                <a:latin typeface="맑은 고딕"/>
              </a:rPr>
              <a:t>Do not convert ref idx of Pred_LC to ref idx of either Pred_L0 or Pred_L1 </a:t>
            </a:r>
            <a:endParaRPr b="0" lang="en-US" sz="1400" spc="-1" strike="noStrike">
              <a:solidFill>
                <a:srgbClr val="3333cc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맑은 고딕"/>
              </a:rPr>
              <a:t>Unify 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reference index coding for uni-directional prediction between P and B slice types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2" marL="1143000" indent="-228600">
              <a:spcBef>
                <a:spcPts val="349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맑은 고딕"/>
              </a:rPr>
              <a:t>Use L0 or L1 for uni-directional in B slice as L0 is used in P slice</a:t>
            </a:r>
            <a:endParaRPr b="0" lang="en-US" sz="1400" spc="-1" strike="noStrike">
              <a:solidFill>
                <a:srgbClr val="3333cc"/>
              </a:solidFill>
              <a:latin typeface="맑은 고딕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F237-C8D8-4B43-828C-10548FD646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lice data chang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71440" y="89208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Reference inde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맑은 고딕"/>
              </a:rPr>
              <a:t>The branch to differentiate between uni-directional in combined list and others is removed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 prediction m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맑은 고딕"/>
              </a:rPr>
              <a:t>Pred_LC is changed to Pred_L0 and Pred_L1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The number of bins coded is changed from 1 to 2 in maximum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7084-3CDE-4DEE-83AA-42CDEEAE5E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8360" y="2421000"/>
          <a:ext cx="3816360" cy="1431720"/>
        </p:xfrm>
        <a:graphic>
          <a:graphicData uri="http://schemas.openxmlformats.org/drawingml/2006/table">
            <a:tbl>
              <a:tblPr/>
              <a:tblGrid>
                <a:gridCol w="934920"/>
                <a:gridCol w="1440000"/>
                <a:gridCol w="14414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lice_ty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nter_pred_fla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ame of inter_pred_fla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nferr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red_L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red_L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red_B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859280" y="2421000"/>
          <a:ext cx="3816360" cy="1736640"/>
        </p:xfrm>
        <a:graphic>
          <a:graphicData uri="http://schemas.openxmlformats.org/drawingml/2006/table">
            <a:tbl>
              <a:tblPr/>
              <a:tblGrid>
                <a:gridCol w="936720"/>
                <a:gridCol w="1440000"/>
                <a:gridCol w="1439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lice_ty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nter_pred_fla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ame of inter_pred_id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nferr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red_L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red_L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red_L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red_B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오른쪽 화살표 10"/>
          <p:cNvSpPr/>
          <p:nvPr/>
        </p:nvSpPr>
        <p:spPr>
          <a:xfrm>
            <a:off x="4356000" y="3213000"/>
            <a:ext cx="432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2d2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그룹 37"/>
          <p:cNvGrpSpPr/>
          <p:nvPr/>
        </p:nvGrpSpPr>
        <p:grpSpPr>
          <a:xfrm>
            <a:off x="2700360" y="4471560"/>
            <a:ext cx="4500720" cy="1693440"/>
            <a:chOff x="2700360" y="4471560"/>
            <a:chExt cx="4500720" cy="1693440"/>
          </a:xfrm>
        </p:grpSpPr>
        <p:sp>
          <p:nvSpPr>
            <p:cNvPr id="113" name="순서도: 판단 11"/>
            <p:cNvSpPr/>
            <p:nvPr/>
          </p:nvSpPr>
          <p:spPr>
            <a:xfrm>
              <a:off x="3500280" y="4471560"/>
              <a:ext cx="1567440" cy="6130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rst bi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순서도: 판단 12"/>
            <p:cNvSpPr/>
            <p:nvPr/>
          </p:nvSpPr>
          <p:spPr>
            <a:xfrm>
              <a:off x="4457160" y="5202000"/>
              <a:ext cx="1964520" cy="6130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cond bi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그룹 23"/>
            <p:cNvGrpSpPr/>
            <p:nvPr/>
          </p:nvGrpSpPr>
          <p:grpSpPr>
            <a:xfrm>
              <a:off x="3132000" y="4770000"/>
              <a:ext cx="370080" cy="432360"/>
              <a:chOff x="3132000" y="4770000"/>
              <a:chExt cx="370080" cy="432360"/>
            </a:xfrm>
          </p:grpSpPr>
          <p:cxnSp>
            <p:nvCxnSpPr>
              <p:cNvPr id="116" name="직선 화살표 연결선 14"/>
              <p:cNvCxnSpPr/>
              <p:nvPr/>
            </p:nvCxnSpPr>
            <p:spPr>
              <a:xfrm>
                <a:off x="3132000" y="4770000"/>
                <a:ext cx="1080" cy="432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7" name="직선 연결선 19"/>
              <p:cNvSpPr/>
              <p:nvPr/>
            </p:nvSpPr>
            <p:spPr>
              <a:xfrm>
                <a:off x="3132360" y="4770000"/>
                <a:ext cx="369720" cy="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그룹 22"/>
            <p:cNvGrpSpPr/>
            <p:nvPr/>
          </p:nvGrpSpPr>
          <p:grpSpPr>
            <a:xfrm>
              <a:off x="5066280" y="4770000"/>
              <a:ext cx="370080" cy="432360"/>
              <a:chOff x="5066280" y="4770000"/>
              <a:chExt cx="370080" cy="432360"/>
            </a:xfrm>
          </p:grpSpPr>
          <p:cxnSp>
            <p:nvCxnSpPr>
              <p:cNvPr id="119" name="직선 화살표 연결선 15"/>
              <p:cNvCxnSpPr/>
              <p:nvPr/>
            </p:nvCxnSpPr>
            <p:spPr>
              <a:xfrm>
                <a:off x="5435640" y="4770000"/>
                <a:ext cx="1080" cy="432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20" name="직선 연결선 21"/>
              <p:cNvSpPr/>
              <p:nvPr/>
            </p:nvSpPr>
            <p:spPr>
              <a:xfrm flipV="1">
                <a:off x="5066280" y="4770000"/>
                <a:ext cx="369720" cy="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그룹 24"/>
            <p:cNvGrpSpPr/>
            <p:nvPr/>
          </p:nvGrpSpPr>
          <p:grpSpPr>
            <a:xfrm>
              <a:off x="4110480" y="5510880"/>
              <a:ext cx="311400" cy="432360"/>
              <a:chOff x="4110480" y="5510880"/>
              <a:chExt cx="311400" cy="432360"/>
            </a:xfrm>
          </p:grpSpPr>
          <p:cxnSp>
            <p:nvCxnSpPr>
              <p:cNvPr id="122" name="직선 화살표 연결선 25"/>
              <p:cNvCxnSpPr/>
              <p:nvPr/>
            </p:nvCxnSpPr>
            <p:spPr>
              <a:xfrm>
                <a:off x="4110480" y="5510880"/>
                <a:ext cx="1080" cy="432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23" name="직선 연결선 26"/>
              <p:cNvSpPr/>
              <p:nvPr/>
            </p:nvSpPr>
            <p:spPr>
              <a:xfrm>
                <a:off x="4110840" y="5510880"/>
                <a:ext cx="31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그룹 27"/>
            <p:cNvGrpSpPr/>
            <p:nvPr/>
          </p:nvGrpSpPr>
          <p:grpSpPr>
            <a:xfrm>
              <a:off x="6449040" y="5510880"/>
              <a:ext cx="311400" cy="432360"/>
              <a:chOff x="6449040" y="5510880"/>
              <a:chExt cx="311400" cy="432360"/>
            </a:xfrm>
          </p:grpSpPr>
          <p:cxnSp>
            <p:nvCxnSpPr>
              <p:cNvPr id="125" name="직선 화살표 연결선 28"/>
              <p:cNvCxnSpPr/>
              <p:nvPr/>
            </p:nvCxnSpPr>
            <p:spPr>
              <a:xfrm>
                <a:off x="6759720" y="5510880"/>
                <a:ext cx="1080" cy="432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26" name="직선 연결선 29"/>
              <p:cNvSpPr/>
              <p:nvPr/>
            </p:nvSpPr>
            <p:spPr>
              <a:xfrm>
                <a:off x="6449040" y="5510880"/>
                <a:ext cx="31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TextBox 30"/>
            <p:cNvSpPr/>
            <p:nvPr/>
          </p:nvSpPr>
          <p:spPr>
            <a:xfrm>
              <a:off x="3204360" y="448956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Box 31"/>
            <p:cNvSpPr/>
            <p:nvPr/>
          </p:nvSpPr>
          <p:spPr>
            <a:xfrm>
              <a:off x="5076360" y="448020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Box 32"/>
            <p:cNvSpPr/>
            <p:nvPr/>
          </p:nvSpPr>
          <p:spPr>
            <a:xfrm>
              <a:off x="4212360" y="520956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Box 33"/>
            <p:cNvSpPr/>
            <p:nvPr/>
          </p:nvSpPr>
          <p:spPr>
            <a:xfrm>
              <a:off x="6372360" y="520056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Box 34"/>
            <p:cNvSpPr/>
            <p:nvPr/>
          </p:nvSpPr>
          <p:spPr>
            <a:xfrm>
              <a:off x="2700360" y="5137560"/>
              <a:ext cx="86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ed_BI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Box 35"/>
            <p:cNvSpPr/>
            <p:nvPr/>
          </p:nvSpPr>
          <p:spPr>
            <a:xfrm>
              <a:off x="3678840" y="5857920"/>
              <a:ext cx="86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ed_L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Box 36"/>
            <p:cNvSpPr/>
            <p:nvPr/>
          </p:nvSpPr>
          <p:spPr>
            <a:xfrm>
              <a:off x="6337080" y="5857920"/>
              <a:ext cx="86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ed_L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ffffff"/>
                </a:solidFill>
                <a:latin typeface="Tahoma"/>
              </a:rPr>
              <a:t>Inter prediction mode coding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71440" y="103644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current context model index deriv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Determined by the CU depth having values range 0..3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ctxIdx = cuDepth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proposed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ntext model index deriv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맑은 고딕"/>
              </a:rPr>
              <a:t>Keeping the same number of context model 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2" marL="1143000" indent="-228600">
              <a:spcBef>
                <a:spcPts val="349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3333cc"/>
                </a:solidFill>
                <a:latin typeface="맑은 고딕"/>
              </a:rPr>
              <a:t>The first bin is capped by 2 (range 0..2)</a:t>
            </a:r>
            <a:br>
              <a:rPr sz="1400"/>
            </a:br>
            <a:r>
              <a:rPr b="0" lang="en-CA" sz="1400" spc="-1" strike="noStrike">
                <a:solidFill>
                  <a:srgbClr val="3333cc"/>
                </a:solidFill>
                <a:latin typeface="맑은 고딕"/>
              </a:rPr>
              <a:t>	</a:t>
            </a:r>
            <a:r>
              <a:rPr b="0" lang="en-CA" sz="1400" spc="-1" strike="noStrike">
                <a:solidFill>
                  <a:srgbClr val="3333cc"/>
                </a:solidFill>
                <a:latin typeface="맑은 고딕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맑은 고딕"/>
              </a:rPr>
              <a:t>ctxIdx = (cuDepth &gt; 2? 2 : cuDepth)</a:t>
            </a:r>
            <a:endParaRPr b="0" lang="en-US" sz="1400" spc="-1" strike="noStrike">
              <a:solidFill>
                <a:srgbClr val="3333cc"/>
              </a:solidFill>
              <a:latin typeface="맑은 고딕"/>
            </a:endParaRPr>
          </a:p>
          <a:p>
            <a:pPr lvl="2" marL="1143000" indent="-228600">
              <a:spcBef>
                <a:spcPts val="349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3333cc"/>
                </a:solidFill>
                <a:latin typeface="맑은 고딕"/>
              </a:rPr>
              <a:t>The second bin is coded with the context corresponding to 3</a:t>
            </a:r>
            <a:endParaRPr b="0" lang="en-US" sz="1400" spc="-1" strike="noStrike">
              <a:solidFill>
                <a:srgbClr val="3333cc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Using the one additional context model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2" marL="1143000" indent="-228600">
              <a:spcBef>
                <a:spcPts val="349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맑은 고딕"/>
              </a:rPr>
              <a:t>The first bin is unchanged (range 0..3)</a:t>
            </a:r>
            <a:br>
              <a:rPr sz="1400"/>
            </a:br>
            <a:r>
              <a:rPr b="0" lang="en-US" sz="1400" spc="-1" strike="noStrike">
                <a:solidFill>
                  <a:srgbClr val="3333cc"/>
                </a:solidFill>
                <a:latin typeface="맑은 고딕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맑은 고딕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맑은 고딕"/>
              </a:rPr>
              <a:t>ctxIdx = cuDepth </a:t>
            </a:r>
            <a:endParaRPr b="0" lang="en-US" sz="1400" spc="-1" strike="noStrike">
              <a:solidFill>
                <a:srgbClr val="3333cc"/>
              </a:solidFill>
              <a:latin typeface="맑은 고딕"/>
            </a:endParaRPr>
          </a:p>
          <a:p>
            <a:pPr lvl="2" marL="1143000" indent="-228600">
              <a:spcBef>
                <a:spcPts val="349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맑은 고딕"/>
              </a:rPr>
              <a:t>The second bin is coded with the new context = 4</a:t>
            </a:r>
            <a:endParaRPr b="0" lang="en-US" sz="1400" spc="-1" strike="noStrike">
              <a:solidFill>
                <a:srgbClr val="3333cc"/>
              </a:solidFill>
              <a:latin typeface="맑은 고딕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3893-5CD8-4209-AA18-264E55E640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56000" y="4365720"/>
          <a:ext cx="4608360" cy="1828800"/>
        </p:xfrm>
        <a:graphic>
          <a:graphicData uri="http://schemas.openxmlformats.org/drawingml/2006/table">
            <a:tbl>
              <a:tblPr/>
              <a:tblGrid>
                <a:gridCol w="1074600"/>
                <a:gridCol w="1766880"/>
                <a:gridCol w="1766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ame context mode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 Additional contex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RA Mai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DB Mai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RA HE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DB HE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verag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D and HM modifica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71440" y="89208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veral syntaxes specified for combined list are remov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맑은 고딕"/>
              </a:rPr>
              <a:t>ref_pic_list_combination()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맑은 고딕"/>
              </a:rPr>
              <a:t>lc wp parameters in pred_weight_table()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맑은 고딕"/>
              </a:rPr>
              <a:t>lc motion information such as ref_idx_lc, mvd_lc, mvp_lc_flag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pecial branches for combined list are remov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맑은 고딕"/>
              </a:rPr>
              <a:t>Lc related part in ‘Weighted sample prediction process’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맑은 고딕"/>
              </a:rPr>
              <a:t>Converting part for LC in ‘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Derivation process for motion vector components and reference indices’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pecial sections for combined list process are remov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‘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Mapping process for reference picture lists combination in B slices’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1D1E-65E3-4BB4-89E2-040E3E0D79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71440" y="89208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 removing combined lis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Several syntaxes and decoding process are cleaned up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Syntaxes are unified with P slice and Bi-directional prediction in B slice 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Performance improvement is also observed as 0.1% gain in random access and no loss in low delay B condition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It is proposed to remove normative parts of combined list 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while keeping non-normative parts in SW.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C4FE-4F39-4033-BB37-AE14DC93AA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F8D5-346B-458B-8D05-899A0E6CEB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Tammy</cp:lastModifiedBy>
  <dcterms:modified xsi:type="dcterms:W3CDTF">2012-04-26T09:47:22Z</dcterms:modified>
  <cp:revision>4476</cp:revision>
  <dc:subject/>
  <dc:title>Visual SNHC Tools</dc:title>
</cp:coreProperties>
</file>