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128B-3841-4EB1-914C-49273C8EF9FB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D71D-019E-4216-BF7B-6ABF54B9D7CE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FD8E-46D4-4B77-BECD-3E8EBD853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E03C-AD91-4363-B2AE-F7AABFC0C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7BF6-22D2-4343-8944-81AAA3406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7347-9031-40F9-86BB-6DD66438C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818C-FED8-4C2C-9497-0D26FBA9C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8F44-46CB-4871-9388-3849EE19E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29CA-9AB2-42A0-9F9B-8B8CA0024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CEE2-B5C9-4638-8A12-DA851A8E4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FE49-ACDA-46FC-8F32-9BFC89C36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1652-BB18-42DC-BA22-37AB98D13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B9E1-6C12-4057-AEA8-212406256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18F2-7557-4A54-BB5C-64CEC7961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0FD1-CB26-4E5B-BB50-655F7782E1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052640"/>
            <a:ext cx="864216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Simplification of Golomb-Rice parameter upd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(JCTVC-I0124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793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su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바탕체"/>
              </a:rPr>
              <a:t>Chanyul k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current HM, large transition of Golumb-Rice parameter is allow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.e. 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 when one large coefficient is occurr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2d2db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2d2db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2d2db9"/>
                </a:solidFill>
                <a:latin typeface="Tahoma"/>
              </a:rPr>
              <a:t>Only allow increment of Golumb-Rice parameter by one ev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2d2db9"/>
                </a:solidFill>
                <a:latin typeface="Tahoma"/>
              </a:rPr>
              <a:t>though  large coefficient is occur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current software, g_aauiGoRiceUpdate[5][24] is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2d2db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2d2db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2d2db9"/>
                </a:solidFill>
                <a:latin typeface="Tahoma"/>
              </a:rPr>
              <a:t>Change to g_auiUpTbl[5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in (-0.1% for AI E sequence) in normal QP, (-0.1% for AI) in low QP (12,17,22,27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 checked by Canon (JCTVC-I0566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C589-D1C8-4CA4-8411-C561715E6D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Algorithm Description (1)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96336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21E1-0748-41E6-8B47-E77665BFB6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5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개체 4"/>
          <p:cNvGraphicFramePr/>
          <p:nvPr/>
        </p:nvGraphicFramePr>
        <p:xfrm>
          <a:off x="900000" y="1628640"/>
          <a:ext cx="594360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개체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594360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Algorithm Description(2)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1440" y="96336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chang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E347-4B7D-4583-A0F6-963659F13B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개체 6"/>
          <p:cNvGraphicFramePr/>
          <p:nvPr/>
        </p:nvGraphicFramePr>
        <p:xfrm>
          <a:off x="371520" y="1773360"/>
          <a:ext cx="84009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개체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1773360"/>
                    <a:ext cx="84009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71440" y="96336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 Q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99C6-C073-42BA-B1F5-93DA27517A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5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544824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71440" y="96336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Q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FBFE-E12E-4BCF-B0B3-9486E26396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348000" y="830160"/>
            <a:ext cx="5448240" cy="55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increment of Goloum-Rice parameter one by on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table from “g_aauiGoRiceUpdate[5][24]” to “g_auiUpTbl[5]”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gain is observed and no major change of Draf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F900-0524-4FA1-885D-4E259C9471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1149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unghyun</cp:lastModifiedBy>
  <dcterms:modified xsi:type="dcterms:W3CDTF">2012-04-28T15:19:24Z</dcterms:modified>
  <cp:revision>4706</cp:revision>
  <dc:subject/>
  <dc:title>Visual SNHC Tools</dc:title>
</cp:coreProperties>
</file>