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61BD-0901-42E0-8CBC-E4B445E8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9E95-121A-465E-B8EC-7C0260B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EB67-DC4C-4EF2-B6BC-EAD738AD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F521-ABF8-47C6-80AE-6341518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508D-D120-4DC9-B7F2-6413AFF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5120-23DF-4F93-888B-BC6788C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450F-2369-4394-911B-0C5970C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7FE0-AB84-440F-ABCD-6066EA1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9D78-A8CE-428B-B875-2EAD0C3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E170-3E1A-4C4D-9672-47B1C0C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18C2-EF19-4355-B2FC-3115E7A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6030-B2E0-4411-82EA-C607A9B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44EC-9671-4D00-9BBC-19E942EE422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3BB-D010-4950-B07B-11632032D8FA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6280" y="95364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HG7: Modification of merge candidate derivation to reduce MC memory bandwidth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I0107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6280" y="4193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, T. Suzuki (Sony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an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omoyuki Yamamoto (Sharp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599D-DD8B-443A-AFD6-18DB561FC9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D%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6280" y="1089000"/>
          <a:ext cx="8686800" cy="2173320"/>
        </p:xfrm>
        <a:graphic>
          <a:graphicData uri="http://schemas.openxmlformats.org/drawingml/2006/table">
            <a:tbl>
              <a:tblPr/>
              <a:tblGrid>
                <a:gridCol w="1168560"/>
                <a:gridCol w="1224000"/>
                <a:gridCol w="1224000"/>
                <a:gridCol w="1224000"/>
                <a:gridCol w="1282680"/>
                <a:gridCol w="1280880"/>
                <a:gridCol w="12826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1+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2+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3+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B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B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-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-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308200" y="773280"/>
            <a:ext cx="34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lass A is added for low delay c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751280" y="369900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154480" y="378936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.6% improving on R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537000" y="4824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940200" y="491508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.2% improving on R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8254-D134-4411-B494-09AC2EA4BA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vg. BD% on R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90BC-22B4-40DA-B5D1-A2BD8BC3B2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vg. BD% on R3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25B3-A32B-4C56-829A-976B997389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troduced proposed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nd “disable_bip_small_mrg_idc” in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derivation of merge, it replace bi-prediction to uni-prediction when block size is corresponding to “disable_bip_small_mrg_idc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experiments,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overhead of this proposal was neglig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th this proposal, the BD% is improved on condition of PU restr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0.6% improved on R3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Recommend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 level dependent restriction of bi-pred in small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opt proposed merge derivation mod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540A-907B-4536-B2CC-C5CB3CD2A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pplementary 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ncoding tim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Decoding tim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R0 + propos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CEC7-6830-4BF4-B1C9-E38ECE6F1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 for R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954000"/>
          <a:ext cx="8416800" cy="3797280"/>
        </p:xfrm>
        <a:graphic>
          <a:graphicData uri="http://schemas.openxmlformats.org/drawingml/2006/table">
            <a:tbl>
              <a:tblPr/>
              <a:tblGrid>
                <a:gridCol w="2925720"/>
                <a:gridCol w="2790720"/>
                <a:gridCol w="270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4x4 bi-predi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out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isable_bip_small_mrg_idc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LB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0% (109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0% (116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B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% (114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4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0% (109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0.1% (114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% (107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2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2520" y="4959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Enc. time%, Dec. time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36EA-712A-4965-946D-D649B72780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 for R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954000"/>
          <a:ext cx="8416800" cy="3797280"/>
        </p:xfrm>
        <a:graphic>
          <a:graphicData uri="http://schemas.openxmlformats.org/drawingml/2006/table">
            <a:tbl>
              <a:tblPr/>
              <a:tblGrid>
                <a:gridCol w="2925720"/>
                <a:gridCol w="2790720"/>
                <a:gridCol w="270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4x4, 4x8, 8x4 bi-prediction, 4x4 uni-predi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out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isable_bip_small_mrg_idc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LB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8% (91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4% (91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B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6% (92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% (93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5% (92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0.4% (93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4% (94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% (94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82520" y="4959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Enc. time%, Dec. time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6AF8-F189-4AD0-B816-923DA9120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 for R3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954000"/>
          <a:ext cx="8416800" cy="3797280"/>
        </p:xfrm>
        <a:graphic>
          <a:graphicData uri="http://schemas.openxmlformats.org/drawingml/2006/table">
            <a:tbl>
              <a:tblPr/>
              <a:tblGrid>
                <a:gridCol w="2925720"/>
                <a:gridCol w="2790720"/>
                <a:gridCol w="270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4x4, 4x8, 8x4, 8x8 bi-prediction, 4x4 uni-pred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out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isable_bip_small_mrg_idc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LB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2.1% (86,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1.1% (88, 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B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.7% (89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9% (90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1.5% (89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1.0% (91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.2% (91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8% (93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582520" y="4959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Enc. time%, Dec. time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0B12-EE3D-4DCB-AE83-3530358C5B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954000"/>
          <a:ext cx="8416800" cy="3633840"/>
        </p:xfrm>
        <a:graphic>
          <a:graphicData uri="http://schemas.openxmlformats.org/drawingml/2006/table">
            <a:tbl>
              <a:tblPr/>
              <a:tblGrid>
                <a:gridCol w="2925720"/>
                <a:gridCol w="2790720"/>
                <a:gridCol w="2700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0 (non restri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out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ith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disable_bip_small_mrg_idc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RA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0.1% (114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0.1% (114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A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2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2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LB-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0.1% (116, 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0.1% (116, 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B-HE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4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0.1% (114, 1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582520" y="4959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Enc. time%, Dec. time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3FFC-D547-4CAC-A59B-BB9851FA5E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issue for MC becaus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decoder throughput is limited by bandwidth of MC in especially large image appl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troduce the proposed method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coding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A417-299D-4270-A895-8C1B2EE89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Overview how to limit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 restriction of small PU is proposed in JTCVC-I0106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s corresponding to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Prohibit small block size and bi-pred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Limit max number of motion vector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is proposal helps merge m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en bi-prediction is restricted by level, the encoder can not choose merge candidates of bi-pre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Unfortunately it brings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use merge mode, this proposal replaces prediction di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t can avoid the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D917-3E59-4ABC-94D6-DD06F1481F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posal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end “disable_bip_small_mrg_idc” in sp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replaces merge candidates of bi-prediction to L0-prediction for following block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0: no modificatio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1: 4x4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2: 4x4, 8x4, 4x8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3: 4x4, 8x4, 4x8, 8x8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derivation of merge candidat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en current block size is included in above groups corresponding to the “disable_bip_small_mrg_idc”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Bi prediction is replaced to uni-predci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t can increase a chance to use merge mode when bi-pred is restricte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4E37-F082-44C5-AAC8-C419CE88E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s 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heck the overhead of this propos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common test condition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sable_bip_small_mrg_idc” sets to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FC9F-B7EE-4921-85B5-9FE643919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Overhead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584360"/>
          <a:ext cx="8915400" cy="3368520"/>
        </p:xfrm>
        <a:graphic>
          <a:graphicData uri="http://schemas.openxmlformats.org/drawingml/2006/table">
            <a:tbl>
              <a:tblPr/>
              <a:tblGrid>
                <a:gridCol w="838080"/>
                <a:gridCol w="673200"/>
                <a:gridCol w="673200"/>
                <a:gridCol w="673200"/>
                <a:gridCol w="672840"/>
                <a:gridCol w="673200"/>
                <a:gridCol w="673200"/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B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B H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  <a:ea typeface="ＭＳ Ｐゴシック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86C8-E4D6-4AF7-9150-B58E2DCA1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s 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heck to avoid coding efficiency loss with propos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mpare BD% between with/without this proposal based on PU rest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_4x4_enabled_flag” sets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However, 4x4 bi-prediction is restricted by the PU restriction in encoder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EE21-6F84-4E8C-BA68-9A479E4DBE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s 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46280" y="1359000"/>
          <a:ext cx="7772400" cy="2012760"/>
        </p:xfrm>
        <a:graphic>
          <a:graphicData uri="http://schemas.openxmlformats.org/drawingml/2006/table">
            <a:tbl>
              <a:tblPr/>
              <a:tblGrid>
                <a:gridCol w="1623960"/>
                <a:gridCol w="2360520"/>
                <a:gridCol w="378792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ithout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ith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isable_bip_small_mrg_idc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isable_bip_small_mrg_idc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-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isable_bip_small_mrg_idc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5640" y="4373640"/>
            <a:ext cx="61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is Restriction case is proposed in JCTVC-I1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1: (4x4) bi-predi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2: (4x4, 4x8, 8x4) bi-prediction, 4x4 uni-predi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3: (4x4, 4x8, 8x4, 8x8) bi-prediction, 4x4 uni-predi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7FCE-799D-4B9F-B920-C17189CC6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D%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7000" y="728640"/>
          <a:ext cx="7283520" cy="5829480"/>
        </p:xfrm>
        <a:graphic>
          <a:graphicData uri="http://schemas.openxmlformats.org/drawingml/2006/table">
            <a:tbl>
              <a:tblPr/>
              <a:tblGrid>
                <a:gridCol w="870120"/>
                <a:gridCol w="817560"/>
                <a:gridCol w="911160"/>
                <a:gridCol w="911160"/>
                <a:gridCol w="909720"/>
                <a:gridCol w="955440"/>
                <a:gridCol w="954360"/>
                <a:gridCol w="9540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1+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+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+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HE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HE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HE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HE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EF5-B29D-4CED-AF23-96A74EEE6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2-04-29T08:56:28Z</dcterms:modified>
  <cp:revision>50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