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3798-776E-4C2E-ABCF-94BDD2E2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ED74-BA8C-45FD-928F-1E883192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0F1A-4EAF-434E-852A-37B1DE6E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55E7-1AB0-4C9C-AD41-700B2E4F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803F-07A1-445A-AF01-19D4A1CA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5810-61F8-41BB-AB95-79A698A7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A27D-A2CF-41BE-ADFA-DDEAEE31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4A43-7BF8-455E-810F-F3FF1421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35F8-BDE9-4DA1-9663-F7538D43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6E21-71A6-4FD7-BA7F-565CE423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0E99-91D0-4EF9-AC66-7485C1E1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F40F-9C4E-41D1-A3D5-590EC1F5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461F-2B90-414B-A8C1-8D1B664DB445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061A-6695-4E8F-ADE7-659825617256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6/07/28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AHG7: Level definition to limit memory bandwidth of MC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JCTVC-I0107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Kenji Kondo and Teruhiko Suzuk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3627-8D0F-4551-94EB-34AD7A3C62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One example for level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6280" y="998640"/>
          <a:ext cx="8596440" cy="3052800"/>
        </p:xfrm>
        <a:graphic>
          <a:graphicData uri="http://schemas.openxmlformats.org/drawingml/2006/table">
            <a:tbl>
              <a:tblPr/>
              <a:tblGrid>
                <a:gridCol w="903240"/>
                <a:gridCol w="858960"/>
                <a:gridCol w="907920"/>
                <a:gridCol w="976320"/>
                <a:gridCol w="857520"/>
                <a:gridCol w="1028520"/>
                <a:gridCol w="1532160"/>
                <a:gridCol w="153180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hibition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X mark means the mode is not to be use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umber of MVs in one LCU 64x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Imag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i-4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i-4x8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i-8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i-4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i-8x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i-4x8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i-8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6 (B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8 (B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D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8 (B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K2K 60p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4 (B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K2K 60p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B24D-FF50-43FB-A018-BF40EBF4EB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Pros/Cons for two method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U restric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impler for encode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Have some coding efficiency los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asier to check a con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ax. number of MV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ay reduce coding efficiency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However difficult to control the number of MV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In real encoder, we think that the PU restriction is often used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light difficult to check a con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we’re afraid that there will be illegal stream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Recommend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U restriction is recommen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D91B-2A8C-4169-925C-39A2F86988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Avg. BD% for class A, B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1224000"/>
          <a:ext cx="7754760" cy="4244760"/>
        </p:xfrm>
        <a:graphic>
          <a:graphicData uri="http://schemas.openxmlformats.org/drawingml/2006/table">
            <a:tbl>
              <a:tblPr/>
              <a:tblGrid>
                <a:gridCol w="1447560"/>
                <a:gridCol w="1359000"/>
                <a:gridCol w="1225440"/>
                <a:gridCol w="1225440"/>
                <a:gridCol w="1225800"/>
                <a:gridCol w="12715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3+I0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B-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B-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B-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LB-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-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-HE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-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-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294840" y="5678640"/>
            <a:ext cx="82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fortunately, the restriction brings coding efficiency los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it’s possible to reduce with other techniques such as JCTVC-I01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CC53-A24B-4422-AAFD-033EFE7F1C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t is recommended th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removal of “inter_4x4_enabled_fla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inter_4x4_enabled_flag permanently sets to 0.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limit the memory bandwidth of MC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PU restriction or number of MVs is included in level definition.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006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We think that the PU restriction is better.</a:t>
            </a:r>
            <a:endParaRPr b="0" lang="en-US" sz="2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31CF-02B7-413F-9B7D-B8D6873209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pplemental slide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D853-06D9-444A-949A-83FF061FC9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iscussion of desirable restric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ossible to constrain the max memory bandwidt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 relevant small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A restriction for PU level is best to limit the bandwidth but it will increase the coding efficiency loss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A restriction for picture level is difficult to design hardware both encoder and decoder, but it will decrease the coding efficiency loss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We think that the restriction for each LCU or CU is good trade-off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asy to check the conform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motivate us to protect this level defin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Good flexibility for new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 the future, new level may be defined by something reas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Harmless coding perform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1968-0372-4767-A2B7-FDCD177E6F0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Avg. BD% for class A, B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773280"/>
            <a:ext cx="9144000" cy="568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45320" y="95400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lass A is added for Low Delay ca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929E-3165-4987-B466-47B03F38195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otiv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roposed method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moval of “inter_4x4_enabled_fla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strict small MC block and bi-predi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mit maximum number of motion v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erim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D% impact for block restr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nclus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B2C7-28A3-4F2A-87BF-5F823AC89E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5360" y="728640"/>
            <a:ext cx="8667720" cy="500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17720" y="5859360"/>
            <a:ext cx="9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bandwidth significantly increases as corresponding to image size and frame r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1871640" y="3338640"/>
            <a:ext cx="1260360" cy="62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 A and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63D5-A449-4C1D-BE63-D526774481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Motiva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bandwidth limitation is required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andwidth is depend on image size and frame r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It is widely changing.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efinition should have flexi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For example, when new level will be required in future it’s better to easily add new level.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mple ideas how to limit the bandwidt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 restr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number of MV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F4DC-C96D-4E5D-B709-29CBBEB800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inter_4x4_enabled_flag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HEVC text specification draft 6, JCTVC-H1003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“inter_4x4_enabled_flag” is specif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n common test condition, the “inter_4x4_enabled_flag” is equal to zero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ter 4x4 block is disab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 is good for memory bandwid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Although it’s not enough for large image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 recommend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inter_4x4_enabled_flag always sets to zero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flag is removed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urther restriction is required for large image or high frame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9460-E208-401D-BF3F-D12781696A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Idea to limit max bandwidth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U restric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Limit max number of motion vector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AB55-1673-4B06-B31E-CA95FBBC19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PU restric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01640" y="954000"/>
          <a:ext cx="7772400" cy="3870000"/>
        </p:xfrm>
        <a:graphic>
          <a:graphicData uri="http://schemas.openxmlformats.org/drawingml/2006/table">
            <a:tbl>
              <a:tblPr/>
              <a:tblGrid>
                <a:gridCol w="993960"/>
                <a:gridCol w="944280"/>
                <a:gridCol w="1000080"/>
                <a:gridCol w="1073160"/>
                <a:gridCol w="943200"/>
                <a:gridCol w="1131840"/>
                <a:gridCol w="1685880"/>
              </a:tblGrid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Prohibition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(X mark means the mode is not to be used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st B/W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orst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i-4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i-4x8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i-8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i-4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i-8x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i-4x8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i-8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nc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%, Bi-4x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+52%, Bi-4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%, Bi-4x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4%, Bi-8x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0%, Uni-4x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8%, Bi-8x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F4D5-2FA6-44AC-9741-0DB44BFC995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Proposal for max number of MV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705960" y="4238640"/>
            <a:ext cx="70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proposal limits max number of MVs as same as AVC stand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2  is the same as level 3.1 and above of AV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066680"/>
          <a:ext cx="7772400" cy="2592360"/>
        </p:xfrm>
        <a:graphic>
          <a:graphicData uri="http://schemas.openxmlformats.org/drawingml/2006/table">
            <a:tbl>
              <a:tblPr/>
              <a:tblGrid>
                <a:gridCol w="1940040"/>
                <a:gridCol w="1942920"/>
                <a:gridCol w="1944720"/>
                <a:gridCol w="1944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Maximum number of MVs in one L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LCU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16x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32x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64x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2FD0-F114-4713-BAB8-52ABDA4F94C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1640" y="2322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lationship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between two method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6280" y="1943280"/>
          <a:ext cx="7772400" cy="1825560"/>
        </p:xfrm>
        <a:graphic>
          <a:graphicData uri="http://schemas.openxmlformats.org/drawingml/2006/table">
            <a:tbl>
              <a:tblPr/>
              <a:tblGrid>
                <a:gridCol w="3709800"/>
                <a:gridCol w="4062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PU restri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Number of M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701640" y="4014720"/>
            <a:ext cx="74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example, if the PU restriction R2 is protected, number of MVs limit B2 is automatically protect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 AVC standard, the number of MVs is defined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owever in real encoder, we think that the PU restriction is often us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I01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8D09-F16B-4DF6-A2D6-51CE5439BE0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0000110148</cp:lastModifiedBy>
  <dcterms:modified xsi:type="dcterms:W3CDTF">2012-04-29T08:57:52Z</dcterms:modified>
  <cp:revision>50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3966292</vt:r8>
  </property>
  <property fmtid="{D5CDD505-2E9C-101B-9397-08002B2CF9AE}" pid="3" name="_AuthorEmail">
    <vt:lpwstr>Ali.Tabatabai@am.sony.com</vt:lpwstr>
  </property>
  <property fmtid="{D5CDD505-2E9C-101B-9397-08002B2CF9AE}" pid="4" name="_AuthorEmailDisplayName">
    <vt:lpwstr>Tabatabai, Ali</vt:lpwstr>
  </property>
  <property fmtid="{D5CDD505-2E9C-101B-9397-08002B2CF9AE}" pid="5" name="_EmailSubject">
    <vt:lpwstr>Presentation</vt:lpwstr>
  </property>
  <property fmtid="{D5CDD505-2E9C-101B-9397-08002B2CF9AE}" pid="6" name="_PreviousAdHocReviewCycleID">
    <vt:r8>-683104095</vt:r8>
  </property>
  <property fmtid="{D5CDD505-2E9C-101B-9397-08002B2CF9AE}" pid="7" name="_ReviewingToolsShownOnce">
    <vt:lpwstr/>
  </property>
</Properties>
</file>