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83C2C-E7EF-456B-9C65-82CA52A0458B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DD2E8-9DBA-48BA-A0DE-2CE257339A02}" type="slidenum">
              <a:rPr b="0" lang="ko-KR" sz="12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4A2D-17C5-43FE-914C-70E6D611B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0C4D-7D89-4292-9F87-AAB9091C0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AE48-113B-4B7B-A3E2-D8585C5F7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FD3A-734D-4AAC-AAB1-E98E43EBC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5536D-9966-4725-8572-A9CA6E2AC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DC1DC-604E-4E54-85A8-541AD0A04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751BF-F834-41D5-AC80-D8C2D8CFB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55810-BFAB-49B5-8568-17F3FC86A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8681F-4C7E-47F4-BB8A-5A0A41820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4E240-A493-4158-AE00-1488AE54E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70DE0-2331-445E-86D3-807EBF521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F70E-3569-4218-BE57-13583613E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C4B70-352E-4DCA-B037-8A82EB9CD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2659E-1C9D-4B93-95A9-AAAE628E7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D56B5-4F26-45C0-A269-24FC1FAE1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E86A1-558F-482F-A6A7-486F7811E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6BF30-87A3-46C7-BBED-87A5E52ED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84A2C4-A2D1-4C09-84F2-00D267833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7192BB-D27D-4FEC-A99B-D565015FA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16BB4A-568B-462C-99E7-154FB2BE6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1822D6-B969-4DBF-A221-33A08CC78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494CD3-C44A-4277-B30B-C18E5324F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D59F-A2D0-4215-8D14-AC6E4CF47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356939-FAC5-45AB-9523-5561D855F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43F9DD-4AC0-4227-87EE-EC4D93692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E35D70-6520-4A76-A663-6DC4F36D2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FEDE44-4DF5-4BF4-8A34-C85E4FF95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92EBB6-EE5D-41E6-902B-1F99D8A4A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EC8E19-FCED-4999-8596-0367B4FE5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6A6FA5-215F-4330-841D-B09D8F149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0EC730-B2E5-488C-98A0-7C6744328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A5D4F1-87B6-4926-AF03-D55F56A3E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5A5DA9-42C3-4EF0-9B3A-BA7953C32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8772-B4F5-4204-9945-8D4EBB038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DD2CAF-0CF5-44D4-872C-633A50F5C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D40735-AE23-4B9E-B377-86AB54A54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320CCC-A9A6-4955-86A7-35730F255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2B4DA6-4542-4D20-9023-8A6ACA394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2AE1F9-75A3-4734-860D-0EB3EF6DE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7F7D91-09C8-4B66-838C-F5A57FAE5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2770D0-F2CC-4352-84CA-62FEC2E21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56F9EA-DB57-46AC-8176-BB53C7E4B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71CDD3-1F1C-45DB-A52A-7EC58F567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43697F-1AF8-4FB0-9C5A-264796990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AFCF-9CD3-4CF7-BB7D-2FAFAAB70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F71083-0E3A-45CC-B512-0EB85205C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9E7BB7-E427-49B5-B40A-7630673B6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431D51-0B02-45FE-A64B-5E6FF60E7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D09784-2CC9-4F89-A706-FA5D2861A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B0F80D-34B0-4FEB-929A-CD7802476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15A673-CC7D-4BAF-98F6-FA491B571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6248C0-F76D-4004-8473-467262EF4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B82686-62CA-4C7A-9465-B1F3C44A1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0C8313-F911-451B-A983-C64C9209B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80C567-0BA1-4F72-A1AF-62EF12CE3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C78C-FF9E-4F95-B0A5-3C23C8D62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192ECC-FD12-43DD-9F08-3CEBC7DAC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9F4BF8-2D0B-439A-9340-21F4D9C0A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93E83B-DE76-46AE-B520-EEC631130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664513-7A46-4266-96C0-73E2FE18E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121CC0-357C-4417-8946-3ABF7ADFE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1FED40-6049-4FC9-BAE2-22DE1F7FB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D4540E-A044-4200-8083-B6A108FC8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1D6321-2D01-443B-986D-BA277C29D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843D07-9813-44A9-8260-5A4F089DB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CD1771-9DFE-4B6F-B217-F806AD959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E9A3-CD03-4C93-8B6E-0CB5F3589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B462AE-8F38-401A-AFA3-AAC1A7235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A33ED9-58E1-4541-B0D2-8FF5111F5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1641E3-9AD9-41DA-ADA7-F4E5B5CB4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DF738A-53B7-4CF9-95E6-E5133A03B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1B195A-1EB2-47AE-AB24-BCBF4A440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1E9893-C889-4E47-B28F-F19098797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9FE816-3ED8-4C4C-A6DC-F24A660ED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80BA2D-DF93-4F7C-907B-88303260F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540930-9F55-48B7-9437-3107C03F3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289EDC-AACC-49AD-9A79-020E1B543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9042-5895-4898-A6B6-2442AB72E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B8625A-8BC3-4B2F-B897-7C03CEC05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51AC4C-A904-4862-981F-FB7D15B7B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389E8F-0808-421D-9A73-AC3B192AE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5106FD-EB33-4C24-AAC1-9E24E5D42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6B0F4C-CF1B-45B2-9FBA-D4EC2A6BD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B941BD-BA2F-43A6-92A9-EC9063D95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1D36F9-BA93-4BA6-A720-698FE81F7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E63A51-5761-4412-A24D-249D83E69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2DE781-7055-417E-8EA2-A3B1CB8D6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86302F-8645-44F8-91B3-CCABBE28E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AFB3-5BFE-46E4-9117-E6A0D9CF4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1EF7EB-C753-46EF-88AE-C95606FDC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536206-5A8D-4ED2-B32A-1FE9FD120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344372-4C6E-405A-A3FD-87A62F91A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C9C0E5-C840-449E-9A0E-D8A517EE7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C30553-7C07-4A05-A64B-A91E3E36F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240CD0-6FFA-4A3D-97E3-F09FE32EF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8FA88F-D327-48F8-B37E-1299B8EF6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08779-EC99-49CF-945B-7015A29B5B73}" type="datetime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26年 7月 30日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8739E-826C-4F82-B7E0-15B062BF9865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7C2F4-91A9-4D81-A661-268B84CA3C04}" type="datetime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26年 7月 30日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A144E-0149-449C-8506-2F37D9BF949F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423CE-12C0-4906-8C7C-2015A601CE48}" type="datetime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26年 7月 30日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071920" y="6356520"/>
            <a:ext cx="614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AC563-8046-4FDF-8F2F-BD674FB42DDA}" type="slidenum">
              <a:rPr b="0" lang="ko-KR" sz="16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09171-8D83-452D-B18D-C9A0D817AC4B}" type="datetime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26年 7月 30日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96F0C-EF53-47D5-8EE0-B333EDF17FA2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B29D0-1B69-427C-94DF-A03EE2459117}" type="datetime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26年 7月 30日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07901-6D7F-486A-A627-B3E9FD5667A2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65C0B-F6CC-4732-B782-0D5E60FDB079}" type="datetime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26年 7月 30日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A0BA6-06EF-4914-85B8-3A0E765AADF9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BFB32-BBEB-4A42-9412-F07C6E411318}" type="datetime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26年 7月 30日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C19A7-63C8-471E-99E1-4C05E24A4D03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05D07-3576-4362-B448-CAE5383F3453}" type="datetime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26年 7月 30日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35943-B0FD-4A29-AB8E-A95C8AB08515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08000" y="1412640"/>
            <a:ext cx="9036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orts on TMVP off versus TMVP on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2556000" y="3933720"/>
            <a:ext cx="640080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o Min Choi, Jung Hak Nam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Dong Gyu Sim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7" name="슬라이드 번호 개체 틀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F057F-CD77-4A7B-9148-E0F87B521555}" type="slidenum">
              <a:rPr b="0" lang="ko-KR" sz="12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8" name="직사각형 2"/>
          <p:cNvSpPr/>
          <p:nvPr/>
        </p:nvSpPr>
        <p:spPr>
          <a:xfrm>
            <a:off x="6732720" y="253512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CTVC-I0097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010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ommendation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28400" y="1213920"/>
            <a:ext cx="825804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contribution should be considered at not only any performance compensation for the TMVP off, but also other error concealment technique.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recommend further study in adhoc group related to TMVP options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2" name="슬라이드 번호 개체 틀 3"/>
          <p:cNvSpPr/>
          <p:nvPr/>
        </p:nvSpPr>
        <p:spPr>
          <a:xfrm>
            <a:off x="8072280" y="6356520"/>
            <a:ext cx="614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9A100-865C-4FD6-AB45-B69056EF04B9}" type="slidenum">
              <a:rPr b="0" lang="ko-KR" sz="16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010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story of TMVP on/off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428400" y="1213920"/>
            <a:ext cx="825804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CT-VC meeting adopted to explicitly send 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able_temporal_mvp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fla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t the PPS (JCTVC-G398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628560" indent="-2746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helpful in error robustness point of view. 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marL="264960" indent="-26496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264960" indent="-26496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8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CT-VC meeting, it was insisted that the flag move to P and B slice header (JCTVC-G398, JCTVC-H0570, JCTVC-I0420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628560" indent="-2746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cleans up marking process in decoder.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lvl="1" marL="628560" indent="-2746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prevents a problem by slice headers sharing an identical PPS.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1" name="슬라이드 번호 개체 틀 3"/>
          <p:cNvSpPr/>
          <p:nvPr/>
        </p:nvSpPr>
        <p:spPr>
          <a:xfrm>
            <a:off x="8072280" y="6356520"/>
            <a:ext cx="614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4DBEF-96AB-41BD-9429-5CD3422ECEE9}" type="slidenum">
              <a:rPr b="0" lang="ko-KR" sz="16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010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gnificant coding loss by TMVP off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428400" y="1213920"/>
            <a:ext cx="825804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We found that the TMVP off case makes significant coding loss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628560" indent="-274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out 2~3%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lvl="1" marL="628560" indent="-274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ding loss by TMVP off , compared to TMVP on in RA case.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4" name="슬라이드 번호 개체 틀 3"/>
          <p:cNvSpPr/>
          <p:nvPr/>
        </p:nvSpPr>
        <p:spPr>
          <a:xfrm>
            <a:off x="8072280" y="6356520"/>
            <a:ext cx="614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09BFF-E3F7-42C9-89BB-8F560D5B7AE6}" type="slidenum"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</p:txBody>
      </p:sp>
      <p:graphicFrame>
        <p:nvGraphicFramePr>
          <p:cNvPr id="345" name=""/>
          <p:cNvGraphicFramePr/>
          <p:nvPr/>
        </p:nvGraphicFramePr>
        <p:xfrm>
          <a:off x="1403280" y="2852640"/>
          <a:ext cx="6193080" cy="2011320"/>
        </p:xfrm>
        <a:graphic>
          <a:graphicData uri="http://schemas.openxmlformats.org/drawingml/2006/table">
            <a:tbl>
              <a:tblPr/>
              <a:tblGrid>
                <a:gridCol w="1055880"/>
                <a:gridCol w="785520"/>
                <a:gridCol w="890640"/>
                <a:gridCol w="892440"/>
                <a:gridCol w="857160"/>
                <a:gridCol w="855720"/>
                <a:gridCol w="855720"/>
              </a:tblGrid>
              <a:tr h="27468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b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3"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andom Access Ma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b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andom Access HE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b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68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b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b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b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b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b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b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b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43720"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lass 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b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b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b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b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b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b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b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43720"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lass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b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b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b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b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b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b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b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43720"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lass 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b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b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b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b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b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b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b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43720"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lass 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b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b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b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b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b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b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b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43720"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Overa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b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b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b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b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b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b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b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43720"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lass 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b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b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b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b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b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b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b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010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gnificant coding loss by TMVP off (cont’d)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428400" y="1213920"/>
            <a:ext cx="825804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ding loss by TMVP off, compared to TMVP on in LB case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ding loss by TMVP off, compared to TMVP on in LP case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8" name="슬라이드 번호 개체 틀 3"/>
          <p:cNvSpPr/>
          <p:nvPr/>
        </p:nvSpPr>
        <p:spPr>
          <a:xfrm>
            <a:off x="8072280" y="6356520"/>
            <a:ext cx="614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E3D2D-01E7-463A-B249-056A03F3EC82}" type="slidenum">
              <a:rPr b="0" lang="ko-KR" sz="16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258920" y="4221000"/>
          <a:ext cx="6192720" cy="2011680"/>
        </p:xfrm>
        <a:graphic>
          <a:graphicData uri="http://schemas.openxmlformats.org/drawingml/2006/table">
            <a:tbl>
              <a:tblPr/>
              <a:tblGrid>
                <a:gridCol w="1057320"/>
                <a:gridCol w="855720"/>
                <a:gridCol w="855360"/>
                <a:gridCol w="855720"/>
                <a:gridCol w="857520"/>
                <a:gridCol w="855360"/>
                <a:gridCol w="855720"/>
              </a:tblGrid>
              <a:tr h="27468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b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3"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ow delay P Ma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b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ow delay P HE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b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68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b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b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b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b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b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b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b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43720"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lass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b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b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b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b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b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b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b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43720"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lass 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b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b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b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b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b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b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b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43720"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lass 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b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b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b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b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b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b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b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43720"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lass 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b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b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b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b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b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b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b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43720"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Overa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b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b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b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b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b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b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b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43720"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lass 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b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b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b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b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b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b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b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50" name=""/>
          <p:cNvGraphicFramePr/>
          <p:nvPr/>
        </p:nvGraphicFramePr>
        <p:xfrm>
          <a:off x="1258920" y="1700280"/>
          <a:ext cx="6192720" cy="2012760"/>
        </p:xfrm>
        <a:graphic>
          <a:graphicData uri="http://schemas.openxmlformats.org/drawingml/2006/table">
            <a:tbl>
              <a:tblPr/>
              <a:tblGrid>
                <a:gridCol w="1057320"/>
                <a:gridCol w="855720"/>
                <a:gridCol w="855360"/>
                <a:gridCol w="855720"/>
                <a:gridCol w="857520"/>
                <a:gridCol w="855360"/>
                <a:gridCol w="855720"/>
              </a:tblGrid>
              <a:tr h="27468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b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3"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ow delay B Ma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b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ow delay B HE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b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68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b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b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b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b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b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b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b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44080"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lass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b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b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b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b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b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b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b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43720"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lass 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b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b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b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b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b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b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b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44080"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lass 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b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b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b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b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b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b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b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43720"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lass 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b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b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b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b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b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b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b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44080"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Overa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b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b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b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b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b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b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b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43720"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lass 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b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b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b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b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b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b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b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010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ose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428400" y="1213920"/>
            <a:ext cx="825804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ompensate the coding loss by TMVP off, we suggest to send an auxiliary vector at the PPS or P and B slice header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628560" indent="-274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ay to generating the auxiliary vector is encoding issue only.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rror concealment or the others, it also would be helpfu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628560" indent="-274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is scenario, usage index for the auxiliary vector should be sent.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3" name="슬라이드 번호 개체 틀 3"/>
          <p:cNvSpPr/>
          <p:nvPr/>
        </p:nvSpPr>
        <p:spPr>
          <a:xfrm>
            <a:off x="8072280" y="6356520"/>
            <a:ext cx="614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43818-412A-42CD-8C01-B46F52B079A6}" type="slidenum"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010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eriments to obtain the auxiliary vector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28400" y="1213920"/>
            <a:ext cx="825804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59560" indent="-259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extract the auxiliary vector for each P and B slice from HM6.1 bitstream on the three conditions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615960" indent="-268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dition 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lvl="2" marL="877320" indent="-26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p 1. </a:t>
            </a:r>
            <a:r>
              <a:rPr b="0" lang="en-C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ract vectors from the AMVP and MERGE when the vector is not zero and reference index for the list_0 is 0. </a:t>
            </a: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  <a:p>
            <a:pPr lvl="2" marL="877320" indent="-26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p 2. estimate the number of frequency for those vector. A vector which has the highest frequency is chosen as the auxiliary vector for the slice. </a:t>
            </a: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  <a:p>
            <a:pPr lvl="2" marL="877320" indent="-26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p 3. If there are several vectors which have identical the number of frequency in Step 2, a vector which has the largest absolute value for the horizontal is chosen.</a:t>
            </a: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  <a:p>
            <a:pPr lvl="1" marL="615960" indent="-268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CA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d</a:t>
            </a:r>
            <a:r>
              <a:rPr b="0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dition 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lvl="2" marL="877320" indent="-26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p 1. extract vectors only from the AMVP on identical condition. </a:t>
            </a: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  <a:p>
            <a:pPr lvl="2" marL="877320" indent="-26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p 3. After procedure is same as well as the first condition. </a:t>
            </a: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  <a:p>
            <a:pPr lvl="1" marL="615960" indent="-268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CA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rd</a:t>
            </a:r>
            <a:r>
              <a:rPr b="0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dtion 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lvl="2" marL="877320" indent="-26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p 1. extract vectors from the AMVP algorithm when the reference index for the list_0 is 0. </a:t>
            </a: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  <a:p>
            <a:pPr lvl="2" marL="877320" indent="-26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p 2. same as well</a:t>
            </a: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  <a:p>
            <a:pPr lvl="2" marL="877320" indent="-26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p 3. auxiliary vector for each P and B slice is sent to decoder when it is not zero vector. </a:t>
            </a: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  <a:p>
            <a:pPr lvl="1" marL="615960" indent="-2689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6" name="슬라이드 번호 개체 틀 3"/>
          <p:cNvSpPr/>
          <p:nvPr/>
        </p:nvSpPr>
        <p:spPr>
          <a:xfrm>
            <a:off x="8072280" y="6356520"/>
            <a:ext cx="614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C4449-AA94-4E0D-8689-DBD8DB25418E}" type="slidenum"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824544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eriment results for the proposal on TMVP off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28400" y="1213920"/>
            <a:ext cx="825804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uxiliary vector is exploited as one of </a:t>
            </a:r>
            <a:r>
              <a:rPr b="0" lang="en-C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candidates of AMVP and MERGE in decoder side when TMVP off case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evaluate the proposed one for Class E and F with main profile on condition of LB and LP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628560" indent="-274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B case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marL="264960" indent="-264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9" name="슬라이드 번호 개체 틀 3"/>
          <p:cNvSpPr/>
          <p:nvPr/>
        </p:nvSpPr>
        <p:spPr>
          <a:xfrm>
            <a:off x="8072280" y="6356520"/>
            <a:ext cx="614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28CA6-F718-4618-BFAD-5756FE9E8B0A}" type="slidenum"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360" name="표 8" descr=""/>
          <p:cNvPicPr/>
          <p:nvPr/>
        </p:nvPicPr>
        <p:blipFill>
          <a:blip r:embed="rId1"/>
          <a:stretch/>
        </p:blipFill>
        <p:spPr>
          <a:xfrm>
            <a:off x="749160" y="3249720"/>
            <a:ext cx="7510680" cy="21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010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eriment results for the proposal on TMVP off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28400" y="1213920"/>
            <a:ext cx="825804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28560" indent="-274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P case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marL="264960" indent="-264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3" name="슬라이드 번호 개체 틀 3"/>
          <p:cNvSpPr/>
          <p:nvPr/>
        </p:nvSpPr>
        <p:spPr>
          <a:xfrm>
            <a:off x="8072280" y="6356520"/>
            <a:ext cx="614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31745-EFF8-49D5-A0D8-1FAC62E4E158}" type="slidenum"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</p:txBody>
      </p:sp>
      <p:graphicFrame>
        <p:nvGraphicFramePr>
          <p:cNvPr id="364" name=""/>
          <p:cNvGraphicFramePr/>
          <p:nvPr/>
        </p:nvGraphicFramePr>
        <p:xfrm>
          <a:off x="755640" y="1614600"/>
          <a:ext cx="7488360" cy="1885680"/>
        </p:xfrm>
        <a:graphic>
          <a:graphicData uri="http://schemas.openxmlformats.org/drawingml/2006/table">
            <a:tbl>
              <a:tblPr/>
              <a:tblGrid>
                <a:gridCol w="1584360"/>
                <a:gridCol w="984240"/>
                <a:gridCol w="984240"/>
                <a:gridCol w="984240"/>
                <a:gridCol w="984240"/>
                <a:gridCol w="982800"/>
                <a:gridCol w="984240"/>
              </a:tblGrid>
              <a:tr h="182880"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b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3"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맑은 고딕"/>
                        </a:rPr>
                        <a:t>HM6.1-TMVP on vs. HM6.1-TMVP of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맑은 고딕"/>
                        </a:rPr>
                        <a:t>HM6.1-TMVP off vs. HM6.1-propos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b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82880"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맑은 고딕"/>
                        </a:rPr>
                        <a:t>FourPeop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b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.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.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.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0.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0.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83600"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맑은 고딕"/>
                        </a:rPr>
                        <a:t>Johnn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b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.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.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.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0.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85040"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맑은 고딕"/>
                        </a:rPr>
                        <a:t>KristenAndSa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b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.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4.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.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0.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1.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1.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37240"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맑은 고딕"/>
                        </a:rPr>
                        <a:t>BasketballDrillTex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b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.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.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.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.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82880"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맑은 고딕"/>
                        </a:rPr>
                        <a:t>ChinaSpe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b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.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.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0.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82880"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SlideEdit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b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.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.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.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2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0.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1.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82880"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SlideSho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b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.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.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4.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0.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1.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2.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82880"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맑은 고딕"/>
                        </a:rPr>
                        <a:t>Overa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b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.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.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0.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0.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0.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365" name="그림 1" descr=""/>
          <p:cNvPicPr/>
          <p:nvPr/>
        </p:nvPicPr>
        <p:blipFill>
          <a:blip r:embed="rId1"/>
          <a:stretch/>
        </p:blipFill>
        <p:spPr>
          <a:xfrm>
            <a:off x="468360" y="3905280"/>
            <a:ext cx="4032360" cy="2260440"/>
          </a:xfrm>
          <a:prstGeom prst="rect">
            <a:avLst/>
          </a:prstGeom>
          <a:ln w="0">
            <a:noFill/>
          </a:ln>
        </p:spPr>
      </p:pic>
      <p:pic>
        <p:nvPicPr>
          <p:cNvPr id="366" name="그림 1" descr=""/>
          <p:cNvPicPr/>
          <p:nvPr/>
        </p:nvPicPr>
        <p:blipFill>
          <a:blip r:embed="rId2"/>
          <a:stretch/>
        </p:blipFill>
        <p:spPr>
          <a:xfrm>
            <a:off x="4643280" y="3905280"/>
            <a:ext cx="4027680" cy="22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010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28400" y="1213920"/>
            <a:ext cx="825804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posed technique is very effective for  such a sequence which has only single orientation or includes any particular movemen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628560" indent="-274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deEditing and SlideShow. 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e future, we believe additional aux_idc syntax can describe the meaning of the auxiliary vector.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628560" indent="-274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ensating coding loss by TMVP off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lvl="1" marL="628560" indent="-274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 concealment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lvl="1" marL="628560" indent="-274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scenario. 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marL="264960" indent="-264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9" name="슬라이드 번호 개체 틀 3"/>
          <p:cNvSpPr/>
          <p:nvPr/>
        </p:nvSpPr>
        <p:spPr>
          <a:xfrm>
            <a:off x="8072280" y="6356520"/>
            <a:ext cx="614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406AA-94F0-4F0F-9624-3479F75CEB51}" type="slidenum"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5T04:04:58Z</dcterms:created>
  <dc:creator>Microsoft Corporation</dc:creator>
  <dc:description/>
  <dc:language>en-US</dc:language>
  <cp:lastModifiedBy>JohnChris</cp:lastModifiedBy>
  <cp:lastPrinted>2011-07-17T23:54:03Z</cp:lastPrinted>
  <dcterms:modified xsi:type="dcterms:W3CDTF">2012-04-27T14:38:08Z</dcterms:modified>
  <cp:revision>264</cp:revision>
  <dc:subject/>
  <dc:title>PowerPoint 프레젠테이션</dc:title>
</cp:coreProperties>
</file>