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FA49-5B09-43B4-A6B0-3B3662BA698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D708-B94E-4907-941B-9BAAECFFFBDF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5ABC-3263-49AA-A48C-F13880678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A54E-860F-422B-A9B6-6784B9BE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807F-9618-431C-B2A3-15A1FBCA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2D7-A7F4-43A6-B461-5AA1FE07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4083-B2F3-436F-BB20-7DFD4014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9901-31D9-4BD3-B99D-056192AA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5428-AEE9-4A2D-821C-BE14FDFF3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943C-229C-44C8-AF4C-19FFEE31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AC1C-490E-4D3B-9E56-BBEC8E16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A48B-7F2F-4F3D-BBD2-186607DD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5B6-6F36-4BCA-A50B-867E7AA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57B5-1E74-42D4-8A2F-D310A238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3A4-5CAD-4109-9B67-DD12A255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A0FB-1908-4DAB-8116-BB1E722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3E66-B425-4DA5-B898-0B7590534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6547-85A5-47B0-B684-B8FAC13E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1BA8-B77E-4390-88E2-79083477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0459A-D487-4E81-8C36-5571B1B6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B4DC-229D-42FD-A858-794BE148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DE06-C3AB-4260-8893-BF5E67E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50AB-C1C5-44C8-9D90-E71E31F4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134A-A620-4330-B31E-0468E9FF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4C2-0E37-478D-AEC6-D90DD764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8C3BA-C623-4FEE-8EBE-B19A8381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87E7A-81F7-4B6A-8B8C-38EA7CB6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4026E-D09F-4FF1-BB62-046BCF33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61D31-7FC8-4F86-B05D-FD787492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9516-3680-4C78-B030-A1D2E0259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7B87D-BE72-4C11-ADAD-3DCD7A47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E8B01-8ABA-412A-A208-7979947E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D038-819C-4695-93E3-14C6D949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AC236-73F6-4FC7-9710-49A087F9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BE483-6552-4A6F-ACAF-545BB3EFE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DF83-3951-4CD5-87DD-005C24CB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8E40D-E021-41C4-8ECE-CB024BE1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BC96-2E2E-45A6-9458-30CD43F2C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F3F3E-4C20-4B45-BE0C-8D875F44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D99A-86FA-4CAE-9AA6-B20944E6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EC17A-3D9C-4750-B330-AAD386E9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21AA1-F18C-4BB1-99AF-5DEC0F26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7C1FF-F7C8-4C55-A09F-70416AF4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514ED-AD9C-4C8F-914C-4D3FE7485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FD34-69AF-48C3-832F-D369C67B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1F51D-C48F-4C89-A272-AFB9750B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76A5-9552-4B0D-B94B-2D01A6FF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8CDA-4D80-4D0C-B8E3-4EC8AF89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FFF3-B90F-43BA-9E7A-962D1CA8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07F3C-9AB2-45BF-B678-02044C4F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AD3AA-4A61-457E-A9EB-B44C013F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19080-3F70-4188-A58D-B67E776C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814EB-9DCB-414B-8DA7-8BCADE44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8B9C-EAF5-4CD8-A5C5-0A48511C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5B94B-DD13-4BF3-8DAF-705BCB72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C2720-75EA-4BDA-B160-A319B723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BC2CD-043E-49C7-8928-4E4137CA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D4E-EF84-46EF-8EB0-98926BAF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DD4DD-4269-42CB-B34B-7104A9F5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ED9C6-93F4-4DF4-9439-1D0DBDA2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4524BC-0932-4CBD-8CF1-B07CCE4D0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DE5FA-0F41-4792-9E8D-53093919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50CF1-8E17-4B98-B066-63FFE858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F4CE-C58C-4DF5-8674-53FA6361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92193-D767-428A-A848-78384BCF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0CD01-6368-424F-9A47-24602B66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32354-9D91-480C-A526-0D10C64F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A5666-3331-4877-967C-DD787C96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1E58-F020-4DCB-8D23-FDD4A49B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7C245-2459-4575-94C6-14EEE209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28A00-909E-4BB1-A348-0764C6A1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BAE83-E8A8-44A4-8421-12C091755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E2DE0-73A2-4CDD-80EF-67FA62815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D0C0C-403D-42B6-932C-5AFBE2F1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676F5-277D-4B55-84AC-69365F94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8D690-2B66-45FA-91F7-E7CA26D0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EC965-1B5C-4A2A-A9BB-2766A721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6034D-B643-4A37-9371-628C414D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75FFC-0B7E-4BEA-9090-211C2268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525-9EF5-4A36-B848-46143DB7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7AD808-9363-43E5-AD9F-4B76AB0F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987FA-A6C8-4DA5-BE9A-1FF4829E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22DE1-36EE-493A-91B8-36D8D151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1CDE1-6A75-49BA-A92D-097BAF2A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62AD-9812-4362-BC26-93FD3FC9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0578D-D0F4-4773-8821-979B86D63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B3050-3FE4-4913-A7E4-AF072942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396FC-C782-4839-A9B8-13FBB97C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CC492-2971-46C4-809F-06B34EAE0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919DC-FA06-4E2E-83F6-6FF04496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7835-A569-4C7A-950F-CDD67F37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DDA05-8867-4441-883B-8A4455C0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19C7D-0B30-49BF-8ACB-7752247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36385-6245-47FC-8BED-6453D267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4F623-CF54-4E1A-B4C4-32584D3F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9FF35-C194-46C7-96BF-BFEA4F8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F73C9-5ABD-4242-B37D-0B0E4312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C794DB-A540-4EB3-8DB6-5779C787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C3D9-C62B-48C2-A178-025221BD9E19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BA75-10FE-4D7A-AEFF-5C41398E71B7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JohnChrisostomo\Desktop\71cc6ada1ee1f52fe8a3fc8772e90b0d.jpg"/>
          <p:cNvPicPr/>
          <p:nvPr/>
        </p:nvPicPr>
        <p:blipFill>
          <a:blip r:embed="rId3"/>
          <a:stretch/>
        </p:blipFill>
        <p:spPr>
          <a:xfrm>
            <a:off x="6156360" y="5646600"/>
            <a:ext cx="2735280" cy="1122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D4C1-37DA-4E08-9305-C44B05A82C1C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F5AB-004E-4E6F-8D3D-361B980516E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806AD-A9A0-4503-8A7E-684EE7728D8E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07192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51A-95B8-4803-AA32-DCA0A531C03B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1767-B37C-44BF-8B68-89F95B526A34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D815-2698-41AF-BE6F-3970F256C0C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89A9-B79A-45B5-BF8E-3205398755AE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1C68-D8F9-417D-B082-10965D2077C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2C84-9751-4530-82CA-4CE29940D60F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8CA5-0F4A-4E18-860A-6B80240B992A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82E3-9A22-4EA7-8445-88D4319ECCDC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DBAF-A7D3-402C-A935-8F0DC98837DB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B7BC7-3779-46D8-86EE-EB262BB8BE75}" type="datetime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26年 7月 28日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D681-E1A1-4794-96F6-783209C24BC2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8000" y="1412640"/>
            <a:ext cx="9036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ment of the rate control based on pixel-based URQ mod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64008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. Choi, J. Nam, J. Yoo, D. Si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I.V. Bajić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8" name="슬라이드 번호 개체 틀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271A-982D-4B6F-93B0-790A119240FF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9" name="직사각형 2"/>
          <p:cNvSpPr/>
          <p:nvPr/>
        </p:nvSpPr>
        <p:spPr>
          <a:xfrm>
            <a:off x="6732720" y="2535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CTVC-I0094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Plots for Test 1 in LB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4" name="슬라이드 번호 개체 틀 3"/>
          <p:cNvSpPr/>
          <p:nvPr/>
        </p:nvSpPr>
        <p:spPr>
          <a:xfrm>
            <a:off x="8072280" y="631188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1100-BB0F-415C-A732-D8D021F0CBE5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85" name="그림 1" descr=""/>
          <p:cNvPicPr/>
          <p:nvPr/>
        </p:nvPicPr>
        <p:blipFill>
          <a:blip r:embed="rId1"/>
          <a:stretch/>
        </p:blipFill>
        <p:spPr>
          <a:xfrm>
            <a:off x="0" y="979560"/>
            <a:ext cx="4506840" cy="2825640"/>
          </a:xfrm>
          <a:prstGeom prst="rect">
            <a:avLst/>
          </a:prstGeom>
          <a:ln w="0">
            <a:noFill/>
          </a:ln>
        </p:spPr>
      </p:pic>
      <p:pic>
        <p:nvPicPr>
          <p:cNvPr id="386" name="그림 1" descr=""/>
          <p:cNvPicPr/>
          <p:nvPr/>
        </p:nvPicPr>
        <p:blipFill>
          <a:blip r:embed="rId2"/>
          <a:stretch/>
        </p:blipFill>
        <p:spPr>
          <a:xfrm>
            <a:off x="4506840" y="979560"/>
            <a:ext cx="4554720" cy="2825640"/>
          </a:xfrm>
          <a:prstGeom prst="rect">
            <a:avLst/>
          </a:prstGeom>
          <a:ln w="0">
            <a:noFill/>
          </a:ln>
        </p:spPr>
      </p:pic>
      <p:pic>
        <p:nvPicPr>
          <p:cNvPr id="387" name="그림 1" descr=""/>
          <p:cNvPicPr/>
          <p:nvPr/>
        </p:nvPicPr>
        <p:blipFill>
          <a:blip r:embed="rId3"/>
          <a:stretch/>
        </p:blipFill>
        <p:spPr>
          <a:xfrm>
            <a:off x="0" y="3987720"/>
            <a:ext cx="4506840" cy="2826000"/>
          </a:xfrm>
          <a:prstGeom prst="rect">
            <a:avLst/>
          </a:prstGeom>
          <a:ln w="0">
            <a:noFill/>
          </a:ln>
        </p:spPr>
      </p:pic>
      <p:pic>
        <p:nvPicPr>
          <p:cNvPr id="388" name="그림 1" descr=""/>
          <p:cNvPicPr/>
          <p:nvPr/>
        </p:nvPicPr>
        <p:blipFill>
          <a:blip r:embed="rId4"/>
          <a:stretch/>
        </p:blipFill>
        <p:spPr>
          <a:xfrm>
            <a:off x="4519440" y="3987720"/>
            <a:ext cx="4529160" cy="28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Plots for Test 1 in LP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0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9F06-39A6-4D42-B5BB-05F58C117413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91" name="그림 1" descr=""/>
          <p:cNvPicPr/>
          <p:nvPr/>
        </p:nvPicPr>
        <p:blipFill>
          <a:blip r:embed="rId1"/>
          <a:stretch/>
        </p:blipFill>
        <p:spPr>
          <a:xfrm>
            <a:off x="69840" y="1035000"/>
            <a:ext cx="4392720" cy="2825640"/>
          </a:xfrm>
          <a:prstGeom prst="rect">
            <a:avLst/>
          </a:prstGeom>
          <a:ln w="0">
            <a:noFill/>
          </a:ln>
        </p:spPr>
      </p:pic>
      <p:pic>
        <p:nvPicPr>
          <p:cNvPr id="392" name="그림 1" descr=""/>
          <p:cNvPicPr/>
          <p:nvPr/>
        </p:nvPicPr>
        <p:blipFill>
          <a:blip r:embed="rId2"/>
          <a:stretch/>
        </p:blipFill>
        <p:spPr>
          <a:xfrm>
            <a:off x="4572000" y="1035000"/>
            <a:ext cx="4551480" cy="2825640"/>
          </a:xfrm>
          <a:prstGeom prst="rect">
            <a:avLst/>
          </a:prstGeom>
          <a:ln w="0">
            <a:noFill/>
          </a:ln>
        </p:spPr>
      </p:pic>
      <p:pic>
        <p:nvPicPr>
          <p:cNvPr id="393" name="그림 1" descr=""/>
          <p:cNvPicPr/>
          <p:nvPr/>
        </p:nvPicPr>
        <p:blipFill>
          <a:blip r:embed="rId3"/>
          <a:stretch/>
        </p:blipFill>
        <p:spPr>
          <a:xfrm>
            <a:off x="69840" y="4005360"/>
            <a:ext cx="4554720" cy="2825640"/>
          </a:xfrm>
          <a:prstGeom prst="rect">
            <a:avLst/>
          </a:prstGeom>
          <a:ln w="0">
            <a:noFill/>
          </a:ln>
        </p:spPr>
      </p:pic>
      <p:pic>
        <p:nvPicPr>
          <p:cNvPr id="394" name="그림 1" descr=""/>
          <p:cNvPicPr/>
          <p:nvPr/>
        </p:nvPicPr>
        <p:blipFill>
          <a:blip r:embed="rId4"/>
          <a:stretch/>
        </p:blipFill>
        <p:spPr>
          <a:xfrm>
            <a:off x="4635360" y="3997440"/>
            <a:ext cx="452304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93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6.1 rate control on proposed condition with diverse LCU sizes for CB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맑은 고딕"/>
              </a:rPr>
              <a:t>One advantage of the proposed URQ model is that the model can be employed regardless of LCU size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맑은 고딕"/>
              </a:rPr>
              <a:t>For CBR condition, we employ </a:t>
            </a:r>
            <a:r>
              <a:rPr b="0" lang="en-GB" sz="2000" spc="-1" strike="noStrike">
                <a:solidFill>
                  <a:srgbClr val="000000"/>
                </a:solidFill>
                <a:latin typeface="맑은 고딕"/>
              </a:rPr>
              <a:t>target rates defined by document N11113, which is “Joint Call for proposals on Video compression technology”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7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706A-217A-4AFA-BCBF-14377FBEA7C5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755640" y="3660840"/>
          <a:ext cx="7561440" cy="1280880"/>
        </p:xfrm>
        <a:graphic>
          <a:graphicData uri="http://schemas.openxmlformats.org/drawingml/2006/table">
            <a:tbl>
              <a:tblPr/>
              <a:tblGrid>
                <a:gridCol w="1460520"/>
                <a:gridCol w="1060560"/>
                <a:gridCol w="1258920"/>
                <a:gridCol w="1260360"/>
                <a:gridCol w="1260360"/>
                <a:gridCol w="1260720"/>
              </a:tblGrid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Rat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A: 2560x1600p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.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1: 1080p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6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.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2: 1080p5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.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: WVGAp3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4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12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68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2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D: WQVGAp30-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6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4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12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83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: 720p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56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4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12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 k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5 Mbit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93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6.1 rate control on proposed condition with diverse LCU sizes for CB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rate and PSN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HM6.1 rate control on proposed condition with LCU 64, 32, and 16 for RA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7AF8-A420-4F19-AB71-77B4CE479618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468360" y="2060640"/>
          <a:ext cx="8136000" cy="239220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995400"/>
                <a:gridCol w="996840"/>
                <a:gridCol w="997200"/>
                <a:gridCol w="995040"/>
                <a:gridCol w="995400"/>
                <a:gridCol w="997200"/>
              </a:tblGrid>
              <a:tr h="16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Main prof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bitrate (Kbit/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92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55.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907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853.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798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3764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B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1080p 2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70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65.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73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04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5950.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B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1080p50-6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979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982.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968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80.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81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9973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94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93.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19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90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89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989.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5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5.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4.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2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3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89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93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6.1 rate control on proposed condition with diverse LCU sizes for CB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rate and PSNR of HM6.1 rate control on proposed condition with LCU 64, 32, and 16 for LB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trate and PSNR of HM6.1 rate control on proposed condition with LCU 64, 32, and 16 for LC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8B02-73F8-4549-83BF-66B25C8526D4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68360" y="2036880"/>
          <a:ext cx="8136000" cy="182376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995400"/>
                <a:gridCol w="996840"/>
                <a:gridCol w="997200"/>
                <a:gridCol w="995040"/>
                <a:gridCol w="995400"/>
                <a:gridCol w="997200"/>
              </a:tblGrid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Main prof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bitrate (Kbit/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1080p 2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1.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5.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14.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5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9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42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B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1080p50-6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6.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6.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11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5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7.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7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.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.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3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2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.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.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8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8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8.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9.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468360" y="4809960"/>
          <a:ext cx="8136000" cy="1824120"/>
        </p:xfrm>
        <a:graphic>
          <a:graphicData uri="http://schemas.openxmlformats.org/drawingml/2006/table">
            <a:tbl>
              <a:tblPr/>
              <a:tblGrid>
                <a:gridCol w="1079280"/>
                <a:gridCol w="1079640"/>
                <a:gridCol w="995400"/>
                <a:gridCol w="996840"/>
                <a:gridCol w="997200"/>
                <a:gridCol w="995040"/>
                <a:gridCol w="995400"/>
                <a:gridCol w="997200"/>
              </a:tblGrid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Main prof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Target bitrate (Kbit/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LCU 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bitr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Y-PSN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B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1080p 2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8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05.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8.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13.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7.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04.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6033.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B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(1080p50-6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5.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2.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7000.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6.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8.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6.4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0006.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.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200.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2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0.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7.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5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2001.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4.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7.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Clas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9.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49.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850.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39.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0.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0.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498.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501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41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Plots for Test 2 in RA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9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F192A-BAD2-4781-9CF0-8C0FA85361BA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10" name="그림 1" descr=""/>
          <p:cNvPicPr/>
          <p:nvPr/>
        </p:nvPicPr>
        <p:blipFill>
          <a:blip r:embed="rId1"/>
          <a:stretch/>
        </p:blipFill>
        <p:spPr>
          <a:xfrm>
            <a:off x="23760" y="981000"/>
            <a:ext cx="4519800" cy="2826000"/>
          </a:xfrm>
          <a:prstGeom prst="rect">
            <a:avLst/>
          </a:prstGeom>
          <a:ln w="0">
            <a:noFill/>
          </a:ln>
        </p:spPr>
      </p:pic>
      <p:pic>
        <p:nvPicPr>
          <p:cNvPr id="411" name="그림 1" descr=""/>
          <p:cNvPicPr/>
          <p:nvPr/>
        </p:nvPicPr>
        <p:blipFill>
          <a:blip r:embed="rId2"/>
          <a:stretch/>
        </p:blipFill>
        <p:spPr>
          <a:xfrm>
            <a:off x="4543560" y="981000"/>
            <a:ext cx="4570200" cy="2826000"/>
          </a:xfrm>
          <a:prstGeom prst="rect">
            <a:avLst/>
          </a:prstGeom>
          <a:ln w="0">
            <a:noFill/>
          </a:ln>
        </p:spPr>
      </p:pic>
      <p:pic>
        <p:nvPicPr>
          <p:cNvPr id="412" name="그림 1" descr=""/>
          <p:cNvPicPr/>
          <p:nvPr/>
        </p:nvPicPr>
        <p:blipFill>
          <a:blip r:embed="rId3"/>
          <a:stretch/>
        </p:blipFill>
        <p:spPr>
          <a:xfrm>
            <a:off x="76320" y="3807000"/>
            <a:ext cx="4508280" cy="2825640"/>
          </a:xfrm>
          <a:prstGeom prst="rect">
            <a:avLst/>
          </a:prstGeom>
          <a:ln w="0">
            <a:noFill/>
          </a:ln>
        </p:spPr>
      </p:pic>
      <p:pic>
        <p:nvPicPr>
          <p:cNvPr id="413" name="그림 1" descr=""/>
          <p:cNvPicPr/>
          <p:nvPr/>
        </p:nvPicPr>
        <p:blipFill>
          <a:blip r:embed="rId4"/>
          <a:stretch/>
        </p:blipFill>
        <p:spPr>
          <a:xfrm>
            <a:off x="4589640" y="3807000"/>
            <a:ext cx="45543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Plots for Test 2 in LB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1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21E2-0207-40B6-8798-5C8F6D6165E1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16" name="그림 1" descr=""/>
          <p:cNvPicPr/>
          <p:nvPr/>
        </p:nvPicPr>
        <p:blipFill>
          <a:blip r:embed="rId1"/>
          <a:stretch/>
        </p:blipFill>
        <p:spPr>
          <a:xfrm>
            <a:off x="3240" y="963720"/>
            <a:ext cx="4529160" cy="2825640"/>
          </a:xfrm>
          <a:prstGeom prst="rect">
            <a:avLst/>
          </a:prstGeom>
          <a:ln w="0">
            <a:noFill/>
          </a:ln>
        </p:spPr>
      </p:pic>
      <p:pic>
        <p:nvPicPr>
          <p:cNvPr id="417" name="그림 1" descr=""/>
          <p:cNvPicPr/>
          <p:nvPr/>
        </p:nvPicPr>
        <p:blipFill>
          <a:blip r:embed="rId2"/>
          <a:stretch/>
        </p:blipFill>
        <p:spPr>
          <a:xfrm>
            <a:off x="4557600" y="963720"/>
            <a:ext cx="4546800" cy="2825640"/>
          </a:xfrm>
          <a:prstGeom prst="rect">
            <a:avLst/>
          </a:prstGeom>
          <a:ln w="0">
            <a:noFill/>
          </a:ln>
        </p:spPr>
      </p:pic>
      <p:pic>
        <p:nvPicPr>
          <p:cNvPr id="418" name="그림 1" descr=""/>
          <p:cNvPicPr/>
          <p:nvPr/>
        </p:nvPicPr>
        <p:blipFill>
          <a:blip r:embed="rId3"/>
          <a:stretch/>
        </p:blipFill>
        <p:spPr>
          <a:xfrm>
            <a:off x="19080" y="3987720"/>
            <a:ext cx="4481640" cy="2826000"/>
          </a:xfrm>
          <a:prstGeom prst="rect">
            <a:avLst/>
          </a:prstGeom>
          <a:ln w="0">
            <a:noFill/>
          </a:ln>
        </p:spPr>
      </p:pic>
      <p:pic>
        <p:nvPicPr>
          <p:cNvPr id="419" name="그림 1" descr=""/>
          <p:cNvPicPr/>
          <p:nvPr/>
        </p:nvPicPr>
        <p:blipFill>
          <a:blip r:embed="rId4"/>
          <a:stretch/>
        </p:blipFill>
        <p:spPr>
          <a:xfrm>
            <a:off x="4554360" y="3997440"/>
            <a:ext cx="455472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Plots for Test 2 in LP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D37B-4F82-40A4-A278-643E7DFF5581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2" name="그림 1" descr=""/>
          <p:cNvPicPr/>
          <p:nvPr/>
        </p:nvPicPr>
        <p:blipFill>
          <a:blip r:embed="rId1"/>
          <a:stretch/>
        </p:blipFill>
        <p:spPr>
          <a:xfrm>
            <a:off x="7920" y="1628640"/>
            <a:ext cx="4557600" cy="2847960"/>
          </a:xfrm>
          <a:prstGeom prst="rect">
            <a:avLst/>
          </a:prstGeom>
          <a:ln w="0">
            <a:noFill/>
          </a:ln>
        </p:spPr>
      </p:pic>
      <p:pic>
        <p:nvPicPr>
          <p:cNvPr id="423" name="그림 1" descr=""/>
          <p:cNvPicPr/>
          <p:nvPr/>
        </p:nvPicPr>
        <p:blipFill>
          <a:blip r:embed="rId2"/>
          <a:stretch/>
        </p:blipFill>
        <p:spPr>
          <a:xfrm>
            <a:off x="4500720" y="1628640"/>
            <a:ext cx="45799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9308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6.1 rate control on proposed condition with diverse LCU sizes for VBR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posed rate control also is implemented with consider VBR scenario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R scenario with diverse LCU size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6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891E-A944-4297-B055-83966D1F060A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27" name="그림 1" descr=""/>
          <p:cNvPicPr/>
          <p:nvPr/>
        </p:nvPicPr>
        <p:blipFill>
          <a:blip r:embed="rId1"/>
          <a:stretch/>
        </p:blipFill>
        <p:spPr>
          <a:xfrm>
            <a:off x="34920" y="2133720"/>
            <a:ext cx="4513320" cy="2889000"/>
          </a:xfrm>
          <a:prstGeom prst="rect">
            <a:avLst/>
          </a:prstGeom>
          <a:ln w="0">
            <a:noFill/>
          </a:ln>
        </p:spPr>
      </p:pic>
      <p:pic>
        <p:nvPicPr>
          <p:cNvPr id="428" name="그림 1" descr=""/>
          <p:cNvPicPr/>
          <p:nvPr/>
        </p:nvPicPr>
        <p:blipFill>
          <a:blip r:embed="rId2"/>
          <a:stretch/>
        </p:blipFill>
        <p:spPr>
          <a:xfrm>
            <a:off x="4554360" y="2125800"/>
            <a:ext cx="4554720" cy="28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adopt the proposed condition to HM7.x as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improved version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uld be improved in terms of BD-Bitrate performance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complex conditions should be avoided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31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12EC-D974-4441-96B4-F5F1D61F1660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te control for HEVC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CT-VC meeting (San José, CA, USA), a rate control for HEVC was introduced, JCTVC-H0213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algorithm was underlying in the rate control of H.264/AVC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control algorithm was simply modified and effective, even though there are some coding los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-based unified rate-quantization model was introduced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helpful for HEVC because it works regardless of LCU size. 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predicts target bits as well in frame or slice boundary where LCUs are not aligned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2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1509-976E-4E10-A346-C87DF3626D50}" type="slidenum">
              <a:rPr b="0" lang="ko-KR" sz="16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he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CT-VC meeting, there was a comment for the rate control by expert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ly using QP value for the pixel-based URQ model, instead of Qstep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in setting initial Q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 QP was set by configuration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pping for frame target bits to conform to the HRD require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any boundary for that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5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62A8-5C17-41CA-A7D9-254DEACB25CC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xel-based URQ model with Qstep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Q model is modified by following experts comment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M6.2, there are mapping functions “QP to Qstep” and “Qstep to QP” as same as JM.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step values are slightly different with H.264/AVC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8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5CAC0-7175-4472-B8EE-0992B93D081C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개체 5"/>
              <p:cNvSpPr txBox="1"/>
              <p:nvPr/>
            </p:nvSpPr>
            <p:spPr>
              <a:xfrm>
                <a:off x="1724040" y="2060640"/>
                <a:ext cx="56959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xels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red</m:t>
                                </m:r>
                                <m:r>
                                  <m:t xml:space="preserve">,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te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den>
                    </m:f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Qste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Initial QP setting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Initial QP value is automatically calculated in improvement rate control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For rate control on, QP value in configuration file is ignored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or getting QP value, </a:t>
            </a:r>
            <a:r>
              <a:rPr b="0" i="1" lang="en-US" sz="2000" spc="-1" strike="noStrike">
                <a:solidFill>
                  <a:srgbClr val="000000"/>
                </a:solidFill>
                <a:latin typeface="맑은 고딕"/>
              </a:rPr>
              <a:t>bpp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 is calculated as same as JM and it is mapped to proper QP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3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9C07-9A67-47DC-9134-E30D5E6CABA1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5" name="개체 5"/>
              <p:cNvSpPr txBox="1"/>
              <p:nvPr/>
            </p:nvSpPr>
            <p:spPr>
              <a:xfrm>
                <a:off x="2340000" y="3573360"/>
                <a:ext cx="4211640" cy="283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80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0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78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20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69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2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3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469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2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213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2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9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0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7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4</m:t>
                            </m:r>
                            <m:r>
                              <m:t xml:space="preserve"> </m:t>
                            </m:r>
                            <m:r>
                              <m:t xml:space="preserve">&lt;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p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i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≤</m:t>
                            </m:r>
                            <m:r>
                              <m:t xml:space="preserve"> 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49</m:t>
                            </m:r>
                            <m:r>
                              <m:t xml:space="preserve"> 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pping frame bi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Frame bits are clipped by two factor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he factors are applied as similar as rate control in JM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</a:rPr>
              <a:t>The factors are slightly different with the rate control in JM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8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223-1818-43C2-BD07-3D30B916B754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개체 4"/>
              <p:cNvSpPr txBox="1"/>
              <p:nvPr/>
            </p:nvSpPr>
            <p:spPr>
              <a:xfrm>
                <a:off x="1719360" y="2808360"/>
                <a:ext cx="432252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ound</m:t>
                            </m:r>
                            <m:r>
                              <m:t xml:space="preserve">,</m:t>
                            </m:r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ma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oun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개체 5"/>
              <p:cNvSpPr txBox="1"/>
              <p:nvPr/>
            </p:nvSpPr>
            <p:spPr>
              <a:xfrm>
                <a:off x="1736640" y="3429000"/>
                <a:ext cx="4203720" cy="14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un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</m:e>
                                </m:d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j</m:t>
                                    </m:r>
                                  </m:e>
                                </m:d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개체 6"/>
              <p:cNvSpPr txBox="1"/>
              <p:nvPr/>
            </p:nvSpPr>
            <p:spPr>
              <a:xfrm>
                <a:off x="1719360" y="5056200"/>
                <a:ext cx="4508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oun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j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j</m:t>
                                </m:r>
                              </m:e>
                            </m:d>
                            <m:r>
                              <m:t xml:space="preserve">×</m:t>
                            </m:r>
                            <m:r>
                              <m:t xml:space="preserve">ω</m:t>
                            </m:r>
                            <m:r>
                              <m:t xml:space="preserve"> </m:t>
                            </m:r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/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4661640" y="2346120"/>
            <a:ext cx="976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1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ments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evaluate the rate control with diverse points of view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1 : HM6.1 vs. HM6.1 rate control vs. HM6.1 rate control on proposed condition.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2 : HM6.1 rate control on proposed condition with diverse LCU sizes for CBR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3 : HM6.1 rate control on proposed condition with diverse LCU sizes for VBR</a:t>
            </a: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lvl="1" marL="628560" indent="-274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6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B799-846C-4E0D-9036-C10D50B29BC3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개체 5"/>
              <p:cNvSpPr txBox="1"/>
              <p:nvPr/>
            </p:nvSpPr>
            <p:spPr>
              <a:xfrm>
                <a:off x="2987640" y="3645000"/>
                <a:ext cx="3290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Kbps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'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RC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−</m:t>
                            </m:r>
                            <m:r>
                              <m:t xml:space="preserve">'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bit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M6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'bit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M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'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Rectangle 3"/>
          <p:cNvSpPr/>
          <p:nvPr/>
        </p:nvSpPr>
        <p:spPr>
          <a:xfrm>
            <a:off x="3926160" y="850680"/>
            <a:ext cx="129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4)</a:t>
            </a: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개체 10"/>
              <p:cNvSpPr txBox="1"/>
              <p:nvPr/>
            </p:nvSpPr>
            <p:spPr>
              <a:xfrm>
                <a:off x="2987640" y="5013360"/>
                <a:ext cx="33163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PSNR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'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sub>
                    </m:sSub>
                    <m:r>
                      <m:t xml:space="preserve">'</m:t>
                    </m:r>
                    <m:r>
                      <m:t xml:space="preserve">−</m:t>
                    </m:r>
                    <m:r>
                      <m:t xml:space="preserve">'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M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8218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M6.1 vs. HM6.1 rate control vs. HM6.1 rate control on proposed condition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28400" y="1213920"/>
            <a:ext cx="8258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맑은 고딕"/>
              </a:rPr>
              <a:t>Δkbps and ΔPSNR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f HM6.1 rate control compared with HM6.1 for RA, LB, and LP cas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264960" indent="-264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맑은 고딕"/>
              </a:rPr>
              <a:t>Δkbps and ΔPSNR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</a:rPr>
              <a:t>of HM6.1 rate control on proposed condition compared with HM6.1 for RA, LB, and LP cases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4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538C-136A-464E-A79D-B8457EC2D387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403280" y="1989000"/>
          <a:ext cx="6337440" cy="1727280"/>
        </p:xfrm>
        <a:graphic>
          <a:graphicData uri="http://schemas.openxmlformats.org/drawingml/2006/table">
            <a:tbl>
              <a:tblPr/>
              <a:tblGrid>
                <a:gridCol w="936720"/>
                <a:gridCol w="873000"/>
                <a:gridCol w="905040"/>
                <a:gridCol w="904680"/>
                <a:gridCol w="906480"/>
                <a:gridCol w="905040"/>
                <a:gridCol w="906480"/>
              </a:tblGrid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Main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Random access (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Low delay (L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Low delay P (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9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15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4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6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1403280" y="4797360"/>
          <a:ext cx="6337440" cy="1800360"/>
        </p:xfrm>
        <a:graphic>
          <a:graphicData uri="http://schemas.openxmlformats.org/drawingml/2006/table">
            <a:tbl>
              <a:tblPr/>
              <a:tblGrid>
                <a:gridCol w="936720"/>
                <a:gridCol w="873000"/>
                <a:gridCol w="905040"/>
                <a:gridCol w="904680"/>
                <a:gridCol w="906480"/>
                <a:gridCol w="905040"/>
                <a:gridCol w="906480"/>
              </a:tblGrid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Main profi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Random access (R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Low delay (LB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Low delay P (LP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kb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ΔPSN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1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15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7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5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6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3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2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5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4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5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Clas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3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24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25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맑은 고딕"/>
                        </a:rPr>
                        <a:t>Av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1.0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0.1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50796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-0.99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0010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Plots for Test 1 in RA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8" name="슬라이드 번호 개체 틀 3"/>
          <p:cNvSpPr/>
          <p:nvPr/>
        </p:nvSpPr>
        <p:spPr>
          <a:xfrm>
            <a:off x="8072280" y="6356520"/>
            <a:ext cx="614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12A3-F5FB-4659-896E-B5B8F44CA888}" type="slidenum"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379" name="그림 1" descr=""/>
          <p:cNvPicPr/>
          <p:nvPr/>
        </p:nvPicPr>
        <p:blipFill>
          <a:blip r:embed="rId1"/>
          <a:stretch/>
        </p:blipFill>
        <p:spPr>
          <a:xfrm>
            <a:off x="0" y="981000"/>
            <a:ext cx="4459320" cy="2826000"/>
          </a:xfrm>
          <a:prstGeom prst="rect">
            <a:avLst/>
          </a:prstGeom>
          <a:ln w="0">
            <a:noFill/>
          </a:ln>
        </p:spPr>
      </p:pic>
      <p:pic>
        <p:nvPicPr>
          <p:cNvPr id="380" name="그림 1" descr=""/>
          <p:cNvPicPr/>
          <p:nvPr/>
        </p:nvPicPr>
        <p:blipFill>
          <a:blip r:embed="rId2"/>
          <a:stretch/>
        </p:blipFill>
        <p:spPr>
          <a:xfrm>
            <a:off x="4459320" y="981000"/>
            <a:ext cx="4545000" cy="2826000"/>
          </a:xfrm>
          <a:prstGeom prst="rect">
            <a:avLst/>
          </a:prstGeom>
          <a:ln w="0">
            <a:noFill/>
          </a:ln>
        </p:spPr>
      </p:pic>
      <p:pic>
        <p:nvPicPr>
          <p:cNvPr id="381" name="그림 1" descr=""/>
          <p:cNvPicPr/>
          <p:nvPr/>
        </p:nvPicPr>
        <p:blipFill>
          <a:blip r:embed="rId3"/>
          <a:stretch/>
        </p:blipFill>
        <p:spPr>
          <a:xfrm>
            <a:off x="33480" y="3933720"/>
            <a:ext cx="4459320" cy="2826000"/>
          </a:xfrm>
          <a:prstGeom prst="rect">
            <a:avLst/>
          </a:prstGeom>
          <a:ln w="0">
            <a:noFill/>
          </a:ln>
        </p:spPr>
      </p:pic>
      <p:pic>
        <p:nvPicPr>
          <p:cNvPr id="382" name="그림 1" descr=""/>
          <p:cNvPicPr/>
          <p:nvPr/>
        </p:nvPicPr>
        <p:blipFill>
          <a:blip r:embed="rId4"/>
          <a:stretch/>
        </p:blipFill>
        <p:spPr>
          <a:xfrm>
            <a:off x="4595760" y="3914640"/>
            <a:ext cx="4368960" cy="28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4:04:58Z</dcterms:created>
  <dc:creator>Microsoft Corporation</dc:creator>
  <dc:description/>
  <dc:language>en-US</dc:language>
  <cp:lastModifiedBy>JohnChris</cp:lastModifiedBy>
  <cp:lastPrinted>2011-07-17T23:54:03Z</cp:lastPrinted>
  <dcterms:modified xsi:type="dcterms:W3CDTF">2012-04-27T16:54:27Z</dcterms:modified>
  <cp:revision>269</cp:revision>
  <dc:subject/>
  <dc:title>PowerPoint 프레젠테이션</dc:title>
</cp:coreProperties>
</file>