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dt" idx="1"/>
          </p:nvPr>
        </p:nvSpPr>
        <p:spPr>
          <a:xfrm>
            <a:off x="390060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11-10-1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Num" idx="2"/>
          </p:nvPr>
        </p:nvSpPr>
        <p:spPr>
          <a:xfrm>
            <a:off x="3900600" y="95151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EC43-CBB1-4868-AA0C-53C92B665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Img"/>
          </p:nvPr>
        </p:nvSpPr>
        <p:spPr>
          <a:xfrm>
            <a:off x="937800" y="750960"/>
            <a:ext cx="500868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58585a"/>
                </a:solidFill>
                <a:latin typeface="Ericsson Capital TT"/>
              </a:rPr>
              <a:t>Click to move the slide</a:t>
            </a:r>
            <a:endParaRPr b="0" lang="en-US" sz="70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0" y="95151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e Placeholder 4"/>
          <p:cNvSpPr/>
          <p:nvPr/>
        </p:nvSpPr>
        <p:spPr>
          <a:xfrm>
            <a:off x="3900600" y="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2011-10-19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8" name="Footer Placeholder 5"/>
          <p:cNvSpPr/>
          <p:nvPr/>
        </p:nvSpPr>
        <p:spPr>
          <a:xfrm>
            <a:off x="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9" name="Slide Number Placeholder 7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094C-A360-4C9E-B404-99751C24178D}" type="slidenum">
              <a:rPr b="0" lang="en-US" sz="12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0" name="Header Placeholder 8"/>
          <p:cNvSpPr/>
          <p:nvPr/>
        </p:nvSpPr>
        <p:spPr>
          <a:xfrm>
            <a:off x="0" y="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6720" y="381204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92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672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92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3840" y="239760"/>
            <a:ext cx="749448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40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6720" y="381204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40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092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476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672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092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476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3840" y="239760"/>
            <a:ext cx="749448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eftInfo"/>
          <p:cNvSpPr/>
          <p:nvPr/>
        </p:nvSpPr>
        <p:spPr>
          <a:xfrm>
            <a:off x="-1887480" y="438120"/>
            <a:ext cx="1765080" cy="61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and bullet level 1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fb7d3"/>
                </a:solidFill>
                <a:latin typeface="Arial"/>
              </a:rPr>
              <a:t>Characters for Embedded font:</a:t>
            </a:r>
            <a:br>
              <a:rPr sz="500"/>
            </a:br>
            <a:r>
              <a:rPr b="0" lang="en-US" sz="500" spc="-1" strike="noStrike">
                <a:solidFill>
                  <a:srgbClr val="9fb7d3"/>
                </a:solidFill>
                <a:latin typeface="Ericsson Capital TT"/>
              </a:rPr>
              <a:t>!"#$%&amp;'()*+,-./0123456789:;&lt;=&gt;?@ABCDEFGHIJKLMNOPQRSTUVWXYZ[\]^_`abcdefghijklmnopqrstuvwxyz{|}~¡¢£¤¥¦§¨©ª«¬®¯°±²³´¶·¸¹º»¼½ÀÁÂÃÄÅÆÇÈËÌÍÎÏÐÑÒÓÔÕÖ×ØÙÚÛÜÝÞßàáâãäåæçèéêëìíîïðñòóôõö÷øùúûüýþÿĀāĂăąĆćĊċČĎďĐđĒĖėĘęĚěĞğĠġĢģĪīĮįİıĶķĹĺĻļĽľŁłŃńŅņŇňŌŐőŒœŔŕŖŗŘřŚśŞşŠšŢţŤťŪūŮůŰűŲųŴŵŶŷŸŹźŻżŽžƒȘșˆˇ˘˙˚˛˜˝ẀẁẃẄẅỲỳ–—‘’‚“”„†‡•…‰‹›⁄€™ĀĀĂĂĄĄĆĆĊĊČČĎĎĐĐĒĒĖĖĘĘĚĚĞĞĠĠĢĢĪĪĮĮİĶĶĹĹĻĻĽĽŃŃŅŅŇŇŌŌŐŐŔŔŖŖŘŘŚŚŞŞŢŢŤŤŪŪŮŮŰŰŲŲŴŴŶŶŹŹŻŻȘș−≤≥ﬁﬂ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fb7d3"/>
                </a:solidFill>
                <a:latin typeface="Ericsson Capital TT"/>
              </a:rPr>
              <a:t>ΆΈΉΊΌΎΏΐΑΒΓΕΖΗΘΙΚΛΜΝΞΟΠΡΣΤΥΦΧΨΪΫΆΈΉΊΰαβγδεζηθικλνξορςΣΤΥΦΧΨΩΪΫΌΎΏ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fb7d3"/>
                </a:solidFill>
                <a:latin typeface="Ericsson Capital TT"/>
              </a:rPr>
              <a:t>ЁЂЃЄЅІЇЈЉЊЋЌЎЏАБВГДЕЖЗИЙКЛМНОПРСТУФХЦЧШЩЪЫЬЭЮЯАБВГДЕЖЗИЙКЛМНОПРСТУФХЦЧШЩЪЫЬЭЮЯЁЂЃЄЅІЇЈЉЊЋЌЎЏѢѢѲѲѴѴҐҐәǽẀẁẂẃẄẅỲỳ№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add objects or text in the footer area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" name="Econ2011" descr="ECON_RGB"/>
          <p:cNvPicPr/>
          <p:nvPr/>
        </p:nvPicPr>
        <p:blipFill>
          <a:blip r:embed="rId2"/>
          <a:stretch/>
        </p:blipFill>
        <p:spPr>
          <a:xfrm>
            <a:off x="8315280" y="360360"/>
            <a:ext cx="444600" cy="588960"/>
          </a:xfrm>
          <a:prstGeom prst="rect">
            <a:avLst/>
          </a:prstGeom>
          <a:ln w="0">
            <a:noFill/>
          </a:ln>
        </p:spPr>
      </p:pic>
      <p:sp>
        <p:nvSpPr>
          <p:cNvPr id="2" name="txtfooterCopy"/>
          <p:cNvSpPr/>
          <p:nvPr/>
        </p:nvSpPr>
        <p:spPr>
          <a:xfrm>
            <a:off x="395280" y="6524640"/>
            <a:ext cx="739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7888a"/>
                </a:solidFill>
                <a:latin typeface="Arial"/>
              </a:rPr>
              <a:t>Public  |  © Ericsson AB 2012  |  2012-04-11  |  Page </a:t>
            </a:r>
            <a:fld id="{AD5D812A-0311-4F12-A34D-B04F155F1BC7}" type="slidenum">
              <a:rPr b="0" lang="en-US" sz="800" spc="-1" strike="noStrike">
                <a:solidFill>
                  <a:srgbClr val="87888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Ericsson Capital TT"/>
              </a:rPr>
              <a:t>Click to edit the title text format</a:t>
            </a: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eftInfo"/>
          <p:cNvSpPr/>
          <p:nvPr/>
        </p:nvSpPr>
        <p:spPr>
          <a:xfrm>
            <a:off x="-1514520" y="2828880"/>
            <a:ext cx="147636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fb7d3"/>
                </a:solidFill>
                <a:latin typeface="Arial"/>
              </a:rPr>
              <a:t>CAPITALS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3480" y="1807920"/>
            <a:ext cx="8351640" cy="28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58585a"/>
                </a:solidFill>
                <a:latin typeface="Ericsson Capital TT"/>
              </a:rPr>
              <a:t>Click to edit the title text format</a:t>
            </a:r>
            <a:endParaRPr b="0" lang="en-US" sz="7000" spc="-1" strike="noStrike">
              <a:solidFill>
                <a:srgbClr val="58585a"/>
              </a:solidFill>
              <a:latin typeface="Ericsson Capital TT"/>
            </a:endParaRPr>
          </a:p>
        </p:txBody>
      </p:sp>
      <p:pic>
        <p:nvPicPr>
          <p:cNvPr id="43" name="Logo2011" descr=""/>
          <p:cNvPicPr/>
          <p:nvPr/>
        </p:nvPicPr>
        <p:blipFill>
          <a:blip r:embed="rId2"/>
          <a:stretch/>
        </p:blipFill>
        <p:spPr>
          <a:xfrm>
            <a:off x="7721640" y="431640"/>
            <a:ext cx="1047600" cy="924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  <a:p>
            <a:pPr lvl="1" marL="355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712800" algn="ctr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3" marL="10717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4" marL="14335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5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6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807920"/>
            <a:ext cx="9144000" cy="28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8585a"/>
                </a:solidFill>
                <a:latin typeface="Ericsson Capital TT"/>
              </a:rPr>
              <a:t>AHG6: </a:t>
            </a:r>
            <a:br>
              <a:rPr sz="6400"/>
            </a:br>
            <a:r>
              <a:rPr b="0" lang="en-US" sz="6400" spc="-1" strike="noStrike">
                <a:solidFill>
                  <a:srgbClr val="58585a"/>
                </a:solidFill>
                <a:latin typeface="Ericsson Capital TT"/>
              </a:rPr>
              <a:t>SAO simplifications (JCTVC-I0073)</a:t>
            </a:r>
            <a:endParaRPr b="0" lang="en-US" sz="6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3840" y="5137200"/>
            <a:ext cx="835488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Kenneth Andersson, Per Wennersten, Rickard Sjöberg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3840" y="-3960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Ericsson Capital TT"/>
              </a:rPr>
              <a:t>Summary</a:t>
            </a: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888840"/>
            <a:ext cx="8788680" cy="57405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 fontScale="95000"/>
          </a:bodyPr>
          <a:p>
            <a:pPr marL="167040" indent="-167040">
              <a:lnSpc>
                <a:spcPct val="8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HEVC SAO: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06520" indent="-168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4 offsets for band offsets and a band position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06520" indent="-168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4 offsets for edge offsets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06520" indent="-168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Needs clamping (clipping) operation as last step to ensure SAO filtered value stay within bit depth range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0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67040" indent="-167040">
              <a:lnSpc>
                <a:spcPct val="8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implification of HEVC SAO: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06520" indent="-168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Only one offset for band offset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06520" indent="-168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Only one bit per edge offset selecting offset selecting 0 or 1/-1&lt;&lt;(bitDepth-8) dependent on edge type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06520" indent="-168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Bitstream constraint on band offsets so that clamping can be avoided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0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67040" indent="-167040">
              <a:lnSpc>
                <a:spcPct val="8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Results: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06520" indent="-168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Similar coding efficiency and subjective quality as HM6.0 for CE1 conditions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06520" indent="-168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Memory reduction of about 50% for storage of the SAO parameters</a:t>
            </a:r>
            <a:r>
              <a:rPr b="1" lang="en-US" sz="18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06520" indent="-168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Less number of bins needs to be parsed (Interleaved mode)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06520" indent="-168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Filtering with edge offsets cannot abruptly change the edge characteristics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06520" indent="-168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Clamping as last step of SAO filtering not needed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06520" indent="-168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Possibility to do filtering with band offset without table lookup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0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67040" indent="-167040">
              <a:lnSpc>
                <a:spcPct val="8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anks to TI for volunteering to cross-check (JCTVC-I0316)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Logo_ChapterSlide_Norma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3840" y="-3960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Ericsson Capital TT"/>
              </a:rPr>
              <a:t>Summary</a:t>
            </a: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888840"/>
            <a:ext cx="8788680" cy="57405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 fontScale="95000"/>
          </a:bodyPr>
          <a:p>
            <a:pPr marL="167040" indent="-167040">
              <a:lnSpc>
                <a:spcPct val="8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HEVC SAO: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06520" indent="-168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4 offsets for band offsets and a band position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06520" indent="-168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4 offsets for edge offsets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06520" indent="-168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Needs clamping (clipping) operation as last step to ensure SAO filtered value stay within bit depth range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0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67040" indent="-167040">
              <a:lnSpc>
                <a:spcPct val="8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implification of HEVC SAO: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06520" indent="-168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Only one offset for band offset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06520" indent="-168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Only one bit per edge offset selecting offset selecting 0 or 1/-1&lt;&lt;(bitDepth-8) dependent on edge type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06520" indent="-168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Bitstream constraint on band offsets so that clamping can be avoided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0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67040" indent="-167040">
              <a:lnSpc>
                <a:spcPct val="8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Results: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06520" indent="-168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Similar coding efficiency and subjective quality as HM6.0 for CE1 conditions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06520" indent="-168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Memory reduction of about 50% for storage of the SAO parameters</a:t>
            </a:r>
            <a:r>
              <a:rPr b="1" lang="en-US" sz="18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06520" indent="-168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Less number of bins needs to be parsed (Interleaved mode)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06520" indent="-168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Filtering with edge offsets cannot abruptly change the edge characteristics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06520" indent="-168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Clamping as last step of SAO filtering not needed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06520" indent="-168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Possibility to do filtering with band offset without table lookup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0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67040" indent="-167040">
              <a:lnSpc>
                <a:spcPct val="8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anks to TI for volunteering to cross-check (JCTVC-I0316)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Ericsson Capital TT"/>
              </a:rPr>
              <a:t>BO simplification</a:t>
            </a: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Band offset position as in HEVC (e.g. 0 ..31)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One band offset instead of four as in HEVC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One band correspond two bands in HEVC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e band offset is restricted to the power of 2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Bitstream constraint on band offset to avoid clamping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In encoder this is implemented as restriction of offsets in both ends of the band range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RDO similar as HM6.0 but with merging of neighboring bands and using a single offset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Ericsson Capital TT"/>
              </a:rPr>
              <a:t>BO SIMPLIFICATION cont’</a:t>
            </a: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ossibility to do BO without table lookup. Consider a band offset denoted saoOffset and X is the current pixel value: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58585a"/>
                </a:solidFill>
                <a:latin typeface="Arial"/>
              </a:rPr>
              <a:t>bandIdx = ( X &gt;&gt; bandShift )-band_positio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58585a"/>
                </a:solidFill>
                <a:latin typeface="Arial"/>
              </a:rPr>
              <a:t>X’ = X + (sign(bandIdx +R1)+sign(-bandIdx+R2)) &lt;&lt; sao_offse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58585a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R1=1 and R2=0 when the saoOffset is positive, an R1=0 and R2=-1 when the saoOffset is negative. sao_offset is the magnitude of the saoOffset as a power of two e.g. it is 0 or 1 or  2 or 3.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An example implementation of this can be found in the software but is turned off by default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Ericsson Capital TT"/>
              </a:rPr>
              <a:t>EO Simplification</a:t>
            </a: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6720" y="1355760"/>
            <a:ext cx="8352000" cy="49816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One bit flag per edge offse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Edge offset can be: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45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edgeIdx=0: 0 or 1&lt;&lt;(bitDepth-8)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45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edgeIdx=1: 0 or 1&lt;&lt;(bitDepth-8)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45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edgeIdx=3: 0 or –(1&lt;&lt;(bitDepth-8))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45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edgeIdx=4: 0 or –(1&lt;&lt;(bitDepth-8))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Ensures that filtered value cannot exceed the value of its neighbours, no clamping needed as last step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45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Example (8 bit video): 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451"/>
              </a:spcBef>
              <a:buClr>
                <a:srgbClr val="58585a"/>
              </a:buClr>
              <a:buFont typeface="Ericsson Capital T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consider pixel neighbourhood a-b-c where b is centre pixel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451"/>
              </a:spcBef>
              <a:buClr>
                <a:srgbClr val="58585a"/>
              </a:buClr>
              <a:buFont typeface="Ericsson Capital T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If b is a hill proposed offset is -1 or 0, thus b cannot be smaller than a or c, e.g. will not become less than 0 after filtering.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451"/>
              </a:spcBef>
              <a:buClr>
                <a:srgbClr val="58585a"/>
              </a:buClr>
              <a:buFont typeface="Ericsson Capital T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Similar reasoning for other edge types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998960" y="2033640"/>
            <a:ext cx="709560" cy="241200"/>
            <a:chOff x="4998960" y="2033640"/>
            <a:chExt cx="709560" cy="241200"/>
          </a:xfrm>
        </p:grpSpPr>
        <p:sp>
          <p:nvSpPr>
            <p:cNvPr id="99" name=""/>
            <p:cNvSpPr/>
            <p:nvPr/>
          </p:nvSpPr>
          <p:spPr>
            <a:xfrm>
              <a:off x="4998960" y="203364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31880" y="2274480"/>
              <a:ext cx="2286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0640" y="2046600"/>
              <a:ext cx="2278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5470200" y="2047320"/>
              <a:ext cx="720" cy="2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5222520" y="2047320"/>
              <a:ext cx="720" cy="2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6566040" y="2274840"/>
            <a:ext cx="1722240" cy="238320"/>
            <a:chOff x="6566040" y="2274840"/>
            <a:chExt cx="1722240" cy="238320"/>
          </a:xfrm>
        </p:grpSpPr>
        <p:grpSp>
          <p:nvGrpSpPr>
            <p:cNvPr id="105" name=""/>
            <p:cNvGrpSpPr/>
            <p:nvPr/>
          </p:nvGrpSpPr>
          <p:grpSpPr>
            <a:xfrm>
              <a:off x="6566040" y="2274840"/>
              <a:ext cx="684720" cy="228960"/>
              <a:chOff x="6566040" y="2274840"/>
              <a:chExt cx="684720" cy="228960"/>
            </a:xfrm>
          </p:grpSpPr>
          <p:sp>
            <p:nvSpPr>
              <p:cNvPr id="106" name=""/>
              <p:cNvSpPr/>
              <p:nvPr/>
            </p:nvSpPr>
            <p:spPr>
              <a:xfrm>
                <a:off x="6803280" y="2275920"/>
                <a:ext cx="360" cy="22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6566040" y="2274840"/>
                <a:ext cx="2278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6803640" y="2503440"/>
                <a:ext cx="2278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7022880" y="2503440"/>
                <a:ext cx="2278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7603560" y="2284200"/>
              <a:ext cx="684720" cy="228960"/>
              <a:chOff x="7603560" y="2284200"/>
              <a:chExt cx="684720" cy="228960"/>
            </a:xfrm>
          </p:grpSpPr>
          <p:sp>
            <p:nvSpPr>
              <p:cNvPr id="111" name=""/>
              <p:cNvSpPr/>
              <p:nvPr/>
            </p:nvSpPr>
            <p:spPr>
              <a:xfrm flipH="1">
                <a:off x="8050680" y="2285280"/>
                <a:ext cx="360" cy="22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flipV="1">
                <a:off x="8060400" y="2284200"/>
                <a:ext cx="2278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flipV="1">
                <a:off x="7822800" y="2512800"/>
                <a:ext cx="2278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flipV="1">
                <a:off x="7603560" y="2512800"/>
                <a:ext cx="2278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5013360" y="2649600"/>
            <a:ext cx="1779480" cy="258120"/>
            <a:chOff x="5013360" y="2649600"/>
            <a:chExt cx="1779480" cy="258120"/>
          </a:xfrm>
        </p:grpSpPr>
        <p:grpSp>
          <p:nvGrpSpPr>
            <p:cNvPr id="116" name=""/>
            <p:cNvGrpSpPr/>
            <p:nvPr/>
          </p:nvGrpSpPr>
          <p:grpSpPr>
            <a:xfrm>
              <a:off x="5013360" y="2649600"/>
              <a:ext cx="684720" cy="229680"/>
              <a:chOff x="5013360" y="2649600"/>
              <a:chExt cx="684720" cy="229680"/>
            </a:xfrm>
          </p:grpSpPr>
          <p:sp>
            <p:nvSpPr>
              <p:cNvPr id="117" name=""/>
              <p:cNvSpPr/>
              <p:nvPr/>
            </p:nvSpPr>
            <p:spPr>
              <a:xfrm flipV="1">
                <a:off x="5250600" y="2649960"/>
                <a:ext cx="3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013360" y="2878920"/>
                <a:ext cx="2278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250960" y="2649600"/>
                <a:ext cx="22788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470200" y="2649600"/>
                <a:ext cx="22788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6108120" y="2678040"/>
              <a:ext cx="684720" cy="229680"/>
              <a:chOff x="6108120" y="2678040"/>
              <a:chExt cx="684720" cy="229680"/>
            </a:xfrm>
          </p:grpSpPr>
          <p:sp>
            <p:nvSpPr>
              <p:cNvPr id="122" name=""/>
              <p:cNvSpPr/>
              <p:nvPr/>
            </p:nvSpPr>
            <p:spPr>
              <a:xfrm>
                <a:off x="6555600" y="2678040"/>
                <a:ext cx="3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6564960" y="2907360"/>
                <a:ext cx="2278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27360" y="2678040"/>
                <a:ext cx="22788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108120" y="2678040"/>
                <a:ext cx="22788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58585a"/>
                  </a:solidFill>
                  <a:latin typeface="Arial"/>
                </a:endParaRPr>
              </a:p>
            </p:txBody>
          </p:sp>
        </p:grpSp>
      </p:grpSp>
      <p:grpSp>
        <p:nvGrpSpPr>
          <p:cNvPr id="126" name=""/>
          <p:cNvGrpSpPr/>
          <p:nvPr/>
        </p:nvGrpSpPr>
        <p:grpSpPr>
          <a:xfrm>
            <a:off x="7221600" y="3029040"/>
            <a:ext cx="708120" cy="241200"/>
            <a:chOff x="7221600" y="3029040"/>
            <a:chExt cx="708120" cy="241200"/>
          </a:xfrm>
        </p:grpSpPr>
        <p:sp>
          <p:nvSpPr>
            <p:cNvPr id="127" name=""/>
            <p:cNvSpPr/>
            <p:nvPr/>
          </p:nvSpPr>
          <p:spPr>
            <a:xfrm>
              <a:off x="7221600" y="3270240"/>
              <a:ext cx="22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7454160" y="3029040"/>
              <a:ext cx="2278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7702200" y="3256920"/>
              <a:ext cx="2275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7691400" y="3029760"/>
              <a:ext cx="360" cy="2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44440" y="3029760"/>
              <a:ext cx="360" cy="2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Ericsson Capital TT"/>
              </a:rPr>
              <a:t>EO Simplification cont’</a:t>
            </a: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o have similar properties for bit depths larger than 8: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Where bitDepthIncr is equal to bitDepth-8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RDO similar as HM6.0 but with restriction of offset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117440" y="2374920"/>
                <a:ext cx="64389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dgeIdx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gn</m:t>
                            </m:r>
                            <m:r>
                              <m:t xml:space="preserve">(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ecPicture</m:t>
                            </m:r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,</m:t>
                            </m:r>
                            <m:r>
                              <m:t xml:space="preserve">y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&gt;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itDeptIncr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</m:e>
                        </m:nary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cPicture</m:t>
                        </m:r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+ </m:t>
                        </m:r>
                        <m:r>
                          <m:rPr>
                            <m:lit/>
                            <m:nor/>
                          </m:rPr>
                          <m:t xml:space="preserve">hPos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+ </m:t>
                        </m:r>
                        <m:r>
                          <m:rPr>
                            <m:lit/>
                            <m:nor/>
                          </m:rPr>
                          <m:t xml:space="preserve">vPos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rPr>
                            <m:lit/>
                            <m:nor/>
                          </m:rPr>
                          <m:t xml:space="preserve">bitDeptIncr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with 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Ericsson Capital TT"/>
              </a:rPr>
              <a:t>Results</a:t>
            </a: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Anchor according to CE1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Note: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Random access with SAOInterleaving=0 (SAO in APS) and low delay with SAOInterleaving=1 (SAO interleaved with slice data). LCU is 64x64.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Ericsson Capital TT"/>
              </a:rPr>
              <a:t>Both SIMPLIFICATIONS (main CONFIGURATION)</a:t>
            </a: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96720" y="1800360"/>
          <a:ext cx="8352000" cy="3851280"/>
        </p:xfrm>
        <a:graphic>
          <a:graphicData uri="http://schemas.openxmlformats.org/drawingml/2006/table">
            <a:tbl>
              <a:tblPr/>
              <a:tblGrid>
                <a:gridCol w="924120"/>
                <a:gridCol w="619200"/>
                <a:gridCol w="618840"/>
                <a:gridCol w="619200"/>
                <a:gridCol w="619200"/>
                <a:gridCol w="617400"/>
                <a:gridCol w="619200"/>
                <a:gridCol w="619200"/>
                <a:gridCol w="619200"/>
                <a:gridCol w="619200"/>
                <a:gridCol w="618840"/>
                <a:gridCol w="619200"/>
                <a:gridCol w="619200"/>
              </a:tblGrid>
              <a:tr h="795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AI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RA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LB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LP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1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1,1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1,4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2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5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6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0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6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8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1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4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5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0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1,7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2,4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3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2,5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2,9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1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3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1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0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0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2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0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9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8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0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1,2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1,3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0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6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6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1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4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2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2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1,1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1,6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1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1,5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2,3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0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9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1,5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3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3,0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3,3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2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3,6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4,6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Overall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0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7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9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0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3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3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0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1,6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1,9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2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2,1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2,7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0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7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9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0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3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3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0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1,6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1,9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2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2,0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2,6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Class F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6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2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8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6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4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1,5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4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5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2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5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6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4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72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69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74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Ericsson Capital TT"/>
              </a:rPr>
              <a:t>Both SIMPLIFICATIONS (HE10 CONFIGURATION)</a:t>
            </a: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96720" y="1800360"/>
          <a:ext cx="8352000" cy="3851280"/>
        </p:xfrm>
        <a:graphic>
          <a:graphicData uri="http://schemas.openxmlformats.org/drawingml/2006/table">
            <a:tbl>
              <a:tblPr/>
              <a:tblGrid>
                <a:gridCol w="924120"/>
                <a:gridCol w="619200"/>
                <a:gridCol w="618840"/>
                <a:gridCol w="619200"/>
                <a:gridCol w="619200"/>
                <a:gridCol w="617400"/>
                <a:gridCol w="619200"/>
                <a:gridCol w="619200"/>
                <a:gridCol w="619200"/>
                <a:gridCol w="619200"/>
                <a:gridCol w="618840"/>
                <a:gridCol w="619200"/>
                <a:gridCol w="619200"/>
              </a:tblGrid>
              <a:tr h="795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AI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RA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LB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LP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2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6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7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5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7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6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2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5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8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4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5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4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0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1,7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2,3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1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2,5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2,8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1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5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5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3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3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5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2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1,2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1,3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2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2,0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2,1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1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7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1,0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1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1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1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3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2,0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1,7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4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2,2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2,4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2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3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1,2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1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9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2,2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1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2,4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3,4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Overall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1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5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8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3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4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3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1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1,5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1,9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2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2,3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2,6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1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5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8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3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4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3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1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1,5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1,8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2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2,2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2,5%</a:t>
                      </a:r>
                      <a:endParaRPr b="0" lang="en-US" sz="12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Class F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7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5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1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1,0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4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1,5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1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5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1,4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,0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,6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1,4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69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82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76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72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09:22:48Z</dcterms:created>
  <dc:creator>EAB/TVV Kenneth Andersson</dc:creator>
  <dc:description>Rev PA1</dc:description>
  <cp:keywords/>
  <dc:language>en-US</dc:language>
  <cp:lastModifiedBy>eplkan</cp:lastModifiedBy>
  <dcterms:modified xsi:type="dcterms:W3CDTF">2012-04-22T19:52:47Z</dcterms:modified>
  <cp:revision>183</cp:revision>
  <dc:subject/>
  <dc:title>SAO simplif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12-04-11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Presentation2011</vt:lpwstr>
  </property>
  <property fmtid="{D5CDD505-2E9C-101B-9397-08002B2CF9AE}" pid="8" name="DocumentType2">
    <vt:lpwstr>Presentation2011</vt:lpwstr>
  </property>
  <property fmtid="{D5CDD505-2E9C-101B-9397-08002B2CF9AE}" pid="9" name="EmbeddedFonts">
    <vt:bool>1</vt:bool>
  </property>
  <property fmtid="{D5CDD505-2E9C-101B-9397-08002B2CF9AE}" pid="10" name="FooterType">
    <vt:lpwstr>PresTemp</vt:lpwstr>
  </property>
  <property fmtid="{D5CDD505-2E9C-101B-9397-08002B2CF9AE}" pid="11" name="Keyword">
    <vt:lpwstr/>
  </property>
  <property fmtid="{D5CDD505-2E9C-101B-9397-08002B2CF9AE}" pid="12" name="LeftFooterField">
    <vt:lpwstr>© Ericsson AB 2012</vt:lpwstr>
  </property>
  <property fmtid="{D5CDD505-2E9C-101B-9397-08002B2CF9AE}" pid="13" name="MiddleFooterField">
    <vt:lpwstr>Public</vt:lpwstr>
  </property>
  <property fmtid="{D5CDD505-2E9C-101B-9397-08002B2CF9AE}" pid="14" name="PackageNo">
    <vt:lpwstr>LXA 119 463</vt:lpwstr>
  </property>
  <property fmtid="{D5CDD505-2E9C-101B-9397-08002B2CF9AE}" pid="15" name="PackageVersion">
    <vt:lpwstr>R6A</vt:lpwstr>
  </property>
  <property fmtid="{D5CDD505-2E9C-101B-9397-08002B2CF9AE}" pid="16" name="Pages">
    <vt:bool>1</vt:bool>
  </property>
  <property fmtid="{D5CDD505-2E9C-101B-9397-08002B2CF9AE}" pid="17" name="Prepared">
    <vt:lpwstr>EAB/TVV Kenneth Andersson</vt:lpwstr>
  </property>
  <property fmtid="{D5CDD505-2E9C-101B-9397-08002B2CF9AE}" pid="18" name="Reference">
    <vt:lpwstr/>
  </property>
  <property fmtid="{D5CDD505-2E9C-101B-9397-08002B2CF9AE}" pid="19" name="Revision">
    <vt:lpwstr>PA1</vt:lpwstr>
  </property>
  <property fmtid="{D5CDD505-2E9C-101B-9397-08002B2CF9AE}" pid="20" name="RightFooterField">
    <vt:lpwstr/>
  </property>
  <property fmtid="{D5CDD505-2E9C-101B-9397-08002B2CF9AE}" pid="21" name="RightFooterField2">
    <vt:lpwstr>2012-04-11</vt:lpwstr>
  </property>
  <property fmtid="{D5CDD505-2E9C-101B-9397-08002B2CF9AE}" pid="22" name="SecurityClass">
    <vt:lpwstr>Public</vt:lpwstr>
  </property>
  <property fmtid="{D5CDD505-2E9C-101B-9397-08002B2CF9AE}" pid="23" name="TemplateName">
    <vt:lpwstr>CXC 173 2731/11</vt:lpwstr>
  </property>
  <property fmtid="{D5CDD505-2E9C-101B-9397-08002B2CF9AE}" pid="24" name="TemplateName2">
    <vt:lpwstr>CXC 173 2731/11</vt:lpwstr>
  </property>
  <property fmtid="{D5CDD505-2E9C-101B-9397-08002B2CF9AE}" pid="25" name="TemplateVersion">
    <vt:lpwstr>R1A</vt:lpwstr>
  </property>
  <property fmtid="{D5CDD505-2E9C-101B-9397-08002B2CF9AE}" pid="26" name="TemplateVersion2">
    <vt:lpwstr>R1A</vt:lpwstr>
  </property>
  <property fmtid="{D5CDD505-2E9C-101B-9397-08002B2CF9AE}" pid="27" name="Title">
    <vt:lpwstr/>
  </property>
  <property fmtid="{D5CDD505-2E9C-101B-9397-08002B2CF9AE}" pid="28" name="TotalNumb">
    <vt:bool>0</vt:bool>
  </property>
  <property fmtid="{D5CDD505-2E9C-101B-9397-08002B2CF9AE}" pid="29" name="UpdateProcess">
    <vt:lpwstr>End</vt:lpwstr>
  </property>
  <property fmtid="{D5CDD505-2E9C-101B-9397-08002B2CF9AE}" pid="30" name="UsedFont">
    <vt:lpwstr>Ericsson Capital TT</vt:lpwstr>
  </property>
  <property fmtid="{D5CDD505-2E9C-101B-9397-08002B2CF9AE}" pid="31" name="White">
    <vt:bool>1</vt:bool>
  </property>
  <property fmtid="{D5CDD505-2E9C-101B-9397-08002B2CF9AE}" pid="32" name="chkMetaData">
    <vt:bool>0</vt:bool>
  </property>
  <property fmtid="{D5CDD505-2E9C-101B-9397-08002B2CF9AE}" pid="33" name="chkTaglines">
    <vt:bool>0</vt:bool>
  </property>
  <property fmtid="{D5CDD505-2E9C-101B-9397-08002B2CF9AE}" pid="34" name="optEnterText1">
    <vt:bool>0</vt:bool>
  </property>
  <property fmtid="{D5CDD505-2E9C-101B-9397-08002B2CF9AE}" pid="35" name="optEnterText2">
    <vt:bool>0</vt:bool>
  </property>
  <property fmtid="{D5CDD505-2E9C-101B-9397-08002B2CF9AE}" pid="36" name="optEnterText3">
    <vt:bool>0</vt:bool>
  </property>
  <property fmtid="{D5CDD505-2E9C-101B-9397-08002B2CF9AE}" pid="37" name="optEnterText4">
    <vt:bool>0</vt:bool>
  </property>
  <property fmtid="{D5CDD505-2E9C-101B-9397-08002B2CF9AE}" pid="38" name="optFooterCVLConfLabel">
    <vt:bool>1</vt:bool>
  </property>
  <property fmtid="{D5CDD505-2E9C-101B-9397-08002B2CF9AE}" pid="39" name="optFooterCVLCopyright">
    <vt:bool>1</vt:bool>
  </property>
  <property fmtid="{D5CDD505-2E9C-101B-9397-08002B2CF9AE}" pid="40" name="optFooterCVLDate">
    <vt:bool>1</vt:bool>
  </property>
  <property fmtid="{D5CDD505-2E9C-101B-9397-08002B2CF9AE}" pid="41" name="optFooterCVLDocNo">
    <vt:bool>0</vt:bool>
  </property>
  <property fmtid="{D5CDD505-2E9C-101B-9397-08002B2CF9AE}" pid="42" name="optFooterCVLPrep">
    <vt:bool>0</vt:bool>
  </property>
  <property fmtid="{D5CDD505-2E9C-101B-9397-08002B2CF9AE}" pid="43" name="optFooterCVLTitle">
    <vt:bool>1</vt:bool>
  </property>
  <property fmtid="{D5CDD505-2E9C-101B-9397-08002B2CF9AE}" pid="44" name="optUseConfClass">
    <vt:bool>1</vt:bool>
  </property>
  <property fmtid="{D5CDD505-2E9C-101B-9397-08002B2CF9AE}" pid="45" name="optUseConfLabel">
    <vt:bool>0</vt:bool>
  </property>
  <property fmtid="{D5CDD505-2E9C-101B-9397-08002B2CF9AE}" pid="46" name="txtConfLabel">
    <vt:lpwstr>Public</vt:lpwstr>
  </property>
  <property fmtid="{D5CDD505-2E9C-101B-9397-08002B2CF9AE}" pid="47" name="x">
    <vt:lpwstr>1</vt:lpwstr>
  </property>
</Properties>
</file>