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3776400" y="-360"/>
            <a:ext cx="2889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26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41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2"/>
          </p:nvPr>
        </p:nvSpPr>
        <p:spPr>
          <a:xfrm>
            <a:off x="3776400" y="9429480"/>
            <a:ext cx="2889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0515D4-A1A2-497B-8C4C-BDD3E16E7CC7}" type="slidenum">
              <a:rPr b="0" lang="it-IT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73" name="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440DB8-0FBC-4F6F-B6A1-0C079D813903}" type="slidenum">
              <a:rPr b="0" lang="it-IT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76" name="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829E28-B78F-45E3-AE78-C487CC68657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79" name="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77C887-90B3-43B8-A0FA-EA8AAF59654E}" type="slidenum">
              <a:rPr b="0" lang="it-IT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Calibri"/>
                <a:ea typeface="MS PGothic"/>
              </a:rPr>
              <a:t>Annex M of HD-Book DTT 2.1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 already provides implementation guidelines on 2D service compatibility within 3DTV, endorsing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ETSI TS 101 547 v1.1.1: Digital Video Broadcasting (DVB): Frame Compatible Plano-Stereoscopic 3DTV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 , based on using </a:t>
            </a:r>
            <a:r>
              <a:rPr b="0" lang="en-GB" sz="1200" spc="-1" strike="noStrike">
                <a:solidFill>
                  <a:srgbClr val="ff9900"/>
                </a:solidFill>
                <a:latin typeface="Calibri"/>
                <a:ea typeface="MS PGothic"/>
              </a:rPr>
              <a:t>the cropping rectangle and sample aspect ratio of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 the AVC spec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51AE1E-88C5-4832-A906-6DC05FC72CB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845AA4-FF61-454C-8FB6-5F2402B7A0C5}" type="slidenum">
              <a:rPr b="0" lang="it-IT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4952880" cy="32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8800" y="1251000"/>
            <a:ext cx="7238880" cy="320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24000" y="6308640"/>
            <a:ext cx="786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MS PGothic"/>
              </a:rPr>
              <a:t>Rai - Centro Ricerche e Innovazione Tecnologica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000" y="4352760"/>
            <a:ext cx="7561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Marco Ar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Tahoma"/>
              </a:rPr>
              <a:t>JCT-VC Geneva, 27 April – 8 May 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66720" y="2425680"/>
            <a:ext cx="7810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ahoma"/>
                <a:ea typeface="Arial"/>
              </a:rPr>
              <a:t>Request to define a technical solution to maintain interoperability and backward compatibility of frame compatible 3DTV transmission with 2D and 3D aware receivers</a:t>
            </a:r>
            <a:r>
              <a:rPr b="1" lang="it-IT" sz="2400" spc="-1" strike="noStrike">
                <a:solidFill>
                  <a:srgbClr val="003366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260280"/>
            <a:ext cx="810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Broadcasters and HEV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316600"/>
            <a:ext cx="86407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he possibility for a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Arial"/>
              </a:rPr>
              <a:t>second digital dividend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(UHF/700 MHz band) as considered at WR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2012 after 2015 could force a rapid migration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Arial"/>
              </a:rPr>
              <a:t>terrestrial HDTV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 to new more efficient technical standards, such as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Arial"/>
              </a:rPr>
              <a:t>DVB-T2 and HEVC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od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About 6-8 HDTV programmes could be allocated per DVB-T2 multi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he system shall be capable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Arial"/>
              </a:rPr>
              <a:t>Frame Compatible 3DTV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formats (FC-3DT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FC-3DTV signal shall be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Arial"/>
              </a:rPr>
              <a:t>2D service compatibl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260280"/>
            <a:ext cx="698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2D-service compatible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54476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D service compatibl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3D system is defined as a 3D transmission mode which may be decoded by 2D receivers to deliver 2D video to 2D displays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 2D-service compatible mode of operation for frame compatible formats has already been defined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ETSI TS 101 547 v1.1.1: Digital Video Broadcasting (DVB): Frame Compatible Plano-Stereoscopic 3DTV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veraging on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frame cropping rectangle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S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he cropping rectangle can be used to delimit an area within the frame containing one of the two 2D view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-2868"/>
          <a:stretch/>
        </p:blipFill>
        <p:spPr>
          <a:xfrm>
            <a:off x="395280" y="4149720"/>
            <a:ext cx="6068880" cy="196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16720" y="394416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The output video, properly scaled, provides a 2D-compatible format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9280" y="260280"/>
            <a:ext cx="698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HD-Book DTT 2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50040" cy="4705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1040" y="1870200"/>
            <a:ext cx="187164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31880" y="2800440"/>
            <a:ext cx="1463760" cy="1041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058760" y="4759200"/>
            <a:ext cx="112248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159840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85720" y="3855960"/>
            <a:ext cx="15987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07504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Frame packing stereo 3D is beneficial until future extension to HEVC is standardiz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Definite interest in having the possibility to us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frame compatible forma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HEV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together with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the cropping rectangl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so as to obta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2D compat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in the distribution of stereoscopic streams but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33336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ahoma"/>
                <a:ea typeface="Arial"/>
              </a:rPr>
              <a:t>HEV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3210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t is missing a way to indicate to a 3D decoder willing to extract the 3D content that video content  outside the cropping rectangle is stil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egal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547640" y="1413000"/>
            <a:ext cx="6696360" cy="3744720"/>
            <a:chOff x="1547640" y="1413000"/>
            <a:chExt cx="6696360" cy="3744720"/>
          </a:xfrm>
        </p:grpSpPr>
        <p:sp>
          <p:nvSpPr>
            <p:cNvPr id="67" name=""/>
            <p:cNvSpPr/>
            <p:nvPr/>
          </p:nvSpPr>
          <p:spPr>
            <a:xfrm>
              <a:off x="1547640" y="1413000"/>
              <a:ext cx="6696360" cy="3744720"/>
            </a:xfrm>
            <a:prstGeom prst="cloudCallout">
              <a:avLst>
                <a:gd name="adj1" fmla="val -36129"/>
                <a:gd name="adj2" fmla="val 71449"/>
              </a:avLst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640" y="2421000"/>
              <a:ext cx="583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4040" indent="-284040">
                <a:buClr>
                  <a:srgbClr val="ffffff"/>
                </a:buClr>
                <a:buFont typeface="Arial"/>
                <a:buChar char="•"/>
                <a:tabLst>
                  <a:tab algn="l" pos="284040"/>
                  <a:tab algn="l" pos="1198440"/>
                  <a:tab algn="l" pos="2112840"/>
                  <a:tab algn="l" pos="3027240"/>
                  <a:tab algn="l" pos="3941640"/>
                  <a:tab algn="l" pos="4856040"/>
                  <a:tab algn="l" pos="5770440"/>
                  <a:tab algn="l" pos="6684840"/>
                  <a:tab algn="l" pos="7599240"/>
                  <a:tab algn="l" pos="8513640"/>
                  <a:tab algn="l" pos="9428040"/>
                  <a:tab algn="l" pos="1034244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dding a second cropping rectangle to enclose the whole stereoscopic format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4040" indent="-284040">
                <a:buClr>
                  <a:srgbClr val="ffffff"/>
                </a:buClr>
                <a:buFont typeface="Arial"/>
                <a:buChar char="•"/>
                <a:tabLst>
                  <a:tab algn="l" pos="284040"/>
                  <a:tab algn="l" pos="1198440"/>
                  <a:tab algn="l" pos="2112840"/>
                  <a:tab algn="l" pos="3027240"/>
                  <a:tab algn="l" pos="3941640"/>
                  <a:tab algn="l" pos="4856040"/>
                  <a:tab algn="l" pos="5770440"/>
                  <a:tab algn="l" pos="6684840"/>
                  <a:tab algn="l" pos="7599240"/>
                  <a:tab algn="l" pos="8513640"/>
                  <a:tab algn="l" pos="9428040"/>
                  <a:tab algn="l" pos="1034244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efining suitable frame_packing_arrangement_type SEI messag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4040" indent="-284040">
                <a:buClr>
                  <a:srgbClr val="ffffff"/>
                </a:buClr>
                <a:buFont typeface="Arial"/>
                <a:buChar char="•"/>
                <a:tabLst>
                  <a:tab algn="l" pos="284040"/>
                  <a:tab algn="l" pos="1198440"/>
                  <a:tab algn="l" pos="2112840"/>
                  <a:tab algn="l" pos="3027240"/>
                  <a:tab algn="l" pos="3941640"/>
                  <a:tab algn="l" pos="4856040"/>
                  <a:tab algn="l" pos="5770440"/>
                  <a:tab algn="l" pos="6684840"/>
                  <a:tab algn="l" pos="7599240"/>
                  <a:tab algn="l" pos="8513640"/>
                  <a:tab algn="l" pos="9428040"/>
                  <a:tab algn="l" pos="1034244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Other possible solutio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40000" y="260280"/>
            <a:ext cx="43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ahoma"/>
                <a:ea typeface="Arial"/>
              </a:rPr>
              <a:t>Possible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8000" y="2671920"/>
            <a:ext cx="55072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it-IT" sz="4800" spc="-1" strike="noStrike">
                <a:solidFill>
                  <a:srgbClr val="003366"/>
                </a:solidFill>
                <a:latin typeface="Tahoma"/>
                <a:ea typeface="Arial"/>
              </a:rPr>
              <a:t>Thanks for your attention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6:14:20Z</dcterms:created>
  <dc:creator>Paola</dc:creator>
  <dc:description/>
  <dc:language>en-US</dc:language>
  <cp:lastModifiedBy>vittorio.giovara</cp:lastModifiedBy>
  <dcterms:modified xsi:type="dcterms:W3CDTF">2012-04-28T11:15:56Z</dcterms:modified>
  <cp:revision>217</cp:revision>
  <dc:subject/>
  <dc:title>Diapositiva 1</dc:title>
</cp:coreProperties>
</file>