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A978-4F95-4107-9EAE-F90D3B825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fc"/>
          <p:cNvSpPr/>
          <p:nvPr/>
        </p:nvSpPr>
        <p:spPr>
          <a:xfrm>
            <a:off x="0" y="8928000"/>
            <a:ext cx="6858000" cy="2462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1B626-429D-457B-8A51-81CC970919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8B70-9037-4DA1-AFA9-FF4117A7CF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93E55-9130-4039-86E7-3722379F3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F12DB-60BB-411F-BB01-1D7AAF2FD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9D534-BB3D-403C-A9BD-BD9681AA7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3731F-9A01-42EE-AA91-D5F831233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39A670-A311-4919-B062-6BFE5F324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2A47D-5B91-4E6A-AA7F-414ACD48D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C5C88-13AC-4B20-B364-7CA61165A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87045-8797-496E-A066-D6D59ED54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4A2CB-87F2-4AF0-ACCD-DAC663BD7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0E8FA-D268-49EB-96F3-5CED5FCF3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9DA06-5286-4851-98B6-729D30F49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76741-5C69-40A8-A556-A7FF998C4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8120C-52A5-48CE-A780-CAAB70312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DE6C5-3BA9-4F79-BA29-146D712AF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8BEC9-C0BC-4A05-AE8D-6E6A166D8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17C24A-7C4E-4AC2-BFAD-D77782E2A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3FE66-2AB0-4C64-9CB0-F9138B7C9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3FDC5-7A27-4EC4-AF3F-E13398516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E288F-84CF-48AD-A0F6-8BA5841DA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C5FD2-EE97-43F7-B1E8-2F7C4045A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FD60D-D0C0-4FAD-B4DE-3B75E3F00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450D6-071D-4450-A47C-0935A8B7C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C57E1-0924-4EC7-9812-594E2FACC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32735-BA54-4D86-9FAE-681B9AB77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E3F3-0840-4D38-B069-14CA0C8D3231}"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CTVC-I007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018BE-EF7B-48EB-A4A3-D71BCE648B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fc"/>
          <p:cNvSpPr/>
          <p:nvPr/>
        </p:nvSpPr>
        <p:spPr>
          <a:xfrm>
            <a:off x="0" y="664200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c"/>
          <p:cNvSpPr/>
          <p:nvPr/>
        </p:nvSpPr>
        <p:spPr>
          <a:xfrm>
            <a:off x="0" y="664200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fc"/>
          <p:cNvSpPr/>
          <p:nvPr/>
        </p:nvSpPr>
        <p:spPr>
          <a:xfrm>
            <a:off x="0" y="664200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E34D-7B81-4BAD-A35B-AC86B24DB19E}"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CTVC-I0070</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613E-50C3-4295-834C-108A3AB25E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urope.nokia.com/find-products/devices/nokia-808-pureview"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CTVC-I0070</a:t>
            </a:r>
            <a:br>
              <a:rPr sz="4000"/>
            </a:br>
            <a:r>
              <a:rPr b="0" lang="en-US" sz="4000" spc="-1" strike="noStrike">
                <a:solidFill>
                  <a:srgbClr val="000000"/>
                </a:solidFill>
                <a:latin typeface="Calibri"/>
              </a:rPr>
              <a:t>Nested hierarchy of tiles and slices through slice header prediction</a:t>
            </a:r>
            <a:endParaRPr b="0" lang="en-US" sz="4000" spc="-1" strike="noStrike">
              <a:solidFill>
                <a:srgbClr val="000000"/>
              </a:solidFill>
              <a:latin typeface="Calibri"/>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898989"/>
                </a:solidFill>
                <a:latin typeface="Calibri"/>
              </a:rPr>
              <a:t>Miska M. Hannuksela and </a:t>
            </a:r>
            <a:br>
              <a:rPr sz="3200"/>
            </a:br>
            <a:r>
              <a:rPr b="0" lang="en-CA" sz="3200" spc="-1" strike="noStrike">
                <a:solidFill>
                  <a:srgbClr val="898989"/>
                </a:solidFill>
                <a:latin typeface="Calibri"/>
              </a:rPr>
              <a:t>Antti Hallapuro</a:t>
            </a:r>
            <a:br>
              <a:rPr sz="3200"/>
            </a:br>
            <a:r>
              <a:rPr b="0" lang="en-CA" sz="3200" spc="-1" strike="noStrike">
                <a:solidFill>
                  <a:srgbClr val="898989"/>
                </a:solidFill>
                <a:latin typeface="Calibri"/>
              </a:rPr>
              <a:t>Nokia Research Cen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Summary of Proposal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picture delimiter NAL unit may carry a slice header, which may be used for decoding of more than one slice of the picture.</a:t>
            </a: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slice header beyond the slice address need not be provided for any slice.</a:t>
            </a: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slice header may be selectably predicted from the previous slice in scan order or from a slice header carried within the picture delimiter NAL unit.</a:t>
            </a:r>
            <a:endParaRPr b="0" lang="en-US" sz="2700" spc="-1" strike="noStrike">
              <a:solidFill>
                <a:srgbClr val="000000"/>
              </a:solidFill>
              <a:latin typeface="Calibri"/>
            </a:endParaRPr>
          </a:p>
          <a:p>
            <a:pPr marL="514440" indent="-514440">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tile shall contain an integer number of slices. A slice cannot contain data from more than one tile.</a:t>
            </a:r>
            <a:endParaRPr b="0" lang="en-US" sz="2700" spc="-1" strike="noStrike">
              <a:solidFill>
                <a:srgbClr val="000000"/>
              </a:solidFill>
              <a:latin typeface="Calibri"/>
            </a:endParaRPr>
          </a:p>
          <a:p>
            <a:pPr marL="514440" indent="-5144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07C5-9DD5-4755-8034-3DA8286C891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Proposal 1</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Proposal 1: A picture delimiter NAL unit may carry a slice header, which may be used for decoding of more than one slice of the pictur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Motivation: </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Most encoders keep the slice header unchanged during the encoding of a coded picture. Hence, for many coded pictures there are many redundant copies of the slice header.</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In our experience, HEVC is vulnerable to transmission errors and any type of error concealment is likely to result into an increase in both the magnitude and the spatial area of the error over time.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A good strategy to cope with transmission errors is to make use of temporal scalability</a:t>
            </a:r>
            <a:r>
              <a:rPr b="0" lang="en-U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Characteristic data for the coded picture, such as the used picture parameter set and referenced picture set, is given upfront in the access unit before SEI and other NAL units, which may be used in some environments for purposes such as fast-forward play.</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1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7F63-2C68-41EC-BDA2-BCDBBA2B88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Proposal 2</a:t>
            </a:r>
            <a:endParaRPr b="0" lang="en-US" sz="4400" spc="-1" strike="noStrike">
              <a:solidFill>
                <a:srgbClr val="000000"/>
              </a:solidFill>
              <a:latin typeface="Calibri"/>
            </a:endParaRPr>
          </a:p>
        </p:txBody>
      </p:sp>
      <p:sp>
        <p:nvSpPr>
          <p:cNvPr id="104" name=""/>
          <p:cNvSpPr txBox="1"/>
          <p:nvPr/>
        </p:nvSpPr>
        <p:spPr>
          <a:xfrm>
            <a:off x="457200" y="1600200"/>
            <a:ext cx="8229600" cy="17575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Proposal 2: A slice header beyond the slice address need not be provided for any slic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Motivation:</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The overhead for coding regular slices is reduced as they can refer to the slice header carried in the access unit delimiter.</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aphicFrame>
        <p:nvGraphicFramePr>
          <p:cNvPr id="105" name=""/>
          <p:cNvGraphicFramePr/>
          <p:nvPr/>
        </p:nvGraphicFramePr>
        <p:xfrm>
          <a:off x="3995640" y="3281400"/>
          <a:ext cx="4878360" cy="3460680"/>
        </p:xfrm>
        <a:graphic>
          <a:graphicData uri="http://schemas.openxmlformats.org/drawingml/2006/table">
            <a:tbl>
              <a:tblPr/>
              <a:tblGrid>
                <a:gridCol w="1416240"/>
                <a:gridCol w="1154160"/>
                <a:gridCol w="1153800"/>
                <a:gridCol w="1154160"/>
              </a:tblGrid>
              <a:tr h="305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w delay B Main</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52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A</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B</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C</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D</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E</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1%</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verall</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F</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2652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nc Time[%]</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616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c Time[%]</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9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06" name="Content Placeholder 2"/>
          <p:cNvSpPr/>
          <p:nvPr/>
        </p:nvSpPr>
        <p:spPr>
          <a:xfrm>
            <a:off x="457200" y="3500280"/>
            <a:ext cx="3394080" cy="262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xample results with </a:t>
            </a:r>
            <a:br>
              <a:rPr sz="2400"/>
            </a:br>
            <a:r>
              <a:rPr b="0" lang="en-CA" sz="2400" spc="-1" strike="noStrike">
                <a:solidFill>
                  <a:srgbClr val="000000"/>
                </a:solidFill>
                <a:latin typeface="Calibri"/>
              </a:rPr>
              <a:t>slice size of about </a:t>
            </a:r>
            <a:br>
              <a:rPr sz="2400"/>
            </a:br>
            <a:r>
              <a:rPr b="0" lang="en-CA" sz="2400" spc="-1" strike="noStrike">
                <a:solidFill>
                  <a:srgbClr val="000000"/>
                </a:solidFill>
                <a:latin typeface="Calibri"/>
              </a:rPr>
              <a:t>36 LCUs of size 64x64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10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9A0F4-6AA9-4498-9DF2-99191465DF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Proposal 3</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Proposal 3: A slice header may be selectably predicted from the previous slice in scan order or from a slice header carried within the picture delimiter NAL unit</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Motivation:</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The selectable encoding enables tiles and slices to predict a slice header either from the access unit delimiter or from the previous slice having a slice header, both of which are valid options for encoding.</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The option for predicting from the previous slice having a slice header can be used particularly for an entropy slice.</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1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9D7E-73F6-4619-A5C2-22511AE3C20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Proposal 4</a:t>
            </a:r>
            <a:endParaRPr b="0" lang="en-US" sz="4400" spc="-1" strike="noStrike">
              <a:solidFill>
                <a:srgbClr val="000000"/>
              </a:solidFill>
              <a:latin typeface="Calibri"/>
            </a:endParaRPr>
          </a:p>
        </p:txBody>
      </p:sp>
      <p:sp>
        <p:nvSpPr>
          <p:cNvPr id="114" name=""/>
          <p:cNvSpPr txBox="1"/>
          <p:nvPr/>
        </p:nvSpPr>
        <p:spPr>
          <a:xfrm>
            <a:off x="457200" y="1484280"/>
            <a:ext cx="8229600" cy="22608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Proposal 4: A tile shall contain an integer number of slices. A slice cannot contain data from more than one til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Motivation:</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In our opinion, the picture partitioning becomes conceptually simpler with the proposal, as a tile is clearly a superset of a slic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RD penalty is moderate unless tile size is very small</a:t>
            </a:r>
            <a:endParaRPr b="0" lang="en-US" sz="2200" spc="-1" strike="noStrike">
              <a:solidFill>
                <a:srgbClr val="000000"/>
              </a:solidFill>
              <a:latin typeface="Calibri"/>
            </a:endParaRPr>
          </a:p>
        </p:txBody>
      </p:sp>
      <p:graphicFrame>
        <p:nvGraphicFramePr>
          <p:cNvPr id="115" name=""/>
          <p:cNvGraphicFramePr/>
          <p:nvPr/>
        </p:nvGraphicFramePr>
        <p:xfrm>
          <a:off x="4284720" y="3429000"/>
          <a:ext cx="4608360" cy="3292560"/>
        </p:xfrm>
        <a:graphic>
          <a:graphicData uri="http://schemas.openxmlformats.org/drawingml/2006/table">
            <a:tbl>
              <a:tblPr/>
              <a:tblGrid>
                <a:gridCol w="1336680"/>
                <a:gridCol w="1090440"/>
                <a:gridCol w="1090800"/>
                <a:gridCol w="1090440"/>
              </a:tblGrid>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ow delay B Main</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A</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B</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C</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D</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E</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verall</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 F</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7%</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nc Time[%]</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3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a:txBody>
                    <a:bodyPr lIns="68760" rIns="68760" tIns="0" bIns="0" anchor="b">
                      <a:noAutofit/>
                    </a:bodyPr>
                    <a:p>
                      <a:pP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c Time[%]</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gridSpan="3">
                  <a:txBody>
                    <a:bodyPr lIns="68760" rIns="68760" tIns="0" bIns="0" anchor="b">
                      <a:noAutofit/>
                    </a:bodyPr>
                    <a:p>
                      <a:pPr algn="ctr">
                        <a:spcBef>
                          <a:spcPts val="675"/>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2 %</a:t>
                      </a:r>
                      <a:endParaRPr b="0" lang="en-US" sz="1800" spc="-1" strike="noStrike">
                        <a:solidFill>
                          <a:srgbClr val="000000"/>
                        </a:solidFill>
                        <a:latin typeface="Calibri"/>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16" name="Content Placeholder 2"/>
          <p:cNvSpPr/>
          <p:nvPr/>
        </p:nvSpPr>
        <p:spPr>
          <a:xfrm>
            <a:off x="457200" y="3500280"/>
            <a:ext cx="3394080" cy="262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xample results with </a:t>
            </a:r>
            <a:br>
              <a:rPr sz="2400"/>
            </a:br>
            <a:r>
              <a:rPr b="0" lang="en-CA" sz="2400" spc="-1" strike="noStrike">
                <a:solidFill>
                  <a:srgbClr val="000000"/>
                </a:solidFill>
                <a:latin typeface="Calibri"/>
              </a:rPr>
              <a:t>tile/slice size of about </a:t>
            </a:r>
            <a:br>
              <a:rPr sz="2400"/>
            </a:br>
            <a:r>
              <a:rPr b="0" lang="en-CA" sz="2400" spc="-1" strike="noStrike">
                <a:solidFill>
                  <a:srgbClr val="000000"/>
                </a:solidFill>
                <a:latin typeface="Calibri"/>
              </a:rPr>
              <a:t>6x6 LCUs of size 64x64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118"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9C7E-13FC-4B56-8635-371FEAC204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Potential Additional Benefits</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acketization flexibility</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alibri"/>
              </a:rPr>
              <a:t>MTU size might not be known at the time of encoding, hence encoded slice size might not be optimal, but due to parallel processing the picture can contain many til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alibri"/>
              </a:rPr>
              <a:t>Packetizer can determine how many tiles are encapsulated in one packet </a:t>
            </a:r>
            <a:endParaRPr b="0" lang="en-US" sz="1500" spc="-1" strike="noStrike">
              <a:solidFill>
                <a:srgbClr val="000000"/>
              </a:solidFill>
              <a:latin typeface="Calibri"/>
            </a:endParaRPr>
          </a:p>
          <a:p>
            <a:pPr marL="514440" indent="-51444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Re-packetization for MTU size matching</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alibri"/>
              </a:rPr>
              <a:t>Media gateway may re-encapsulate a suitable number of tiles into one packet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alibri"/>
              </a:rPr>
              <a:t>Slice header can be included in each such packet for loss robustness</a:t>
            </a:r>
            <a:endParaRPr b="0" lang="en-US" sz="1500" spc="-1" strike="noStrike">
              <a:solidFill>
                <a:srgbClr val="000000"/>
              </a:solidFill>
              <a:latin typeface="Calibri"/>
            </a:endParaRPr>
          </a:p>
          <a:p>
            <a:pPr marL="514440" indent="-51444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ile as a random access point for an intra-coded picture</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500" spc="-1" strike="noStrike">
                <a:solidFill>
                  <a:srgbClr val="000000"/>
                </a:solidFill>
                <a:latin typeface="Calibri"/>
              </a:rPr>
              <a:t>Still picture resolutions are increasing vastly, e.g.:</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Calibri"/>
                <a:hlinkClick r:id="rId1"/>
              </a:rPr>
              <a:t>Nokia PureView Pro</a:t>
            </a:r>
            <a:r>
              <a:rPr b="0" lang="en-US" sz="1300" spc="-1" strike="noStrike">
                <a:solidFill>
                  <a:srgbClr val="000000"/>
                </a:solidFill>
                <a:latin typeface="Calibri"/>
              </a:rPr>
              <a:t> technology includes super high resolution sensor with an active area of 41Mpix</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alibri"/>
              </a:rPr>
              <a:t>In many applications / use cases, only a part of a large image has to be displayed</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alibri"/>
              </a:rPr>
              <a:t>Random access within an intra-coded picture:</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libri"/>
              </a:rPr>
              <a:t>Decode slice header from picture delimiter NAL unit</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libri"/>
              </a:rPr>
              <a:t>Decode desired tiles/slices  (using the slice header in the AU delimiter)</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alibri"/>
              </a:rPr>
              <a:t>HEVC CD would require </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libri"/>
              </a:rPr>
              <a:t>sequential decoding of slice headers (fully),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libri"/>
              </a:rPr>
              <a:t>accessing to all tiles within a slice (to read tile_idx), and </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libri"/>
              </a:rPr>
              <a:t>non-sequential access of the bitstream (the next slice and tile entry point have to be accessed to determine which slice and tile to be decoded)</a:t>
            </a:r>
            <a:endParaRPr b="0" lang="en-US" sz="1300" spc="-1" strike="noStrike">
              <a:solidFill>
                <a:srgbClr val="000000"/>
              </a:solidFill>
              <a:latin typeface="Calibri"/>
            </a:endParaRPr>
          </a:p>
        </p:txBody>
      </p:sp>
      <p:sp>
        <p:nvSpPr>
          <p:cNvPr id="121"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122"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8308-0F91-40CE-BA7F-D336E44BE76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Summary of Proposa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fontScale="98000"/>
          </a:bodyPr>
          <a:p>
            <a:pPr marL="504000" indent="-5040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picture delimiter NAL unit may carry a slice header, which may be used for decoding of more than one slice of the picture.</a:t>
            </a:r>
            <a:endParaRPr b="0" lang="en-US" sz="2700" spc="-1" strike="noStrike">
              <a:solidFill>
                <a:srgbClr val="000000"/>
              </a:solidFill>
              <a:latin typeface="Calibri"/>
            </a:endParaRPr>
          </a:p>
          <a:p>
            <a:pPr marL="504000" indent="-5040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slice header beyond the slice address need not be provided for any slice.</a:t>
            </a:r>
            <a:endParaRPr b="0" lang="en-US" sz="2700" spc="-1" strike="noStrike">
              <a:solidFill>
                <a:srgbClr val="000000"/>
              </a:solidFill>
              <a:latin typeface="Calibri"/>
            </a:endParaRPr>
          </a:p>
          <a:p>
            <a:pPr marL="504000" indent="-5040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slice header may be selectably predicted from the previous slice in scan order or from a slice header carried within the picture delimiter NAL unit.</a:t>
            </a:r>
            <a:endParaRPr b="0" lang="en-US" sz="2700" spc="-1" strike="noStrike">
              <a:solidFill>
                <a:srgbClr val="000000"/>
              </a:solidFill>
              <a:latin typeface="Calibri"/>
            </a:endParaRPr>
          </a:p>
          <a:p>
            <a:pPr marL="504000" indent="-50400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libri"/>
              </a:rPr>
              <a:t>A tile shall contain an integer number of slices. A slice cannot contain data from more than one tile.</a:t>
            </a:r>
            <a:endParaRPr b="0" lang="en-US" sz="2700" spc="-1" strike="noStrike">
              <a:solidFill>
                <a:srgbClr val="000000"/>
              </a:solidFill>
              <a:latin typeface="Calibri"/>
            </a:endParaRPr>
          </a:p>
          <a:p>
            <a:pPr marL="504000" indent="-5040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04000" indent="-5040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700" spc="-1" strike="noStrike">
                <a:solidFill>
                  <a:srgbClr val="000000"/>
                </a:solidFill>
                <a:latin typeface="Calibri"/>
              </a:rPr>
              <a:t>Specification text and source code have been provided</a:t>
            </a:r>
            <a:endParaRPr b="0" lang="en-US" sz="2700" spc="-1" strike="noStrike">
              <a:solidFill>
                <a:srgbClr val="000000"/>
              </a:solidFill>
              <a:latin typeface="Calibri"/>
            </a:endParaRPr>
          </a:p>
        </p:txBody>
      </p:sp>
      <p:sp>
        <p:nvSpPr>
          <p:cNvPr id="12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JCTVC-I0070</a:t>
            </a:r>
            <a:endParaRPr b="0" lang="en-US" sz="1200" spc="-1" strike="noStrike">
              <a:solidFill>
                <a:srgbClr val="000000"/>
              </a:solidFill>
              <a:latin typeface="Calibri"/>
            </a:endParaRPr>
          </a:p>
        </p:txBody>
      </p:sp>
      <p:sp>
        <p:nvSpPr>
          <p:cNvPr id="12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4312-2FBE-4AA8-9F1C-37246B1E40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8T07:41:47Z</dcterms:created>
  <dc:creator>Miska Hannuksela</dc:creator>
  <dc:description/>
  <dc:language>en-US</dc:language>
  <cp:lastModifiedBy>Miska Hannuksela</cp:lastModifiedBy>
  <dcterms:modified xsi:type="dcterms:W3CDTF">2012-04-28T09:33:35Z</dcterms:modified>
  <cp:revision>10</cp:revision>
  <dc:subject/>
  <dc:title>JCTVC-I0070 Nested hierarchy of tiles and slices through slice header predi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kiaConfidentiality">
    <vt:lpwstr>Public</vt:lpwstr>
  </property>
  <property fmtid="{D5CDD505-2E9C-101B-9397-08002B2CF9AE}" pid="3" name="TitusGUID">
    <vt:lpwstr>b09ba0ff-ea22-4c64-ab02-232e3fd6dc88</vt:lpwstr>
  </property>
</Properties>
</file>