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E2DF5-1D6B-4FBB-9C4E-EB05FF789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8CFD5-A9F5-48D0-9A14-155B50D91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17BAF-89E8-40E3-9FA5-BF8410C40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1B995-FF14-40B3-9F96-DC6233A22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2C712-7702-405B-90CA-E020E5ECA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17F9B-E118-4B47-819C-BB9CB3910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9044F-E2CB-47D8-94AB-4EA904794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F5FC4-F356-4500-A584-A954862FA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B816F-D4F4-48E7-BCAE-58B5F5686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FE05F-3533-4126-9462-AE0152752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1A594-4DBE-42CC-937E-5D34E49F0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7E075-1E94-4C1F-8E2A-B22B3D3DC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3966E-FBEA-4824-9DEC-FFC5ACEC6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335EA-233C-4653-A205-1ECCF3223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641A5-D5DB-41B2-899A-8B74A7A89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E118B-0D1D-40C7-BDCA-A81A7BD86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02B31-6FAF-4ED7-8F6D-83723A7A9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45F2F-DC58-4E48-9713-AB6250299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3C61B-EC24-4899-A570-05269579E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4B7FD-C9AA-4B52-9026-76B1BF5F5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0D76B-EB96-484E-AE85-B66F547A2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07C28-B6D4-4E31-A156-9B2CD544F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9B029-75E8-4CB0-B28B-4A0DA1AA4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731CF-7258-4B2F-9DA0-128315665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06F54-F145-4F2D-B06F-5BD9DD4C2CC3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JCTVC-I006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45673-E2AD-4F63-8E2A-3AFCF51A170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c"/>
          <p:cNvSpPr/>
          <p:nvPr/>
        </p:nvSpPr>
        <p:spPr>
          <a:xfrm>
            <a:off x="0" y="664200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fc"/>
          <p:cNvSpPr/>
          <p:nvPr/>
        </p:nvSpPr>
        <p:spPr>
          <a:xfrm>
            <a:off x="0" y="664200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fc"/>
          <p:cNvSpPr/>
          <p:nvPr/>
        </p:nvSpPr>
        <p:spPr>
          <a:xfrm>
            <a:off x="0" y="664200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C7942-DB9E-4AC5-B3A8-EAFCE7C2D8EE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JCTVC-I006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09785-7C55-4A65-9C0B-3A96225E0F8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000" spc="-1" strike="noStrike">
                <a:solidFill>
                  <a:srgbClr val="000000"/>
                </a:solidFill>
                <a:latin typeface="Calibri"/>
              </a:rPr>
              <a:t>JCTVC-I0069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PS error resilience and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artial updatin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898989"/>
                </a:solidFill>
                <a:latin typeface="Calibri"/>
              </a:rPr>
              <a:t>Miska M. Hannuksela and Srikanth Manchenally Gopalakrishna</a:t>
            </a:r>
            <a:br>
              <a:rPr sz="3200"/>
            </a:br>
            <a:r>
              <a:rPr b="0" lang="en-CA" sz="3200" spc="-1" strike="noStrike">
                <a:solidFill>
                  <a:srgbClr val="898989"/>
                </a:solidFill>
                <a:latin typeface="Calibri"/>
              </a:rPr>
              <a:t>Nokia Research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Problem Sett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Calibri"/>
              </a:rPr>
              <a:t>Problem #1: inability to detect APS loss, usage of wrong AP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Happens when a lost APS re-used an aps_id value (ID1) that had already been used earlier by another AP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onsequently, the decoder interprets any reference to the aps_id value ID1 to the previous APS NAL unit using the same aps_id value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roblem #2: partial updating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ith temporal error propagation considera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JCTVC-I006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APS Loss Det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276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Calibri"/>
              </a:rPr>
              <a:t>max_aps_id given in SPS</a:t>
            </a:r>
            <a:br>
              <a:rPr sz="2200"/>
            </a:br>
            <a:r>
              <a:rPr b="0" lang="en-CA" sz="2200" spc="-1" strike="noStrike">
                <a:solidFill>
                  <a:srgbClr val="000000"/>
                </a:solidFill>
                <a:latin typeface="Calibri"/>
              </a:rPr>
              <a:t>aps_id may be in the range of 0 to max_aps_id, inclusiv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Calibri"/>
              </a:rPr>
              <a:t>max_aps_id_diff given in SPS: a range of aps_id values that are considered “used”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Calibri"/>
              </a:rPr>
              <a:t>The range is relative to the latest received APS NAL unit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Calibri"/>
              </a:rPr>
              <a:t>An APS in the “used” range can be retransmitted (for error resilienc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Calibri"/>
              </a:rPr>
              <a:t>A new APS must use an aps_id from the “unused” range (usually increment by 1 in modulo arithmetic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traight Connector 4"/>
          <p:cNvSpPr/>
          <p:nvPr/>
        </p:nvSpPr>
        <p:spPr>
          <a:xfrm>
            <a:off x="900000" y="5111640"/>
            <a:ext cx="73440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extBox 5"/>
          <p:cNvSpPr/>
          <p:nvPr/>
        </p:nvSpPr>
        <p:spPr>
          <a:xfrm>
            <a:off x="751680" y="511164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6"/>
          <p:cNvSpPr/>
          <p:nvPr/>
        </p:nvSpPr>
        <p:spPr>
          <a:xfrm>
            <a:off x="7673400" y="5114880"/>
            <a:ext cx="129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max_aps_i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7"/>
          <p:cNvSpPr/>
          <p:nvPr/>
        </p:nvSpPr>
        <p:spPr>
          <a:xfrm>
            <a:off x="4935600" y="5184720"/>
            <a:ext cx="140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Latest aps_id</a:t>
            </a:r>
            <a:br>
              <a:rPr sz="1800"/>
            </a:b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us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Straight Connector 9"/>
          <p:cNvSpPr/>
          <p:nvPr/>
        </p:nvSpPr>
        <p:spPr>
          <a:xfrm flipV="1">
            <a:off x="5637240" y="5017680"/>
            <a:ext cx="0" cy="165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Straight Connector 11"/>
          <p:cNvSpPr/>
          <p:nvPr/>
        </p:nvSpPr>
        <p:spPr>
          <a:xfrm flipV="1">
            <a:off x="2195640" y="5032440"/>
            <a:ext cx="0" cy="163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Right Brace 12"/>
          <p:cNvSpPr/>
          <p:nvPr/>
        </p:nvSpPr>
        <p:spPr>
          <a:xfrm rot="5400000">
            <a:off x="3771720" y="4182840"/>
            <a:ext cx="287640" cy="3440160"/>
          </a:xfrm>
          <a:custGeom>
            <a:avLst/>
            <a:gdLst>
              <a:gd name="textAreaLeft" fmla="*/ 0 w 287640"/>
              <a:gd name="textAreaRight" fmla="*/ 103680 w 287640"/>
              <a:gd name="textAreaTop" fmla="*/ 7200 h 3440160"/>
              <a:gd name="textAreaBottom" fmla="*/ 3432960 h 344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76"/>
                  <a:pt x="10800" y="151"/>
                </a:cubicBezTo>
                <a:lnTo>
                  <a:pt x="10800" y="10649"/>
                </a:lnTo>
                <a:cubicBezTo>
                  <a:pt x="10800" y="10725"/>
                  <a:pt x="16200" y="10800"/>
                  <a:pt x="21600" y="10800"/>
                </a:cubicBezTo>
                <a:cubicBezTo>
                  <a:pt x="16200" y="10800"/>
                  <a:pt x="10800" y="10876"/>
                  <a:pt x="10800" y="10951"/>
                </a:cubicBezTo>
                <a:lnTo>
                  <a:pt x="10800" y="21449"/>
                </a:lnTo>
                <a:cubicBezTo>
                  <a:pt x="10800" y="21525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Box 13"/>
          <p:cNvSpPr/>
          <p:nvPr/>
        </p:nvSpPr>
        <p:spPr>
          <a:xfrm>
            <a:off x="3058560" y="5975280"/>
            <a:ext cx="171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max_aps_id_diff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Right Brace 14"/>
          <p:cNvSpPr/>
          <p:nvPr/>
        </p:nvSpPr>
        <p:spPr>
          <a:xfrm rot="16200000">
            <a:off x="3772440" y="3102120"/>
            <a:ext cx="289080" cy="3440160"/>
          </a:xfrm>
          <a:custGeom>
            <a:avLst/>
            <a:gdLst>
              <a:gd name="textAreaLeft" fmla="*/ 0 w 289080"/>
              <a:gd name="textAreaRight" fmla="*/ 104400 w 289080"/>
              <a:gd name="textAreaTop" fmla="*/ 7200 h 3440160"/>
              <a:gd name="textAreaBottom" fmla="*/ 3432960 h 344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76"/>
                  <a:pt x="10800" y="151"/>
                </a:cubicBezTo>
                <a:lnTo>
                  <a:pt x="10800" y="10649"/>
                </a:lnTo>
                <a:cubicBezTo>
                  <a:pt x="10800" y="10725"/>
                  <a:pt x="16200" y="10800"/>
                  <a:pt x="21600" y="10800"/>
                </a:cubicBezTo>
                <a:cubicBezTo>
                  <a:pt x="16200" y="10800"/>
                  <a:pt x="10800" y="10876"/>
                  <a:pt x="10800" y="10951"/>
                </a:cubicBezTo>
                <a:lnTo>
                  <a:pt x="10800" y="21449"/>
                </a:lnTo>
                <a:cubicBezTo>
                  <a:pt x="10800" y="21525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TextBox 15"/>
          <p:cNvSpPr/>
          <p:nvPr/>
        </p:nvSpPr>
        <p:spPr>
          <a:xfrm>
            <a:off x="2878920" y="4332240"/>
            <a:ext cx="21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used aps_id values”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Right Brace 16"/>
          <p:cNvSpPr/>
          <p:nvPr/>
        </p:nvSpPr>
        <p:spPr>
          <a:xfrm rot="16200000">
            <a:off x="6810480" y="3543120"/>
            <a:ext cx="288720" cy="2578320"/>
          </a:xfrm>
          <a:custGeom>
            <a:avLst/>
            <a:gdLst>
              <a:gd name="textAreaLeft" fmla="*/ 0 w 288720"/>
              <a:gd name="textAreaRight" fmla="*/ 104040 w 288720"/>
              <a:gd name="textAreaTop" fmla="*/ 7200 h 2578320"/>
              <a:gd name="textAreaBottom" fmla="*/ 2571120 h 2578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01"/>
                  <a:pt x="10800" y="201"/>
                </a:cubicBezTo>
                <a:lnTo>
                  <a:pt x="10800" y="10599"/>
                </a:lnTo>
                <a:cubicBezTo>
                  <a:pt x="10800" y="10700"/>
                  <a:pt x="16200" y="10800"/>
                  <a:pt x="21600" y="10800"/>
                </a:cubicBezTo>
                <a:cubicBezTo>
                  <a:pt x="16200" y="10800"/>
                  <a:pt x="10800" y="10901"/>
                  <a:pt x="10800" y="11001"/>
                </a:cubicBezTo>
                <a:lnTo>
                  <a:pt x="10800" y="21399"/>
                </a:lnTo>
                <a:cubicBezTo>
                  <a:pt x="10800" y="215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Right Brace 17"/>
          <p:cNvSpPr/>
          <p:nvPr/>
        </p:nvSpPr>
        <p:spPr>
          <a:xfrm rot="16200000">
            <a:off x="1396800" y="4168080"/>
            <a:ext cx="289080" cy="1308240"/>
          </a:xfrm>
          <a:custGeom>
            <a:avLst/>
            <a:gdLst>
              <a:gd name="textAreaLeft" fmla="*/ 0 w 289080"/>
              <a:gd name="textAreaRight" fmla="*/ 104400 w 289080"/>
              <a:gd name="textAreaTop" fmla="*/ 7200 h 1308240"/>
              <a:gd name="textAreaBottom" fmla="*/ 1301040 h 1308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98"/>
                  <a:pt x="10800" y="396"/>
                </a:cubicBezTo>
                <a:lnTo>
                  <a:pt x="10800" y="10404"/>
                </a:lnTo>
                <a:cubicBezTo>
                  <a:pt x="10800" y="10602"/>
                  <a:pt x="16200" y="10800"/>
                  <a:pt x="21600" y="10800"/>
                </a:cubicBezTo>
                <a:cubicBezTo>
                  <a:pt x="16200" y="10800"/>
                  <a:pt x="10800" y="10998"/>
                  <a:pt x="10800" y="11196"/>
                </a:cubicBezTo>
                <a:lnTo>
                  <a:pt x="10800" y="21204"/>
                </a:lnTo>
                <a:cubicBezTo>
                  <a:pt x="10800" y="21402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TextBox 18"/>
          <p:cNvSpPr/>
          <p:nvPr/>
        </p:nvSpPr>
        <p:spPr>
          <a:xfrm>
            <a:off x="6425280" y="4292640"/>
            <a:ext cx="105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unused”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TextBox 19"/>
          <p:cNvSpPr/>
          <p:nvPr/>
        </p:nvSpPr>
        <p:spPr>
          <a:xfrm>
            <a:off x="1011960" y="4348080"/>
            <a:ext cx="105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unused”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Footer Placeholder 2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JCTVC-I006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Partial Updat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Calibri"/>
              </a:rPr>
              <a:t>For each group of syntax elements (QM, deblocking filter, SAO, ALF)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Calibri"/>
              </a:rPr>
              <a:t>Indicate that it is not present in the AP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Calibri"/>
              </a:rPr>
              <a:t>Include in the AP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Calibri"/>
              </a:rPr>
              <a:t>Copy from indicated earlier APS with aps_id in the “used” rang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Calibri"/>
              </a:rPr>
              <a:t>The partial update references resolved only once at the time of decoding the APS NAL uni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Calibri"/>
              </a:rPr>
              <a:t>APS is decoded by copying the referenced data from the indicated source APS into the APS being decod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Calibri"/>
              </a:rPr>
              <a:t>Recommendations for encoding and packetization to limit temporal error propagation caused by APS loss and partial updat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Calibri"/>
              </a:rPr>
              <a:t>Choose partial update APS references so that they are a subset of inter prediction referenc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Calibri"/>
              </a:rPr>
              <a:t>Packetize APS NAL unit together with coded slice NAL uni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Calibri"/>
              </a:rPr>
              <a:t>Thus, if a packet of APS NAL unit is lost, coded slice data is also lost </a:t>
            </a:r>
            <a:r>
              <a:rPr b="0" lang="en-CA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CA" sz="1800" spc="-1" strike="noStrike">
                <a:solidFill>
                  <a:srgbClr val="000000"/>
                </a:solidFill>
                <a:latin typeface="Calibri"/>
              </a:rPr>
              <a:t> temporal error propagation would not be worse than without partial updat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JCTVC-I006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Other Remarks and 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Calibri"/>
              </a:rPr>
              <a:t>Specification text provided with contribu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Calibri"/>
              </a:rPr>
              <a:t>Source code provided with contribu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Calibri"/>
              </a:rPr>
              <a:t>Proposal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Calibri"/>
              </a:rPr>
              <a:t>Derivation of a ”used” range of aps_id valu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20024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Calibri"/>
              </a:rPr>
              <a:t>Enables controlled re-use of aps_id values and detection of APS los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Calibri"/>
              </a:rPr>
              <a:t>APS partial updating mechanis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20024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Calibri"/>
              </a:rPr>
              <a:t>Per-group copy operation from indicated earlier AP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900" spc="-1" strike="noStrike">
                <a:solidFill>
                  <a:srgbClr val="000000"/>
                </a:solidFill>
                <a:latin typeface="Calibri"/>
              </a:rPr>
              <a:t>Done only once at the time of decoding the APS NAL uni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2" marL="1200240" indent="-343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JCTVC-I006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28T06:15:07Z</dcterms:created>
  <dc:creator>Miska Hannuksela</dc:creator>
  <dc:description/>
  <dc:language>en-US</dc:language>
  <cp:lastModifiedBy>Miska Hannuksela</cp:lastModifiedBy>
  <dcterms:modified xsi:type="dcterms:W3CDTF">2012-04-28T07:38:24Z</dcterms:modified>
  <cp:revision>9</cp:revision>
  <dc:subject/>
  <dc:title>JCTVC-I0069 APS error resilience and  partial updati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kiaConfidentiality">
    <vt:lpwstr>Public</vt:lpwstr>
  </property>
  <property fmtid="{D5CDD505-2E9C-101B-9397-08002B2CF9AE}" pid="3" name="TitusGUID">
    <vt:lpwstr>9ed3f25d-14e2-4d3b-b421-6c5e4c220879</vt:lpwstr>
  </property>
</Properties>
</file>