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CE6-BDE0-4E55-8F7A-BF38B5A1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6DA-FFE4-4AC1-A42B-5B50E746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BD8D9-D197-4156-BA63-F57EAF81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BF7A6-E67F-4C65-A842-7E81E2DD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46141-3B4D-4F6B-8ABF-DB12FFD9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6E5C1-F3B2-45D3-A8C2-541AC4F8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EB7D3-F749-46A5-983C-40CA7F94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D0482-F0F1-478F-9964-691F1318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966F1-6CE5-4A71-B0D2-90CC6708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34482-A625-4BCF-ABF6-57F2F191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E764E-7265-425E-8B69-B6FB08CE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ACA18-4361-49E1-BA51-10792DC2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5D0-B6FB-4875-951E-5312C09A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DA833-71DD-4319-BC3E-534F2AB8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460BF-220D-4486-B98F-E6CE8137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411CE-769D-4B40-B0B7-A543EC25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C0A92-5C46-439C-9393-6FC98796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44C64-8D9B-48D3-8D85-B8AC8BDF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52A0B-4EA3-4219-865D-F59EDF0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E17B3-B099-4664-8C3D-C196893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1CA5A-D4E8-4E54-B6FC-77C24744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99349-25CE-4949-A7D5-F37AF6E0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6CF76-DBEA-427F-91C8-F8FE9D92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72B-8891-4582-BC95-1345892D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F5D77-23B7-451B-9EB0-9FE140EC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5FBD1-FBA6-42EB-B57C-5DACF4E2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04398-85D6-4AAD-B621-AB5C38B7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93799-CC82-4EC8-AF38-3FD61C5D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D344C-78DF-43B9-9C3D-E948880F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4708F-C958-48ED-8E1E-3B36A3CF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B1893-EE45-4D10-B553-6EA32E10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6EFCA-0457-4050-9B28-1B9597D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1E90-EB47-4375-9B31-E89D96E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B9D81-F665-461B-A211-7A480335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7EE0-2092-43EE-AF5F-0650DD1D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3B812-C2EA-4293-A853-0D83E97D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22E0B-3C58-4DF6-AB12-0BCEA9F2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B8105-AD51-4BDC-A98E-27F1F323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9D57-2A7B-45E8-8BEA-31742DF8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F765-0235-4A69-87EB-67DF2C2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A7EF-640A-4E2D-890A-97E36CF5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CB86-3029-4140-B994-5E8B965A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A5B5-423D-482E-9667-FCAED919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9F32-109D-4915-9CA2-AAAC826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A1C-A269-4394-8B70-D68A3ED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BA89-3032-46BD-AA63-4792672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6AB6-34BF-45EC-B1A4-021C9C8B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6116-914C-4312-8E31-BBF2915A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8E1C-B14C-4FAF-AC32-59CF71F9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FA7C-677C-4F6B-97B6-919068E7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3603-AB6A-40D5-80C1-CB4E0CFC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66DE-DC9B-4CA0-8ED2-BF817444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4393-5262-4BCB-8182-1B954281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BFF1-0A7C-4B5D-A63D-D79ACC19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14F3-E66F-4C70-B12C-33917F56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919-FA42-4649-B267-C825507F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D8C7-5181-477D-9CCE-A981987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D757-6399-4F6F-85C3-87A8167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809D-D791-45D9-8BB7-425CBF8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56F8-2355-4BBA-8FCF-E9976E9D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B3EE-47F2-48B0-803A-7563B1E2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1181-FFCF-4314-93B3-B1F0F74C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3A48-3E49-469A-9347-D7EF52B1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64590-BB19-48EA-AF8C-D75DA58C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45D8-213A-4F30-BD87-A6FE3CF7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80190-F818-4B37-AAF1-48B87578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0F5-BDF7-4C5E-8096-414E7D78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EB8D-7A4E-49DF-AD66-0DBAAB47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E758B-F370-4928-AF4D-567C4598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7B4A-DDC9-46A2-A712-3C499FC9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5E0E6-2E20-448C-8CEB-A77C810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8D5B-C45E-4D13-8C57-C18CF71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7EC5-616A-49E2-BD6E-3CF50B9F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9098-32A6-40CD-91DE-9E9EA0E7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A441-987F-4814-BF0A-B2FDAD3C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F4F7-18B5-438B-813C-C4E9CEB2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BA53-44A0-49F0-8C0C-E96F91B2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8DF-5A7B-46A3-9AD2-2FFDDA05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8DE4D-9B0B-4D20-80F8-9B26042F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EF4C5-9581-441F-9DDF-9A33FD7A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C802-0A16-4BAB-A5C1-B4A3BE40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410F-D511-49B2-8FE8-2310BDF8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5959-F375-41E6-AD35-DBF8463C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82C2-D338-4011-9ACA-6E45CE4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55EAC-4732-4EAE-8C4C-9576566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7553-4F07-4925-ACF3-B797C3D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07F9-4793-4AC5-BCC3-0D5E7425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CD90C-CF90-4E0C-A951-BD127033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2A2-98D0-4000-9C09-EDF4C7A4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0FD7E-80C9-496C-8220-72436F98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3B96-D791-47B3-B4EC-4490180D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C864E-7992-4EF4-ADAD-65ADB92B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FF85-E759-417E-B915-093B1A34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782E3-DAFA-436F-9FEC-1F9D092C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008F-27D6-4AB0-A77F-876DE9DB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DDA8B-4547-4ABB-BFA0-EA18B0D3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73819-DA8A-4D57-BFBB-CE7D07AA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00C16-0353-4FD3-8EF0-16CA45E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6284-4BC3-45DC-AB87-F43FCAF0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4CE-9585-4363-B864-46749697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711D-A327-4A22-A0F7-DF2F05D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AB3D4-3E92-4654-A3F6-17A1330F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36CA8-C680-4244-BB73-75011581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C947-E0A2-4550-B287-11713680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CDD7-DA14-42CB-8592-C75A54DD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1DFB2-0527-47A7-8174-7A6D780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A0D72-AA13-4B4A-9C88-8DC63A90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953A3-FE8B-4EE7-AA9F-2614654B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3B1B1-746A-40FB-9A55-73C7A09C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AAC1F-E179-409C-9A65-8608A989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497-F876-435A-9FBE-8FA1E9A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8398-3714-452C-96E2-5D3D4CDA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6AA02-EF0E-4F55-B09E-CD07DDA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17154-9CF8-4C28-88FB-1301244B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5124E-F207-4BCE-91D4-76AD5254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08D6A-FB2D-40E2-9E16-F6ACFA38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C2B3A-8206-48B5-A32F-21DC8E2F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04C16-C9E2-409C-A8DC-7ED4977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6DAF3-7267-4EAE-B33E-F2EF8CFB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3C430-A4B8-4607-947D-4EEE0865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526BB-1746-49FB-AB98-7152B945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B64-A43E-4118-8EC2-74632874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13D2-0E3B-4EF8-8AB4-0B484763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5D854-78B0-41AE-BF72-42C0136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7BC99-0525-49DE-8F35-743DD1B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18125-99AE-43AC-9ED2-944D9148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987DD-2722-4038-99DF-428BDB24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0C789-6DEA-4A3E-925E-A697079E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F115E-A017-4723-B2D4-38DDC7C2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36734-9B04-449F-A54D-2F3F98D5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2FEBD-D6B8-4E7D-88F2-719A2BD3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2BAD5-ABCB-474A-B576-5EE6DF91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B8FB-B87B-49A3-BFA3-30BE2E57C42B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404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103F-03FA-4CE2-9CE9-A1DFB3578DD0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449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32A-6404-4D15-B0B9-CA86D5F90E80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494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536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578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620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662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704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746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788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42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2A1F-C56E-4C7E-877E-51D218A42AF8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831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87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CD66-F49C-4A1A-861E-528C4AC68739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130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B24A-EB43-4DAF-8A05-32A827BC0A82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175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91E4-80F2-4C0D-8BA2-B12DF323DAD8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220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CD38-C1BE-4AA4-946E-0E7C47CE4067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265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B0AC-99C2-4C62-84F5-F470E2A5BFD9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310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19C0-3D26-4827-A669-8ABAE8083222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9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8367840" y="3492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355" name="Line 14"/>
          <p:cNvSpPr/>
          <p:nvPr/>
        </p:nvSpPr>
        <p:spPr>
          <a:xfrm>
            <a:off x="0" y="53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2" descr="D:\●2012\업무계획수립\과제별\슬로건 변경안\신규 Visual파일들\LGE Slogan 2012_Text_PPT용.jpg"/>
          <p:cNvPicPr/>
          <p:nvPr/>
        </p:nvPicPr>
        <p:blipFill>
          <a:blip r:embed="rId3"/>
          <a:stretch/>
        </p:blipFill>
        <p:spPr>
          <a:xfrm>
            <a:off x="252360" y="6600960"/>
            <a:ext cx="2657520" cy="160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4"/>
          <a:srcRect l="0" t="0" r="0" b="6299"/>
          <a:stretch/>
        </p:blipFill>
        <p:spPr>
          <a:xfrm>
            <a:off x="8520120" y="187200"/>
            <a:ext cx="703080" cy="468360"/>
          </a:xfrm>
          <a:prstGeom prst="rect">
            <a:avLst/>
          </a:prstGeom>
          <a:ln w="0">
            <a:noFill/>
          </a:ln>
        </p:spPr>
      </p:pic>
      <p:sp>
        <p:nvSpPr>
          <p:cNvPr id="359" name="Line 14"/>
          <p:cNvSpPr/>
          <p:nvPr/>
        </p:nvSpPr>
        <p:spPr>
          <a:xfrm>
            <a:off x="152280" y="6872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1"/>
          <p:cNvSpPr/>
          <p:nvPr/>
        </p:nvSpPr>
        <p:spPr>
          <a:xfrm>
            <a:off x="152280" y="6605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2" descr="D:\●2012\업무계획수립\과제별\슬로건 변경안\신규 Visual파일들\LGE Slogan 2012_Text_PPT용.jpg"/>
          <p:cNvPicPr/>
          <p:nvPr/>
        </p:nvPicPr>
        <p:blipFill>
          <a:blip r:embed="rId5"/>
          <a:stretch/>
        </p:blipFill>
        <p:spPr>
          <a:xfrm>
            <a:off x="404640" y="6753240"/>
            <a:ext cx="2657520" cy="160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04C4-BED8-42E9-89F3-6127807A221E}" type="slidenum">
              <a:rPr b="1" i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1071720" y="1309680"/>
            <a:ext cx="6929280" cy="6793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2832120" y="2941560"/>
            <a:ext cx="3425760" cy="185580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46040" indent="-26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1. Summary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26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2. Proposed Method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26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3. Experimental Results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26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4. Conclusion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2828880" y="2603520"/>
            <a:ext cx="343224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Content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3"/>
          <p:cNvSpPr/>
          <p:nvPr/>
        </p:nvSpPr>
        <p:spPr>
          <a:xfrm>
            <a:off x="1285920" y="1306080"/>
            <a:ext cx="6786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AMVP candidate list construction (JCTVC-I0036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1"/>
          <p:cNvSpPr/>
          <p:nvPr/>
        </p:nvSpPr>
        <p:spPr>
          <a:xfrm>
            <a:off x="4073400" y="5000760"/>
            <a:ext cx="11037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otum"/>
              </a:rPr>
              <a:t>2012-04-29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2"/>
          <p:cNvSpPr/>
          <p:nvPr/>
        </p:nvSpPr>
        <p:spPr>
          <a:xfrm>
            <a:off x="2428920" y="5357880"/>
            <a:ext cx="430380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China TV Lab. / Media Par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in Yu, Siwei Ma (Peking University)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ngbin Liu, Jie Jia (LG Electronics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Group 8"/>
          <p:cNvGrpSpPr/>
          <p:nvPr/>
        </p:nvGrpSpPr>
        <p:grpSpPr>
          <a:xfrm>
            <a:off x="193680" y="135000"/>
            <a:ext cx="2141640" cy="450720"/>
            <a:chOff x="193680" y="135000"/>
            <a:chExt cx="2141640" cy="450720"/>
          </a:xfrm>
        </p:grpSpPr>
        <p:pic>
          <p:nvPicPr>
            <p:cNvPr id="878" name="Picture 9" descr="반드시일등합시다_일반서체_LG Red"/>
            <p:cNvPicPr/>
            <p:nvPr/>
          </p:nvPicPr>
          <p:blipFill>
            <a:blip r:embed="rId1"/>
            <a:srcRect l="0" t="22569" r="0" b="0"/>
            <a:stretch/>
          </p:blipFill>
          <p:spPr>
            <a:xfrm>
              <a:off x="193680" y="236520"/>
              <a:ext cx="21416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Oval 10"/>
            <p:cNvSpPr/>
            <p:nvPr/>
          </p:nvSpPr>
          <p:spPr>
            <a:xfrm>
              <a:off x="1123560" y="135000"/>
              <a:ext cx="65520" cy="73080"/>
            </a:xfrm>
            <a:prstGeom prst="ellipse">
              <a:avLst/>
            </a:prstGeom>
            <a:solidFill>
              <a:srgbClr val="c50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11"/>
            <p:cNvSpPr/>
            <p:nvPr/>
          </p:nvSpPr>
          <p:spPr>
            <a:xfrm>
              <a:off x="1318320" y="135000"/>
              <a:ext cx="65880" cy="73080"/>
            </a:xfrm>
            <a:prstGeom prst="ellipse">
              <a:avLst/>
            </a:prstGeom>
            <a:solidFill>
              <a:srgbClr val="c50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1" name="그림 5" descr="백색바탕.png"/>
          <p:cNvPicPr/>
          <p:nvPr/>
        </p:nvPicPr>
        <p:blipFill>
          <a:blip r:embed="rId2"/>
          <a:stretch/>
        </p:blipFill>
        <p:spPr>
          <a:xfrm>
            <a:off x="7743960" y="6000840"/>
            <a:ext cx="11905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5009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56760" y="571320"/>
            <a:ext cx="83581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1 : CU bas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Replace inner candidates with the outside ones of the C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2 : CU ba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All PUs in the CU share the same set of motion information with inter 2Nx2N P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3 : region ba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Disable candidates that are within the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Experiment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1: 0.2%, 0.2 %, 0.2 % BD-rate increase for Y, U, 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2: 0.1% , 0.1% , 0.0% BD-rate increase for Y, U, 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3: 0.0%, 0.1%, -0.1%  BD-rate increase for Y, U, 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Crossche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CTVC-I0321 (by Int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CTVC-I0410 (by Microso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4429080" y="650088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I0036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灯片编号占位符 4"/>
          <p:cNvSpPr/>
          <p:nvPr/>
        </p:nvSpPr>
        <p:spPr>
          <a:xfrm>
            <a:off x="8072280" y="649296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280E-3290-4246-9D7C-DBE1642411DC}" type="slidenum"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85480" y="-21420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lution 1: CU based parallel AMV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 the inner PUs with the ones outside the current C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1" name="Object 1"/>
          <p:cNvGraphicFramePr/>
          <p:nvPr/>
        </p:nvGraphicFramePr>
        <p:xfrm>
          <a:off x="214200" y="1714680"/>
          <a:ext cx="55612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714680"/>
                    <a:ext cx="55612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icture 5" descr=""/>
          <p:cNvPicPr/>
          <p:nvPr/>
        </p:nvPicPr>
        <p:blipFill>
          <a:blip r:embed="rId3"/>
          <a:stretch/>
        </p:blipFill>
        <p:spPr>
          <a:xfrm>
            <a:off x="1363680" y="4070520"/>
            <a:ext cx="4494240" cy="228744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6"/>
          <p:cNvSpPr/>
          <p:nvPr/>
        </p:nvSpPr>
        <p:spPr>
          <a:xfrm>
            <a:off x="4429080" y="650088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I0036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5429160" y="1714680"/>
            <a:ext cx="350064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dditional position derivation operation for Size_2NxN, Size_Nx2N, Size_nLx2N, Size_nRx2N, Size_2NxnU and Size_2NxnD partition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additional position derivation operations for NxN partition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%, 0.2%, 0.2% BD-rate increase on Y, U and V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灯片编号占位符 4"/>
          <p:cNvSpPr/>
          <p:nvPr/>
        </p:nvSpPr>
        <p:spPr>
          <a:xfrm>
            <a:off x="8072280" y="649296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A19F-84CD-4C1B-8AD4-4B5C894DCFC4}" type="slidenum"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56760" y="-21420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566280" y="714240"/>
            <a:ext cx="8148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lution 2: motion information used by 2Nx2N inter PU is used by all PUs in a CU (only applied to 8x8 C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5360" indent="-49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208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208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4" name="Object 9"/>
          <p:cNvGraphicFramePr/>
          <p:nvPr/>
        </p:nvGraphicFramePr>
        <p:xfrm>
          <a:off x="277920" y="2357280"/>
          <a:ext cx="8580240" cy="34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57280"/>
                    <a:ext cx="858024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Rectangle 6"/>
          <p:cNvSpPr/>
          <p:nvPr/>
        </p:nvSpPr>
        <p:spPr>
          <a:xfrm>
            <a:off x="4429080" y="650088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I0036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灯片编号占位符 4"/>
          <p:cNvSpPr/>
          <p:nvPr/>
        </p:nvSpPr>
        <p:spPr>
          <a:xfrm>
            <a:off x="8072280" y="649296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55E1-FA80-404A-806F-6328F152432C}" type="slidenum"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28400" y="-21420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71320" y="714240"/>
            <a:ext cx="8148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lution 3: region based parallel AMV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4953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PUs in the region construct the AMVP candidate list in parallel, and candidates within the region is disab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 is employed w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2_parallel_merge_level_minus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6"/>
          <p:cNvSpPr/>
          <p:nvPr/>
        </p:nvSpPr>
        <p:spPr>
          <a:xfrm>
            <a:off x="4429080" y="650088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I0036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Object 8"/>
          <p:cNvGraphicFramePr/>
          <p:nvPr/>
        </p:nvGraphicFramePr>
        <p:xfrm>
          <a:off x="214200" y="2786040"/>
          <a:ext cx="8580600" cy="34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786040"/>
                    <a:ext cx="858060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灯片编号占位符 4"/>
          <p:cNvSpPr/>
          <p:nvPr/>
        </p:nvSpPr>
        <p:spPr>
          <a:xfrm>
            <a:off x="8072280" y="649296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A45F-FEF3-4FAA-A005-E7A8EEE916FA}" type="slidenum"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56760" y="-31896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periment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85840" y="676440"/>
            <a:ext cx="257184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decoder: AMVP candidate list only need to be constructed once for PUs (in a CU) sharing the same reference pict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encoder: reduce the number of AMVP candidate lists for 8x8 CU by 8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4760" indent="-4647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880" indent="-4899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2928960" y="571680"/>
          <a:ext cx="5940360" cy="5857560"/>
        </p:xfrm>
        <a:graphic>
          <a:graphicData uri="http://schemas.openxmlformats.org/drawingml/2006/table">
            <a:tbl>
              <a:tblPr/>
              <a:tblGrid>
                <a:gridCol w="1008000"/>
                <a:gridCol w="755640"/>
                <a:gridCol w="846360"/>
                <a:gridCol w="863280"/>
                <a:gridCol w="757440"/>
                <a:gridCol w="846000"/>
                <a:gridCol w="863640"/>
              </a:tblGrid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Main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Main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2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21" name="Rectangle 6"/>
          <p:cNvSpPr/>
          <p:nvPr/>
        </p:nvSpPr>
        <p:spPr>
          <a:xfrm>
            <a:off x="4429080" y="650088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I0036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灯片编号占位符 4"/>
          <p:cNvSpPr/>
          <p:nvPr/>
        </p:nvSpPr>
        <p:spPr>
          <a:xfrm>
            <a:off x="8072280" y="649296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BC75-0A70-4E17-B823-5ABC3A3AE12B}" type="slidenum"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71320" y="-3571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periment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142560" y="571320"/>
            <a:ext cx="278604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deriving the spatial MVP candidate, an additional check to determine whether the current PU and its neighboring PU belong to the same reg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950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2989440" y="638280"/>
          <a:ext cx="5797440" cy="5790960"/>
        </p:xfrm>
        <a:graphic>
          <a:graphicData uri="http://schemas.openxmlformats.org/drawingml/2006/table">
            <a:tbl>
              <a:tblPr/>
              <a:tblGrid>
                <a:gridCol w="984240"/>
                <a:gridCol w="807840"/>
                <a:gridCol w="790560"/>
                <a:gridCol w="808200"/>
                <a:gridCol w="807840"/>
                <a:gridCol w="790560"/>
                <a:gridCol w="808200"/>
              </a:tblGrid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Main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Main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800" rIns="46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0" rIns="46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%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26" name="Rectangle 6"/>
          <p:cNvSpPr/>
          <p:nvPr/>
        </p:nvSpPr>
        <p:spPr>
          <a:xfrm>
            <a:off x="4429080" y="650088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I0036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灯片编号占位符 4"/>
          <p:cNvSpPr/>
          <p:nvPr/>
        </p:nvSpPr>
        <p:spPr>
          <a:xfrm>
            <a:off x="8072280" y="649296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3F2E-D185-4A89-8035-494CC99D4724}" type="slidenum"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56760" y="-3571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285840" y="571680"/>
            <a:ext cx="8786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Three solutions for parallel construction of AMVP candidate at different parallel levels are propo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1 : CU ba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Replace inner candidates with the outside ones of the C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2 : CU based (applied to 8x8 C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l PUs in the CU share the same set of motion information with inter 2Nx2N 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3 : region based (region size 8x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Disable candidates that are within the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Experiment res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1: 0.2%, 0.2 %, 0.2 % BD-rate increase for Y, U, 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2: 0.1% , 0.1% , 0.0% BD-rate increase for Y, U, 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lution 3: 0.0%, 0.1%, -0.1%  BD-rate increase for Y, U, 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recommended to adopt solution 2 or solution 3 into the HEVC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9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"/>
          <p:cNvSpPr/>
          <p:nvPr/>
        </p:nvSpPr>
        <p:spPr>
          <a:xfrm>
            <a:off x="4429080" y="650088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I0036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灯片编号占位符 4"/>
          <p:cNvSpPr/>
          <p:nvPr/>
        </p:nvSpPr>
        <p:spPr>
          <a:xfrm>
            <a:off x="8072280" y="649296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52CC-CEB6-4690-8245-D44A2FA12A2A}" type="slidenum"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06:53:44Z</dcterms:created>
  <dc:creator>gdeng</dc:creator>
  <dc:description/>
  <dc:language>en-US</dc:language>
  <cp:lastModifiedBy>Administrator</cp:lastModifiedBy>
  <dcterms:modified xsi:type="dcterms:W3CDTF">2012-04-28T21:01:58Z</dcterms:modified>
  <cp:revision>1507</cp:revision>
  <dc:subject/>
  <dc:title>幻灯片 1</dc:title>
</cp:coreProperties>
</file>