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78973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1223F-5F7C-44D5-86AD-C709A94E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2040" y="35740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4D11E-E0C6-4DC2-B1C6-511FADDF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200" y="78696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2040" y="35740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200" y="35740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8402-62D7-42BD-A9C7-4A015F36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6320" y="78696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0600" y="78696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2040" y="35740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6320" y="35740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0600" y="35740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6F7BE-F029-4107-A17E-3C82B9F7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0C3D-9C2A-4098-95F6-3FE6C218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92040" y="78696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D3E7-80AA-4BAF-83AF-A8F2DA18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5F4C-E09B-4C56-80A7-D15B4513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200" y="78696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C662-CE2B-4E1F-995B-1E0C3215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EB58-44C2-4A80-8F8F-A0C1F28D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79440" y="0"/>
            <a:ext cx="83836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48D8-1712-40C6-8D7B-DAE3A89A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7200" y="78696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92040" y="35740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5034-04E3-43B5-B3EC-09387C33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2040" y="78696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6E820-7DFD-4EEA-9DC1-D5E321EC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7200" y="78696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7200" y="35740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44A1-0AAD-45AF-B9AD-BFD54BEB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7200" y="78696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92040" y="35740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08BB-0D2A-4313-B524-357A8A29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2040" y="35740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EDFF-2D8F-4225-9BBC-939114D2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7200" y="78696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92040" y="35740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7200" y="35740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8E87-FDEF-4D21-8846-B118F5AB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26320" y="78696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60600" y="78696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92040" y="35740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26320" y="35740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60600" y="35740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54AA-8EFA-4D22-A34B-A2A504CC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42417-A543-4FBA-AB9B-93AAABE8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200" y="78696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53A4-14C2-4BA9-AE78-365FCEF5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0B45-7794-439B-AB3E-59B45E18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79440" y="0"/>
            <a:ext cx="83836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4BB0-F454-4EFE-897D-E3565253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200" y="78696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2040" y="35740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234E-1938-4317-8FEF-F9482094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200" y="78696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200" y="35740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7FE4F-CB5D-475B-AED4-BE016945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200" y="78696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2040" y="35740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2589-3E16-45BC-95A3-EC4C8FD4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74520" y="6419880"/>
            <a:ext cx="1297080" cy="419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2040" y="78696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3"/>
          <a:stretch/>
        </p:blipFill>
        <p:spPr>
          <a:xfrm>
            <a:off x="74520" y="6431040"/>
            <a:ext cx="1224000" cy="395280"/>
          </a:xfrm>
          <a:prstGeom prst="rect">
            <a:avLst/>
          </a:prstGeom>
          <a:ln w="0">
            <a:noFill/>
          </a:ln>
        </p:spPr>
      </p:pic>
      <p:sp>
        <p:nvSpPr>
          <p:cNvPr id="4" name="Line 11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41C5-1610-4522-8DA1-605D0B981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>
              <a:lnSpc>
                <a:spcPct val="9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2/08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9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JCTVC-H0735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379440" y="184320"/>
            <a:ext cx="3201840" cy="1035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250920" y="103320"/>
            <a:ext cx="3313080" cy="1069920"/>
          </a:xfrm>
          <a:prstGeom prst="rect">
            <a:avLst/>
          </a:prstGeom>
          <a:ln w="0">
            <a:noFill/>
          </a:ln>
        </p:spPr>
      </p:pic>
      <p:sp>
        <p:nvSpPr>
          <p:cNvPr id="46" name="Line 9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5076720" y="404640"/>
            <a:ext cx="3643560" cy="669960"/>
            <a:chOff x="5076720" y="404640"/>
            <a:chExt cx="3643560" cy="669960"/>
          </a:xfrm>
        </p:grpSpPr>
        <p:sp>
          <p:nvSpPr>
            <p:cNvPr id="48" name=""/>
            <p:cNvSpPr/>
            <p:nvPr/>
          </p:nvSpPr>
          <p:spPr>
            <a:xfrm>
              <a:off x="5076720" y="404640"/>
              <a:ext cx="201312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Times New Roman"/>
                </a:rPr>
                <a:t>開示範囲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89840" y="404640"/>
              <a:ext cx="163044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RDC)</a:t>
              </a:r>
              <a:r>
                <a:rPr b="1" lang="ja-JP" sz="1600" spc="-1" strike="noStrike">
                  <a:solidFill>
                    <a:srgbClr val="000000"/>
                  </a:solidFill>
                  <a:latin typeface="Times New Roman"/>
                </a:rPr>
                <a:t>内に限る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76720" y="739800"/>
              <a:ext cx="201312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Times New Roman"/>
                </a:rPr>
                <a:t>情報オーナー部門長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89840" y="739800"/>
              <a:ext cx="163044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[MML]</a:t>
              </a:r>
              <a:r>
                <a:rPr b="1" lang="ja-JP" sz="1600" spc="-1" strike="noStrike">
                  <a:solidFill>
                    <a:srgbClr val="000000"/>
                  </a:solidFill>
                  <a:latin typeface="Times New Roman"/>
                </a:rPr>
                <a:t>長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89840" y="404640"/>
              <a:ext cx="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76720" y="739800"/>
              <a:ext cx="364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76720" y="404640"/>
              <a:ext cx="0" cy="66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720280" y="404640"/>
              <a:ext cx="0" cy="66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76720" y="404640"/>
              <a:ext cx="364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076720" y="1074600"/>
              <a:ext cx="364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pic>
        <p:nvPicPr>
          <p:cNvPr id="58" name="Picture 21" descr="I3-A01"/>
          <p:cNvPicPr/>
          <p:nvPr/>
        </p:nvPicPr>
        <p:blipFill>
          <a:blip r:embed="rId4"/>
          <a:stretch/>
        </p:blipFill>
        <p:spPr>
          <a:xfrm>
            <a:off x="5807160" y="5950080"/>
            <a:ext cx="625320" cy="7412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3"/>
          <p:cNvSpPr/>
          <p:nvPr/>
        </p:nvSpPr>
        <p:spPr>
          <a:xfrm>
            <a:off x="6400800" y="5877000"/>
            <a:ext cx="270828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FACE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tsb_hdq05629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D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J-No. : 11k022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392040" y="78696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065240" y="5524560"/>
            <a:ext cx="7502400" cy="6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21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21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12/02/08</a:t>
            </a:r>
            <a:endParaRPr b="0" lang="en-US" sz="19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780080" y="6477120"/>
            <a:ext cx="37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CTVC-H0735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-360" y="6477120"/>
            <a:ext cx="1066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ccc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7A25-B746-4637-93A2-A45E62F4B099}" type="slidenum">
              <a:rPr b="0" lang="en-US" sz="1100" spc="-1" strike="noStrike">
                <a:solidFill>
                  <a:srgbClr val="cccccc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80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ALF Configurations in CD/HM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AFA4-ECF8-4DB1-A472-22975EA45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3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4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786960"/>
            <a:ext cx="892800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ture-based ALF (Picture optimiz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high efficiency with high latenc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ndom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designing ALF coef., current frame is used.  Therefore, the encoding of whole picture is performed at first, and then, ALF coef. is designed and CU level filter control (on/off) is determ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CU-based ALF (Slice-based signalling) (LCU Optimiz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good efficiency with low latenc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I, LB and 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encoding of each LCU, ALF coef. is designed using current frame and CU level filter control (on/off) is determ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スライド番号プレースホルダー 3"/>
          <p:cNvSpPr/>
          <p:nvPr/>
        </p:nvSpPr>
        <p:spPr>
          <a:xfrm>
            <a:off x="8305920" y="6356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4668-92A3-43B4-B788-89ED33C68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7" name="正方形/長方形 23"/>
          <p:cNvSpPr/>
          <p:nvPr/>
        </p:nvSpPr>
        <p:spPr>
          <a:xfrm>
            <a:off x="7842240" y="6562800"/>
            <a:ext cx="1429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8" name="テキスト ボックス 1"/>
          <p:cNvSpPr/>
          <p:nvPr/>
        </p:nvSpPr>
        <p:spPr>
          <a:xfrm>
            <a:off x="7920360" y="6472080"/>
            <a:ext cx="1287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On/off ctr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9" name="正方形/長方形 22"/>
          <p:cNvSpPr/>
          <p:nvPr/>
        </p:nvSpPr>
        <p:spPr>
          <a:xfrm>
            <a:off x="6186600" y="6562800"/>
            <a:ext cx="1429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0" name="テキスト ボックス 61"/>
          <p:cNvSpPr/>
          <p:nvPr/>
        </p:nvSpPr>
        <p:spPr>
          <a:xfrm>
            <a:off x="6267960" y="6472080"/>
            <a:ext cx="734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oef.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111" name="グループ化 3"/>
          <p:cNvGrpSpPr/>
          <p:nvPr/>
        </p:nvGrpSpPr>
        <p:grpSpPr>
          <a:xfrm>
            <a:off x="1078920" y="1628640"/>
            <a:ext cx="7741080" cy="772560"/>
            <a:chOff x="1078920" y="1628640"/>
            <a:chExt cx="7741080" cy="772560"/>
          </a:xfrm>
        </p:grpSpPr>
        <p:sp>
          <p:nvSpPr>
            <p:cNvPr id="112" name="正方形/長方形 67"/>
            <p:cNvSpPr/>
            <p:nvPr/>
          </p:nvSpPr>
          <p:spPr>
            <a:xfrm>
              <a:off x="2698560" y="1989000"/>
              <a:ext cx="649080" cy="36036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3" name="正方形/長方形 52"/>
            <p:cNvSpPr/>
            <p:nvPr/>
          </p:nvSpPr>
          <p:spPr>
            <a:xfrm>
              <a:off x="3490560" y="1989000"/>
              <a:ext cx="1584360" cy="36036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4" name="正方形/長方形 53"/>
            <p:cNvSpPr/>
            <p:nvPr/>
          </p:nvSpPr>
          <p:spPr>
            <a:xfrm>
              <a:off x="1109520" y="1628640"/>
              <a:ext cx="647640" cy="36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SPS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5" name="正方形/長方形 54"/>
            <p:cNvSpPr/>
            <p:nvPr/>
          </p:nvSpPr>
          <p:spPr>
            <a:xfrm>
              <a:off x="1901520" y="1628640"/>
              <a:ext cx="647640" cy="36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PPS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6" name="正方形/長方形 55"/>
            <p:cNvSpPr/>
            <p:nvPr/>
          </p:nvSpPr>
          <p:spPr>
            <a:xfrm>
              <a:off x="2698560" y="1628640"/>
              <a:ext cx="649080" cy="36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APS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7" name="正方形/長方形 56"/>
            <p:cNvSpPr/>
            <p:nvPr/>
          </p:nvSpPr>
          <p:spPr>
            <a:xfrm>
              <a:off x="3490560" y="1628640"/>
              <a:ext cx="1584360" cy="36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Slice header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8" name="正方形/長方形 57"/>
            <p:cNvSpPr/>
            <p:nvPr/>
          </p:nvSpPr>
          <p:spPr>
            <a:xfrm>
              <a:off x="5074920" y="1628640"/>
              <a:ext cx="3745080" cy="36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Slice data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9" name="正方形/長方形 62"/>
            <p:cNvSpPr/>
            <p:nvPr/>
          </p:nvSpPr>
          <p:spPr>
            <a:xfrm>
              <a:off x="4500360" y="2096640"/>
              <a:ext cx="141120" cy="18072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0" name="正方形/長方形 63"/>
            <p:cNvSpPr/>
            <p:nvPr/>
          </p:nvSpPr>
          <p:spPr>
            <a:xfrm>
              <a:off x="4643280" y="2096640"/>
              <a:ext cx="142560" cy="18072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1" name="正方形/長方形 64"/>
            <p:cNvSpPr/>
            <p:nvPr/>
          </p:nvSpPr>
          <p:spPr>
            <a:xfrm>
              <a:off x="4787640" y="2096640"/>
              <a:ext cx="142560" cy="18072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2" name="正方形/長方形 65"/>
            <p:cNvSpPr/>
            <p:nvPr/>
          </p:nvSpPr>
          <p:spPr>
            <a:xfrm>
              <a:off x="4932360" y="2096640"/>
              <a:ext cx="142560" cy="18072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3" name="正方形/長方形 59"/>
            <p:cNvSpPr/>
            <p:nvPr/>
          </p:nvSpPr>
          <p:spPr>
            <a:xfrm>
              <a:off x="2914560" y="2096640"/>
              <a:ext cx="142560" cy="180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4" name="正方形/長方形 60"/>
            <p:cNvSpPr/>
            <p:nvPr/>
          </p:nvSpPr>
          <p:spPr>
            <a:xfrm>
              <a:off x="3058920" y="2096640"/>
              <a:ext cx="142560" cy="180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5" name="正方形/長方形 61"/>
            <p:cNvSpPr/>
            <p:nvPr/>
          </p:nvSpPr>
          <p:spPr>
            <a:xfrm>
              <a:off x="3205080" y="2096640"/>
              <a:ext cx="142560" cy="180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6" name="テキスト ボックス 2"/>
            <p:cNvSpPr/>
            <p:nvPr/>
          </p:nvSpPr>
          <p:spPr>
            <a:xfrm>
              <a:off x="1078920" y="2060640"/>
              <a:ext cx="1271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ＭＳ Ｐゴシック"/>
                </a:rPr>
                <a:t>APS mode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127" name="グループ化 5"/>
          <p:cNvGrpSpPr/>
          <p:nvPr/>
        </p:nvGrpSpPr>
        <p:grpSpPr>
          <a:xfrm>
            <a:off x="1054800" y="4292640"/>
            <a:ext cx="7760520" cy="741960"/>
            <a:chOff x="1054800" y="4292640"/>
            <a:chExt cx="7760520" cy="741960"/>
          </a:xfrm>
        </p:grpSpPr>
        <p:sp>
          <p:nvSpPr>
            <p:cNvPr id="128" name="正方形/長方形 51"/>
            <p:cNvSpPr/>
            <p:nvPr/>
          </p:nvSpPr>
          <p:spPr>
            <a:xfrm>
              <a:off x="3490920" y="4653000"/>
              <a:ext cx="1584360" cy="36036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9" name="正方形/長方形 30"/>
            <p:cNvSpPr/>
            <p:nvPr/>
          </p:nvSpPr>
          <p:spPr>
            <a:xfrm>
              <a:off x="1111320" y="4292640"/>
              <a:ext cx="647640" cy="360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SPS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0" name="正方形/長方形 31"/>
            <p:cNvSpPr/>
            <p:nvPr/>
          </p:nvSpPr>
          <p:spPr>
            <a:xfrm>
              <a:off x="1903320" y="4292640"/>
              <a:ext cx="647640" cy="360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PPS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1" name="正方形/長方形 32"/>
            <p:cNvSpPr/>
            <p:nvPr/>
          </p:nvSpPr>
          <p:spPr>
            <a:xfrm>
              <a:off x="2695680" y="4292640"/>
              <a:ext cx="647640" cy="360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APS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2" name="正方形/長方形 33"/>
            <p:cNvSpPr/>
            <p:nvPr/>
          </p:nvSpPr>
          <p:spPr>
            <a:xfrm>
              <a:off x="3487680" y="4292640"/>
              <a:ext cx="1584360" cy="360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Slice header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3" name="正方形/長方形 34"/>
            <p:cNvSpPr/>
            <p:nvPr/>
          </p:nvSpPr>
          <p:spPr>
            <a:xfrm>
              <a:off x="5072040" y="4292640"/>
              <a:ext cx="3743280" cy="360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Slice data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4" name="正方形/長方形 45"/>
            <p:cNvSpPr/>
            <p:nvPr/>
          </p:nvSpPr>
          <p:spPr>
            <a:xfrm>
              <a:off x="4213080" y="4761360"/>
              <a:ext cx="142560" cy="181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5" name="正方形/長方形 46"/>
            <p:cNvSpPr/>
            <p:nvPr/>
          </p:nvSpPr>
          <p:spPr>
            <a:xfrm>
              <a:off x="4357800" y="4761360"/>
              <a:ext cx="142560" cy="181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6" name="正方形/長方形 47"/>
            <p:cNvSpPr/>
            <p:nvPr/>
          </p:nvSpPr>
          <p:spPr>
            <a:xfrm>
              <a:off x="4500720" y="4761360"/>
              <a:ext cx="142560" cy="1810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7" name="正方形/長方形 48"/>
            <p:cNvSpPr/>
            <p:nvPr/>
          </p:nvSpPr>
          <p:spPr>
            <a:xfrm>
              <a:off x="4645080" y="4761360"/>
              <a:ext cx="142560" cy="1810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8" name="正方形/長方形 49"/>
            <p:cNvSpPr/>
            <p:nvPr/>
          </p:nvSpPr>
          <p:spPr>
            <a:xfrm>
              <a:off x="4789440" y="4761360"/>
              <a:ext cx="142560" cy="1810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9" name="正方形/長方形 50"/>
            <p:cNvSpPr/>
            <p:nvPr/>
          </p:nvSpPr>
          <p:spPr>
            <a:xfrm>
              <a:off x="4932360" y="4761360"/>
              <a:ext cx="142560" cy="1810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40" name="正方形/長方形 4"/>
            <p:cNvSpPr/>
            <p:nvPr/>
          </p:nvSpPr>
          <p:spPr>
            <a:xfrm>
              <a:off x="1054800" y="4694040"/>
              <a:ext cx="21679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ＭＳ Ｐゴシック"/>
                </a:rPr>
                <a:t>Slice header mode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2 Subt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4920" y="620280"/>
            <a:ext cx="91454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67120" indent="-267120">
              <a:lnSpc>
                <a:spcPts val="1800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implific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b: Simplification of ALF sign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e: Depth of LCU division for filtering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Recommend to adopt all simpl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lice boundary processing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f: Line memory reduction fix at independent slice and tile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Make recommendation after subjective vie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alling/syntax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a: Signalling mode change from "switch between APS mode and slice header mode" to "switch between APS mode and interleaving mod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commend CE2.a.1 and CE2.a.2 as baseline Options and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BA vs RA study, including BA simpl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c: Number of classes in B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d: Number of regions in R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Discuss CE2.c to reduce testing for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Encoder optimization study for LCU-based encoding (non-normati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g: Encoder complexity reduction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Luma/chroma filter coefficients unification study in LCU-based enco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h: Reuse luma filter coefficients in chroma filtering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Should be integrated IF Option 1 or 3 in AHG6 further study is recomm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Combin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i: Combination sub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Not adopted as it is (further study in conceptually in AHG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F0C5-D8C8-40DA-9E11-2AACA660D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1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2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of CE2.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2D97-0CA5-4B57-9FD6-46A79FDD1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5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6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50560" y="5013360"/>
            <a:ext cx="8751960" cy="11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2.a.1 as baseline of Option 1 (LCU-mode) for further AHG6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2.a.2 as baseline of Option 3 (LCU-mode) for further AHG6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50920" y="836640"/>
          <a:ext cx="8642160" cy="3744720"/>
        </p:xfrm>
        <a:graphic>
          <a:graphicData uri="http://schemas.openxmlformats.org/drawingml/2006/table">
            <a:tbl>
              <a:tblPr/>
              <a:tblGrid>
                <a:gridCol w="1296720"/>
                <a:gridCol w="1368720"/>
                <a:gridCol w="1795320"/>
                <a:gridCol w="522360"/>
                <a:gridCol w="522360"/>
                <a:gridCol w="523800"/>
                <a:gridCol w="522360"/>
                <a:gridCol w="522000"/>
                <a:gridCol w="522360"/>
                <a:gridCol w="523800"/>
                <a:gridCol w="522360"/>
              </a:tblGrid>
              <a:tr h="28584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hor = HM-6.0 CE2 anc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U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74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85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046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a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U-based signalling           (1 filte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 ALF parameters from slice header to slice data (LCU interleaved wa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78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a.2_16_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a.1 + APS (16 APS filters,  1 LCU fil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w each LCU to use picture-level ALF coefficients signalled in A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788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a.2_1_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a.1 + APS (1 APS filter,      1 LCU fil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tional Tes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or LCU m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4760" y="642960"/>
            <a:ext cx="90043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ption 1 (Same syntax structure as CE2.a.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hing in APS, new filter or codebook filter or off in LC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 BA/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ption 2-1 (RA), Option 2-2 (B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/BA information and filter coefficients in APS, on/off in L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ption 3-1 (RA), Option 3-2 (B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/BA information and filter coefficients in AP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filter or codebook filter or selecting APS filter or off in L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スライド番号プレースホルダー 3"/>
          <p:cNvSpPr/>
          <p:nvPr/>
        </p:nvSpPr>
        <p:spPr>
          <a:xfrm>
            <a:off x="8305920" y="6356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4133-4F0C-482F-A7AF-2E41BD08D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2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3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4" name="正方形/長方形 19"/>
          <p:cNvSpPr/>
          <p:nvPr/>
        </p:nvSpPr>
        <p:spPr>
          <a:xfrm>
            <a:off x="2273400" y="3594240"/>
            <a:ext cx="64908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5" name="正方形/長方形 53"/>
          <p:cNvSpPr/>
          <p:nvPr/>
        </p:nvSpPr>
        <p:spPr>
          <a:xfrm>
            <a:off x="684360" y="3233880"/>
            <a:ext cx="647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6" name="正方形/長方形 54"/>
          <p:cNvSpPr/>
          <p:nvPr/>
        </p:nvSpPr>
        <p:spPr>
          <a:xfrm>
            <a:off x="1476360" y="3233880"/>
            <a:ext cx="647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7" name="正方形/長方形 55"/>
          <p:cNvSpPr/>
          <p:nvPr/>
        </p:nvSpPr>
        <p:spPr>
          <a:xfrm>
            <a:off x="2273400" y="3233880"/>
            <a:ext cx="64908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A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8" name="正方形/長方形 56"/>
          <p:cNvSpPr/>
          <p:nvPr/>
        </p:nvSpPr>
        <p:spPr>
          <a:xfrm>
            <a:off x="3065400" y="3233880"/>
            <a:ext cx="158436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lice header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9" name="正方形/長方形 57"/>
          <p:cNvSpPr/>
          <p:nvPr/>
        </p:nvSpPr>
        <p:spPr>
          <a:xfrm>
            <a:off x="4649760" y="3233880"/>
            <a:ext cx="374508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lice data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0" name="正方形/長方形 59"/>
          <p:cNvSpPr/>
          <p:nvPr/>
        </p:nvSpPr>
        <p:spPr>
          <a:xfrm>
            <a:off x="2489040" y="3701880"/>
            <a:ext cx="14292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1" name="正方形/長方形 60"/>
          <p:cNvSpPr/>
          <p:nvPr/>
        </p:nvSpPr>
        <p:spPr>
          <a:xfrm>
            <a:off x="2633760" y="3701880"/>
            <a:ext cx="14292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2" name="正方形/長方形 61"/>
          <p:cNvSpPr/>
          <p:nvPr/>
        </p:nvSpPr>
        <p:spPr>
          <a:xfrm>
            <a:off x="2779560" y="3701880"/>
            <a:ext cx="14292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3" name="正方形/長方形 33"/>
          <p:cNvSpPr/>
          <p:nvPr/>
        </p:nvSpPr>
        <p:spPr>
          <a:xfrm>
            <a:off x="4643280" y="3594240"/>
            <a:ext cx="115272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4" name="正方形/長方形 23"/>
          <p:cNvSpPr/>
          <p:nvPr/>
        </p:nvSpPr>
        <p:spPr>
          <a:xfrm>
            <a:off x="4789440" y="3701880"/>
            <a:ext cx="142920" cy="17964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5" name="正方形/長方形 36"/>
          <p:cNvSpPr/>
          <p:nvPr/>
        </p:nvSpPr>
        <p:spPr>
          <a:xfrm>
            <a:off x="5796000" y="3594240"/>
            <a:ext cx="100800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6" name="正方形/長方形 26"/>
          <p:cNvSpPr/>
          <p:nvPr/>
        </p:nvSpPr>
        <p:spPr>
          <a:xfrm>
            <a:off x="5942160" y="3701880"/>
            <a:ext cx="141120" cy="17964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7" name="正方形/長方形 38"/>
          <p:cNvSpPr/>
          <p:nvPr/>
        </p:nvSpPr>
        <p:spPr>
          <a:xfrm>
            <a:off x="6804000" y="3594240"/>
            <a:ext cx="115272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8" name="正方形/長方形 29"/>
          <p:cNvSpPr/>
          <p:nvPr/>
        </p:nvSpPr>
        <p:spPr>
          <a:xfrm>
            <a:off x="6950160" y="3701880"/>
            <a:ext cx="141120" cy="17964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9" name="正方形/長方形 23"/>
          <p:cNvSpPr/>
          <p:nvPr/>
        </p:nvSpPr>
        <p:spPr>
          <a:xfrm>
            <a:off x="7842240" y="6562800"/>
            <a:ext cx="1429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0" name="テキスト ボックス 1"/>
          <p:cNvSpPr/>
          <p:nvPr/>
        </p:nvSpPr>
        <p:spPr>
          <a:xfrm>
            <a:off x="7920360" y="6472080"/>
            <a:ext cx="1287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On/off ctr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1" name="正方形/長方形 22"/>
          <p:cNvSpPr/>
          <p:nvPr/>
        </p:nvSpPr>
        <p:spPr>
          <a:xfrm>
            <a:off x="6186600" y="6562800"/>
            <a:ext cx="1429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2" name="テキスト ボックス 61"/>
          <p:cNvSpPr/>
          <p:nvPr/>
        </p:nvSpPr>
        <p:spPr>
          <a:xfrm>
            <a:off x="6215400" y="6472080"/>
            <a:ext cx="1677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oef. or index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3" name="テキスト ボックス 1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14" name="グループ化 6"/>
          <p:cNvGrpSpPr/>
          <p:nvPr/>
        </p:nvGrpSpPr>
        <p:grpSpPr>
          <a:xfrm>
            <a:off x="654480" y="5176800"/>
            <a:ext cx="7735320" cy="1131480"/>
            <a:chOff x="654480" y="5176800"/>
            <a:chExt cx="7735320" cy="1131480"/>
          </a:xfrm>
        </p:grpSpPr>
        <p:sp>
          <p:nvSpPr>
            <p:cNvPr id="215" name="正方形/長方形 7"/>
            <p:cNvSpPr/>
            <p:nvPr/>
          </p:nvSpPr>
          <p:spPr>
            <a:xfrm>
              <a:off x="684360" y="5176800"/>
              <a:ext cx="649080" cy="36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SPS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16" name="正方形/長方形 8"/>
            <p:cNvSpPr/>
            <p:nvPr/>
          </p:nvSpPr>
          <p:spPr>
            <a:xfrm>
              <a:off x="1476360" y="5176800"/>
              <a:ext cx="649080" cy="36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PPS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17" name="正方形/長方形 9"/>
            <p:cNvSpPr/>
            <p:nvPr/>
          </p:nvSpPr>
          <p:spPr>
            <a:xfrm>
              <a:off x="2268360" y="5176800"/>
              <a:ext cx="649080" cy="36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APS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18" name="正方形/長方形 10"/>
            <p:cNvSpPr/>
            <p:nvPr/>
          </p:nvSpPr>
          <p:spPr>
            <a:xfrm>
              <a:off x="3060720" y="5176800"/>
              <a:ext cx="1584000" cy="36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Slice header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19" name="正方形/長方形 11"/>
            <p:cNvSpPr/>
            <p:nvPr/>
          </p:nvSpPr>
          <p:spPr>
            <a:xfrm>
              <a:off x="4645080" y="5176800"/>
              <a:ext cx="3744720" cy="36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Slice data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0" name="正方形/長方形 46"/>
            <p:cNvSpPr/>
            <p:nvPr/>
          </p:nvSpPr>
          <p:spPr>
            <a:xfrm>
              <a:off x="4645080" y="5537160"/>
              <a:ext cx="1152360" cy="36036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LCU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1" name="正方形/長方形 22"/>
            <p:cNvSpPr/>
            <p:nvPr/>
          </p:nvSpPr>
          <p:spPr>
            <a:xfrm>
              <a:off x="4933800" y="5644800"/>
              <a:ext cx="142560" cy="179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2" name="正方形/長方形 23"/>
            <p:cNvSpPr/>
            <p:nvPr/>
          </p:nvSpPr>
          <p:spPr>
            <a:xfrm>
              <a:off x="4791240" y="5644800"/>
              <a:ext cx="142560" cy="179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3" name="正方形/長方形 49"/>
            <p:cNvSpPr/>
            <p:nvPr/>
          </p:nvSpPr>
          <p:spPr>
            <a:xfrm>
              <a:off x="5797440" y="5537160"/>
              <a:ext cx="1008000" cy="36036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LCU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4" name="正方形/長方形 26"/>
            <p:cNvSpPr/>
            <p:nvPr/>
          </p:nvSpPr>
          <p:spPr>
            <a:xfrm>
              <a:off x="5943600" y="5644800"/>
              <a:ext cx="141120" cy="179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5" name="正方形/長方形 51"/>
            <p:cNvSpPr/>
            <p:nvPr/>
          </p:nvSpPr>
          <p:spPr>
            <a:xfrm>
              <a:off x="6805800" y="5537160"/>
              <a:ext cx="1152360" cy="36036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LCU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6" name="正方形/長方形 28"/>
            <p:cNvSpPr/>
            <p:nvPr/>
          </p:nvSpPr>
          <p:spPr>
            <a:xfrm>
              <a:off x="7093080" y="5644800"/>
              <a:ext cx="142560" cy="179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7" name="正方形/長方形 29"/>
            <p:cNvSpPr/>
            <p:nvPr/>
          </p:nvSpPr>
          <p:spPr>
            <a:xfrm>
              <a:off x="6951600" y="5644800"/>
              <a:ext cx="141120" cy="179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8" name="正方形/長方形 54"/>
            <p:cNvSpPr/>
            <p:nvPr/>
          </p:nvSpPr>
          <p:spPr>
            <a:xfrm>
              <a:off x="2268360" y="5537160"/>
              <a:ext cx="649080" cy="36036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9" name="正方形/長方形 59"/>
            <p:cNvSpPr/>
            <p:nvPr/>
          </p:nvSpPr>
          <p:spPr>
            <a:xfrm>
              <a:off x="2484360" y="5644800"/>
              <a:ext cx="142560" cy="180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0" name="正方形/長方形 60"/>
            <p:cNvSpPr/>
            <p:nvPr/>
          </p:nvSpPr>
          <p:spPr>
            <a:xfrm>
              <a:off x="2628720" y="5644800"/>
              <a:ext cx="142560" cy="180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1" name="正方形/長方形 61"/>
            <p:cNvSpPr/>
            <p:nvPr/>
          </p:nvSpPr>
          <p:spPr>
            <a:xfrm>
              <a:off x="2774880" y="5644800"/>
              <a:ext cx="142560" cy="180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2" name="正方形/長方形 4"/>
            <p:cNvSpPr/>
            <p:nvPr/>
          </p:nvSpPr>
          <p:spPr>
            <a:xfrm>
              <a:off x="654480" y="5586480"/>
              <a:ext cx="9640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ＭＳ Ｐゴシック"/>
                </a:rPr>
                <a:t>CE2.a.2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3" name="テキスト ボックス 27"/>
            <p:cNvSpPr/>
            <p:nvPr/>
          </p:nvSpPr>
          <p:spPr>
            <a:xfrm>
              <a:off x="3012480" y="5592240"/>
              <a:ext cx="15980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16 or 1 filters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4" name="直線コネクタ 3"/>
            <p:cNvSpPr/>
            <p:nvPr/>
          </p:nvSpPr>
          <p:spPr>
            <a:xfrm flipV="1">
              <a:off x="2881080" y="5762880"/>
              <a:ext cx="18540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5" name="テキスト ボックス 30"/>
            <p:cNvSpPr/>
            <p:nvPr/>
          </p:nvSpPr>
          <p:spPr>
            <a:xfrm>
              <a:off x="4029120" y="5967720"/>
              <a:ext cx="13982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Single filter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6" name="直線コネクタ 5"/>
            <p:cNvSpPr/>
            <p:nvPr/>
          </p:nvSpPr>
          <p:spPr>
            <a:xfrm flipV="1">
              <a:off x="4727520" y="5802480"/>
              <a:ext cx="27756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237" name="グループ化 7"/>
          <p:cNvGrpSpPr/>
          <p:nvPr/>
        </p:nvGrpSpPr>
        <p:grpSpPr>
          <a:xfrm>
            <a:off x="654480" y="1339920"/>
            <a:ext cx="7735320" cy="1275480"/>
            <a:chOff x="654480" y="1339920"/>
            <a:chExt cx="7735320" cy="1275480"/>
          </a:xfrm>
        </p:grpSpPr>
        <p:grpSp>
          <p:nvGrpSpPr>
            <p:cNvPr id="238" name="グループ化 3"/>
            <p:cNvGrpSpPr/>
            <p:nvPr/>
          </p:nvGrpSpPr>
          <p:grpSpPr>
            <a:xfrm>
              <a:off x="654480" y="1339920"/>
              <a:ext cx="7735320" cy="720720"/>
              <a:chOff x="654480" y="1339920"/>
              <a:chExt cx="7735320" cy="720720"/>
            </a:xfrm>
          </p:grpSpPr>
          <p:sp>
            <p:nvSpPr>
              <p:cNvPr id="239" name="正方形/長方形 7"/>
              <p:cNvSpPr/>
              <p:nvPr/>
            </p:nvSpPr>
            <p:spPr>
              <a:xfrm>
                <a:off x="684720" y="1339920"/>
                <a:ext cx="64908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87280" indent="-287280" algn="ctr"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ＭＳ Ｐゴシック"/>
                  </a:rPr>
                  <a:t>SPS</a:t>
                </a: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0" name="正方形/長方形 8"/>
              <p:cNvSpPr/>
              <p:nvPr/>
            </p:nvSpPr>
            <p:spPr>
              <a:xfrm>
                <a:off x="1477080" y="1339920"/>
                <a:ext cx="64908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87280" indent="-287280" algn="ctr"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ＭＳ Ｐゴシック"/>
                  </a:rPr>
                  <a:t>PPS</a:t>
                </a: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1" name="正方形/長方形 9"/>
              <p:cNvSpPr/>
              <p:nvPr/>
            </p:nvSpPr>
            <p:spPr>
              <a:xfrm>
                <a:off x="2269080" y="1339920"/>
                <a:ext cx="64908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87280" indent="-287280" algn="ctr"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ＭＳ Ｐゴシック"/>
                  </a:rPr>
                  <a:t>APS</a:t>
                </a: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2" name="正方形/長方形 10"/>
              <p:cNvSpPr/>
              <p:nvPr/>
            </p:nvSpPr>
            <p:spPr>
              <a:xfrm>
                <a:off x="3061080" y="1339920"/>
                <a:ext cx="158400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87280" indent="-287280" algn="ctr"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ＭＳ Ｐゴシック"/>
                  </a:rPr>
                  <a:t>Slice header</a:t>
                </a: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3" name="正方形/長方形 11"/>
              <p:cNvSpPr/>
              <p:nvPr/>
            </p:nvSpPr>
            <p:spPr>
              <a:xfrm>
                <a:off x="4645440" y="1339920"/>
                <a:ext cx="374436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87280" indent="-287280" algn="ctr"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ＭＳ Ｐゴシック"/>
                  </a:rPr>
                  <a:t>Slice data</a:t>
                </a: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4" name="正方形/長方形 11"/>
              <p:cNvSpPr/>
              <p:nvPr/>
            </p:nvSpPr>
            <p:spPr>
              <a:xfrm>
                <a:off x="4645080" y="1700280"/>
                <a:ext cx="1152360" cy="36036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87280" indent="-287280" algn="r"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ＭＳ Ｐゴシック"/>
                  </a:rPr>
                  <a:t>LCU</a:t>
                </a: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5" name="正方形/長方形 22"/>
              <p:cNvSpPr/>
              <p:nvPr/>
            </p:nvSpPr>
            <p:spPr>
              <a:xfrm>
                <a:off x="4934160" y="1808280"/>
                <a:ext cx="142560" cy="179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87280" indent="-287280" algn="ctr"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6" name="正方形/長方形 23"/>
              <p:cNvSpPr/>
              <p:nvPr/>
            </p:nvSpPr>
            <p:spPr>
              <a:xfrm>
                <a:off x="4791240" y="1808280"/>
                <a:ext cx="142560" cy="179280"/>
              </a:xfrm>
              <a:prstGeom prst="rect">
                <a:avLst/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87280" indent="-287280" algn="ctr"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7" name="正方形/長方形 14"/>
              <p:cNvSpPr/>
              <p:nvPr/>
            </p:nvSpPr>
            <p:spPr>
              <a:xfrm>
                <a:off x="5797440" y="1700280"/>
                <a:ext cx="1008000" cy="36036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87280" indent="-287280" algn="r"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ＭＳ Ｐゴシック"/>
                  </a:rPr>
                  <a:t>LCU</a:t>
                </a: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8" name="正方形/長方形 26"/>
              <p:cNvSpPr/>
              <p:nvPr/>
            </p:nvSpPr>
            <p:spPr>
              <a:xfrm>
                <a:off x="5943960" y="1808280"/>
                <a:ext cx="141120" cy="179280"/>
              </a:xfrm>
              <a:prstGeom prst="rect">
                <a:avLst/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87280" indent="-287280" algn="ctr"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9" name="正方形/長方形 16"/>
              <p:cNvSpPr/>
              <p:nvPr/>
            </p:nvSpPr>
            <p:spPr>
              <a:xfrm>
                <a:off x="6805800" y="1700280"/>
                <a:ext cx="1152360" cy="36036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87280" indent="-287280" algn="r"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ＭＳ Ｐゴシック"/>
                  </a:rPr>
                  <a:t>LCU</a:t>
                </a: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50" name="正方形/長方形 28"/>
              <p:cNvSpPr/>
              <p:nvPr/>
            </p:nvSpPr>
            <p:spPr>
              <a:xfrm>
                <a:off x="7093080" y="1808280"/>
                <a:ext cx="142560" cy="179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87280" indent="-287280" algn="ctr"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51" name="正方形/長方形 29"/>
              <p:cNvSpPr/>
              <p:nvPr/>
            </p:nvSpPr>
            <p:spPr>
              <a:xfrm>
                <a:off x="6951960" y="1808280"/>
                <a:ext cx="141120" cy="179280"/>
              </a:xfrm>
              <a:prstGeom prst="rect">
                <a:avLst/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87280" indent="-287280" algn="ctr"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52" name="正方形/長方形 1"/>
              <p:cNvSpPr/>
              <p:nvPr/>
            </p:nvSpPr>
            <p:spPr>
              <a:xfrm>
                <a:off x="654480" y="1719360"/>
                <a:ext cx="96408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ff0000"/>
                    </a:solidFill>
                    <a:uFillTx/>
                    <a:latin typeface="ＭＳ Ｐゴシック"/>
                  </a:rPr>
                  <a:t>CE2.a.1</a:t>
                </a: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</p:grpSp>
        <p:sp>
          <p:nvSpPr>
            <p:cNvPr id="253" name="テキスト ボックス 1"/>
            <p:cNvSpPr/>
            <p:nvPr/>
          </p:nvSpPr>
          <p:spPr>
            <a:xfrm>
              <a:off x="3813840" y="2274840"/>
              <a:ext cx="13982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Single filter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54" name="直線コネクタ 3"/>
            <p:cNvSpPr/>
            <p:nvPr/>
          </p:nvSpPr>
          <p:spPr>
            <a:xfrm flipV="1">
              <a:off x="4511880" y="1989000"/>
              <a:ext cx="51732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on 1 (CE2.a.1 syntax + Simplifica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4400" y="1076400"/>
            <a:ext cx="8931240" cy="56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 structu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r LCU m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hing in APS, new filter or codebook filter or off in LC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 BA/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ach LCU, ALF coef. is designed using the original data of the current L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ther the designed coef .or a coef. in the codebook that stores previously signalled coefs. is used or off is dec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implementation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store coef. For above LCU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solved by shifting ALF filtering by 4 lines (Cf. JCTVC-F27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正方形/長方形 7"/>
          <p:cNvSpPr/>
          <p:nvPr/>
        </p:nvSpPr>
        <p:spPr>
          <a:xfrm>
            <a:off x="684360" y="1773360"/>
            <a:ext cx="64908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8" name="正方形/長方形 8"/>
          <p:cNvSpPr/>
          <p:nvPr/>
        </p:nvSpPr>
        <p:spPr>
          <a:xfrm>
            <a:off x="1476360" y="1773360"/>
            <a:ext cx="6494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9" name="正方形/長方形 9"/>
          <p:cNvSpPr/>
          <p:nvPr/>
        </p:nvSpPr>
        <p:spPr>
          <a:xfrm>
            <a:off x="2268360" y="1773360"/>
            <a:ext cx="6494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A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0" name="正方形/長方形 10"/>
          <p:cNvSpPr/>
          <p:nvPr/>
        </p:nvSpPr>
        <p:spPr>
          <a:xfrm>
            <a:off x="3060720" y="1773360"/>
            <a:ext cx="158436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lice header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1" name="正方形/長方形 11"/>
          <p:cNvSpPr/>
          <p:nvPr/>
        </p:nvSpPr>
        <p:spPr>
          <a:xfrm>
            <a:off x="4645080" y="1773360"/>
            <a:ext cx="374472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lice data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2" name="正方形/長方形 11"/>
          <p:cNvSpPr/>
          <p:nvPr/>
        </p:nvSpPr>
        <p:spPr>
          <a:xfrm>
            <a:off x="4645080" y="2133720"/>
            <a:ext cx="115236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3" name="正方形/長方形 22"/>
          <p:cNvSpPr/>
          <p:nvPr/>
        </p:nvSpPr>
        <p:spPr>
          <a:xfrm>
            <a:off x="4933800" y="2241720"/>
            <a:ext cx="1429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4" name="正方形/長方形 23"/>
          <p:cNvSpPr/>
          <p:nvPr/>
        </p:nvSpPr>
        <p:spPr>
          <a:xfrm>
            <a:off x="4791240" y="2241720"/>
            <a:ext cx="14256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5" name="正方形/長方形 14"/>
          <p:cNvSpPr/>
          <p:nvPr/>
        </p:nvSpPr>
        <p:spPr>
          <a:xfrm>
            <a:off x="5797440" y="2133720"/>
            <a:ext cx="100800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6" name="正方形/長方形 26"/>
          <p:cNvSpPr/>
          <p:nvPr/>
        </p:nvSpPr>
        <p:spPr>
          <a:xfrm>
            <a:off x="5943600" y="2241720"/>
            <a:ext cx="1411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7" name="正方形/長方形 16"/>
          <p:cNvSpPr/>
          <p:nvPr/>
        </p:nvSpPr>
        <p:spPr>
          <a:xfrm>
            <a:off x="6805440" y="2133720"/>
            <a:ext cx="115272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8" name="正方形/長方形 28"/>
          <p:cNvSpPr/>
          <p:nvPr/>
        </p:nvSpPr>
        <p:spPr>
          <a:xfrm>
            <a:off x="7093080" y="2241720"/>
            <a:ext cx="1429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9" name="正方形/長方形 29"/>
          <p:cNvSpPr/>
          <p:nvPr/>
        </p:nvSpPr>
        <p:spPr>
          <a:xfrm>
            <a:off x="6951600" y="2241720"/>
            <a:ext cx="14148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0" name="正方形/長方形 23"/>
          <p:cNvSpPr/>
          <p:nvPr/>
        </p:nvSpPr>
        <p:spPr>
          <a:xfrm>
            <a:off x="7842240" y="6562800"/>
            <a:ext cx="1429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1" name="テキスト ボックス 59"/>
          <p:cNvSpPr/>
          <p:nvPr/>
        </p:nvSpPr>
        <p:spPr>
          <a:xfrm>
            <a:off x="7920360" y="6472080"/>
            <a:ext cx="1287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On/off ctr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2" name="正方形/長方形 22"/>
          <p:cNvSpPr/>
          <p:nvPr/>
        </p:nvSpPr>
        <p:spPr>
          <a:xfrm>
            <a:off x="6186600" y="6562800"/>
            <a:ext cx="1429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3" name="テキスト ボックス 61"/>
          <p:cNvSpPr/>
          <p:nvPr/>
        </p:nvSpPr>
        <p:spPr>
          <a:xfrm>
            <a:off x="6215400" y="6472080"/>
            <a:ext cx="1677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oef. or index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4" name="テキスト ボックス 1"/>
          <p:cNvSpPr/>
          <p:nvPr/>
        </p:nvSpPr>
        <p:spPr>
          <a:xfrm>
            <a:off x="3813480" y="2679840"/>
            <a:ext cx="1398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ngle filter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5" name="直線コネクタ 3"/>
          <p:cNvSpPr/>
          <p:nvPr/>
        </p:nvSpPr>
        <p:spPr>
          <a:xfrm flipV="1">
            <a:off x="4511520" y="2394000"/>
            <a:ext cx="51768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6" name="スライド番号プレースホルダー 3"/>
          <p:cNvSpPr/>
          <p:nvPr/>
        </p:nvSpPr>
        <p:spPr>
          <a:xfrm>
            <a:off x="8305920" y="6356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A86E-C30D-41D8-BAAC-6E3AAE406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7" name="テキスト ボックス 38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on 2 (Simplification of CE2.a.2 synta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04760" y="1147320"/>
            <a:ext cx="9004320" cy="566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22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 structu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r LCU mod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2-1:RA), (2-2:B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ts val="2299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/BA information and filter coefficients in APS, on/off in L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ts val="2299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ts val="2299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scheme 1 (Coef. design us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evious fra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ts val="2299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encoding of previous frames, statistics of ALF on LCUs is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ts val="2299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Wiener-based filters based on the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ts val="2299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ne of the designed RA/BA filters as filter information signalled in 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lnSpc>
                <a:spcPts val="2299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t of designed filters with the same temporal level may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ts val="2299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encoding of an LCU, ALF on/off is decided on the f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ts val="2299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scheme 2 (Coef. design us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urrent fr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ts val="2299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design scheme as above, but ALF on/off can not be decided on the fly during the first-pass enco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ts val="2299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implementation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ts val="2299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cheme 2, two-pass encoding or ALF on/off flag interleaving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スライド番号プレースホルダー 3"/>
          <p:cNvSpPr/>
          <p:nvPr/>
        </p:nvSpPr>
        <p:spPr>
          <a:xfrm>
            <a:off x="8305920" y="6427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11D1-D247-4E64-B3DF-9CA492C8C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1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2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3" name="正方形/長方形 19"/>
          <p:cNvSpPr/>
          <p:nvPr/>
        </p:nvSpPr>
        <p:spPr>
          <a:xfrm>
            <a:off x="2273400" y="2106720"/>
            <a:ext cx="64908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4" name="正方形/長方形 53"/>
          <p:cNvSpPr/>
          <p:nvPr/>
        </p:nvSpPr>
        <p:spPr>
          <a:xfrm>
            <a:off x="684360" y="1746360"/>
            <a:ext cx="647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5" name="正方形/長方形 54"/>
          <p:cNvSpPr/>
          <p:nvPr/>
        </p:nvSpPr>
        <p:spPr>
          <a:xfrm>
            <a:off x="1476360" y="1746360"/>
            <a:ext cx="647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6" name="正方形/長方形 55"/>
          <p:cNvSpPr/>
          <p:nvPr/>
        </p:nvSpPr>
        <p:spPr>
          <a:xfrm>
            <a:off x="2273400" y="1746360"/>
            <a:ext cx="64908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A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7" name="正方形/長方形 56"/>
          <p:cNvSpPr/>
          <p:nvPr/>
        </p:nvSpPr>
        <p:spPr>
          <a:xfrm>
            <a:off x="3065400" y="1746360"/>
            <a:ext cx="158436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lice header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8" name="正方形/長方形 57"/>
          <p:cNvSpPr/>
          <p:nvPr/>
        </p:nvSpPr>
        <p:spPr>
          <a:xfrm>
            <a:off x="4649760" y="1746360"/>
            <a:ext cx="374508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lice data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9" name="正方形/長方形 59"/>
          <p:cNvSpPr/>
          <p:nvPr/>
        </p:nvSpPr>
        <p:spPr>
          <a:xfrm>
            <a:off x="2489040" y="2214720"/>
            <a:ext cx="142920" cy="18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0" name="正方形/長方形 60"/>
          <p:cNvSpPr/>
          <p:nvPr/>
        </p:nvSpPr>
        <p:spPr>
          <a:xfrm>
            <a:off x="2633760" y="2214720"/>
            <a:ext cx="142920" cy="18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1" name="正方形/長方形 61"/>
          <p:cNvSpPr/>
          <p:nvPr/>
        </p:nvSpPr>
        <p:spPr>
          <a:xfrm>
            <a:off x="2779560" y="2214720"/>
            <a:ext cx="142920" cy="18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2" name="正方形/長方形 33"/>
          <p:cNvSpPr/>
          <p:nvPr/>
        </p:nvSpPr>
        <p:spPr>
          <a:xfrm>
            <a:off x="4643280" y="2108160"/>
            <a:ext cx="115272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3" name="正方形/長方形 23"/>
          <p:cNvSpPr/>
          <p:nvPr/>
        </p:nvSpPr>
        <p:spPr>
          <a:xfrm>
            <a:off x="4789440" y="2216160"/>
            <a:ext cx="1429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4" name="正方形/長方形 36"/>
          <p:cNvSpPr/>
          <p:nvPr/>
        </p:nvSpPr>
        <p:spPr>
          <a:xfrm>
            <a:off x="5796000" y="2108160"/>
            <a:ext cx="100800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5" name="正方形/長方形 26"/>
          <p:cNvSpPr/>
          <p:nvPr/>
        </p:nvSpPr>
        <p:spPr>
          <a:xfrm>
            <a:off x="5942160" y="2216160"/>
            <a:ext cx="1411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6" name="正方形/長方形 38"/>
          <p:cNvSpPr/>
          <p:nvPr/>
        </p:nvSpPr>
        <p:spPr>
          <a:xfrm>
            <a:off x="6804000" y="2108160"/>
            <a:ext cx="115272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7" name="正方形/長方形 29"/>
          <p:cNvSpPr/>
          <p:nvPr/>
        </p:nvSpPr>
        <p:spPr>
          <a:xfrm>
            <a:off x="6950160" y="2216160"/>
            <a:ext cx="1411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8" name="正方形/長方形 23"/>
          <p:cNvSpPr/>
          <p:nvPr/>
        </p:nvSpPr>
        <p:spPr>
          <a:xfrm>
            <a:off x="7842240" y="6562800"/>
            <a:ext cx="1429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9" name="テキスト ボックス 1"/>
          <p:cNvSpPr/>
          <p:nvPr/>
        </p:nvSpPr>
        <p:spPr>
          <a:xfrm>
            <a:off x="7920360" y="6472080"/>
            <a:ext cx="1287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On/off ctr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0" name="正方形/長方形 22"/>
          <p:cNvSpPr/>
          <p:nvPr/>
        </p:nvSpPr>
        <p:spPr>
          <a:xfrm>
            <a:off x="6186600" y="6562800"/>
            <a:ext cx="1429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1" name="テキスト ボックス 61"/>
          <p:cNvSpPr/>
          <p:nvPr/>
        </p:nvSpPr>
        <p:spPr>
          <a:xfrm>
            <a:off x="6267960" y="6472080"/>
            <a:ext cx="734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oef.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2" name="テキスト ボックス 25"/>
          <p:cNvSpPr/>
          <p:nvPr/>
        </p:nvSpPr>
        <p:spPr>
          <a:xfrm>
            <a:off x="904680" y="2125800"/>
            <a:ext cx="1114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6 filter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3" name="直線コネクタ 2"/>
          <p:cNvSpPr/>
          <p:nvPr/>
        </p:nvSpPr>
        <p:spPr>
          <a:xfrm>
            <a:off x="1979640" y="2297160"/>
            <a:ext cx="5094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4" name="テキスト ボックス 42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on 3 (CE2.a.2 syntax + Simplifica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04760" y="1076400"/>
            <a:ext cx="9075600" cy="56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 structu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r LCU mod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3-1:RA), (3-2:B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/BA information and filter coefficients in AP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filter or codebook filter or selecting APS filter or off in L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F coef. design is the same as Option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 frames to design ALF coef. in APS, and current frame to design ALF coef. In L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ach LCU, a filter (1) signalled in APS, (2) signalled in this LCU, or (3) signalled previously and stored may be used, or filtering is not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implementation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as Op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スライド番号プレースホルダー 3"/>
          <p:cNvSpPr/>
          <p:nvPr/>
        </p:nvSpPr>
        <p:spPr>
          <a:xfrm>
            <a:off x="8305920" y="63817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F743-578A-4857-ACD2-CF7D245EA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8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9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0" name="正方形/長方形 7"/>
          <p:cNvSpPr/>
          <p:nvPr/>
        </p:nvSpPr>
        <p:spPr>
          <a:xfrm>
            <a:off x="684360" y="2154240"/>
            <a:ext cx="64908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1" name="正方形/長方形 8"/>
          <p:cNvSpPr/>
          <p:nvPr/>
        </p:nvSpPr>
        <p:spPr>
          <a:xfrm>
            <a:off x="1476360" y="2154240"/>
            <a:ext cx="6494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2" name="正方形/長方形 9"/>
          <p:cNvSpPr/>
          <p:nvPr/>
        </p:nvSpPr>
        <p:spPr>
          <a:xfrm>
            <a:off x="2268360" y="2154240"/>
            <a:ext cx="6494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A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3" name="正方形/長方形 10"/>
          <p:cNvSpPr/>
          <p:nvPr/>
        </p:nvSpPr>
        <p:spPr>
          <a:xfrm>
            <a:off x="3060720" y="2154240"/>
            <a:ext cx="158436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lice header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4" name="正方形/長方形 11"/>
          <p:cNvSpPr/>
          <p:nvPr/>
        </p:nvSpPr>
        <p:spPr>
          <a:xfrm>
            <a:off x="4645080" y="2154240"/>
            <a:ext cx="374472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lice data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5" name="正方形/長方形 46"/>
          <p:cNvSpPr/>
          <p:nvPr/>
        </p:nvSpPr>
        <p:spPr>
          <a:xfrm>
            <a:off x="4645080" y="2514600"/>
            <a:ext cx="115236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6" name="正方形/長方形 22"/>
          <p:cNvSpPr/>
          <p:nvPr/>
        </p:nvSpPr>
        <p:spPr>
          <a:xfrm>
            <a:off x="4933800" y="2622600"/>
            <a:ext cx="1429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7" name="正方形/長方形 23"/>
          <p:cNvSpPr/>
          <p:nvPr/>
        </p:nvSpPr>
        <p:spPr>
          <a:xfrm>
            <a:off x="4791240" y="2622600"/>
            <a:ext cx="14256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8" name="正方形/長方形 49"/>
          <p:cNvSpPr/>
          <p:nvPr/>
        </p:nvSpPr>
        <p:spPr>
          <a:xfrm>
            <a:off x="5797440" y="2514600"/>
            <a:ext cx="100800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9" name="正方形/長方形 26"/>
          <p:cNvSpPr/>
          <p:nvPr/>
        </p:nvSpPr>
        <p:spPr>
          <a:xfrm>
            <a:off x="5943600" y="2622600"/>
            <a:ext cx="1411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0" name="正方形/長方形 51"/>
          <p:cNvSpPr/>
          <p:nvPr/>
        </p:nvSpPr>
        <p:spPr>
          <a:xfrm>
            <a:off x="6805440" y="2514600"/>
            <a:ext cx="115272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1" name="正方形/長方形 28"/>
          <p:cNvSpPr/>
          <p:nvPr/>
        </p:nvSpPr>
        <p:spPr>
          <a:xfrm>
            <a:off x="7093080" y="2622600"/>
            <a:ext cx="1429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2" name="正方形/長方形 29"/>
          <p:cNvSpPr/>
          <p:nvPr/>
        </p:nvSpPr>
        <p:spPr>
          <a:xfrm>
            <a:off x="6951600" y="2622600"/>
            <a:ext cx="14148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3" name="正方形/長方形 54"/>
          <p:cNvSpPr/>
          <p:nvPr/>
        </p:nvSpPr>
        <p:spPr>
          <a:xfrm>
            <a:off x="2268360" y="2514600"/>
            <a:ext cx="64944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4" name="正方形/長方形 59"/>
          <p:cNvSpPr/>
          <p:nvPr/>
        </p:nvSpPr>
        <p:spPr>
          <a:xfrm>
            <a:off x="2484360" y="2622600"/>
            <a:ext cx="14292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5" name="正方形/長方形 60"/>
          <p:cNvSpPr/>
          <p:nvPr/>
        </p:nvSpPr>
        <p:spPr>
          <a:xfrm>
            <a:off x="2629080" y="2622600"/>
            <a:ext cx="14256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6" name="正方形/長方形 61"/>
          <p:cNvSpPr/>
          <p:nvPr/>
        </p:nvSpPr>
        <p:spPr>
          <a:xfrm>
            <a:off x="2774880" y="2622600"/>
            <a:ext cx="14292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7" name="正方形/長方形 23"/>
          <p:cNvSpPr/>
          <p:nvPr/>
        </p:nvSpPr>
        <p:spPr>
          <a:xfrm>
            <a:off x="7842240" y="6562800"/>
            <a:ext cx="1429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8" name="テキスト ボックス 1"/>
          <p:cNvSpPr/>
          <p:nvPr/>
        </p:nvSpPr>
        <p:spPr>
          <a:xfrm>
            <a:off x="7920360" y="6472080"/>
            <a:ext cx="1287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On/off ctr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9" name="正方形/長方形 22"/>
          <p:cNvSpPr/>
          <p:nvPr/>
        </p:nvSpPr>
        <p:spPr>
          <a:xfrm>
            <a:off x="6186600" y="6562800"/>
            <a:ext cx="1429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0" name="テキスト ボックス 61"/>
          <p:cNvSpPr/>
          <p:nvPr/>
        </p:nvSpPr>
        <p:spPr>
          <a:xfrm>
            <a:off x="6215400" y="6472080"/>
            <a:ext cx="1677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oef. or index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1" name="テキスト ボックス 27"/>
          <p:cNvSpPr/>
          <p:nvPr/>
        </p:nvSpPr>
        <p:spPr>
          <a:xfrm>
            <a:off x="715680" y="2536920"/>
            <a:ext cx="1114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6 filter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2" name="直線コネクタ 3"/>
          <p:cNvSpPr/>
          <p:nvPr/>
        </p:nvSpPr>
        <p:spPr>
          <a:xfrm>
            <a:off x="1801800" y="2712960"/>
            <a:ext cx="68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3" name="テキスト ボックス 30"/>
          <p:cNvSpPr/>
          <p:nvPr/>
        </p:nvSpPr>
        <p:spPr>
          <a:xfrm>
            <a:off x="4029120" y="2968560"/>
            <a:ext cx="1398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ngle filter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4" name="直線コネクタ 5"/>
          <p:cNvSpPr/>
          <p:nvPr/>
        </p:nvSpPr>
        <p:spPr>
          <a:xfrm flipV="1">
            <a:off x="4727520" y="2803680"/>
            <a:ext cx="27792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5" name="テキスト ボックス 47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st Results for LCU mo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5472-A5F7-4782-9716-D2C5A73AD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8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9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79280" y="1984320"/>
          <a:ext cx="8820360" cy="2957400"/>
        </p:xfrm>
        <a:graphic>
          <a:graphicData uri="http://schemas.openxmlformats.org/drawingml/2006/table">
            <a:tbl>
              <a:tblPr/>
              <a:tblGrid>
                <a:gridCol w="360360"/>
                <a:gridCol w="503280"/>
                <a:gridCol w="588960"/>
                <a:gridCol w="484200"/>
                <a:gridCol w="484200"/>
                <a:gridCol w="484200"/>
                <a:gridCol w="482760"/>
                <a:gridCol w="484200"/>
                <a:gridCol w="484200"/>
                <a:gridCol w="484200"/>
                <a:gridCol w="484200"/>
                <a:gridCol w="483840"/>
                <a:gridCol w="484200"/>
                <a:gridCol w="484200"/>
                <a:gridCol w="484200"/>
                <a:gridCol w="590760"/>
                <a:gridCol w="484200"/>
                <a:gridCol w="484200"/>
              </a:tblGrid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10-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10-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10-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10-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o Class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35880">
                <a:tc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-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-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3588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</a:tbl>
          </a:graphicData>
        </a:graphic>
      </p:graphicFrame>
      <p:sp>
        <p:nvSpPr>
          <p:cNvPr id="341" name="文字方塊 2"/>
          <p:cNvSpPr/>
          <p:nvPr/>
        </p:nvSpPr>
        <p:spPr>
          <a:xfrm>
            <a:off x="108000" y="98100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Anchor: ALF off, HM-6.0 SAO with LCU opt.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2" name="文字方塊 3"/>
          <p:cNvSpPr/>
          <p:nvPr/>
        </p:nvSpPr>
        <p:spPr>
          <a:xfrm>
            <a:off x="108000" y="1327320"/>
            <a:ext cx="90216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est: Proposed ALF with PIC (i.e., CUR) or LCU (i.e., PRE) opt.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and CE2 pixel access constraints (for LCU opt.), HM-6.0 SAO with LCU opt.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3" name="正方形/長方形 1"/>
          <p:cNvSpPr/>
          <p:nvPr/>
        </p:nvSpPr>
        <p:spPr>
          <a:xfrm>
            <a:off x="7451640" y="2276640"/>
            <a:ext cx="576360" cy="2665080"/>
          </a:xfrm>
          <a:prstGeom prst="rect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4" name="テキスト ボックス 14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y of PIC/LCU mode Unification by Option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スライド番号プレースホルダー 3"/>
          <p:cNvSpPr/>
          <p:nvPr/>
        </p:nvSpPr>
        <p:spPr>
          <a:xfrm>
            <a:off x="8305920" y="6427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A093-B946-4FD6-B086-6BDDC1DC3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7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8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9" name="正方形/長方形 19"/>
          <p:cNvSpPr/>
          <p:nvPr/>
        </p:nvSpPr>
        <p:spPr>
          <a:xfrm>
            <a:off x="2273400" y="2997360"/>
            <a:ext cx="64908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0" name="正方形/長方形 53"/>
          <p:cNvSpPr/>
          <p:nvPr/>
        </p:nvSpPr>
        <p:spPr>
          <a:xfrm>
            <a:off x="684360" y="2637000"/>
            <a:ext cx="647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1" name="正方形/長方形 54"/>
          <p:cNvSpPr/>
          <p:nvPr/>
        </p:nvSpPr>
        <p:spPr>
          <a:xfrm>
            <a:off x="1476360" y="2637000"/>
            <a:ext cx="647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2" name="正方形/長方形 55"/>
          <p:cNvSpPr/>
          <p:nvPr/>
        </p:nvSpPr>
        <p:spPr>
          <a:xfrm>
            <a:off x="2273400" y="2637000"/>
            <a:ext cx="64908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A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3" name="正方形/長方形 56"/>
          <p:cNvSpPr/>
          <p:nvPr/>
        </p:nvSpPr>
        <p:spPr>
          <a:xfrm>
            <a:off x="3065400" y="2637000"/>
            <a:ext cx="158436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lice header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4" name="正方形/長方形 57"/>
          <p:cNvSpPr/>
          <p:nvPr/>
        </p:nvSpPr>
        <p:spPr>
          <a:xfrm>
            <a:off x="4649760" y="2637000"/>
            <a:ext cx="374508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lice data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5" name="正方形/長方形 59"/>
          <p:cNvSpPr/>
          <p:nvPr/>
        </p:nvSpPr>
        <p:spPr>
          <a:xfrm>
            <a:off x="2489040" y="3105000"/>
            <a:ext cx="14292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6" name="正方形/長方形 60"/>
          <p:cNvSpPr/>
          <p:nvPr/>
        </p:nvSpPr>
        <p:spPr>
          <a:xfrm>
            <a:off x="2633760" y="3105000"/>
            <a:ext cx="14292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7" name="正方形/長方形 61"/>
          <p:cNvSpPr/>
          <p:nvPr/>
        </p:nvSpPr>
        <p:spPr>
          <a:xfrm>
            <a:off x="2779560" y="3105000"/>
            <a:ext cx="14292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8" name="正方形/長方形 33"/>
          <p:cNvSpPr/>
          <p:nvPr/>
        </p:nvSpPr>
        <p:spPr>
          <a:xfrm>
            <a:off x="4643280" y="2998800"/>
            <a:ext cx="115272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9" name="正方形/長方形 23"/>
          <p:cNvSpPr/>
          <p:nvPr/>
        </p:nvSpPr>
        <p:spPr>
          <a:xfrm>
            <a:off x="4789440" y="3106800"/>
            <a:ext cx="1429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0" name="正方形/長方形 36"/>
          <p:cNvSpPr/>
          <p:nvPr/>
        </p:nvSpPr>
        <p:spPr>
          <a:xfrm>
            <a:off x="5796000" y="2998800"/>
            <a:ext cx="100800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1" name="正方形/長方形 26"/>
          <p:cNvSpPr/>
          <p:nvPr/>
        </p:nvSpPr>
        <p:spPr>
          <a:xfrm>
            <a:off x="5942160" y="3106800"/>
            <a:ext cx="1411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2" name="正方形/長方形 38"/>
          <p:cNvSpPr/>
          <p:nvPr/>
        </p:nvSpPr>
        <p:spPr>
          <a:xfrm>
            <a:off x="6804000" y="2998800"/>
            <a:ext cx="115272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3" name="正方形/長方形 29"/>
          <p:cNvSpPr/>
          <p:nvPr/>
        </p:nvSpPr>
        <p:spPr>
          <a:xfrm>
            <a:off x="6950160" y="3106800"/>
            <a:ext cx="1411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4" name="正方形/長方形 23"/>
          <p:cNvSpPr/>
          <p:nvPr/>
        </p:nvSpPr>
        <p:spPr>
          <a:xfrm>
            <a:off x="7842240" y="6562800"/>
            <a:ext cx="1429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5" name="テキスト ボックス 1"/>
          <p:cNvSpPr/>
          <p:nvPr/>
        </p:nvSpPr>
        <p:spPr>
          <a:xfrm>
            <a:off x="7920360" y="6472080"/>
            <a:ext cx="1287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On/off ctr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6" name="正方形/長方形 22"/>
          <p:cNvSpPr/>
          <p:nvPr/>
        </p:nvSpPr>
        <p:spPr>
          <a:xfrm>
            <a:off x="6186600" y="6562800"/>
            <a:ext cx="1429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7" name="テキスト ボックス 61"/>
          <p:cNvSpPr/>
          <p:nvPr/>
        </p:nvSpPr>
        <p:spPr>
          <a:xfrm>
            <a:off x="6267960" y="6472080"/>
            <a:ext cx="734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oef.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8" name="テキスト ボックス 25"/>
          <p:cNvSpPr/>
          <p:nvPr/>
        </p:nvSpPr>
        <p:spPr>
          <a:xfrm>
            <a:off x="904680" y="3016080"/>
            <a:ext cx="1114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6 filter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9" name="直線コネクタ 2"/>
          <p:cNvSpPr/>
          <p:nvPr/>
        </p:nvSpPr>
        <p:spPr>
          <a:xfrm>
            <a:off x="1979640" y="3187800"/>
            <a:ext cx="5094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0" name="テキスト ボックス 42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92040" y="78696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ture-based encoding (PIC mode) in CD/HM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CU-based encoding (LCU mode) in Option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shown above, the difference is only signalling location of ALF on/off flag (embedded in slice header or interleaved in each LCU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正方形/長方形 29"/>
          <p:cNvSpPr/>
          <p:nvPr/>
        </p:nvSpPr>
        <p:spPr>
          <a:xfrm>
            <a:off x="2273400" y="1628640"/>
            <a:ext cx="64908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3" name="正方形/長方形 30"/>
          <p:cNvSpPr/>
          <p:nvPr/>
        </p:nvSpPr>
        <p:spPr>
          <a:xfrm>
            <a:off x="3065400" y="1628640"/>
            <a:ext cx="158436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4" name="正方形/長方形 53"/>
          <p:cNvSpPr/>
          <p:nvPr/>
        </p:nvSpPr>
        <p:spPr>
          <a:xfrm>
            <a:off x="684360" y="1268280"/>
            <a:ext cx="647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5" name="正方形/長方形 54"/>
          <p:cNvSpPr/>
          <p:nvPr/>
        </p:nvSpPr>
        <p:spPr>
          <a:xfrm>
            <a:off x="1476360" y="1268280"/>
            <a:ext cx="647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6" name="正方形/長方形 55"/>
          <p:cNvSpPr/>
          <p:nvPr/>
        </p:nvSpPr>
        <p:spPr>
          <a:xfrm>
            <a:off x="2273400" y="1268280"/>
            <a:ext cx="64908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A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7" name="正方形/長方形 56"/>
          <p:cNvSpPr/>
          <p:nvPr/>
        </p:nvSpPr>
        <p:spPr>
          <a:xfrm>
            <a:off x="3065400" y="1268280"/>
            <a:ext cx="158436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lice header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8" name="正方形/長方形 57"/>
          <p:cNvSpPr/>
          <p:nvPr/>
        </p:nvSpPr>
        <p:spPr>
          <a:xfrm>
            <a:off x="4649760" y="1268280"/>
            <a:ext cx="374508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lice data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9" name="正方形/長方形 62"/>
          <p:cNvSpPr/>
          <p:nvPr/>
        </p:nvSpPr>
        <p:spPr>
          <a:xfrm>
            <a:off x="4075200" y="1736640"/>
            <a:ext cx="141120" cy="1810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0" name="正方形/長方形 63"/>
          <p:cNvSpPr/>
          <p:nvPr/>
        </p:nvSpPr>
        <p:spPr>
          <a:xfrm>
            <a:off x="4218120" y="1736640"/>
            <a:ext cx="142920" cy="1810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1" name="正方形/長方形 64"/>
          <p:cNvSpPr/>
          <p:nvPr/>
        </p:nvSpPr>
        <p:spPr>
          <a:xfrm>
            <a:off x="4362480" y="1736640"/>
            <a:ext cx="142920" cy="1810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2" name="正方形/長方形 65"/>
          <p:cNvSpPr/>
          <p:nvPr/>
        </p:nvSpPr>
        <p:spPr>
          <a:xfrm>
            <a:off x="4506840" y="1736640"/>
            <a:ext cx="142920" cy="1810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3" name="正方形/長方形 59"/>
          <p:cNvSpPr/>
          <p:nvPr/>
        </p:nvSpPr>
        <p:spPr>
          <a:xfrm>
            <a:off x="2489040" y="1736640"/>
            <a:ext cx="14292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4" name="正方形/長方形 60"/>
          <p:cNvSpPr/>
          <p:nvPr/>
        </p:nvSpPr>
        <p:spPr>
          <a:xfrm>
            <a:off x="2633760" y="1736640"/>
            <a:ext cx="14292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5" name="正方形/長方形 61"/>
          <p:cNvSpPr/>
          <p:nvPr/>
        </p:nvSpPr>
        <p:spPr>
          <a:xfrm>
            <a:off x="2779560" y="1736640"/>
            <a:ext cx="14292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ison of CD/HM6 vs Option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B762-46D7-4A16-8002-09507A13E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8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9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79280" y="1407960"/>
          <a:ext cx="8820360" cy="1951200"/>
        </p:xfrm>
        <a:graphic>
          <a:graphicData uri="http://schemas.openxmlformats.org/drawingml/2006/table">
            <a:tbl>
              <a:tblPr/>
              <a:tblGrid>
                <a:gridCol w="360360"/>
                <a:gridCol w="503280"/>
                <a:gridCol w="588960"/>
                <a:gridCol w="484200"/>
                <a:gridCol w="484200"/>
                <a:gridCol w="484200"/>
                <a:gridCol w="482760"/>
                <a:gridCol w="484200"/>
                <a:gridCol w="484200"/>
                <a:gridCol w="484200"/>
                <a:gridCol w="484200"/>
                <a:gridCol w="483840"/>
                <a:gridCol w="484200"/>
                <a:gridCol w="484200"/>
                <a:gridCol w="484200"/>
                <a:gridCol w="590760"/>
                <a:gridCol w="484200"/>
                <a:gridCol w="484200"/>
              </a:tblGrid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ption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10-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10-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10-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10-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o Class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</a:tr>
              <a:tr h="335160">
                <a:tc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3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</a:tr>
            </a:tbl>
          </a:graphicData>
        </a:graphic>
      </p:graphicFrame>
      <p:sp>
        <p:nvSpPr>
          <p:cNvPr id="391" name="文字方塊 2"/>
          <p:cNvSpPr/>
          <p:nvPr/>
        </p:nvSpPr>
        <p:spPr>
          <a:xfrm>
            <a:off x="468360" y="620640"/>
            <a:ext cx="6840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Anchor: ALF off, HM-6.0 SAO with LCU opt.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2" name="文字方塊 3"/>
          <p:cNvSpPr/>
          <p:nvPr/>
        </p:nvSpPr>
        <p:spPr>
          <a:xfrm>
            <a:off x="468360" y="836640"/>
            <a:ext cx="71992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Test: Proposed ALF with PIC (i.e., CUR) or LCU (i.e., PRE) opt. 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and CE2 pixel access constraints (for LCU opt.), HM-6.0 SAO with LCU opt.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79280" y="4414680"/>
          <a:ext cx="8820360" cy="1462320"/>
        </p:xfrm>
        <a:graphic>
          <a:graphicData uri="http://schemas.openxmlformats.org/drawingml/2006/table">
            <a:tbl>
              <a:tblPr/>
              <a:tblGrid>
                <a:gridCol w="1452600"/>
                <a:gridCol w="484200"/>
                <a:gridCol w="484200"/>
                <a:gridCol w="484200"/>
                <a:gridCol w="482760"/>
                <a:gridCol w="484200"/>
                <a:gridCol w="484200"/>
                <a:gridCol w="484200"/>
                <a:gridCol w="484200"/>
                <a:gridCol w="483840"/>
                <a:gridCol w="484200"/>
                <a:gridCol w="484200"/>
                <a:gridCol w="484200"/>
                <a:gridCol w="590760"/>
                <a:gridCol w="484200"/>
                <a:gridCol w="484200"/>
              </a:tblGrid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D/HM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10-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10-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10-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10-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o Class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 Opt. (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U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A/RA hybri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U Opt.(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U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</a:tr>
            </a:tbl>
          </a:graphicData>
        </a:graphic>
      </p:graphicFrame>
      <p:sp>
        <p:nvSpPr>
          <p:cNvPr id="394" name="文字方塊 5"/>
          <p:cNvSpPr/>
          <p:nvPr/>
        </p:nvSpPr>
        <p:spPr>
          <a:xfrm>
            <a:off x="504720" y="3618000"/>
            <a:ext cx="68756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Anchor: ALF off, HM-6.0 SAO with the same PIC/LCU opt. setting as ALF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5" name="文字方塊 6"/>
          <p:cNvSpPr/>
          <p:nvPr/>
        </p:nvSpPr>
        <p:spPr>
          <a:xfrm>
            <a:off x="504720" y="3863880"/>
            <a:ext cx="766764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Test: HM-6.0 ALF with PIC/LCU opt. and CE2 pixel access constraints (for LCU opt.), 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HM-6.0 SAO with the same PIC/LCU opt. setting as ALF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6" name="正方形/長方形 1"/>
          <p:cNvSpPr/>
          <p:nvPr/>
        </p:nvSpPr>
        <p:spPr>
          <a:xfrm>
            <a:off x="7451640" y="1700280"/>
            <a:ext cx="576360" cy="1657440"/>
          </a:xfrm>
          <a:prstGeom prst="rect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7" name="正方形/長方形 13"/>
          <p:cNvSpPr/>
          <p:nvPr/>
        </p:nvSpPr>
        <p:spPr>
          <a:xfrm>
            <a:off x="7451640" y="4724280"/>
            <a:ext cx="576360" cy="1154160"/>
          </a:xfrm>
          <a:prstGeom prst="rect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8" name="テキスト ボックス 14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9" name="文字方塊 2"/>
          <p:cNvSpPr/>
          <p:nvPr/>
        </p:nvSpPr>
        <p:spPr>
          <a:xfrm>
            <a:off x="179280" y="5950080"/>
            <a:ext cx="8785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ＭＳ Ｐゴシック"/>
              </a:rPr>
              <a:t>Unification to Option 2 for PIC/LCU mode should be considered.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2 Subt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4920" y="620280"/>
            <a:ext cx="91454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67120" indent="-267120">
              <a:lnSpc>
                <a:spcPts val="1800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implific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b: Simplification of ALF sign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e: Depth of LCU division for filtering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Recommend to adopt all simpl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lice boundary processing study for LCU-based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f: Line memory reduction fix at independent slice and tile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Make recommendation after subjective vie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ignalling/syntax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a: Signalling mode change from "switch between APS mode and slice header mode" to "switch between APS mode and interleaving mod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Recommend CE2.a.1 and CE2.a.2 as baseline Options and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 vs RA study, including BA simpl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c: Number of classes in B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d: Number of regions in R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iscuss CE2.c to reduce testing for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Encoder optimization study for LCU-based encoding (non-normati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g: Encoder complexity reduction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Luma/chroma filter coefficients unification study in LCU-based enco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h: Reuse luma filter coefficients in chroma filtering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Should be integrated IF Option 1 or 3 in AHG6 further study is recomm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Combin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i: Combination sub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Not adopted as it is (further study in conceptually in AHG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ADFF-45F2-4DA1-9542-572AF4C9A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3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4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M-6.0 A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2040" y="78696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i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hor: ALF-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: ALF-on w/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icket #4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ccurate run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I/RA/LDB/LD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.7%/ -3.2% / -2.3% / -3.2% (av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.9%/ -4.8% (Class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1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I/RA/LDB/LD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.9%/ -3.4%/ -2.5%/ -3.7% (av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.0%/ -5.1% (Class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4659480" y="44280"/>
            <a:ext cx="4160520" cy="680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of CE2.c and CE2.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A806-A58B-41EA-B296-8902ED618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7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8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08000" y="692280"/>
          <a:ext cx="8928000" cy="5351400"/>
        </p:xfrm>
        <a:graphic>
          <a:graphicData uri="http://schemas.openxmlformats.org/drawingml/2006/table">
            <a:tbl>
              <a:tblPr/>
              <a:tblGrid>
                <a:gridCol w="792000"/>
                <a:gridCol w="1224000"/>
                <a:gridCol w="3152880"/>
                <a:gridCol w="469800"/>
                <a:gridCol w="469800"/>
                <a:gridCol w="470160"/>
                <a:gridCol w="469800"/>
                <a:gridCol w="469800"/>
                <a:gridCol w="470160"/>
                <a:gridCol w="469800"/>
                <a:gridCol w="469800"/>
              </a:tblGrid>
              <a:tr h="4363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hor = HM-6.0 CE2 anc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U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5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3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c.1-1_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 filter &lt;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rict number of ALF filters in each picture using merge process in HM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c.1-1_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 filter &lt;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35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c.1-1_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 filter &lt;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c.1-1_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 filter &lt;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c.1-2_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0417 BA (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rict number of ALF filters in each picture by modifying BA tabl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c.1-2_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0417 BA 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55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c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00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rict number of ALF filters to 1, 4 or 6, by switching 3 kinds of BA tabl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3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d.1_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regions in 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epth of quadtree in ALF shall be 2 (16 region RA) or 3 (64 region R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503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d.1_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regions in 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</a:tbl>
          </a:graphicData>
        </a:graphic>
      </p:graphicFrame>
      <p:sp>
        <p:nvSpPr>
          <p:cNvPr id="410" name=""/>
          <p:cNvSpPr txBox="1"/>
          <p:nvPr/>
        </p:nvSpPr>
        <p:spPr>
          <a:xfrm>
            <a:off x="392040" y="6021360"/>
            <a:ext cx="83822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rther discussion/study in CE2 and/or AHG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線コネクタ 5"/>
          <p:cNvSpPr/>
          <p:nvPr/>
        </p:nvSpPr>
        <p:spPr>
          <a:xfrm>
            <a:off x="5148360" y="2852640"/>
            <a:ext cx="21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2" name="直線コネクタ 11"/>
          <p:cNvSpPr/>
          <p:nvPr/>
        </p:nvSpPr>
        <p:spPr>
          <a:xfrm>
            <a:off x="5148360" y="2924280"/>
            <a:ext cx="21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3" name="直線コネクタ 12"/>
          <p:cNvSpPr/>
          <p:nvPr/>
        </p:nvSpPr>
        <p:spPr>
          <a:xfrm>
            <a:off x="5148360" y="3284640"/>
            <a:ext cx="21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4" name="直線コネクタ 13"/>
          <p:cNvSpPr/>
          <p:nvPr/>
        </p:nvSpPr>
        <p:spPr>
          <a:xfrm>
            <a:off x="5148360" y="3357720"/>
            <a:ext cx="21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5" name="直線コネクタ 14"/>
          <p:cNvSpPr/>
          <p:nvPr/>
        </p:nvSpPr>
        <p:spPr>
          <a:xfrm>
            <a:off x="5148360" y="5300640"/>
            <a:ext cx="21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6" name="直線コネクタ 15"/>
          <p:cNvSpPr/>
          <p:nvPr/>
        </p:nvSpPr>
        <p:spPr>
          <a:xfrm>
            <a:off x="5148360" y="5373720"/>
            <a:ext cx="21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7" name="直線コネクタ 16"/>
          <p:cNvSpPr/>
          <p:nvPr/>
        </p:nvSpPr>
        <p:spPr>
          <a:xfrm>
            <a:off x="5148360" y="5732640"/>
            <a:ext cx="21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8" name="直線コネクタ 17"/>
          <p:cNvSpPr/>
          <p:nvPr/>
        </p:nvSpPr>
        <p:spPr>
          <a:xfrm>
            <a:off x="5148360" y="5805360"/>
            <a:ext cx="21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9" name="テキスト ボックス 6"/>
          <p:cNvSpPr/>
          <p:nvPr/>
        </p:nvSpPr>
        <p:spPr>
          <a:xfrm>
            <a:off x="7217280" y="5167440"/>
            <a:ext cx="1989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Further study 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in AHG6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based on Option 2.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0" name="テキスト ボックス 6"/>
          <p:cNvSpPr/>
          <p:nvPr/>
        </p:nvSpPr>
        <p:spPr>
          <a:xfrm>
            <a:off x="7160040" y="2924280"/>
            <a:ext cx="1982160" cy="31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No need to discuss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2 Subt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4920" y="620280"/>
            <a:ext cx="91454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67120" indent="-267120">
              <a:lnSpc>
                <a:spcPts val="1800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implific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b: Simplification of ALF sign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e: Depth of LCU division for filtering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Recommend to adopt all simpl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lice boundary processing study for LCU-based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f: Line memory reduction fix at independent slice and tile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Make recommendation after subjective vie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ignalling/syntax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a: Signalling mode change from "switch between APS mode and slice header mode" to "switch between APS mode and interleaving mod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Recommend CE2.a.1 and CE2.a.2 as baseline Options and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BA vs RA study, including BA simpl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c: Number of classes in B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d: Number of regions in R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Discuss CE2.c to reduce testing for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oder optimization study for LCU-based encoding (non-normati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g: Encoder complexity reduction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Luma/chroma filter coefficients unification study in LCU-based enco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h: Reuse luma filter coefficients in chroma filtering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Should be integrated IF Option 1 or 3 in AHG6 further study is recomm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Combin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i: Combination sub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Not adopted as it is (further study in conceptually in AHG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D3BB-C5A5-4894-8353-7889EC512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4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5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of CE2.g (non-normativ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F6AD-4075-4E84-A81B-A5E91C661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8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9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92040" y="3428640"/>
            <a:ext cx="8382240" cy="30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further discussion in CE2 and AHG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250920" y="811080"/>
          <a:ext cx="8569080" cy="2473560"/>
        </p:xfrm>
        <a:graphic>
          <a:graphicData uri="http://schemas.openxmlformats.org/drawingml/2006/table">
            <a:tbl>
              <a:tblPr/>
              <a:tblGrid>
                <a:gridCol w="1184040"/>
                <a:gridCol w="831960"/>
                <a:gridCol w="1817640"/>
                <a:gridCol w="592200"/>
                <a:gridCol w="590400"/>
                <a:gridCol w="592200"/>
                <a:gridCol w="592200"/>
                <a:gridCol w="592200"/>
                <a:gridCol w="592200"/>
                <a:gridCol w="592200"/>
                <a:gridCol w="591840"/>
              </a:tblGrid>
              <a:tr h="6829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hor = HM-6.0 CE2 anc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U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2440"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5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2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863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g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use bottom or right 4 p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rict usage of bottom or right N lines during parameter estim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2 Subt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4920" y="620280"/>
            <a:ext cx="91454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67120" indent="-267120">
              <a:lnSpc>
                <a:spcPts val="1800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implific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b: Simplification of ALF sign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e: Depth of LCU division for filtering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Recommend to adopt all simpl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lice boundary processing study for LCU-based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f: Line memory reduction fix at independent slice and tile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Make recommendation after subjective vie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ignalling/syntax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a: Signalling mode change from "switch between APS mode and slice header mode" to "switch between APS mode and interleaving mod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Recommend CE2.a.1 and CE2.a.2 as baseline Options and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BA vs RA study, including BA simpl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c: Number of classes in B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d: Number of regions in R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Discuss CE2.c to reduce testing for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Encoder optimization study for LCU-based encoding (non-normati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g: Encoder complexity reduction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ma/chroma filter coefficients unification study in LCU-based enco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h: Reuse luma filter coefficients in chroma filtering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hould be integrated IF Option 1 or 3 in AHG6 further study is recomm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Combin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i: Combination sub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Not adopted as it is (further study in conceptually in AHG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4FC3-44D9-4D91-8B47-BDB97038C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5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6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of CE2.h (4/2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62A2-6BC5-42D8-8BDB-FC168C692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9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0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92040" y="3212640"/>
            <a:ext cx="838224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use luma filter coefficients in chroma filtering for LCU-based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subtest is related to Options 1 and 3.  If Option 1 or 3 is recommeded by AHG6, it is recommended to adopt CE2.h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since chroma provides 0.7% to 3.1% gain which means overall gain (Y/U/V) seems “gain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324000" y="907920"/>
          <a:ext cx="8640720" cy="2160720"/>
        </p:xfrm>
        <a:graphic>
          <a:graphicData uri="http://schemas.openxmlformats.org/drawingml/2006/table">
            <a:tbl>
              <a:tblPr/>
              <a:tblGrid>
                <a:gridCol w="1144440"/>
                <a:gridCol w="990720"/>
                <a:gridCol w="1930320"/>
                <a:gridCol w="571320"/>
                <a:gridCol w="571680"/>
                <a:gridCol w="573120"/>
                <a:gridCol w="571320"/>
                <a:gridCol w="571680"/>
                <a:gridCol w="571320"/>
                <a:gridCol w="573120"/>
                <a:gridCol w="571680"/>
              </a:tblGrid>
              <a:tr h="59544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hor = HM-6.0 CE2 anc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U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00"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06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3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727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h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use luma filter on chro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w chroma to use luma ALF filter coefficien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2 Subt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4920" y="620280"/>
            <a:ext cx="91454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67120" indent="-267120">
              <a:lnSpc>
                <a:spcPts val="1800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implific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b: Simplification of ALF sign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e: Depth of LCU division for filtering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Recommend to adopt all simpl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lice boundary processing study for LCU-based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f: Line memory reduction fix at independent slice and tile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Make recommendation after subjective vie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ignalling/syntax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a: Signalling mode change from "switch between APS mode and slice header mode" to "switch between APS mode and interleaving mod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Recommend CE2.a.1 and CE2.a.2 as baseline Options and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BA vs RA study, including BA simpl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c: Number of classes in B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d: Number of regions in R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Discuss CE2.c to reduce testing for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Encoder optimization study for LCU-based encoding (non-normati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g: Encoder complexity reduction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Luma/chroma filter coefficients unification study in LCU-based enco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h: Reuse luma filter coefficients in chroma filtering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Should be integrated IF Option 1 or 3 in AHG6 further study is recomm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i: Combination sub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t adopted as it is (further study in conceptually in AHG6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CDC1-8E08-4652-AA48-8A3802841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6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7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of CE2.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DAC5-D946-4C6F-B53D-5362BCB88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0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1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92040" y="2636640"/>
            <a:ext cx="83822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74960" indent="-17496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2.i.1 should not be adopted.  However, the concept of CE2.i.1 is under the study in AHG6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395280" y="907920"/>
          <a:ext cx="8497800" cy="1552680"/>
        </p:xfrm>
        <a:graphic>
          <a:graphicData uri="http://schemas.openxmlformats.org/drawingml/2006/table">
            <a:tbl>
              <a:tblPr/>
              <a:tblGrid>
                <a:gridCol w="1125720"/>
                <a:gridCol w="1179360"/>
                <a:gridCol w="1693800"/>
                <a:gridCol w="561960"/>
                <a:gridCol w="561960"/>
                <a:gridCol w="561960"/>
                <a:gridCol w="563760"/>
                <a:gridCol w="561960"/>
                <a:gridCol w="561960"/>
                <a:gridCol w="563400"/>
                <a:gridCol w="561960"/>
              </a:tblGrid>
              <a:tr h="4363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hor = HM-6.0 CE2 anc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U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3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46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i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TVC-H00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xt Topic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pr. 19, 20, 2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8000" y="787320"/>
            <a:ext cx="8964720" cy="55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rm whether Option 2 should be further studi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reaching the conclusion for signalling scheme of LCU based ALF, it should be discussed whether we should have two ALF modes (picture-based ALF and LCU-based ALF) or a unified single mode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116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0.2-0.3% gai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ption 2. 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A unified mode (i.e., LCU-based ALF) is recommended, if Option 2 is recommen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 vs BA discu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116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maximum filters in RA or BA needs to be stu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7972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eed testing of more than 16 regions for RA 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64 regions are tes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6800" indent="-27648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gain by RA6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Confirmed (Cf. JCTVC-I24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7972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eed testing of less than 16 filters for BA 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Further test on-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116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for higher resolution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pendent ALF control for each component  (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116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tive change to allow independent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7972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r allows independent control 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This option is recommen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7972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r controls chroma only when luma is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LF will be defined in an HEVC profil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116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suggestion to consider “Option2_RA/BA plus independent ALF on/off control for each component” as the first priority for Main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1160">
              <a:lnSpc>
                <a:spcPts val="1998"/>
              </a:lnSpc>
              <a:spcAft>
                <a:spcPts val="300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owever, this discussion should be delegated to AHG8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158C-3183-411E-A70F-2DDBC8B0B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7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8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9" name="テキスト ボックス 6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xt Topic (Apr. 1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08000" y="787320"/>
            <a:ext cx="8964720" cy="55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624"/>
              </a:spcAft>
              <a:buClr>
                <a:srgbClr val="bfbf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Confirm whether Option 2 should be further studi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24"/>
              </a:spcAft>
              <a:buClr>
                <a:srgbClr val="bfbf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After reaching the conclusion for signalling scheme of LCU based ALF, it should be discussed whether we should have two ALF modes (picture-based ALF and LCU-based ALF) or a unified single mode.  (Cf. Slides 16 and 17, </a:t>
            </a:r>
            <a:r>
              <a:rPr b="1" i="1" lang="en-US" sz="2000" spc="-1" strike="noStrike">
                <a:solidFill>
                  <a:srgbClr val="bfbfbf"/>
                </a:solidFill>
                <a:latin typeface="Arial"/>
              </a:rPr>
              <a:t>Discuss during the meeting?</a:t>
            </a: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 vs BA discu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maximum filters in RA or BA needs to be stu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56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eed testing of more than 16 regions for RA 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64 regions are tes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gain by RA64 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eed cross-check report to confirm th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561"/>
              </a:spcAft>
              <a:buClr>
                <a:srgbClr val="bfbfb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May need testing of less than 16 filters for BA (</a:t>
            </a:r>
            <a:r>
              <a:rPr b="0" i="1" lang="en-US" sz="1800" spc="-1" strike="noStrike">
                <a:solidFill>
                  <a:srgbClr val="bfbfbf"/>
                </a:solidFill>
                <a:latin typeface="Arial"/>
              </a:rPr>
              <a:t>No need to test</a:t>
            </a: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561"/>
              </a:spcAft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Results for higher resolution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24"/>
              </a:spcAft>
              <a:buClr>
                <a:srgbClr val="bfbf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Independent ALF control for each component  (</a:t>
            </a:r>
            <a:r>
              <a:rPr b="1" i="1" lang="en-US" sz="2000" spc="-1" strike="noStrike">
                <a:solidFill>
                  <a:srgbClr val="bfbfbf"/>
                </a:solidFill>
                <a:latin typeface="Arial"/>
              </a:rPr>
              <a:t>Done, to be reported</a:t>
            </a: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561"/>
              </a:spcAft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Normative change to allow independent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561"/>
              </a:spcAft>
              <a:buClr>
                <a:srgbClr val="bfbfb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Encoder allows independent control (</a:t>
            </a:r>
            <a:r>
              <a:rPr b="0" i="1" lang="en-US" sz="1800" spc="-1" strike="noStrike">
                <a:solidFill>
                  <a:srgbClr val="bfbfbf"/>
                </a:solidFill>
                <a:latin typeface="Arial"/>
              </a:rPr>
              <a:t>This option is recommended</a:t>
            </a: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561"/>
              </a:spcAft>
              <a:buClr>
                <a:srgbClr val="bfbfb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Encoder controls chroma only when luma is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24"/>
              </a:spcAft>
              <a:buClr>
                <a:srgbClr val="bfbf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How ALF will be defined in an HEVC profil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5381-AF66-4842-8979-60D2D894D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3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4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5" name="テキスト ボックス 6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for RA16 vs. RA64 for Option 2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pr. 1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90A4-4F28-4C45-A279-293B05691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8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9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92040" y="2636640"/>
            <a:ext cx="8382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to wait for cross-checking, but RA64 seems not to give additional coding ga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in Class A sequences, no gain is obse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16 would be used for discussion of RA vs 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250920" y="1001880"/>
          <a:ext cx="8497800" cy="1347480"/>
        </p:xfrm>
        <a:graphic>
          <a:graphicData uri="http://schemas.openxmlformats.org/drawingml/2006/table">
            <a:tbl>
              <a:tblPr/>
              <a:tblGrid>
                <a:gridCol w="1473120"/>
                <a:gridCol w="2411280"/>
                <a:gridCol w="1668600"/>
                <a:gridCol w="736560"/>
                <a:gridCol w="735120"/>
                <a:gridCol w="736560"/>
                <a:gridCol w="736560"/>
              </a:tblGrid>
              <a:tr h="22284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hor = HM-6.0 HE10 ALF 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2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560"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32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356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16 on Option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64 on Option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</a:tbl>
          </a:graphicData>
        </a:graphic>
      </p:graphicFrame>
      <p:sp>
        <p:nvSpPr>
          <p:cNvPr id="472" name="テキスト ボックス 6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M-6.0 A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92040" y="78696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C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hor: ALF-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: ALF-on w/ CE2 rest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ccurate run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I/RA/LDB/LD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.1%/ -2.0% / -1.6% / -2.7% (av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.0%/ -3.0% (Class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1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I/RA/LDB/LD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.2%/ -2.2%/ -1.6%/ -3.1% (av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.1%/ -3.4% (Class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4659480" y="44280"/>
            <a:ext cx="4160520" cy="680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xt Topic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pr. 1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08000" y="787320"/>
            <a:ext cx="8964720" cy="55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624"/>
              </a:spcAft>
              <a:buClr>
                <a:srgbClr val="bfbf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Confirm whether Option 2 should be further studi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24"/>
              </a:spcAft>
              <a:buClr>
                <a:srgbClr val="bfbf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After reaching the conclusion for signalling scheme of LCU based ALF, it should be discussed whether we should have two ALF modes (picture-based ALF and LCU-based ALF) or a unified single mode.  (Cf. Slides 16 and 17, </a:t>
            </a:r>
            <a:r>
              <a:rPr b="1" i="1" lang="en-US" sz="2000" spc="-1" strike="noStrike">
                <a:solidFill>
                  <a:srgbClr val="bfbfbf"/>
                </a:solidFill>
                <a:latin typeface="Arial"/>
              </a:rPr>
              <a:t>Discuss during the meeting?</a:t>
            </a: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24"/>
              </a:spcAft>
              <a:buClr>
                <a:srgbClr val="bfbf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RA vs BA discu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561"/>
              </a:spcAft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Number of maximum filters in RA or BA needs to be stu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561"/>
              </a:spcAft>
              <a:buClr>
                <a:srgbClr val="bfbfb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May need testing of more than 16 regions for RA (</a:t>
            </a:r>
            <a:r>
              <a:rPr b="0" i="1" lang="en-US" sz="1800" spc="-1" strike="noStrike">
                <a:solidFill>
                  <a:srgbClr val="bfbfbf"/>
                </a:solidFill>
                <a:latin typeface="Arial"/>
              </a:rPr>
              <a:t>64 regions are tested</a:t>
            </a: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spcAft>
                <a:spcPts val="561"/>
              </a:spcAft>
              <a:buClr>
                <a:srgbClr val="bfbfb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No gain by RA64 (</a:t>
            </a:r>
            <a:r>
              <a:rPr b="0" i="1" lang="en-US" sz="1800" spc="-1" strike="noStrike">
                <a:solidFill>
                  <a:srgbClr val="bfbfbf"/>
                </a:solidFill>
                <a:latin typeface="Arial"/>
              </a:rPr>
              <a:t>need cross-check report to confirm this</a:t>
            </a: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561"/>
              </a:spcAft>
              <a:buClr>
                <a:srgbClr val="bfbfb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May need testing of less than 16 filters for BA (</a:t>
            </a:r>
            <a:r>
              <a:rPr b="0" i="1" lang="en-US" sz="1800" spc="-1" strike="noStrike">
                <a:solidFill>
                  <a:srgbClr val="bfbfbf"/>
                </a:solidFill>
                <a:latin typeface="Arial"/>
              </a:rPr>
              <a:t>No need to test</a:t>
            </a: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561"/>
              </a:spcAft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Results for higher resolution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pendent ALF control for each component  (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one, to be repor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tive change to allow independent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56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r allows independent control 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This option is recommen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56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r controls chroma only when luma is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24"/>
              </a:spcAft>
              <a:buClr>
                <a:srgbClr val="bfbf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How ALF will be defined in an HEVC profil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37A0-5DAB-4523-9C4C-02096ECA1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6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7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8" name="テキスト ボックス 6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65656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ALF control for each compon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pr. 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905B-BA3C-4CB8-A4B9-59481FF0F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1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2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250920" y="765000"/>
          <a:ext cx="8642160" cy="2673360"/>
        </p:xfrm>
        <a:graphic>
          <a:graphicData uri="http://schemas.openxmlformats.org/drawingml/2006/table">
            <a:tbl>
              <a:tblPr/>
              <a:tblGrid>
                <a:gridCol w="1181160"/>
                <a:gridCol w="2952720"/>
                <a:gridCol w="2146320"/>
                <a:gridCol w="590400"/>
                <a:gridCol w="590400"/>
                <a:gridCol w="590760"/>
                <a:gridCol w="590400"/>
              </a:tblGrid>
              <a:tr h="2314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hor = HM-6.0 HE10 ALF 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2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3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31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284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_pr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2 (normative restric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tive restri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ependent 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 restri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3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oma control restriction by enco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normative restri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_pr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2 (normative restric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tive restri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 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tri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3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oma control restriction by enco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normative restri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</a:tbl>
          </a:graphicData>
        </a:graphic>
      </p:graphicFrame>
      <p:sp>
        <p:nvSpPr>
          <p:cNvPr id="484" name="テキスト ボックス 6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5" name="コンテンツ プレースホルダー 2"/>
          <p:cNvSpPr/>
          <p:nvPr/>
        </p:nvSpPr>
        <p:spPr>
          <a:xfrm>
            <a:off x="392040" y="3789360"/>
            <a:ext cx="86439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cross-checking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287280" indent="-2872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uma/chroma independent ALF control is recommended.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ntax comparison (HM6.0 ALF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投影片編號版面配置區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CE8E-3CB3-4D0D-BC07-23ED87EE2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8" name="日期版面配置區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9" name="頁尾版面配置區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282600" y="981000"/>
          <a:ext cx="4794120" cy="4267440"/>
        </p:xfrm>
        <a:graphic>
          <a:graphicData uri="http://schemas.openxmlformats.org/drawingml/2006/table">
            <a:tbl>
              <a:tblPr/>
              <a:tblGrid>
                <a:gridCol w="4057560"/>
                <a:gridCol w="736560"/>
              </a:tblGrid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aps_rbsp( )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p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s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_scaling_list_data_present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( aps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caling_list_data_present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flag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caling_list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param( 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ps_deblocking_filter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aps_deblocking_filter_flag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isable_deblocking_filter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!disable_deblocking_filter_flag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beta_offset_div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tc_offset_div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ps_sao_interleaving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f(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!aps_sao_interleaving_flag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ps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ample_adaptive_offset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f( aps_sample_adaptive_offset_flag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ps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sao_param( 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ps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daptive_loop_filter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f( aps_adaptive_loop_filter_flag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b0f0"/>
                          </a:solidFill>
                          <a:latin typeface="Times New Roman"/>
                          <a:ea typeface="新細明體"/>
                        </a:rPr>
                        <a:t>alf_param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( 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ps_extension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aps_extension_flag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while( more_rbsp_data( )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ps_extension_data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rbsp_trailing_bits( 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4356000" y="981000"/>
          <a:ext cx="4392720" cy="4518000"/>
        </p:xfrm>
        <a:graphic>
          <a:graphicData uri="http://schemas.openxmlformats.org/drawingml/2006/table">
            <a:tbl>
              <a:tblPr/>
              <a:tblGrid>
                <a:gridCol w="3745080"/>
                <a:gridCol w="647640"/>
              </a:tblGrid>
              <a:tr h="24516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slice_header( )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irst_slice_in_pic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first_slice_in_pic_flag = = 0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lice_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lice_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ntropy_slice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!entropy_slice_flag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adaptive_loop_filter_enabled_flag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lice_adaptive_loop_filter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slice_adaptive_loop_filter_flag  &amp;&amp;  alf_coef_in_slice_flag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b0f0"/>
                          </a:solidFill>
                          <a:latin typeface="Times New Roman"/>
                          <a:ea typeface="Malgun Gothic"/>
                        </a:rPr>
                        <a:t>alf_param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slice_adaptive_loop_filter_flag  &amp;&amp;  !alf_coef_in_slice_flag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b0f0"/>
                          </a:solidFill>
                          <a:latin typeface="Times New Roman"/>
                          <a:ea typeface="Malgun Gothic"/>
                        </a:rPr>
                        <a:t>alf_cu_control_param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0948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 seq_loop_filter_across_slices_enabled_flag  &amp;&amp;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 slice_adaptive_loop_filter_flag  | |  slice_sample_adaptive_offset_flag  | |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!disable_deblocking_filter_flag )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lice_loop_filter_across_slices_enabled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tiles_or_entropy_coding_sync_idc &gt; 0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um_entry_point_offse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num_entry_point_offsets &gt; 0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offset_len_minu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 i = 0; i &lt; num_entry_point_offsets; i++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ntry_point_offset[ i 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576360" y="735120"/>
          <a:ext cx="4572000" cy="5790960"/>
        </p:xfrm>
        <a:graphic>
          <a:graphicData uri="http://schemas.openxmlformats.org/drawingml/2006/table">
            <a:tbl>
              <a:tblPr/>
              <a:tblGrid>
                <a:gridCol w="3733560"/>
                <a:gridCol w="838440"/>
              </a:tblGrid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alf_param()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b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nable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r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nable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one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luma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nit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er_slice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1276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b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nable_flag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one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b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nit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er_slice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r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nable_flag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one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r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nit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er_slice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f( !alf_coef_in_slice_flag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f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um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l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u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_width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minu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e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f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um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l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u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height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minu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e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} e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f_num_lcu_in_slice_minu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ndCtbrY =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numCtb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− 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+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firstCtbAddr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/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numCtbInWid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endCtbrX =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numCtb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− 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+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firstCtbAddr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% numCtbInWid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i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;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&lt;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numCtb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; i++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rx = 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 +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firstCtbAddr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% numCtbInWid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ry = 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 +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firstCtbAddr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/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numCtbInWid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ndrX = 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ry =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 endCtbr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?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ndCtbrX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: (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umCtbInWidth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− 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 rx 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 0 ) &amp;&amp; ( i − numCtbInWidth &gt;= 0 ) &amp;&amp; ( alf_one_luma_unit_per_slice_flag = =0 )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f_repeat_row _fla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[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b0f0"/>
                          </a:solidFill>
                          <a:latin typeface="Times New Roman"/>
                          <a:ea typeface="Malgun Gothic"/>
                        </a:rPr>
                        <a:t>alf_unit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rx, ry, 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, i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, endrX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,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one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luma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nit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er_slice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lag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b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nable_flag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 rx 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 0 ) &amp;&amp; ( i − numCtbInWidth &gt;= 0 ) &amp;&amp; ( alf_one_cb_unit_per_slice_flag = =0 )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f_repeat_row _fla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[1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b0f0"/>
                          </a:solidFill>
                          <a:latin typeface="Times New Roman"/>
                          <a:ea typeface="Malgun Gothic"/>
                        </a:rPr>
                        <a:t>alf_unit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rx, ry,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, i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, endrX,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one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b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nit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er_slice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lag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r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nable_flag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 rx 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 0) &amp;&amp; ( i − numCtbInWidth&gt;= 0) &amp;&amp; ( alf_one_cr_unit_per_slice_flag = =0 )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f_repeat_row _fla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[2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b0f0"/>
                          </a:solidFill>
                          <a:latin typeface="Times New Roman"/>
                          <a:ea typeface="Malgun Gothic"/>
                        </a:rPr>
                        <a:t>alf_unit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rx, ry,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, i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, endrX,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one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r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nit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er_slice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lag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1670040" y="1238400"/>
          <a:ext cx="4419720" cy="4572000"/>
        </p:xfrm>
        <a:graphic>
          <a:graphicData uri="http://schemas.openxmlformats.org/drawingml/2006/table">
            <a:tbl>
              <a:tblPr/>
              <a:tblGrid>
                <a:gridCol w="3657600"/>
                <a:gridCol w="762120"/>
              </a:tblGrid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alf_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unit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rx, ry, cIdx, lcuIdx, endrX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oneUnitFlag 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)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f(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oneUnit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F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lag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f(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lcuIdx 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f_lcu_enable_flag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Idx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][ ry ][ rx 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f( alf_lcu_enable_flag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Idx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][ ry ][ rx ]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b0f0"/>
                          </a:solidFill>
                          <a:latin typeface="Times New Roman"/>
                          <a:ea typeface="Malgun Gothic"/>
                        </a:rPr>
                        <a:t>alf_info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 rx, ry, cIdx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} else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!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f_repeat_row _flag[ cIdx ]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rx 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 || alfRun[ cIdx ][ ry ][ rx ] &lt; 0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lcuIdx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–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umCtbInWidth &lt; 0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Run[ cIdx ][ ry ][ rx ] = 0 +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run_di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Run[ cIdx ][ ry ][ rx ] = alfRun[ cIdx ][ ry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− 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][ rx ]+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run_di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Run[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Idx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][ ry ][ rx+ 1 ] = alfRun[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Idx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][ ry ][ rx ] − 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f( rx == 0 || alfRun [ cIdx ] [ rx ][ ry ] &lt; 0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65160" rIns="65160" tIns="0" bIns="0" anchor="t">
                      <a:noAutofit/>
                    </a:bodyPr>
                    <a:p>
                      <a:pPr marL="635040" indent="-63504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f( ry &gt; 0 &amp;&amp;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( lcuIdx −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umCtbInWidth &gt;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 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| | alfA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rossSlice)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merge_up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!alf_merge_up_flag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f_lcu_enable_flag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 cIdx ][ ry ][ rx 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f( alf_lcu_enable_flag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 cIdx ][ ry ][ rx ]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b0f0"/>
                          </a:solidFill>
                          <a:latin typeface="Times New Roman"/>
                          <a:ea typeface="Malgun Gothic"/>
                        </a:rPr>
                        <a:t>alf_info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 rx, ry, cIdx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 e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Run[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Idx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][ ry ][ rx ] = alfRun[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Idx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][ ry − 1 ][ rx ]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3408480" y="1798560"/>
          <a:ext cx="4572000" cy="4740480"/>
        </p:xfrm>
        <a:graphic>
          <a:graphicData uri="http://schemas.openxmlformats.org/drawingml/2006/table">
            <a:tbl>
              <a:tblPr/>
              <a:tblGrid>
                <a:gridCol w="3657600"/>
                <a:gridCol w="914400"/>
              </a:tblGrid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alf_info( rx, ry, cIdx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 )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NumALFFiltersInStoredBuffer[cIdx]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&gt; 0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new_filter_set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alf_new_filter_set_flag 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 0 &amp;&amp;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NumALFFiltersInStoredBuffer[cIdx]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&gt; 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stored_filter_set_idx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 cIdx 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lse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Idx = = 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no_filters_minu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no_filters_minus1 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 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start_second_fil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lse 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no_filters_minus1 &gt; 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i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;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&lt; 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; i++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filter_pattern_flag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[ cIdx ][ ry ][ rx ]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i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alf_no_filters_minus1 &gt; 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pred_flag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[ cIdx ][ ry ][ rx 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i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;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&lt; AlfNumFilters; i++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f_nb_pred_luma_flag[ cIdx ][ ry ][ rx ]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i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NumFilters &gt; 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min_kstart_minu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i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; i &lt; 4; i++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golomb_index_flag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i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i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;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&lt; AlfNumFilters; i++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j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;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j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&lt; AlfCodedLength; j++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filt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oeff[ cIdx ][ ry ][ rx ]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][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j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g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e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j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; j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&lt; AlfCodedLength; j++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filt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oeff[ cIdx ][ ry ][ rx ][ 0 ]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j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4932360" y="2781360"/>
          <a:ext cx="3886200" cy="1371600"/>
        </p:xfrm>
        <a:graphic>
          <a:graphicData uri="http://schemas.openxmlformats.org/drawingml/2006/table">
            <a:tbl>
              <a:tblPr/>
              <a:tblGrid>
                <a:gridCol w="3124080"/>
                <a:gridCol w="762120"/>
              </a:tblGrid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alf_cu_control_param()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cu_control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alf_cu_control_flag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cu_control_max_dep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length_cu_control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 i = 0; i &lt; NumAlfCuFlag; i++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cu_flag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 i 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496" name="テキスト ボックス 6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 comparison (Option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uma/chorma independent ALF on/of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投影片編號版面配置區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0C4B-61FF-47A6-9137-82B66808C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9" name="日期版面配置區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0" name="頁尾版面配置區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52280" y="836640"/>
          <a:ext cx="4813560" cy="4572000"/>
        </p:xfrm>
        <a:graphic>
          <a:graphicData uri="http://schemas.openxmlformats.org/drawingml/2006/table">
            <a:tbl>
              <a:tblPr/>
              <a:tblGrid>
                <a:gridCol w="4073760"/>
                <a:gridCol w="739800"/>
              </a:tblGrid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aps_rbsp( )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p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s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_scaling_list_data_present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( aps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caling_list_data_present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flag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caling_list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param( 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ps_deblocking_filter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aps_deblocking_filter_flag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isable_deblocking_filter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!disable_deblocking_filter_flag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beta_offset_div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tc_offset_div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ps_sao_interleaving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f(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!aps_sao_interleaving_flag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ps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ample_adaptive_offset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f( aps_sample_adaptive_offset_flag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ps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sao_param( 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cIdx=0;cIdx&lt;3;cIdx++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aps_filter_flag[cIdx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alf_aps_filter_flag[cIdx]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b0f0"/>
                          </a:solidFill>
                          <a:latin typeface="Times New Roman"/>
                          <a:ea typeface="Malgun Gothic"/>
                        </a:rPr>
                        <a:t>alf_picture_info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cIdx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ps_extension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aps_extension_flag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while( more_rbsp_data( )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ps_extension_data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rbsp_trailing_bits( 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5076720" y="1359000"/>
          <a:ext cx="3962520" cy="2286000"/>
        </p:xfrm>
        <a:graphic>
          <a:graphicData uri="http://schemas.openxmlformats.org/drawingml/2006/table">
            <a:tbl>
              <a:tblPr/>
              <a:tblGrid>
                <a:gridCol w="3124440"/>
                <a:gridCol w="838080"/>
              </a:tblGrid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alf_picture_info(cIdx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)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Idx = = 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320"/>
                          <a:tab algn="l" pos="212760"/>
                          <a:tab algn="l" pos="34596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no_filters_minu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320"/>
                          <a:tab algn="l" pos="212760"/>
                          <a:tab algn="l" pos="34596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no_filters_minus1 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 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3040"/>
                          <a:tab algn="l" pos="345960"/>
                          <a:tab algn="l" pos="50328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start_second_fil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12760"/>
                          <a:tab algn="l" pos="34596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lse 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no_filters_minus1 &gt; 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12760"/>
                          <a:tab algn="l" pos="345960"/>
                          <a:tab algn="l" pos="50328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i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;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&lt;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; i++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9360"/>
                          <a:tab algn="l" pos="503280"/>
                          <a:tab algn="l" pos="62244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filter_pattern_flag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[ cIdx ]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i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12760"/>
                          <a:tab algn="l" pos="34596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i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;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&lt; AlfNumFilters; i++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3040"/>
                          <a:tab algn="l" pos="488880"/>
                          <a:tab algn="l" pos="50328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j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;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j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&lt; AlfCodedLength; j++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9360"/>
                          <a:tab algn="l" pos="503280"/>
                          <a:tab algn="l" pos="62244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filt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oeff[ cIdx ]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][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j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g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840"/>
                          <a:tab algn="l" pos="21276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e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596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j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; j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&lt; AlfCodedLength; j++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3040"/>
                          <a:tab algn="l" pos="345960"/>
                          <a:tab algn="l" pos="50328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filt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oeff[ cIdx ] [ 0 ]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j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4211640" y="4005360"/>
          <a:ext cx="4680000" cy="2133360"/>
        </p:xfrm>
        <a:graphic>
          <a:graphicData uri="http://schemas.openxmlformats.org/drawingml/2006/table">
            <a:tbl>
              <a:tblPr/>
              <a:tblGrid>
                <a:gridCol w="3959280"/>
                <a:gridCol w="720720"/>
              </a:tblGrid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slice_data( )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tbAddrRS = SliceCtbAddr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tbAddrTS = CtbAddrRStoTS[ CtbAddrRS 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moreDataFlag =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o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cIdx=0;cIdx&lt;3; cIdx++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alf_slice_filter_flag[cIdx]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lcu_enable_flag[ cIdx ][ ry ][ rx 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e(v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moreDataFlag = coding_tree( xCtb, yCtb, Log2CtbSize, 0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tbAddrTS+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 while( moreDataFlag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4" name="テキスト ボックス 6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640" y="-13968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urce Codes (Apr. 20, 24 and 26 upda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395280" y="2133720"/>
          <a:ext cx="8381880" cy="205740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ft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oder</a:t>
                      </a:r>
                      <a:br>
                        <a:rPr sz="18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ComAdaptiveLoopFilter.c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coder</a:t>
                      </a:r>
                      <a:br>
                        <a:rPr sz="18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EncAdaptiveLoopFilter.c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M5.0 A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M6.0 A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2 ALF: Pre + 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159 (75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13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4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2 ALF: Pre + 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6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159 (75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14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4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</a:tbl>
          </a:graphicData>
        </a:graphic>
      </p:graphicFrame>
      <p:sp>
        <p:nvSpPr>
          <p:cNvPr id="507" name="投影片編號版面配置區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B256-884F-4151-8951-7E024BAFD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8" name="日期版面配置區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9" name="頁尾版面配置區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0" name="コンテンツ プレースホルダー 2"/>
          <p:cNvSpPr/>
          <p:nvPr/>
        </p:nvSpPr>
        <p:spPr>
          <a:xfrm>
            <a:off x="395280" y="765000"/>
            <a:ext cx="8381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7280" indent="-287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 of the number of activated source code lines in HM5.0 ALF, HM6.0 ALF and Option2 ALF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1" name="テキスト ボックス 6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2" name="テキスト ボックス 1"/>
          <p:cNvSpPr/>
          <p:nvPr/>
        </p:nvSpPr>
        <p:spPr>
          <a:xfrm>
            <a:off x="14400" y="4365720"/>
            <a:ext cx="928368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ource code for Option2 has been highly cleaned up for HM7 integration.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Numbers in parenthesis are omitting the support of slice/tile/I-PCM process.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mmendation (Apr. 19, 20, 2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92040" y="78696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4400" indent="-284400"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Options 1 to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116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 1 syntax supported by several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79720"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voices that Option 1 seems the best trade-off between complexity and coding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79720"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concern about the coefficient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116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 2 syntax supported by several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79720"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concern about error resilience and overhead to signal ALF coefs. in 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79720"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voices that Option 2 seems the best trade-off between complexity and coding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ific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116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opt all simplification tested in CE2.b and CE2.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116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 Adaptive ALF (RA16) as the first priority, but Block Adaptive ALF (BA16) is also another candidate (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t conclud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f. JCTVC-I036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79720"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tion of 16 filters for BA should be also discussed (Cf. JCTVC-I02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116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fy two signalling modes into one mode (i.e., Option 2 LCU m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116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LF control for luma and each chroma com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116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code and draft text cleanup (Cf. JCTVC-I15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rofile discussion should be done in AHG8 or in JCT-V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D967-C9CB-461B-96EF-9EEC950E9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6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7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8" name="テキスト ボックス 6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2 Subt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4920" y="620280"/>
            <a:ext cx="91454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67120" indent="-26712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ific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b: Simplification of ALF sign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e: Depth of LCU division for filtering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commend to adopt all simpl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ce boundary processing study for LCU-based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f: Line memory reduction fix at independent slice and tile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ake recommendation after subjective vie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alling/syntax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a: Signalling mode change from "switch between APS mode and slice header mode" to "switch between APS mode and interleaving mod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commend CE2.a.1 and CE2.a.2 as baseline Options and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 vs RA study, including BA simpl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c: Number of classes in B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d: Number of regions in R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iscuss CE2.c to reduce testing for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oder optimization study for LCU-based encoding (non-normati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g: Encoder complexity reduction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ma/chroma filter coefficients unification study in LCU-based enco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h: Reuse luma filter coefficients in chroma filtering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hould be integrated IF Option 1 or 3 in AHG6 further study is recomm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i: Combination sub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t adopted as it is (further study in conceptually in AHG6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6E5D-D242-464F-A9AD-B062D41C1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0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1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2 Subt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4920" y="620280"/>
            <a:ext cx="91454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67120" indent="-26712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ific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b: Simplification of ALF sign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e: Depth of LCU division for filtering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commend to adopt all simpl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lice boundary processing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f: Line memory reduction fix at independent slice and tile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Make recommendation after subjective vie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ignalling/syntax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a: Signalling mode change from "switch between APS mode and slice header mode" to "switch between APS mode and interleaving mod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Recommend CE2.a.1 and CE2.a.2 as baseline Options and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BA vs RA study, including BA simpl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c: Number of classes in B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d: Number of regions in R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Discuss CE2.c to reduce testing for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Encoder optimization study for LCU-based encoding (non-normati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g: Encoder complexity reduction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Luma/chroma filter coefficients unification study in LCU-based enco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h: Reuse luma filter coefficients in chroma filtering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Should be integrated IF Option 1 or 3 in AHG6 further study is recomm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Combin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i: Combination sub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Not adopted as it is (further study in conceptually in AHG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8032-929E-45E3-9B73-006BDA42E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5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6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of CE2.b and CE2.e for Simpl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8360" y="1268280"/>
          <a:ext cx="8280360" cy="4573800"/>
        </p:xfrm>
        <a:graphic>
          <a:graphicData uri="http://schemas.openxmlformats.org/drawingml/2006/table">
            <a:tbl>
              <a:tblPr/>
              <a:tblGrid>
                <a:gridCol w="1203120"/>
                <a:gridCol w="2265480"/>
                <a:gridCol w="601560"/>
                <a:gridCol w="601920"/>
                <a:gridCol w="601560"/>
                <a:gridCol w="600120"/>
                <a:gridCol w="601560"/>
                <a:gridCol w="601560"/>
                <a:gridCol w="601920"/>
                <a:gridCol w="601560"/>
              </a:tblGrid>
              <a:tr h="3286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hor = HM-6.0 CE2 anc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U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16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16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b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ve Run predi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15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b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ve explicit K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16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b.3_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_pred_flag 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15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b.3_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_pred_flag 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b.4_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_nb_pred_luma_flag 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b.4_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_nb_pred_luma_flag 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28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b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 independent qu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16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e.1_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ctrl depth &lt;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e.1_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ctrl depth &lt;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27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e.1_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ctrl depth &lt;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</a:tbl>
          </a:graphicData>
        </a:graphic>
      </p:graphicFrame>
      <p:sp>
        <p:nvSpPr>
          <p:cNvPr id="159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B713-2AE1-4690-86D0-E7F11725D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0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1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2 Recommendation for Simplification of A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560" y="786960"/>
            <a:ext cx="875196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2.b.1: Remove run prediction of ALF coefs.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 lo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move run prediction of ALF coefs. in APS in picture-based ALF.  (Cf. No run prediction in LCU-based ALF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2.b.2: Remove explicit signaling of K-table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 lo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move explicit signaling of K-table in both picture-based ALF and LCU-based ALF.  (i.e., Implicit K-table will be use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2.b.3: Remove alf_pred_flag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 lo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move alf_pred_flag and not to use prediction in both picture-based ALF and LCU-based AL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2.b.4: Remove alf_nb_pred_luma_flag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 lo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move alf_nb_pred_luma_flag and not to use prediction in both picture-based ALF and LCU-based AL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2.b.5: Qp independent quantization in LCU mode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0.1-0.3% lo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Use Qp independent quantization of ALF coefs. in LCU-based ALF.  (i.e., same as picture based AL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2.d.1: Depth of CU division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0.1% lo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epth=0, i.e., LCU on/of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Use only LCU level on/off control in picture-based ALF.  (i.e., same as LCU-basd AL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A5D2-7534-4208-A269-B2419BB38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5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6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2 Subt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4920" y="620280"/>
            <a:ext cx="91454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67120" indent="-267120">
              <a:lnSpc>
                <a:spcPts val="1800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implific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b: Simplification of ALF sign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e: Depth of LCU division for filtering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Recommend to adopt all simpl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ce boundary processing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f: Line memory reduction fix at independent slice and tile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ake recommendation after subjective vie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ignalling/syntax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a: Signalling mode change from "switch between APS mode and slice header mode" to "switch between APS mode and interleaving mod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Recommend CE2.a.1 and CE2.a.2 as baseline Options and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BA vs RA study, including BA simpl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c: Number of classes in B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d: Number of regions in R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Discuss CE2.c to reduce testing for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Encoder optimization study for LCU-based encoding (non-normati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g: Encoder complexity reduction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Luma/chroma filter coefficients unification study in LCU-based enco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h: Reuse luma filter coefficients in chroma filtering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Should be integrated IF Option 1 or 3 in AHG6 further study is recomm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Combin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i: Combination sub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Not adopted as it is (further study in conceptually in AHG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9343-780D-440C-896B-560043E50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0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1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of CE2.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5AFC-7936-40C8-92A6-EE602EB9F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4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5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24000" y="1125360"/>
          <a:ext cx="8496000" cy="2530800"/>
        </p:xfrm>
        <a:graphic>
          <a:graphicData uri="http://schemas.openxmlformats.org/drawingml/2006/table">
            <a:tbl>
              <a:tblPr/>
              <a:tblGrid>
                <a:gridCol w="853920"/>
                <a:gridCol w="1608120"/>
                <a:gridCol w="2001960"/>
                <a:gridCol w="504720"/>
                <a:gridCol w="574560"/>
                <a:gridCol w="649440"/>
                <a:gridCol w="595440"/>
                <a:gridCol w="426960"/>
                <a:gridCol w="426960"/>
                <a:gridCol w="426960"/>
                <a:gridCol w="426960"/>
              </a:tblGrid>
              <a:tr h="262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hor = HM-6.0 CE2 anc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U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50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62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503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f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0372 (line mem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off the Virtual Boundary padding at bottom tile boundaries when loop_filter_across_tiles_enabled_flag is equal to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</a:tbl>
          </a:graphicData>
        </a:graphic>
      </p:graphicFrame>
      <p:sp>
        <p:nvSpPr>
          <p:cNvPr id="177" name=""/>
          <p:cNvSpPr txBox="1"/>
          <p:nvPr/>
        </p:nvSpPr>
        <p:spPr>
          <a:xfrm>
            <a:off x="250560" y="3860640"/>
            <a:ext cx="87519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ision will be made after subjective view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5T00:55:27Z</dcterms:created>
  <dc:creator>Yoshifumi Ueda</dc:creator>
  <dc:description/>
  <dc:language>en-US</dc:language>
  <cp:lastModifiedBy>T. Yamakage</cp:lastModifiedBy>
  <cp:lastPrinted>2002-03-12T08:50:36Z</cp:lastPrinted>
  <dcterms:modified xsi:type="dcterms:W3CDTF">2012-04-26T01:25:37Z</dcterms:modified>
  <cp:revision>1502</cp:revision>
  <dc:subject/>
  <dc:title>ｽﾗｲﾄﾞ ﾀｲﾄﾙなし</dc:title>
</cp:coreProperties>
</file>