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C205-D483-4FBC-9513-78F6D745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3052-81A5-470F-B60E-496E5F60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CF4E-2CB0-4DEC-A800-E9B9DDB7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632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060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204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632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060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7F8C-2C1F-4E05-91E8-D2730484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5037-CBAE-49F0-9D6B-142E2F15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55C-683F-4F73-B4EA-DAD5654F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ACC4-CAC9-4557-920E-4DAF15B8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D5D8-E5A2-4B52-B3E6-805B7056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AF5E-E601-4059-8321-99F81E8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488A-957C-4CD7-9094-2F2F5C1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730C-7A06-41B0-A663-2AA7845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ABE4-67AF-4458-AF2A-69D0C2DE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71E-E71D-433E-8173-81E8284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5342-8F54-4997-ADAA-69129F8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4302-3BBE-4CC0-A43C-E7E1CA6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E76E-11AD-4B81-8276-3AC873F8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2632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0600" y="78696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9204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2632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0600" y="35740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E295-7635-43E8-9B98-EFD6A680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7207-5D93-4F60-AD20-62804071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85F9-DED8-465B-84D3-5BCBB12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5F5C-042D-4F0A-9F9C-A6F38483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2B82-D9F4-45A0-9E3F-EDDC6DA6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6175-2EE9-4A90-93E6-3AF71F00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200" y="35740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FC0A-9BBE-47B4-8CAC-71F8924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204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200" y="78696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2040" y="35740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3FA7-1C76-4BCE-9A3C-D318D08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4" name="Line 11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833-4F2C-4A24-B8A9-BD76A30F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2/08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JCTVC-H0735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46" name="Line 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5076720" y="404640"/>
            <a:ext cx="3643560" cy="669960"/>
            <a:chOff x="5076720" y="404640"/>
            <a:chExt cx="3643560" cy="669960"/>
          </a:xfrm>
        </p:grpSpPr>
        <p:sp>
          <p:nvSpPr>
            <p:cNvPr id="48" name=""/>
            <p:cNvSpPr/>
            <p:nvPr/>
          </p:nvSpPr>
          <p:spPr>
            <a:xfrm>
              <a:off x="5076720" y="404640"/>
              <a:ext cx="201312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開示範囲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89840" y="404640"/>
              <a:ext cx="16304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RDC)</a:t>
              </a: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内に限る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76720" y="739800"/>
              <a:ext cx="201312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情報オーナー部門長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89840" y="739800"/>
              <a:ext cx="163044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MML]</a:t>
              </a: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長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89840" y="404640"/>
              <a:ext cx="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76720" y="739800"/>
              <a:ext cx="36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76720" y="404640"/>
              <a:ext cx="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20280" y="404640"/>
              <a:ext cx="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76720" y="404640"/>
              <a:ext cx="364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076720" y="1074600"/>
              <a:ext cx="364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pic>
        <p:nvPicPr>
          <p:cNvPr id="58" name="Picture 21" descr="I3-A01"/>
          <p:cNvPicPr/>
          <p:nvPr/>
        </p:nvPicPr>
        <p:blipFill>
          <a:blip r:embed="rId4"/>
          <a:stretch/>
        </p:blipFill>
        <p:spPr>
          <a:xfrm>
            <a:off x="5807160" y="5950080"/>
            <a:ext cx="625320" cy="741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6400800" y="5877000"/>
            <a:ext cx="2708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FAC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tsb_hdq05629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D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J-No. : 11k022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12/02/08</a:t>
            </a:r>
            <a:endParaRPr b="0" lang="en-US" sz="1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CTVC-H0735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BAD-ACCF-4EE2-8B74-9D04811E3A6A}" type="slidenum">
              <a:rPr b="0" lang="en-US" sz="11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80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LF Configurations in CD/HM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B51-4714-49EB-B375-EA567165B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786960"/>
            <a:ext cx="892800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-based ALF (Picture optim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igh efficiency with high latenc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esigning ALF coef., current frame is used.  Therefore, the encoding of whole picture is performed at first, and then, ALF coef. is designed and CU level filter control (on/off) is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U-based ALF (Slice-based signalling) (LCU Optim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ood efficiency with low latenc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I, LB and 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encoding of each LCU, ALF coef. is designed using current frame and CU level filter control (on/off) is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スライド番号プレースホルダー 3"/>
          <p:cNvSpPr/>
          <p:nvPr/>
        </p:nvSpPr>
        <p:spPr>
          <a:xfrm>
            <a:off x="8305920" y="6356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F61-1CED-427C-B84F-5F2F55EFE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8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テキスト ボックス 61"/>
          <p:cNvSpPr/>
          <p:nvPr/>
        </p:nvSpPr>
        <p:spPr>
          <a:xfrm>
            <a:off x="6267960" y="6472080"/>
            <a:ext cx="73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11" name="グループ化 3"/>
          <p:cNvGrpSpPr/>
          <p:nvPr/>
        </p:nvGrpSpPr>
        <p:grpSpPr>
          <a:xfrm>
            <a:off x="1078920" y="1628640"/>
            <a:ext cx="7741080" cy="772560"/>
            <a:chOff x="1078920" y="1628640"/>
            <a:chExt cx="7741080" cy="772560"/>
          </a:xfrm>
        </p:grpSpPr>
        <p:sp>
          <p:nvSpPr>
            <p:cNvPr id="112" name="正方形/長方形 67"/>
            <p:cNvSpPr/>
            <p:nvPr/>
          </p:nvSpPr>
          <p:spPr>
            <a:xfrm>
              <a:off x="2698560" y="1989000"/>
              <a:ext cx="64908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3" name="正方形/長方形 52"/>
            <p:cNvSpPr/>
            <p:nvPr/>
          </p:nvSpPr>
          <p:spPr>
            <a:xfrm>
              <a:off x="3490560" y="1989000"/>
              <a:ext cx="1584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4" name="正方形/長方形 53"/>
            <p:cNvSpPr/>
            <p:nvPr/>
          </p:nvSpPr>
          <p:spPr>
            <a:xfrm>
              <a:off x="1109520" y="1628640"/>
              <a:ext cx="64764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5" name="正方形/長方形 54"/>
            <p:cNvSpPr/>
            <p:nvPr/>
          </p:nvSpPr>
          <p:spPr>
            <a:xfrm>
              <a:off x="1901520" y="1628640"/>
              <a:ext cx="64764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6" name="正方形/長方形 55"/>
            <p:cNvSpPr/>
            <p:nvPr/>
          </p:nvSpPr>
          <p:spPr>
            <a:xfrm>
              <a:off x="2698560" y="162864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7" name="正方形/長方形 56"/>
            <p:cNvSpPr/>
            <p:nvPr/>
          </p:nvSpPr>
          <p:spPr>
            <a:xfrm>
              <a:off x="3490560" y="1628640"/>
              <a:ext cx="158436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head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8" name="正方形/長方形 57"/>
            <p:cNvSpPr/>
            <p:nvPr/>
          </p:nvSpPr>
          <p:spPr>
            <a:xfrm>
              <a:off x="5074920" y="1628640"/>
              <a:ext cx="3745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data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9" name="正方形/長方形 62"/>
            <p:cNvSpPr/>
            <p:nvPr/>
          </p:nvSpPr>
          <p:spPr>
            <a:xfrm>
              <a:off x="4500360" y="2096640"/>
              <a:ext cx="14112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0" name="正方形/長方形 63"/>
            <p:cNvSpPr/>
            <p:nvPr/>
          </p:nvSpPr>
          <p:spPr>
            <a:xfrm>
              <a:off x="4643280" y="2096640"/>
              <a:ext cx="14256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1" name="正方形/長方形 64"/>
            <p:cNvSpPr/>
            <p:nvPr/>
          </p:nvSpPr>
          <p:spPr>
            <a:xfrm>
              <a:off x="4787640" y="2096640"/>
              <a:ext cx="14256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2" name="正方形/長方形 65"/>
            <p:cNvSpPr/>
            <p:nvPr/>
          </p:nvSpPr>
          <p:spPr>
            <a:xfrm>
              <a:off x="4932360" y="2096640"/>
              <a:ext cx="142560" cy="1807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3" name="正方形/長方形 59"/>
            <p:cNvSpPr/>
            <p:nvPr/>
          </p:nvSpPr>
          <p:spPr>
            <a:xfrm>
              <a:off x="2914560" y="209664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4" name="正方形/長方形 60"/>
            <p:cNvSpPr/>
            <p:nvPr/>
          </p:nvSpPr>
          <p:spPr>
            <a:xfrm>
              <a:off x="3058920" y="209664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5" name="正方形/長方形 61"/>
            <p:cNvSpPr/>
            <p:nvPr/>
          </p:nvSpPr>
          <p:spPr>
            <a:xfrm>
              <a:off x="3205080" y="209664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6" name="テキスト ボックス 2"/>
            <p:cNvSpPr/>
            <p:nvPr/>
          </p:nvSpPr>
          <p:spPr>
            <a:xfrm>
              <a:off x="1078920" y="2060640"/>
              <a:ext cx="1271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ＭＳ Ｐゴシック"/>
                </a:rPr>
                <a:t>APS mode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127" name="グループ化 5"/>
          <p:cNvGrpSpPr/>
          <p:nvPr/>
        </p:nvGrpSpPr>
        <p:grpSpPr>
          <a:xfrm>
            <a:off x="1054800" y="4292640"/>
            <a:ext cx="7760520" cy="741960"/>
            <a:chOff x="1054800" y="4292640"/>
            <a:chExt cx="7760520" cy="741960"/>
          </a:xfrm>
        </p:grpSpPr>
        <p:sp>
          <p:nvSpPr>
            <p:cNvPr id="128" name="正方形/長方形 51"/>
            <p:cNvSpPr/>
            <p:nvPr/>
          </p:nvSpPr>
          <p:spPr>
            <a:xfrm>
              <a:off x="3490920" y="4653000"/>
              <a:ext cx="1584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9" name="正方形/長方形 30"/>
            <p:cNvSpPr/>
            <p:nvPr/>
          </p:nvSpPr>
          <p:spPr>
            <a:xfrm>
              <a:off x="1111320" y="4292640"/>
              <a:ext cx="64764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0" name="正方形/長方形 31"/>
            <p:cNvSpPr/>
            <p:nvPr/>
          </p:nvSpPr>
          <p:spPr>
            <a:xfrm>
              <a:off x="1903320" y="4292640"/>
              <a:ext cx="64764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1" name="正方形/長方形 32"/>
            <p:cNvSpPr/>
            <p:nvPr/>
          </p:nvSpPr>
          <p:spPr>
            <a:xfrm>
              <a:off x="2695680" y="4292640"/>
              <a:ext cx="64764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2" name="正方形/長方形 33"/>
            <p:cNvSpPr/>
            <p:nvPr/>
          </p:nvSpPr>
          <p:spPr>
            <a:xfrm>
              <a:off x="3487680" y="4292640"/>
              <a:ext cx="158436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head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3" name="正方形/長方形 34"/>
            <p:cNvSpPr/>
            <p:nvPr/>
          </p:nvSpPr>
          <p:spPr>
            <a:xfrm>
              <a:off x="5072040" y="4292640"/>
              <a:ext cx="3743280" cy="36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data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4" name="正方形/長方形 45"/>
            <p:cNvSpPr/>
            <p:nvPr/>
          </p:nvSpPr>
          <p:spPr>
            <a:xfrm>
              <a:off x="4213080" y="4761360"/>
              <a:ext cx="142560" cy="181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5" name="正方形/長方形 46"/>
            <p:cNvSpPr/>
            <p:nvPr/>
          </p:nvSpPr>
          <p:spPr>
            <a:xfrm>
              <a:off x="4357800" y="4761360"/>
              <a:ext cx="142560" cy="181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6" name="正方形/長方形 47"/>
            <p:cNvSpPr/>
            <p:nvPr/>
          </p:nvSpPr>
          <p:spPr>
            <a:xfrm>
              <a:off x="450072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7" name="正方形/長方形 48"/>
            <p:cNvSpPr/>
            <p:nvPr/>
          </p:nvSpPr>
          <p:spPr>
            <a:xfrm>
              <a:off x="464508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8" name="正方形/長方形 49"/>
            <p:cNvSpPr/>
            <p:nvPr/>
          </p:nvSpPr>
          <p:spPr>
            <a:xfrm>
              <a:off x="478944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9" name="正方形/長方形 50"/>
            <p:cNvSpPr/>
            <p:nvPr/>
          </p:nvSpPr>
          <p:spPr>
            <a:xfrm>
              <a:off x="4932360" y="4761360"/>
              <a:ext cx="142560" cy="181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0" name="正方形/長方形 4"/>
            <p:cNvSpPr/>
            <p:nvPr/>
          </p:nvSpPr>
          <p:spPr>
            <a:xfrm>
              <a:off x="1054800" y="4694040"/>
              <a:ext cx="2167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ＭＳ Ｐゴシック"/>
                </a:rPr>
                <a:t>Slice header mode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A17-A3A3-4545-AFD3-FAF7D0ECB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59F-21AB-4706-A92D-6BF8A598B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5013360"/>
            <a:ext cx="875196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a.1 as baseline of Option 1 (LCU-mode) for further AHG6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a.2 as baseline of Option 3 (LCU-mode) for further AHG6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836640"/>
          <a:ext cx="8642160" cy="3744720"/>
        </p:xfrm>
        <a:graphic>
          <a:graphicData uri="http://schemas.openxmlformats.org/drawingml/2006/table">
            <a:tbl>
              <a:tblPr/>
              <a:tblGrid>
                <a:gridCol w="1296720"/>
                <a:gridCol w="1368720"/>
                <a:gridCol w="1795320"/>
                <a:gridCol w="522360"/>
                <a:gridCol w="522360"/>
                <a:gridCol w="523800"/>
                <a:gridCol w="522360"/>
                <a:gridCol w="522000"/>
                <a:gridCol w="522360"/>
                <a:gridCol w="523800"/>
                <a:gridCol w="522360"/>
              </a:tblGrid>
              <a:tr h="285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74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046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signalling           (1 filt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 ALF parameters from slice header to slice data (LCU interleaved w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78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2_16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1 + APS (16 APS filters,  1 LCU fil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 each LCU to use picture-level ALF coefficients signalled in A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78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2_1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a.1 + APS (1 APS filter,      1 LCU fil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Tes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 LCU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4760" y="642960"/>
            <a:ext cx="90043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1 (Same syntax structure as CE2.a.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in APS, new filter or codebook filter or off in LC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BA/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2-1 (RA), Option 2-2 (B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on/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3-1 (RA), Option 3-2 (B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ter or codebook filter or selecting APS filter or 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スライド番号プレースホルダー 3"/>
          <p:cNvSpPr/>
          <p:nvPr/>
        </p:nvSpPr>
        <p:spPr>
          <a:xfrm>
            <a:off x="8305920" y="6356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A339-BE19-42E4-8B51-C204180A5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4" name="正方形/長方形 19"/>
          <p:cNvSpPr/>
          <p:nvPr/>
        </p:nvSpPr>
        <p:spPr>
          <a:xfrm>
            <a:off x="2273400" y="359424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正方形/長方形 53"/>
          <p:cNvSpPr/>
          <p:nvPr/>
        </p:nvSpPr>
        <p:spPr>
          <a:xfrm>
            <a:off x="684360" y="32338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正方形/長方形 54"/>
          <p:cNvSpPr/>
          <p:nvPr/>
        </p:nvSpPr>
        <p:spPr>
          <a:xfrm>
            <a:off x="1476360" y="32338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正方形/長方形 55"/>
          <p:cNvSpPr/>
          <p:nvPr/>
        </p:nvSpPr>
        <p:spPr>
          <a:xfrm>
            <a:off x="2273400" y="323388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8" name="正方形/長方形 56"/>
          <p:cNvSpPr/>
          <p:nvPr/>
        </p:nvSpPr>
        <p:spPr>
          <a:xfrm>
            <a:off x="3065400" y="323388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正方形/長方形 57"/>
          <p:cNvSpPr/>
          <p:nvPr/>
        </p:nvSpPr>
        <p:spPr>
          <a:xfrm>
            <a:off x="4649760" y="323388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正方形/長方形 59"/>
          <p:cNvSpPr/>
          <p:nvPr/>
        </p:nvSpPr>
        <p:spPr>
          <a:xfrm>
            <a:off x="2489040" y="370188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正方形/長方形 60"/>
          <p:cNvSpPr/>
          <p:nvPr/>
        </p:nvSpPr>
        <p:spPr>
          <a:xfrm>
            <a:off x="2633760" y="370188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正方形/長方形 61"/>
          <p:cNvSpPr/>
          <p:nvPr/>
        </p:nvSpPr>
        <p:spPr>
          <a:xfrm>
            <a:off x="2779560" y="370188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正方形/長方形 33"/>
          <p:cNvSpPr/>
          <p:nvPr/>
        </p:nvSpPr>
        <p:spPr>
          <a:xfrm>
            <a:off x="4643280" y="359424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正方形/長方形 23"/>
          <p:cNvSpPr/>
          <p:nvPr/>
        </p:nvSpPr>
        <p:spPr>
          <a:xfrm>
            <a:off x="4789440" y="3701880"/>
            <a:ext cx="142920" cy="179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正方形/長方形 36"/>
          <p:cNvSpPr/>
          <p:nvPr/>
        </p:nvSpPr>
        <p:spPr>
          <a:xfrm>
            <a:off x="5796000" y="359424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正方形/長方形 26"/>
          <p:cNvSpPr/>
          <p:nvPr/>
        </p:nvSpPr>
        <p:spPr>
          <a:xfrm>
            <a:off x="5942160" y="3701880"/>
            <a:ext cx="141120" cy="179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正方形/長方形 38"/>
          <p:cNvSpPr/>
          <p:nvPr/>
        </p:nvSpPr>
        <p:spPr>
          <a:xfrm>
            <a:off x="6804000" y="359424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正方形/長方形 29"/>
          <p:cNvSpPr/>
          <p:nvPr/>
        </p:nvSpPr>
        <p:spPr>
          <a:xfrm>
            <a:off x="6950160" y="3701880"/>
            <a:ext cx="141120" cy="1796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0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テキスト ボックス 61"/>
          <p:cNvSpPr/>
          <p:nvPr/>
        </p:nvSpPr>
        <p:spPr>
          <a:xfrm>
            <a:off x="6215400" y="6472080"/>
            <a:ext cx="167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 or index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テキスト ボックス 1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14" name="グループ化 6"/>
          <p:cNvGrpSpPr/>
          <p:nvPr/>
        </p:nvGrpSpPr>
        <p:grpSpPr>
          <a:xfrm>
            <a:off x="654480" y="5176800"/>
            <a:ext cx="7735320" cy="1131480"/>
            <a:chOff x="654480" y="5176800"/>
            <a:chExt cx="7735320" cy="1131480"/>
          </a:xfrm>
        </p:grpSpPr>
        <p:sp>
          <p:nvSpPr>
            <p:cNvPr id="215" name="正方形/長方形 7"/>
            <p:cNvSpPr/>
            <p:nvPr/>
          </p:nvSpPr>
          <p:spPr>
            <a:xfrm>
              <a:off x="684360" y="517680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6" name="正方形/長方形 8"/>
            <p:cNvSpPr/>
            <p:nvPr/>
          </p:nvSpPr>
          <p:spPr>
            <a:xfrm>
              <a:off x="1476360" y="517680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P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7" name="正方形/長方形 9"/>
            <p:cNvSpPr/>
            <p:nvPr/>
          </p:nvSpPr>
          <p:spPr>
            <a:xfrm>
              <a:off x="2268360" y="5176800"/>
              <a:ext cx="64908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8" name="正方形/長方形 10"/>
            <p:cNvSpPr/>
            <p:nvPr/>
          </p:nvSpPr>
          <p:spPr>
            <a:xfrm>
              <a:off x="3060720" y="5176800"/>
              <a:ext cx="158400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head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19" name="正方形/長方形 11"/>
            <p:cNvSpPr/>
            <p:nvPr/>
          </p:nvSpPr>
          <p:spPr>
            <a:xfrm>
              <a:off x="4645080" y="5176800"/>
              <a:ext cx="3744720" cy="36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lice data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0" name="正方形/長方形 46"/>
            <p:cNvSpPr/>
            <p:nvPr/>
          </p:nvSpPr>
          <p:spPr>
            <a:xfrm>
              <a:off x="4645080" y="5537160"/>
              <a:ext cx="1152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LCU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1" name="正方形/長方形 22"/>
            <p:cNvSpPr/>
            <p:nvPr/>
          </p:nvSpPr>
          <p:spPr>
            <a:xfrm>
              <a:off x="4933800" y="5644800"/>
              <a:ext cx="142560" cy="17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2" name="正方形/長方形 23"/>
            <p:cNvSpPr/>
            <p:nvPr/>
          </p:nvSpPr>
          <p:spPr>
            <a:xfrm>
              <a:off x="4791240" y="5644800"/>
              <a:ext cx="142560" cy="179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3" name="正方形/長方形 49"/>
            <p:cNvSpPr/>
            <p:nvPr/>
          </p:nvSpPr>
          <p:spPr>
            <a:xfrm>
              <a:off x="5797440" y="5537160"/>
              <a:ext cx="100800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LCU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4" name="正方形/長方形 26"/>
            <p:cNvSpPr/>
            <p:nvPr/>
          </p:nvSpPr>
          <p:spPr>
            <a:xfrm>
              <a:off x="5943600" y="5644800"/>
              <a:ext cx="141120" cy="179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5" name="正方形/長方形 51"/>
            <p:cNvSpPr/>
            <p:nvPr/>
          </p:nvSpPr>
          <p:spPr>
            <a:xfrm>
              <a:off x="6805800" y="5537160"/>
              <a:ext cx="115236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LCU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6" name="正方形/長方形 28"/>
            <p:cNvSpPr/>
            <p:nvPr/>
          </p:nvSpPr>
          <p:spPr>
            <a:xfrm>
              <a:off x="7093080" y="5644800"/>
              <a:ext cx="142560" cy="17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7" name="正方形/長方形 29"/>
            <p:cNvSpPr/>
            <p:nvPr/>
          </p:nvSpPr>
          <p:spPr>
            <a:xfrm>
              <a:off x="6951600" y="5644800"/>
              <a:ext cx="141120" cy="179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8" name="正方形/長方形 54"/>
            <p:cNvSpPr/>
            <p:nvPr/>
          </p:nvSpPr>
          <p:spPr>
            <a:xfrm>
              <a:off x="2268360" y="5537160"/>
              <a:ext cx="649080" cy="360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29" name="正方形/長方形 59"/>
            <p:cNvSpPr/>
            <p:nvPr/>
          </p:nvSpPr>
          <p:spPr>
            <a:xfrm>
              <a:off x="2484360" y="564480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0" name="正方形/長方形 60"/>
            <p:cNvSpPr/>
            <p:nvPr/>
          </p:nvSpPr>
          <p:spPr>
            <a:xfrm>
              <a:off x="2628720" y="564480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1" name="正方形/長方形 61"/>
            <p:cNvSpPr/>
            <p:nvPr/>
          </p:nvSpPr>
          <p:spPr>
            <a:xfrm>
              <a:off x="2774880" y="5644800"/>
              <a:ext cx="142560" cy="18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7280" indent="-287280"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2" name="正方形/長方形 4"/>
            <p:cNvSpPr/>
            <p:nvPr/>
          </p:nvSpPr>
          <p:spPr>
            <a:xfrm>
              <a:off x="654480" y="5586480"/>
              <a:ext cx="9640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ＭＳ Ｐゴシック"/>
                </a:rPr>
                <a:t>CE2.a.2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3" name="テキスト ボックス 27"/>
            <p:cNvSpPr/>
            <p:nvPr/>
          </p:nvSpPr>
          <p:spPr>
            <a:xfrm>
              <a:off x="3012480" y="5592240"/>
              <a:ext cx="1598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16 or 1 filters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4" name="直線コネクタ 3"/>
            <p:cNvSpPr/>
            <p:nvPr/>
          </p:nvSpPr>
          <p:spPr>
            <a:xfrm flipV="1">
              <a:off x="2881080" y="5762880"/>
              <a:ext cx="18540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5" name="テキスト ボックス 30"/>
            <p:cNvSpPr/>
            <p:nvPr/>
          </p:nvSpPr>
          <p:spPr>
            <a:xfrm>
              <a:off x="4029120" y="5967720"/>
              <a:ext cx="1398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ingle filt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6" name="直線コネクタ 5"/>
            <p:cNvSpPr/>
            <p:nvPr/>
          </p:nvSpPr>
          <p:spPr>
            <a:xfrm flipV="1">
              <a:off x="4727520" y="5802480"/>
              <a:ext cx="27756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37" name="グループ化 7"/>
          <p:cNvGrpSpPr/>
          <p:nvPr/>
        </p:nvGrpSpPr>
        <p:grpSpPr>
          <a:xfrm>
            <a:off x="654480" y="1339920"/>
            <a:ext cx="7735320" cy="1275480"/>
            <a:chOff x="654480" y="1339920"/>
            <a:chExt cx="7735320" cy="1275480"/>
          </a:xfrm>
        </p:grpSpPr>
        <p:grpSp>
          <p:nvGrpSpPr>
            <p:cNvPr id="238" name="グループ化 3"/>
            <p:cNvGrpSpPr/>
            <p:nvPr/>
          </p:nvGrpSpPr>
          <p:grpSpPr>
            <a:xfrm>
              <a:off x="654480" y="1339920"/>
              <a:ext cx="7735320" cy="720720"/>
              <a:chOff x="654480" y="1339920"/>
              <a:chExt cx="7735320" cy="720720"/>
            </a:xfrm>
          </p:grpSpPr>
          <p:sp>
            <p:nvSpPr>
              <p:cNvPr id="239" name="正方形/長方形 7"/>
              <p:cNvSpPr/>
              <p:nvPr/>
            </p:nvSpPr>
            <p:spPr>
              <a:xfrm>
                <a:off x="684720" y="1339920"/>
                <a:ext cx="649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SPS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0" name="正方形/長方形 8"/>
              <p:cNvSpPr/>
              <p:nvPr/>
            </p:nvSpPr>
            <p:spPr>
              <a:xfrm>
                <a:off x="1477080" y="1339920"/>
                <a:ext cx="649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PPS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1" name="正方形/長方形 9"/>
              <p:cNvSpPr/>
              <p:nvPr/>
            </p:nvSpPr>
            <p:spPr>
              <a:xfrm>
                <a:off x="2269080" y="1339920"/>
                <a:ext cx="64908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APS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2" name="正方形/長方形 10"/>
              <p:cNvSpPr/>
              <p:nvPr/>
            </p:nvSpPr>
            <p:spPr>
              <a:xfrm>
                <a:off x="3061080" y="1339920"/>
                <a:ext cx="158400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Slice header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3" name="正方形/長方形 11"/>
              <p:cNvSpPr/>
              <p:nvPr/>
            </p:nvSpPr>
            <p:spPr>
              <a:xfrm>
                <a:off x="4645440" y="1339920"/>
                <a:ext cx="3744360" cy="360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Slice data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4" name="正方形/長方形 11"/>
              <p:cNvSpPr/>
              <p:nvPr/>
            </p:nvSpPr>
            <p:spPr>
              <a:xfrm>
                <a:off x="4645080" y="1700280"/>
                <a:ext cx="1152360" cy="3603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LCU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5" name="正方形/長方形 22"/>
              <p:cNvSpPr/>
              <p:nvPr/>
            </p:nvSpPr>
            <p:spPr>
              <a:xfrm>
                <a:off x="4934160" y="1808280"/>
                <a:ext cx="142560" cy="179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6" name="正方形/長方形 23"/>
              <p:cNvSpPr/>
              <p:nvPr/>
            </p:nvSpPr>
            <p:spPr>
              <a:xfrm>
                <a:off x="4791240" y="1808280"/>
                <a:ext cx="142560" cy="17928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7" name="正方形/長方形 14"/>
              <p:cNvSpPr/>
              <p:nvPr/>
            </p:nvSpPr>
            <p:spPr>
              <a:xfrm>
                <a:off x="5797440" y="1700280"/>
                <a:ext cx="1008000" cy="3603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LCU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8" name="正方形/長方形 26"/>
              <p:cNvSpPr/>
              <p:nvPr/>
            </p:nvSpPr>
            <p:spPr>
              <a:xfrm>
                <a:off x="5943960" y="1808280"/>
                <a:ext cx="141120" cy="17928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9" name="正方形/長方形 16"/>
              <p:cNvSpPr/>
              <p:nvPr/>
            </p:nvSpPr>
            <p:spPr>
              <a:xfrm>
                <a:off x="6805800" y="1700280"/>
                <a:ext cx="1152360" cy="3603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LCU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0" name="正方形/長方形 28"/>
              <p:cNvSpPr/>
              <p:nvPr/>
            </p:nvSpPr>
            <p:spPr>
              <a:xfrm>
                <a:off x="7093080" y="1808280"/>
                <a:ext cx="142560" cy="179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1" name="正方形/長方形 29"/>
              <p:cNvSpPr/>
              <p:nvPr/>
            </p:nvSpPr>
            <p:spPr>
              <a:xfrm>
                <a:off x="6951960" y="1808280"/>
                <a:ext cx="141120" cy="17928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87280" indent="-287280" algn="ctr"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2" name="正方形/長方形 1"/>
              <p:cNvSpPr/>
              <p:nvPr/>
            </p:nvSpPr>
            <p:spPr>
              <a:xfrm>
                <a:off x="654480" y="1719360"/>
                <a:ext cx="9640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ff0000"/>
                    </a:solidFill>
                    <a:uFillTx/>
                    <a:latin typeface="ＭＳ Ｐゴシック"/>
                  </a:rPr>
                  <a:t>CE2.a.1</a:t>
                </a:r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253" name="テキスト ボックス 1"/>
            <p:cNvSpPr/>
            <p:nvPr/>
          </p:nvSpPr>
          <p:spPr>
            <a:xfrm>
              <a:off x="3813840" y="2274840"/>
              <a:ext cx="1398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Single filter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54" name="直線コネクタ 3"/>
            <p:cNvSpPr/>
            <p:nvPr/>
          </p:nvSpPr>
          <p:spPr>
            <a:xfrm flipV="1">
              <a:off x="4511880" y="1989000"/>
              <a:ext cx="51732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1 (CE2.a.1 syntax + Simplific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400" y="1076400"/>
            <a:ext cx="89312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struc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LCU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 in APS, new filter or codebook filter or off in LC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BA/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LCU, ALF coef. is designed using the original data of the current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the designed coef .or a coef. in the codebook that stores previously signalled coefs. is used or off is dec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mplement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store coef. For above LCU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lved by shifting ALF filtering by 4 lines (Cf. JCTVC-F2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7"/>
          <p:cNvSpPr/>
          <p:nvPr/>
        </p:nvSpPr>
        <p:spPr>
          <a:xfrm>
            <a:off x="684360" y="177336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正方形/長方形 8"/>
          <p:cNvSpPr/>
          <p:nvPr/>
        </p:nvSpPr>
        <p:spPr>
          <a:xfrm>
            <a:off x="1476360" y="177336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正方形/長方形 9"/>
          <p:cNvSpPr/>
          <p:nvPr/>
        </p:nvSpPr>
        <p:spPr>
          <a:xfrm>
            <a:off x="2268360" y="177336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正方形/長方形 10"/>
          <p:cNvSpPr/>
          <p:nvPr/>
        </p:nvSpPr>
        <p:spPr>
          <a:xfrm>
            <a:off x="3060720" y="177336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1" name="正方形/長方形 11"/>
          <p:cNvSpPr/>
          <p:nvPr/>
        </p:nvSpPr>
        <p:spPr>
          <a:xfrm>
            <a:off x="4645080" y="1773360"/>
            <a:ext cx="3744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2" name="正方形/長方形 11"/>
          <p:cNvSpPr/>
          <p:nvPr/>
        </p:nvSpPr>
        <p:spPr>
          <a:xfrm>
            <a:off x="4645080" y="2133720"/>
            <a:ext cx="115236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3" name="正方形/長方形 22"/>
          <p:cNvSpPr/>
          <p:nvPr/>
        </p:nvSpPr>
        <p:spPr>
          <a:xfrm>
            <a:off x="4933800" y="224172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正方形/長方形 23"/>
          <p:cNvSpPr/>
          <p:nvPr/>
        </p:nvSpPr>
        <p:spPr>
          <a:xfrm>
            <a:off x="4791240" y="2241720"/>
            <a:ext cx="14256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5" name="正方形/長方形 14"/>
          <p:cNvSpPr/>
          <p:nvPr/>
        </p:nvSpPr>
        <p:spPr>
          <a:xfrm>
            <a:off x="5797440" y="213372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6" name="正方形/長方形 26"/>
          <p:cNvSpPr/>
          <p:nvPr/>
        </p:nvSpPr>
        <p:spPr>
          <a:xfrm>
            <a:off x="5943600" y="224172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正方形/長方形 16"/>
          <p:cNvSpPr/>
          <p:nvPr/>
        </p:nvSpPr>
        <p:spPr>
          <a:xfrm>
            <a:off x="6805440" y="213372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正方形/長方形 28"/>
          <p:cNvSpPr/>
          <p:nvPr/>
        </p:nvSpPr>
        <p:spPr>
          <a:xfrm>
            <a:off x="7093080" y="224172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正方形/長方形 29"/>
          <p:cNvSpPr/>
          <p:nvPr/>
        </p:nvSpPr>
        <p:spPr>
          <a:xfrm>
            <a:off x="6951600" y="2241720"/>
            <a:ext cx="14148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テキスト ボックス 59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テキスト ボックス 61"/>
          <p:cNvSpPr/>
          <p:nvPr/>
        </p:nvSpPr>
        <p:spPr>
          <a:xfrm>
            <a:off x="6215400" y="6472080"/>
            <a:ext cx="167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 or index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テキスト ボックス 1"/>
          <p:cNvSpPr/>
          <p:nvPr/>
        </p:nvSpPr>
        <p:spPr>
          <a:xfrm>
            <a:off x="3813480" y="2679840"/>
            <a:ext cx="139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ngle filt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直線コネクタ 3"/>
          <p:cNvSpPr/>
          <p:nvPr/>
        </p:nvSpPr>
        <p:spPr>
          <a:xfrm flipV="1">
            <a:off x="4511520" y="2394000"/>
            <a:ext cx="5176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スライド番号プレースホルダー 3"/>
          <p:cNvSpPr/>
          <p:nvPr/>
        </p:nvSpPr>
        <p:spPr>
          <a:xfrm>
            <a:off x="8305920" y="6356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B90-508F-4AC5-A874-78939B4F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テキスト ボックス 38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2 (Simplification of CE2.a.2 synta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4760" y="1147320"/>
            <a:ext cx="9004320" cy="56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22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struc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LCU mo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2-1:RA), (2-2:B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on/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 1 (Coef. design u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vious 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encoding of previous frames, statistics of ALF on LCUs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Wiener-based filters based on th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e of the designed RA/BA filters as filter information signalled in 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designed filters with the same temporal level may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encoding of an LCU, ALF on/off is decided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 2 (Coef. design u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rrent fr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esign scheme as above, but ALF on/off can not be decided on the fly during the first-pass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ts val="2299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mplement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ts val="2299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cheme 2, two-pass encoding or ALF on/off flag interleaving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スライド番号プレースホルダー 3"/>
          <p:cNvSpPr/>
          <p:nvPr/>
        </p:nvSpPr>
        <p:spPr>
          <a:xfrm>
            <a:off x="8305920" y="6427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C4B7-8C09-43B1-877D-44988F11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2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正方形/長方形 19"/>
          <p:cNvSpPr/>
          <p:nvPr/>
        </p:nvSpPr>
        <p:spPr>
          <a:xfrm>
            <a:off x="2273400" y="210672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正方形/長方形 53"/>
          <p:cNvSpPr/>
          <p:nvPr/>
        </p:nvSpPr>
        <p:spPr>
          <a:xfrm>
            <a:off x="684360" y="174636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正方形/長方形 54"/>
          <p:cNvSpPr/>
          <p:nvPr/>
        </p:nvSpPr>
        <p:spPr>
          <a:xfrm>
            <a:off x="1476360" y="174636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正方形/長方形 55"/>
          <p:cNvSpPr/>
          <p:nvPr/>
        </p:nvSpPr>
        <p:spPr>
          <a:xfrm>
            <a:off x="2273400" y="174636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正方形/長方形 56"/>
          <p:cNvSpPr/>
          <p:nvPr/>
        </p:nvSpPr>
        <p:spPr>
          <a:xfrm>
            <a:off x="3065400" y="174636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正方形/長方形 57"/>
          <p:cNvSpPr/>
          <p:nvPr/>
        </p:nvSpPr>
        <p:spPr>
          <a:xfrm>
            <a:off x="4649760" y="174636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正方形/長方形 59"/>
          <p:cNvSpPr/>
          <p:nvPr/>
        </p:nvSpPr>
        <p:spPr>
          <a:xfrm>
            <a:off x="2489040" y="2214720"/>
            <a:ext cx="142920" cy="18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0" name="正方形/長方形 60"/>
          <p:cNvSpPr/>
          <p:nvPr/>
        </p:nvSpPr>
        <p:spPr>
          <a:xfrm>
            <a:off x="2633760" y="2214720"/>
            <a:ext cx="142920" cy="18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正方形/長方形 61"/>
          <p:cNvSpPr/>
          <p:nvPr/>
        </p:nvSpPr>
        <p:spPr>
          <a:xfrm>
            <a:off x="2779560" y="2214720"/>
            <a:ext cx="142920" cy="18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正方形/長方形 33"/>
          <p:cNvSpPr/>
          <p:nvPr/>
        </p:nvSpPr>
        <p:spPr>
          <a:xfrm>
            <a:off x="4643280" y="210816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正方形/長方形 23"/>
          <p:cNvSpPr/>
          <p:nvPr/>
        </p:nvSpPr>
        <p:spPr>
          <a:xfrm>
            <a:off x="4789440" y="221616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正方形/長方形 36"/>
          <p:cNvSpPr/>
          <p:nvPr/>
        </p:nvSpPr>
        <p:spPr>
          <a:xfrm>
            <a:off x="5796000" y="210816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正方形/長方形 26"/>
          <p:cNvSpPr/>
          <p:nvPr/>
        </p:nvSpPr>
        <p:spPr>
          <a:xfrm>
            <a:off x="5942160" y="221616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正方形/長方形 38"/>
          <p:cNvSpPr/>
          <p:nvPr/>
        </p:nvSpPr>
        <p:spPr>
          <a:xfrm>
            <a:off x="6804000" y="210816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7" name="正方形/長方形 29"/>
          <p:cNvSpPr/>
          <p:nvPr/>
        </p:nvSpPr>
        <p:spPr>
          <a:xfrm>
            <a:off x="6950160" y="221616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テキスト ボックス 61"/>
          <p:cNvSpPr/>
          <p:nvPr/>
        </p:nvSpPr>
        <p:spPr>
          <a:xfrm>
            <a:off x="6267960" y="6472080"/>
            <a:ext cx="73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テキスト ボックス 25"/>
          <p:cNvSpPr/>
          <p:nvPr/>
        </p:nvSpPr>
        <p:spPr>
          <a:xfrm>
            <a:off x="904680" y="2125800"/>
            <a:ext cx="1114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6 filt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直線コネクタ 2"/>
          <p:cNvSpPr/>
          <p:nvPr/>
        </p:nvSpPr>
        <p:spPr>
          <a:xfrm>
            <a:off x="1979640" y="2297160"/>
            <a:ext cx="5094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テキスト ボックス 42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3 (CE2.a.2 syntax + Simplific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4760" y="1076400"/>
            <a:ext cx="90756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structu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LCU mo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3-1:RA), (3-2:B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/BA information and filter coefficients in AP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ter or codebook filter or selecting APS filter or off i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 coef. design is the same as Option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frames to design ALF coef. in APS, and current frame to design ALF coef. In L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LCU, a filter (1) signalled in APS, (2) signalled in this LCU, or (3) signalled previously and stored may be used, or filtering is not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mplement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スライド番号プレースホルダー 3"/>
          <p:cNvSpPr/>
          <p:nvPr/>
        </p:nvSpPr>
        <p:spPr>
          <a:xfrm>
            <a:off x="8305920" y="63817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8A7-4F20-4814-BA53-13106C509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0" name="正方形/長方形 7"/>
          <p:cNvSpPr/>
          <p:nvPr/>
        </p:nvSpPr>
        <p:spPr>
          <a:xfrm>
            <a:off x="684360" y="215424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1" name="正方形/長方形 8"/>
          <p:cNvSpPr/>
          <p:nvPr/>
        </p:nvSpPr>
        <p:spPr>
          <a:xfrm>
            <a:off x="1476360" y="215424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2" name="正方形/長方形 9"/>
          <p:cNvSpPr/>
          <p:nvPr/>
        </p:nvSpPr>
        <p:spPr>
          <a:xfrm>
            <a:off x="2268360" y="2154240"/>
            <a:ext cx="6494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3" name="正方形/長方形 10"/>
          <p:cNvSpPr/>
          <p:nvPr/>
        </p:nvSpPr>
        <p:spPr>
          <a:xfrm>
            <a:off x="3060720" y="215424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4" name="正方形/長方形 11"/>
          <p:cNvSpPr/>
          <p:nvPr/>
        </p:nvSpPr>
        <p:spPr>
          <a:xfrm>
            <a:off x="4645080" y="2154240"/>
            <a:ext cx="3744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5" name="正方形/長方形 46"/>
          <p:cNvSpPr/>
          <p:nvPr/>
        </p:nvSpPr>
        <p:spPr>
          <a:xfrm>
            <a:off x="4645080" y="2514600"/>
            <a:ext cx="115236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6" name="正方形/長方形 22"/>
          <p:cNvSpPr/>
          <p:nvPr/>
        </p:nvSpPr>
        <p:spPr>
          <a:xfrm>
            <a:off x="4933800" y="26226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7" name="正方形/長方形 23"/>
          <p:cNvSpPr/>
          <p:nvPr/>
        </p:nvSpPr>
        <p:spPr>
          <a:xfrm>
            <a:off x="4791240" y="2622600"/>
            <a:ext cx="14256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8" name="正方形/長方形 49"/>
          <p:cNvSpPr/>
          <p:nvPr/>
        </p:nvSpPr>
        <p:spPr>
          <a:xfrm>
            <a:off x="5797440" y="251460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9" name="正方形/長方形 26"/>
          <p:cNvSpPr/>
          <p:nvPr/>
        </p:nvSpPr>
        <p:spPr>
          <a:xfrm>
            <a:off x="5943600" y="262260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0" name="正方形/長方形 51"/>
          <p:cNvSpPr/>
          <p:nvPr/>
        </p:nvSpPr>
        <p:spPr>
          <a:xfrm>
            <a:off x="6805440" y="251460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1" name="正方形/長方形 28"/>
          <p:cNvSpPr/>
          <p:nvPr/>
        </p:nvSpPr>
        <p:spPr>
          <a:xfrm>
            <a:off x="7093080" y="26226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2" name="正方形/長方形 29"/>
          <p:cNvSpPr/>
          <p:nvPr/>
        </p:nvSpPr>
        <p:spPr>
          <a:xfrm>
            <a:off x="6951600" y="2622600"/>
            <a:ext cx="14148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3" name="正方形/長方形 54"/>
          <p:cNvSpPr/>
          <p:nvPr/>
        </p:nvSpPr>
        <p:spPr>
          <a:xfrm>
            <a:off x="2268360" y="2514600"/>
            <a:ext cx="64944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4" name="正方形/長方形 59"/>
          <p:cNvSpPr/>
          <p:nvPr/>
        </p:nvSpPr>
        <p:spPr>
          <a:xfrm>
            <a:off x="2484360" y="26226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正方形/長方形 60"/>
          <p:cNvSpPr/>
          <p:nvPr/>
        </p:nvSpPr>
        <p:spPr>
          <a:xfrm>
            <a:off x="2629080" y="2622600"/>
            <a:ext cx="14256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正方形/長方形 61"/>
          <p:cNvSpPr/>
          <p:nvPr/>
        </p:nvSpPr>
        <p:spPr>
          <a:xfrm>
            <a:off x="2774880" y="26226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8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テキスト ボックス 61"/>
          <p:cNvSpPr/>
          <p:nvPr/>
        </p:nvSpPr>
        <p:spPr>
          <a:xfrm>
            <a:off x="6215400" y="6472080"/>
            <a:ext cx="167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 or index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1" name="テキスト ボックス 27"/>
          <p:cNvSpPr/>
          <p:nvPr/>
        </p:nvSpPr>
        <p:spPr>
          <a:xfrm>
            <a:off x="715680" y="2536920"/>
            <a:ext cx="1114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6 filt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2" name="直線コネクタ 3"/>
          <p:cNvSpPr/>
          <p:nvPr/>
        </p:nvSpPr>
        <p:spPr>
          <a:xfrm>
            <a:off x="1801800" y="2712960"/>
            <a:ext cx="68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テキスト ボックス 30"/>
          <p:cNvSpPr/>
          <p:nvPr/>
        </p:nvSpPr>
        <p:spPr>
          <a:xfrm>
            <a:off x="4029120" y="2968560"/>
            <a:ext cx="139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ngle filt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直線コネクタ 5"/>
          <p:cNvSpPr/>
          <p:nvPr/>
        </p:nvSpPr>
        <p:spPr>
          <a:xfrm flipV="1">
            <a:off x="4727520" y="2803680"/>
            <a:ext cx="27792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テキスト ボックス 47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Results for LCU mo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7B43-F040-4574-AE41-4A506ADA1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79280" y="1984320"/>
          <a:ext cx="8820360" cy="2957400"/>
        </p:xfrm>
        <a:graphic>
          <a:graphicData uri="http://schemas.openxmlformats.org/drawingml/2006/table">
            <a:tbl>
              <a:tblPr/>
              <a:tblGrid>
                <a:gridCol w="360360"/>
                <a:gridCol w="503280"/>
                <a:gridCol w="588960"/>
                <a:gridCol w="484200"/>
                <a:gridCol w="484200"/>
                <a:gridCol w="484200"/>
                <a:gridCol w="482760"/>
                <a:gridCol w="484200"/>
                <a:gridCol w="484200"/>
                <a:gridCol w="484200"/>
                <a:gridCol w="484200"/>
                <a:gridCol w="483840"/>
                <a:gridCol w="484200"/>
                <a:gridCol w="484200"/>
                <a:gridCol w="484200"/>
                <a:gridCol w="590760"/>
                <a:gridCol w="484200"/>
                <a:gridCol w="484200"/>
              </a:tblGrid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o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88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-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8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341" name="文字方塊 2"/>
          <p:cNvSpPr/>
          <p:nvPr/>
        </p:nvSpPr>
        <p:spPr>
          <a:xfrm>
            <a:off x="108000" y="98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nchor: ALF off, HM-6.0 SAO with LCU opt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文字方塊 3"/>
          <p:cNvSpPr/>
          <p:nvPr/>
        </p:nvSpPr>
        <p:spPr>
          <a:xfrm>
            <a:off x="108000" y="1327320"/>
            <a:ext cx="90216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est: Proposed ALF with PIC (i.e., CUR) or LCU (i.e., PRE) opt.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nd CE2 pixel access constraints (for LCU opt.), HM-6.0 SAO with LCU opt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3" name="正方形/長方形 1"/>
          <p:cNvSpPr/>
          <p:nvPr/>
        </p:nvSpPr>
        <p:spPr>
          <a:xfrm>
            <a:off x="7451640" y="2276640"/>
            <a:ext cx="576360" cy="2665080"/>
          </a:xfrm>
          <a:prstGeom prst="rect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テキスト ボックス 14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of PIC/LCU mode Unification by Op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スライド番号プレースホルダー 3"/>
          <p:cNvSpPr/>
          <p:nvPr/>
        </p:nvSpPr>
        <p:spPr>
          <a:xfrm>
            <a:off x="8305920" y="6427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808-F9C0-40CC-B7EB-4CBA7B4E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8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9" name="正方形/長方形 19"/>
          <p:cNvSpPr/>
          <p:nvPr/>
        </p:nvSpPr>
        <p:spPr>
          <a:xfrm>
            <a:off x="2273400" y="299736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0" name="正方形/長方形 53"/>
          <p:cNvSpPr/>
          <p:nvPr/>
        </p:nvSpPr>
        <p:spPr>
          <a:xfrm>
            <a:off x="684360" y="263700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正方形/長方形 54"/>
          <p:cNvSpPr/>
          <p:nvPr/>
        </p:nvSpPr>
        <p:spPr>
          <a:xfrm>
            <a:off x="1476360" y="263700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2" name="正方形/長方形 55"/>
          <p:cNvSpPr/>
          <p:nvPr/>
        </p:nvSpPr>
        <p:spPr>
          <a:xfrm>
            <a:off x="2273400" y="263700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3" name="正方形/長方形 56"/>
          <p:cNvSpPr/>
          <p:nvPr/>
        </p:nvSpPr>
        <p:spPr>
          <a:xfrm>
            <a:off x="3065400" y="263700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4" name="正方形/長方形 57"/>
          <p:cNvSpPr/>
          <p:nvPr/>
        </p:nvSpPr>
        <p:spPr>
          <a:xfrm>
            <a:off x="4649760" y="263700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5" name="正方形/長方形 59"/>
          <p:cNvSpPr/>
          <p:nvPr/>
        </p:nvSpPr>
        <p:spPr>
          <a:xfrm>
            <a:off x="2489040" y="31050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6" name="正方形/長方形 60"/>
          <p:cNvSpPr/>
          <p:nvPr/>
        </p:nvSpPr>
        <p:spPr>
          <a:xfrm>
            <a:off x="2633760" y="31050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7" name="正方形/長方形 61"/>
          <p:cNvSpPr/>
          <p:nvPr/>
        </p:nvSpPr>
        <p:spPr>
          <a:xfrm>
            <a:off x="2779560" y="310500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正方形/長方形 33"/>
          <p:cNvSpPr/>
          <p:nvPr/>
        </p:nvSpPr>
        <p:spPr>
          <a:xfrm>
            <a:off x="4643280" y="299880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正方形/長方形 23"/>
          <p:cNvSpPr/>
          <p:nvPr/>
        </p:nvSpPr>
        <p:spPr>
          <a:xfrm>
            <a:off x="4789440" y="3106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正方形/長方形 36"/>
          <p:cNvSpPr/>
          <p:nvPr/>
        </p:nvSpPr>
        <p:spPr>
          <a:xfrm>
            <a:off x="5796000" y="2998800"/>
            <a:ext cx="100800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1" name="正方形/長方形 26"/>
          <p:cNvSpPr/>
          <p:nvPr/>
        </p:nvSpPr>
        <p:spPr>
          <a:xfrm>
            <a:off x="5942160" y="310680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2" name="正方形/長方形 38"/>
          <p:cNvSpPr/>
          <p:nvPr/>
        </p:nvSpPr>
        <p:spPr>
          <a:xfrm>
            <a:off x="6804000" y="2998800"/>
            <a:ext cx="115272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LCU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3" name="正方形/長方形 29"/>
          <p:cNvSpPr/>
          <p:nvPr/>
        </p:nvSpPr>
        <p:spPr>
          <a:xfrm>
            <a:off x="6950160" y="3106800"/>
            <a:ext cx="1411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4" name="正方形/長方形 23"/>
          <p:cNvSpPr/>
          <p:nvPr/>
        </p:nvSpPr>
        <p:spPr>
          <a:xfrm>
            <a:off x="7842240" y="6562800"/>
            <a:ext cx="142920" cy="179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5" name="テキスト ボックス 1"/>
          <p:cNvSpPr/>
          <p:nvPr/>
        </p:nvSpPr>
        <p:spPr>
          <a:xfrm>
            <a:off x="7920360" y="6472080"/>
            <a:ext cx="128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/off ctr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6" name="正方形/長方形 22"/>
          <p:cNvSpPr/>
          <p:nvPr/>
        </p:nvSpPr>
        <p:spPr>
          <a:xfrm>
            <a:off x="6186600" y="6562800"/>
            <a:ext cx="1429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7" name="テキスト ボックス 61"/>
          <p:cNvSpPr/>
          <p:nvPr/>
        </p:nvSpPr>
        <p:spPr>
          <a:xfrm>
            <a:off x="6267960" y="6472080"/>
            <a:ext cx="73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ef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8" name="テキスト ボックス 25"/>
          <p:cNvSpPr/>
          <p:nvPr/>
        </p:nvSpPr>
        <p:spPr>
          <a:xfrm>
            <a:off x="904680" y="3016080"/>
            <a:ext cx="1114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6 filt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9" name="直線コネクタ 2"/>
          <p:cNvSpPr/>
          <p:nvPr/>
        </p:nvSpPr>
        <p:spPr>
          <a:xfrm>
            <a:off x="1979640" y="3187800"/>
            <a:ext cx="5094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0" name="テキスト ボックス 42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-based encoding (PIC mode) in CD/HM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U-based encoding (LCU mode) in Option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shown above, the difference is only signalling location of ALF on/off flag (embedded in slice header or interleaved in each LC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正方形/長方形 29"/>
          <p:cNvSpPr/>
          <p:nvPr/>
        </p:nvSpPr>
        <p:spPr>
          <a:xfrm>
            <a:off x="2273400" y="1628640"/>
            <a:ext cx="64908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3" name="正方形/長方形 30"/>
          <p:cNvSpPr/>
          <p:nvPr/>
        </p:nvSpPr>
        <p:spPr>
          <a:xfrm>
            <a:off x="3065400" y="1628640"/>
            <a:ext cx="1584360" cy="360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4" name="正方形/長方形 53"/>
          <p:cNvSpPr/>
          <p:nvPr/>
        </p:nvSpPr>
        <p:spPr>
          <a:xfrm>
            <a:off x="684360" y="12682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5" name="正方形/長方形 54"/>
          <p:cNvSpPr/>
          <p:nvPr/>
        </p:nvSpPr>
        <p:spPr>
          <a:xfrm>
            <a:off x="1476360" y="126828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6" name="正方形/長方形 55"/>
          <p:cNvSpPr/>
          <p:nvPr/>
        </p:nvSpPr>
        <p:spPr>
          <a:xfrm>
            <a:off x="2273400" y="1268280"/>
            <a:ext cx="64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7" name="正方形/長方形 56"/>
          <p:cNvSpPr/>
          <p:nvPr/>
        </p:nvSpPr>
        <p:spPr>
          <a:xfrm>
            <a:off x="3065400" y="1268280"/>
            <a:ext cx="158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正方形/長方形 57"/>
          <p:cNvSpPr/>
          <p:nvPr/>
        </p:nvSpPr>
        <p:spPr>
          <a:xfrm>
            <a:off x="4649760" y="1268280"/>
            <a:ext cx="3745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lice dat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9" name="正方形/長方形 62"/>
          <p:cNvSpPr/>
          <p:nvPr/>
        </p:nvSpPr>
        <p:spPr>
          <a:xfrm>
            <a:off x="4075200" y="1736640"/>
            <a:ext cx="1411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0" name="正方形/長方形 63"/>
          <p:cNvSpPr/>
          <p:nvPr/>
        </p:nvSpPr>
        <p:spPr>
          <a:xfrm>
            <a:off x="4218120" y="1736640"/>
            <a:ext cx="1429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正方形/長方形 64"/>
          <p:cNvSpPr/>
          <p:nvPr/>
        </p:nvSpPr>
        <p:spPr>
          <a:xfrm>
            <a:off x="4362480" y="1736640"/>
            <a:ext cx="1429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2" name="正方形/長方形 65"/>
          <p:cNvSpPr/>
          <p:nvPr/>
        </p:nvSpPr>
        <p:spPr>
          <a:xfrm>
            <a:off x="4506840" y="1736640"/>
            <a:ext cx="142920" cy="1810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3" name="正方形/長方形 59"/>
          <p:cNvSpPr/>
          <p:nvPr/>
        </p:nvSpPr>
        <p:spPr>
          <a:xfrm>
            <a:off x="2489040" y="173664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4" name="正方形/長方形 60"/>
          <p:cNvSpPr/>
          <p:nvPr/>
        </p:nvSpPr>
        <p:spPr>
          <a:xfrm>
            <a:off x="2633760" y="173664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正方形/長方形 61"/>
          <p:cNvSpPr/>
          <p:nvPr/>
        </p:nvSpPr>
        <p:spPr>
          <a:xfrm>
            <a:off x="2779560" y="1736640"/>
            <a:ext cx="142920" cy="1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CD/HM6 vs Op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1731-A2C3-45DC-8867-0D4A714C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1407960"/>
          <a:ext cx="8820360" cy="1951200"/>
        </p:xfrm>
        <a:graphic>
          <a:graphicData uri="http://schemas.openxmlformats.org/drawingml/2006/table">
            <a:tbl>
              <a:tblPr/>
              <a:tblGrid>
                <a:gridCol w="360360"/>
                <a:gridCol w="503280"/>
                <a:gridCol w="588960"/>
                <a:gridCol w="484200"/>
                <a:gridCol w="484200"/>
                <a:gridCol w="484200"/>
                <a:gridCol w="482760"/>
                <a:gridCol w="484200"/>
                <a:gridCol w="484200"/>
                <a:gridCol w="484200"/>
                <a:gridCol w="484200"/>
                <a:gridCol w="483840"/>
                <a:gridCol w="484200"/>
                <a:gridCol w="484200"/>
                <a:gridCol w="484200"/>
                <a:gridCol w="590760"/>
                <a:gridCol w="484200"/>
                <a:gridCol w="484200"/>
              </a:tblGrid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p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o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sp>
        <p:nvSpPr>
          <p:cNvPr id="391" name="文字方塊 2"/>
          <p:cNvSpPr/>
          <p:nvPr/>
        </p:nvSpPr>
        <p:spPr>
          <a:xfrm>
            <a:off x="468360" y="620640"/>
            <a:ext cx="6840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chor: ALF off, HM-6.0 SAO with LCU opt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2" name="文字方塊 3"/>
          <p:cNvSpPr/>
          <p:nvPr/>
        </p:nvSpPr>
        <p:spPr>
          <a:xfrm>
            <a:off x="468360" y="836640"/>
            <a:ext cx="71992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st: Proposed ALF with PIC (i.e., CUR) or LCU (i.e., PRE) opt.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d CE2 pixel access constraints (for LCU opt.), HM-6.0 SAO with LCU opt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79280" y="4414680"/>
          <a:ext cx="8820360" cy="1462320"/>
        </p:xfrm>
        <a:graphic>
          <a:graphicData uri="http://schemas.openxmlformats.org/drawingml/2006/table">
            <a:tbl>
              <a:tblPr/>
              <a:tblGrid>
                <a:gridCol w="1452600"/>
                <a:gridCol w="484200"/>
                <a:gridCol w="484200"/>
                <a:gridCol w="484200"/>
                <a:gridCol w="482760"/>
                <a:gridCol w="484200"/>
                <a:gridCol w="484200"/>
                <a:gridCol w="484200"/>
                <a:gridCol w="484200"/>
                <a:gridCol w="483840"/>
                <a:gridCol w="484200"/>
                <a:gridCol w="484200"/>
                <a:gridCol w="484200"/>
                <a:gridCol w="590760"/>
                <a:gridCol w="484200"/>
                <a:gridCol w="48420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D/HM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10-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o 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 Opt. 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/RA hybr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 Opt.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U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</a:tbl>
          </a:graphicData>
        </a:graphic>
      </p:graphicFrame>
      <p:sp>
        <p:nvSpPr>
          <p:cNvPr id="394" name="文字方塊 5"/>
          <p:cNvSpPr/>
          <p:nvPr/>
        </p:nvSpPr>
        <p:spPr>
          <a:xfrm>
            <a:off x="504720" y="3618000"/>
            <a:ext cx="6875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chor: ALF off, HM-6.0 SAO with the same PIC/LCU opt. setting as ALF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5" name="文字方塊 6"/>
          <p:cNvSpPr/>
          <p:nvPr/>
        </p:nvSpPr>
        <p:spPr>
          <a:xfrm>
            <a:off x="504720" y="3863880"/>
            <a:ext cx="76676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st: HM-6.0 ALF with PIC/LCU opt. and CE2 pixel access constraints (for LCU opt.),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HM-6.0 SAO with the same PIC/LCU opt. setting as ALF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6" name="正方形/長方形 1"/>
          <p:cNvSpPr/>
          <p:nvPr/>
        </p:nvSpPr>
        <p:spPr>
          <a:xfrm>
            <a:off x="7451640" y="1700280"/>
            <a:ext cx="576360" cy="1657440"/>
          </a:xfrm>
          <a:prstGeom prst="rect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7" name="正方形/長方形 13"/>
          <p:cNvSpPr/>
          <p:nvPr/>
        </p:nvSpPr>
        <p:spPr>
          <a:xfrm>
            <a:off x="7451640" y="4724280"/>
            <a:ext cx="576360" cy="1154160"/>
          </a:xfrm>
          <a:prstGeom prst="rect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8" name="テキスト ボックス 14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9" name="文字方塊 2"/>
          <p:cNvSpPr/>
          <p:nvPr/>
        </p:nvSpPr>
        <p:spPr>
          <a:xfrm>
            <a:off x="179280" y="5950080"/>
            <a:ext cx="878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Unification to Option 2 for PIC/LCU mode should be considered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478-2144-41DA-9359-9724539C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3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4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-6.0 A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: ALF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: ALF-on w/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icket #4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curate ru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7%/ -3.2% / -2.3% / -3.2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.9%/ -4.8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9%/ -3.4%/ -2.5%/ -3.7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.0%/ -5.1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4659480" y="44280"/>
            <a:ext cx="416052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c and CE2.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B4FF-D557-43CC-A94E-8759559EA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7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08000" y="692280"/>
          <a:ext cx="8928000" cy="5351400"/>
        </p:xfrm>
        <a:graphic>
          <a:graphicData uri="http://schemas.openxmlformats.org/drawingml/2006/table">
            <a:tbl>
              <a:tblPr/>
              <a:tblGrid>
                <a:gridCol w="792000"/>
                <a:gridCol w="1224000"/>
                <a:gridCol w="3152880"/>
                <a:gridCol w="469800"/>
                <a:gridCol w="469800"/>
                <a:gridCol w="470160"/>
                <a:gridCol w="469800"/>
                <a:gridCol w="469800"/>
                <a:gridCol w="470160"/>
                <a:gridCol w="469800"/>
                <a:gridCol w="469800"/>
              </a:tblGrid>
              <a:tr h="436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number of ALF filters in each picture using merge process in HM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1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filter &lt;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2_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417 BA 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number of ALF filters in each picture by modifying BA t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1-2_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417 BA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c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number of ALF filters to 1, 4 or 6, by switching 3 kinds of BA t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d.1_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regions in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pth of quadtree in ALF shall be 2 (16 region RA) or 3 (64 region 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d.1_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regions in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 txBox="1"/>
          <p:nvPr/>
        </p:nvSpPr>
        <p:spPr>
          <a:xfrm>
            <a:off x="392040" y="6021360"/>
            <a:ext cx="8382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discussion/study in CE2 and/or AHG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線コネクタ 5"/>
          <p:cNvSpPr/>
          <p:nvPr/>
        </p:nvSpPr>
        <p:spPr>
          <a:xfrm>
            <a:off x="5148360" y="2852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2" name="直線コネクタ 11"/>
          <p:cNvSpPr/>
          <p:nvPr/>
        </p:nvSpPr>
        <p:spPr>
          <a:xfrm>
            <a:off x="5148360" y="292428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直線コネクタ 12"/>
          <p:cNvSpPr/>
          <p:nvPr/>
        </p:nvSpPr>
        <p:spPr>
          <a:xfrm>
            <a:off x="5148360" y="3284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4" name="直線コネクタ 13"/>
          <p:cNvSpPr/>
          <p:nvPr/>
        </p:nvSpPr>
        <p:spPr>
          <a:xfrm>
            <a:off x="5148360" y="335772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直線コネクタ 14"/>
          <p:cNvSpPr/>
          <p:nvPr/>
        </p:nvSpPr>
        <p:spPr>
          <a:xfrm>
            <a:off x="5148360" y="5300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6" name="直線コネクタ 15"/>
          <p:cNvSpPr/>
          <p:nvPr/>
        </p:nvSpPr>
        <p:spPr>
          <a:xfrm>
            <a:off x="5148360" y="537372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7" name="直線コネクタ 16"/>
          <p:cNvSpPr/>
          <p:nvPr/>
        </p:nvSpPr>
        <p:spPr>
          <a:xfrm>
            <a:off x="5148360" y="573264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8" name="直線コネクタ 17"/>
          <p:cNvSpPr/>
          <p:nvPr/>
        </p:nvSpPr>
        <p:spPr>
          <a:xfrm>
            <a:off x="5148360" y="5805360"/>
            <a:ext cx="21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9" name="テキスト ボックス 6"/>
          <p:cNvSpPr/>
          <p:nvPr/>
        </p:nvSpPr>
        <p:spPr>
          <a:xfrm>
            <a:off x="7217280" y="5167440"/>
            <a:ext cx="1989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Further study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in AHG6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based on Option 2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0" name="テキスト ボックス 6"/>
          <p:cNvSpPr/>
          <p:nvPr/>
        </p:nvSpPr>
        <p:spPr>
          <a:xfrm>
            <a:off x="7160040" y="2924280"/>
            <a:ext cx="198216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No need to discus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A814-7E3D-4211-A941-12F47626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4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5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g (non-normat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051-DD9E-4399-A219-B239808C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92040" y="3428640"/>
            <a:ext cx="838224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urther discussion in CE2 and AHG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811080"/>
          <a:ext cx="8569080" cy="2473560"/>
        </p:xfrm>
        <a:graphic>
          <a:graphicData uri="http://schemas.openxmlformats.org/drawingml/2006/table">
            <a:tbl>
              <a:tblPr/>
              <a:tblGrid>
                <a:gridCol w="1184040"/>
                <a:gridCol w="831960"/>
                <a:gridCol w="1817640"/>
                <a:gridCol w="592200"/>
                <a:gridCol w="590400"/>
                <a:gridCol w="592200"/>
                <a:gridCol w="592200"/>
                <a:gridCol w="592200"/>
                <a:gridCol w="592200"/>
                <a:gridCol w="592200"/>
                <a:gridCol w="591840"/>
              </a:tblGrid>
              <a:tr h="6829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5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g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use bottom or right 4 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 usage of bottom or right N lines during parameter estim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FD39-46CF-4662-BBAB-A0B5425AD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h (4/2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A48-3DF7-4537-AFA4-E7994DEE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9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0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2040" y="3212640"/>
            <a:ext cx="838224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e luma filter coefficients in chroma filtering for LCU-base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ubtest is related to Options 1 and 3.  If Option 1 or 3 is recommeded by AHG6, it is recommended to adopt CE2.h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since chroma provides 0.7% to 3.1% gain which means overall gain (Y/U/V) seems “gai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24000" y="907920"/>
          <a:ext cx="8640720" cy="2160720"/>
        </p:xfrm>
        <a:graphic>
          <a:graphicData uri="http://schemas.openxmlformats.org/drawingml/2006/table">
            <a:tbl>
              <a:tblPr/>
              <a:tblGrid>
                <a:gridCol w="1144440"/>
                <a:gridCol w="990720"/>
                <a:gridCol w="1930320"/>
                <a:gridCol w="571320"/>
                <a:gridCol w="571680"/>
                <a:gridCol w="573120"/>
                <a:gridCol w="571320"/>
                <a:gridCol w="571680"/>
                <a:gridCol w="571320"/>
                <a:gridCol w="573120"/>
                <a:gridCol w="571680"/>
              </a:tblGrid>
              <a:tr h="5954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06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727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h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use luma filter on chr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 chroma to use luma ALF filter coeffici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adopted as it is (further study in conceptually in AHG6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5B31-8035-4BEE-A17E-E1F0FAFB2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6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7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A4C7-AF8C-4779-A336-FCFB6B41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2040" y="2636640"/>
            <a:ext cx="8382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74960" indent="-17496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2.i.1 should not be adopted.  However, the concept of CE2.i.1 is under the study in AHG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95280" y="907920"/>
          <a:ext cx="8497800" cy="1552680"/>
        </p:xfrm>
        <a:graphic>
          <a:graphicData uri="http://schemas.openxmlformats.org/drawingml/2006/table">
            <a:tbl>
              <a:tblPr/>
              <a:tblGrid>
                <a:gridCol w="1125720"/>
                <a:gridCol w="1179360"/>
                <a:gridCol w="1693800"/>
                <a:gridCol w="561960"/>
                <a:gridCol w="561960"/>
                <a:gridCol w="561960"/>
                <a:gridCol w="563760"/>
                <a:gridCol w="561960"/>
                <a:gridCol w="561960"/>
                <a:gridCol w="563400"/>
                <a:gridCol w="561960"/>
              </a:tblGrid>
              <a:tr h="436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46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i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H0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pic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pr. 19, 20, 2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8000" y="787320"/>
            <a:ext cx="896472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whether Option 2 should be further studi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reaching the conclusion for signalling scheme of LCU based ALF, it should be discussed whether we should have two ALF modes (picture-based ALF and LCU-based ALF) or a unified single mod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0.2-0.3% g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ption 2.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 unified mode (i.e., LCU-based ALF) is recommended, if Option 2 is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 vs BA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maximum filters in RA or BA needs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esting of more than 16 regions for RA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64 regions are tes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6800" indent="-27648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ain by RA6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firmed (Cf. JCTVC-I24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esting of less than 16 filters for BA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urther test on-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or higher resolution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ALF control for each component 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tive change to allow independ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allows independent control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is option is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controls chroma only when luma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LF will be defined in an HEVC profi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uggestion to consider “Option2_RA/BA plus independent ALF on/off control for each component” as the first priority for Main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lnSpc>
                <a:spcPts val="1998"/>
              </a:lnSpc>
              <a:spcAft>
                <a:spcPts val="3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owever, this discussion should be delegated to AHG8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84F3-3DE3-43EA-8142-8938D904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pic (Apr. 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8000" y="787320"/>
            <a:ext cx="896472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nfirm whether Option 2 should be further studi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After reaching the conclusion for signalling scheme of LCU based ALF, it should be discussed whether we should have two ALF modes (picture-based ALF and LCU-based ALF) or a unified single mode.  (Cf. Slides 16 and 17, </a:t>
            </a:r>
            <a:r>
              <a:rPr b="1" i="1" lang="en-US" sz="2000" spc="-1" strike="noStrike">
                <a:solidFill>
                  <a:srgbClr val="bfbfbf"/>
                </a:solidFill>
                <a:latin typeface="Arial"/>
              </a:rPr>
              <a:t>Discuss during the meeting?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 vs BA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maximum filters in RA or BA needs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esting of more than 16 regions for RA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64 regions are tes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ain by RA64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eed cross-check report to confirm 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May need testing of less than 16 filters for BA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No need to test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Results for higher resolution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Independent ALF control for each component  (</a:t>
            </a:r>
            <a:r>
              <a:rPr b="1" i="1" lang="en-US" sz="2000" spc="-1" strike="noStrike">
                <a:solidFill>
                  <a:srgbClr val="bfbfbf"/>
                </a:solidFill>
                <a:latin typeface="Arial"/>
              </a:rPr>
              <a:t>Done, to be reported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Normative change to allow independ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Encoder allows independent control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This option is recommended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Encoder controls chroma only when luma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How ALF will be defined in an HEVC profi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BCC4-38C5-4E83-B0F6-49F2A4E01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4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5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for RA16 vs. RA64 for Option 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pr. 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42E-64B8-4C66-9024-35AC2D234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8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9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2040" y="2636640"/>
            <a:ext cx="8382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wait for cross-checking, but RA64 seems not to give additional coding ga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in Class A sequences, no gain is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16 would be used for discussion of RA vs 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50920" y="1001880"/>
          <a:ext cx="8497800" cy="1347480"/>
        </p:xfrm>
        <a:graphic>
          <a:graphicData uri="http://schemas.openxmlformats.org/drawingml/2006/table">
            <a:tbl>
              <a:tblPr/>
              <a:tblGrid>
                <a:gridCol w="1473120"/>
                <a:gridCol w="2411280"/>
                <a:gridCol w="1668600"/>
                <a:gridCol w="736560"/>
                <a:gridCol w="735120"/>
                <a:gridCol w="736560"/>
                <a:gridCol w="736560"/>
              </a:tblGrid>
              <a:tr h="222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HE10 ALF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32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16 on Op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64 on Op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472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-6.0 A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C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: ALF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: ALF-on w/ CE2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curate ru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1%/ -2.0% / -1.6% / -2.7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.0%/ -3.0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/RA/LDB/L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2%/ -2.2%/ -1.6%/ -3.1% (a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.1%/ -3.4% (Class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59480" y="44280"/>
            <a:ext cx="416052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pic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pr. 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8000" y="787320"/>
            <a:ext cx="8964720" cy="55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nfirm whether Option 2 should be further studi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After reaching the conclusion for signalling scheme of LCU based ALF, it should be discussed whether we should have two ALF modes (picture-based ALF and LCU-based ALF) or a unified single mode.  (Cf. Slides 16 and 17, </a:t>
            </a:r>
            <a:r>
              <a:rPr b="1" i="1" lang="en-US" sz="2000" spc="-1" strike="noStrike">
                <a:solidFill>
                  <a:srgbClr val="bfbfbf"/>
                </a:solidFill>
                <a:latin typeface="Arial"/>
              </a:rPr>
              <a:t>Discuss during the meeting?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RA vs BA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Number of maximum filters in RA or BA needs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May need testing of more than 16 regions for RA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64 regions are tested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No gain by RA64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need cross-check report to confirm this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bfbfb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May need testing of less than 16 filters for BA (</a:t>
            </a:r>
            <a:r>
              <a:rPr b="0" i="1" lang="en-US" sz="1800" spc="-1" strike="noStrike">
                <a:solidFill>
                  <a:srgbClr val="bfbfbf"/>
                </a:solidFill>
                <a:latin typeface="Arial"/>
              </a:rPr>
              <a:t>No need to test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Results for higher resolution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ALF control for each component 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ne, to be repor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tive change to allow independ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allows independent control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is option is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56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 controls chroma only when luma i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24"/>
              </a:spcAft>
              <a:buClr>
                <a:srgbClr val="bfbf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How ALF will be defined in an HEVC profi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461E-DFFA-4194-AA96-32CD83D7D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6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7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8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65656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ALF control for each compon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pr.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2BEF-997C-4914-B28E-ED0851489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1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2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50920" y="765000"/>
          <a:ext cx="8642160" cy="2673360"/>
        </p:xfrm>
        <a:graphic>
          <a:graphicData uri="http://schemas.openxmlformats.org/drawingml/2006/table">
            <a:tbl>
              <a:tblPr/>
              <a:tblGrid>
                <a:gridCol w="1181160"/>
                <a:gridCol w="2952720"/>
                <a:gridCol w="2146320"/>
                <a:gridCol w="590400"/>
                <a:gridCol w="590400"/>
                <a:gridCol w="590760"/>
                <a:gridCol w="590400"/>
              </a:tblGrid>
              <a:tr h="2314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HE10 ALF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3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_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(normative restri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ependent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 control restriction by enco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_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 (normative restri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 control restriction by enco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normative re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484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5" name="コンテンツ プレースホルダー 2"/>
          <p:cNvSpPr/>
          <p:nvPr/>
        </p:nvSpPr>
        <p:spPr>
          <a:xfrm>
            <a:off x="392040" y="3789360"/>
            <a:ext cx="86439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cross-checking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287280" indent="-287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ma/chroma independent ALF control is recommended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ax comparison (HM6.0 AL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投影片編號版面配置區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990-767C-48B6-A97F-C944AC2E1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8" name="日期版面配置區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9" name="頁尾版面配置區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82600" y="981000"/>
          <a:ext cx="4794120" cy="4267440"/>
        </p:xfrm>
        <a:graphic>
          <a:graphicData uri="http://schemas.openxmlformats.org/drawingml/2006/table">
            <a:tbl>
              <a:tblPr/>
              <a:tblGrid>
                <a:gridCol w="4057560"/>
                <a:gridCol w="736560"/>
              </a:tblGrid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ps_rbsp( 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_scaling_list_data_presen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_data_pres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aps_deblocking_filter_flag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isable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disable_deblocking_filter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eta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c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sao_interleaving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!aps_sao_interleaving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ample_adaptive_offse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ps_sample_adaptive_offset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ao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daptive_loop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ps_adaptive_loop_filter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新細明體"/>
                        </a:rPr>
                        <a:t>alf_param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ps_extension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while( more_rbsp_data( 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data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356000" y="981000"/>
          <a:ext cx="4392720" cy="4518000"/>
        </p:xfrm>
        <a:graphic>
          <a:graphicData uri="http://schemas.openxmlformats.org/drawingml/2006/table">
            <a:tbl>
              <a:tblPr/>
              <a:tblGrid>
                <a:gridCol w="3745080"/>
                <a:gridCol w="647640"/>
              </a:tblGrid>
              <a:tr h="24516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slice_header( )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irst_slice_in_pic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first_slice_in_pic_flag = =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tropy_slice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entropy_slice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daptive_loop_filter_enabled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adaptive_loop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slice_adaptive_loop_filter_flag  &amp;&amp;  alf_coef_in_slice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param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slice_adaptive_loop_filter_flag  &amp;&amp;  !alf_coef_in_slice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cu_control_param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948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 seq_loop_filter_across_slices_enabled_flag  &amp;&amp;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slice_adaptive_loop_filter_flag  | |  slice_sample_adaptive_offset_flag  | |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!disable_deblocking_filter_flag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loop_filter_across_slices_enabled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tiles_or_entropy_coding_sync_idc &gt; 0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entry_point_offs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num_entry_point_offsets &gt; 0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offset_len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 i = 0; i &lt; num_entry_point_offsets; i++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try_point_offset[ i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21600" marR="21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76360" y="735120"/>
          <a:ext cx="4572000" cy="5790960"/>
        </p:xfrm>
        <a:graphic>
          <a:graphicData uri="http://schemas.openxmlformats.org/drawingml/2006/table">
            <a:tbl>
              <a:tblPr/>
              <a:tblGrid>
                <a:gridCol w="3733560"/>
                <a:gridCol w="838440"/>
              </a:tblGrid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param(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uma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!alf_coef_in_slice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u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_width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u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n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heigh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num_lcu_in_slice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dCtbrY =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Ctb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/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endCtbrX =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Ctb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%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numCtb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x =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%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y = 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 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rstCtbAddr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/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numCtbInWid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drX =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y =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endCtbr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?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dCtbr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: 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CtbInWidth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 ) &amp;&amp; ( i − numCtbInWidth &gt;= 0 ) &amp;&amp; ( alf_one_luma_unit_per_slice_flag = =0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x, ry,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, i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, endr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uma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 ) &amp;&amp; ( i − numCtbInWidth &gt;= 0 ) &amp;&amp; ( alf_one_cb_unit_per_slice_flag = =0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rx, ry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, i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, endrX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b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) &amp;&amp; ( i − numCtbInWidth&gt;= 0) &amp;&amp; ( alf_one_cr_unit_per_slice_flag = =0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rx, ry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, i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, endrX,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on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nit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er_slice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1670040" y="1238400"/>
          <a:ext cx="4419720" cy="4572000"/>
        </p:xfrm>
        <a:graphic>
          <a:graphicData uri="http://schemas.openxmlformats.org/drawingml/2006/table">
            <a:tbl>
              <a:tblPr/>
              <a:tblGrid>
                <a:gridCol w="3657600"/>
                <a:gridCol w="762120"/>
              </a:tblGrid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unit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rx, ry, cIdx, lcuIdx, endrX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,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oneUnitFlag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oneUni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cuId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info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, ry, cIdx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 else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repeat_row _flag[ cIdx 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rx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 || alfRun[ cIdx ][ ry ][ rx ] &lt;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lcuId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–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CtbInWidth &lt;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cIdx ][ ry ][ rx ] = 0 +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run_d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cIdx ][ ry ][ rx ] = alfRun[ cIdx ][ ry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− 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x ]+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run_d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+ 1 ] = 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 − 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rx == 0 || alfRun [ cIdx ] [ rx ][ ry ] &lt; 0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5160" rIns="65160" tIns="0" bIns="0" anchor="t">
                      <a:noAutofit/>
                    </a:bodyPr>
                    <a:p>
                      <a:pPr marL="635040" indent="-63504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ry &gt; 0 &amp;&amp;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( lcuIdx −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CtbInWidth 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| | alfA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rossSlice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merge_up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alf_merge_up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cIdx ][ ry ][ rx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lf_lcu_enable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 cIdx ][ ry ][ rx 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info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 rx, ry, cIdx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][ rx ] = alfRun[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Idx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][ ry − 1 ][ rx 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3408480" y="1798560"/>
          <a:ext cx="4572000" cy="4740480"/>
        </p:xfrm>
        <a:graphic>
          <a:graphicData uri="http://schemas.openxmlformats.org/drawingml/2006/table">
            <a:tbl>
              <a:tblPr/>
              <a:tblGrid>
                <a:gridCol w="3657600"/>
                <a:gridCol w="91440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info( rx, ry, cIdx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 )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umALFFiltersInStoredBuffer[cIdx]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&gt; 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ew_filter_se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new_filter_set_flag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0 &amp;&amp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NumALFFiltersInStoredBuffer[cIdx]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&gt;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stored_filter_set_idx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cIdx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 =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start_second_fil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&g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filter_pattern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 cIdx ][ ry ][ rx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no_filters_minus1 &gt;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pred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 cIdx ][ ry ][ rx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NumFilters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lf_nb_pred_luma_flag[ cIdx ][ ry ][ rx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NumFilters &g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min_kstart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 &lt; 4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golomb_index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NumFilters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[ ry ][ rx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g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[ ry ][ rx ][ 0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932360" y="2781360"/>
          <a:ext cx="3886200" cy="1371600"/>
        </p:xfrm>
        <a:graphic>
          <a:graphicData uri="http://schemas.openxmlformats.org/drawingml/2006/table">
            <a:tbl>
              <a:tblPr/>
              <a:tblGrid>
                <a:gridCol w="3124080"/>
                <a:gridCol w="76212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cu_control_param(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cu_control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cu_control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cu_control_max_dep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length_cu_control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 i = 0; i &lt; NumAlfCuFlag; i++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cu_flag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i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96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comparison (Option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uma/chorma independent ALF on/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投影片編號版面配置區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1622-B1B5-4488-BDAD-8C1ADECA7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9" name="日期版面配置區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0" name="頁尾版面配置區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52280" y="836640"/>
          <a:ext cx="4813560" cy="4572000"/>
        </p:xfrm>
        <a:graphic>
          <a:graphicData uri="http://schemas.openxmlformats.org/drawingml/2006/table">
            <a:tbl>
              <a:tblPr/>
              <a:tblGrid>
                <a:gridCol w="4073760"/>
                <a:gridCol w="739800"/>
              </a:tblGrid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ps_rbsp( 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_scaling_list_data_presen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 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_data_pres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caling_lis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aps_deblocking_filter_flag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isable_deblocking_filter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disable_deblocking_filter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beta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c_offset_di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sao_interleaving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!aps_sao_interleaving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s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ample_adaptive_offset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f( aps_sample_adaptive_offset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ao_param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cIdx=0;cIdx&lt;3;cIdx++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aps_filter_flag[cIdx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lf_aps_filter_flag[cIdx]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b0f0"/>
                          </a:solidFill>
                          <a:latin typeface="Times New Roman"/>
                          <a:ea typeface="Malgun Gothic"/>
                        </a:rPr>
                        <a:t>alf_picture_info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cId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aps_extension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while( more_rbsp_data( 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ps_extension_data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5076720" y="1359000"/>
          <a:ext cx="3962520" cy="2286000"/>
        </p:xfrm>
        <a:graphic>
          <a:graphicData uri="http://schemas.openxmlformats.org/drawingml/2006/table">
            <a:tbl>
              <a:tblPr/>
              <a:tblGrid>
                <a:gridCol w="3124440"/>
                <a:gridCol w="83808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alf_picture_info(cIdx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)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Idx =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3040"/>
                          <a:tab algn="l" pos="34596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start_second_fil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if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no_filters_minus1 &gt;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34596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9360"/>
                          <a:tab algn="l" pos="503280"/>
                          <a:tab algn="l" pos="62244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filter_pattern_flag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[ cIdx ]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1276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i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NumFilters; i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3040"/>
                          <a:tab algn="l" pos="48888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9360"/>
                          <a:tab algn="l" pos="503280"/>
                          <a:tab algn="l" pos="62244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g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840"/>
                          <a:tab algn="l" pos="21276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e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596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=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; j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&lt; AlfCodedLength; j+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3040"/>
                          <a:tab algn="l" pos="345960"/>
                          <a:tab algn="l" pos="50328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filt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_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oeff[ cIdx ] [ 0 ]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j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03280"/>
                          <a:tab algn="l" pos="547560"/>
                          <a:tab algn="l" pos="685800"/>
                          <a:tab algn="l" pos="755640"/>
                          <a:tab algn="l" pos="822240"/>
                          <a:tab algn="l" pos="958680"/>
                          <a:tab algn="l" pos="1008000"/>
                          <a:tab algn="l" pos="1096920"/>
                          <a:tab algn="l" pos="1233360"/>
                          <a:tab algn="l" pos="1260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50328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4211640" y="4005360"/>
          <a:ext cx="4680000" cy="2133360"/>
        </p:xfrm>
        <a:graphic>
          <a:graphicData uri="http://schemas.openxmlformats.org/drawingml/2006/table">
            <a:tbl>
              <a:tblPr/>
              <a:tblGrid>
                <a:gridCol w="3959280"/>
                <a:gridCol w="720720"/>
              </a:tblGrid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slice_data( )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bAddrRS = SliceCtbAddr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bAddrTS = CtbAddrRStoTS[ CtbAddrRS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reDataFlag =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o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cIdx=0;cIdx&lt;3; cIdx+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alf_slice_filter_flag[cIdx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lf_lcu_enable_flag[ cIdx ][ ry ][ rx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oreDataFlag = coding_tree( xCtb, yCtb, Log2CtbSize, 0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tbAddrTS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 while( moreData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4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-13968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s (Apr. 20, 24 and 26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5280" y="2133720"/>
          <a:ext cx="8381880" cy="20574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oder</a:t>
                      </a:r>
                      <a:br>
                        <a:rPr sz="18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ComAdaptiveLoopFilter.c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coder</a:t>
                      </a:r>
                      <a:br>
                        <a:rPr sz="18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EncAdaptiveLoopFilter.c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5.0 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6.0 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2 ALF: Pre + 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59 (7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2 ALF: Pre + 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59 (7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507" name="投影片編號版面配置區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EB7-284D-4AEB-AB06-C5248A781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8" name="日期版面配置區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9" name="頁尾版面配置區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コンテンツ プレースホルダー 2"/>
          <p:cNvSpPr/>
          <p:nvPr/>
        </p:nvSpPr>
        <p:spPr>
          <a:xfrm>
            <a:off x="395280" y="76500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7280" indent="-287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the number of activated source code lines in HM5.0 ALF, HM6.0 ALF and Option2 ALF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1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2" name="テキスト ボックス 1"/>
          <p:cNvSpPr/>
          <p:nvPr/>
        </p:nvSpPr>
        <p:spPr>
          <a:xfrm>
            <a:off x="14400" y="4365720"/>
            <a:ext cx="92836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ource code for Option2 has been highly cleaned up for HM7 integration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Numbers in parenthesis are omitting the support of slice/tile/I-PCM process.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ation (Apr. 19, 20, 2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2040" y="78696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4400" indent="-28440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Options 1 to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1 syntax supported by several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voices that Option 1 seems the best trade-off between complexity and cod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oncern about the coefficient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2 syntax supported by several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oncern about error resilience and overhead to signal ALF coefs. in 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voices that Option 2 seems the best trade-off between complexity and cod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pt all simplification tested in CE2.b and CE2.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 Adaptive ALF (RA16) as the first priority, but Block Adaptive ALF (BA16) is also another candidate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conclu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f. JCTVC-I03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79720"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of 16 filters for BA should be also discussed (Cf. JCTVC-I02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y two signalling modes into one mode (i.e., Option 2 LCU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LF control for luma and each chroma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116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de and draft text cleanup (Cf. JCTVC-I15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file discussion should be done in AHG8 or in JCT-V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5006-9A7E-4D8A-8327-72194D740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6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7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8" name="テキスト ボックス 6"/>
          <p:cNvSpPr/>
          <p:nvPr/>
        </p:nvSpPr>
        <p:spPr>
          <a:xfrm>
            <a:off x="2520" y="0"/>
            <a:ext cx="1523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ＭＳ Ｐゴシック"/>
              </a:rPr>
              <a:t>AHG6 activit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ce boundary processing study for LCU-based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t adopted as it is (further study in conceptually in AHG6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F82-6705-4FD7-B17F-9BCF8FA5D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lice boundary processing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00F-8D99-41B0-A6F1-9E96BDB5F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b and CE2.e for Simpl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1268280"/>
          <a:ext cx="8280360" cy="4573800"/>
        </p:xfrm>
        <a:graphic>
          <a:graphicData uri="http://schemas.openxmlformats.org/drawingml/2006/table">
            <a:tbl>
              <a:tblPr/>
              <a:tblGrid>
                <a:gridCol w="1203120"/>
                <a:gridCol w="2265480"/>
                <a:gridCol w="601560"/>
                <a:gridCol w="601920"/>
                <a:gridCol w="601560"/>
                <a:gridCol w="600120"/>
                <a:gridCol w="601560"/>
                <a:gridCol w="601560"/>
                <a:gridCol w="601920"/>
                <a:gridCol w="601560"/>
              </a:tblGrid>
              <a:tr h="3286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Run pred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explicit K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3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pred_fla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3_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pred_fla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4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nb_pred_luma_fla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4_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_nb_pred_luma_flag 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b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 independent qu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e.1_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trl depth &lt;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e.1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trl depth &lt;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e.1_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ctrl depth &lt;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15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DC6F-BFA8-4AEA-B1C8-62DBC628A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Recommendation for Simplification of A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786960"/>
            <a:ext cx="87519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1: Remove run prediction of ALF coefs.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run prediction of ALF coefs. in APS in picture-based ALF.  (Cf. No run prediction in LCU-based ALF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2: Remove explicit signaling of K-tabl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explicit signaling of K-table in both picture-based ALF and LCU-based ALF.  (i.e., Implicit K-table will be use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3: Remove alf_pred_fla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alf_pred_flag and not to use prediction in both picture-based ALF and LCU-based A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4: Remove alf_nb_pred_luma_fla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ove alf_nb_pred_luma_flag and not to use prediction in both picture-based ALF and LCU-based A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b.5: Qp independent quantization in LCU mode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.1-0.3%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Qp independent quantization of ALF coefs. in LCU-based ALF.  (i.e., same as picture based A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2.d.1: Depth of CU divisio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.1% lo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epth=0, i.e., LCU on/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e only LCU level on/off control in picture-based ALF.  (i.e., same as LCU-basd A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351-373F-4800-9D43-D0D565F03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2 Sub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920" y="620280"/>
            <a:ext cx="914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7120" indent="-267120">
              <a:lnSpc>
                <a:spcPts val="18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mplific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b: Simplification of ALF sign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e: Depth of LCU division for filtering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to adopt all simpl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ce boundary processing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2.f: Line memory reduction fix at independent slice and til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ke recommendation after subjective vi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Signalling/syntax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a: Signalling mode change from "switch between APS mode and slice header mode" to "switch between APS mode and interleaving mod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Recommend CE2.a.1 and CE2.a.2 as baseline Options and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BA vs RA study, including BA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c: Number of classes in B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d: Number of regions in 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Discuss CE2.c to reduce testing for further study in AHG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Encoder optimization study for LCU-based encoding (non-norm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g: Encoder complexity reduction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Luma/chroma filter coefficients unification study in LCU-based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h: Reuse luma filter coefficients in chroma filtering for LCU-based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Should be integrated IF Option 1 or 3 in AHG6 further study is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Combinatio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CE2.i: Combination sub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388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</a:rPr>
              <a:t>Not adopted as it is (further study in conceptually in AHG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94FA-68E0-4174-BC4C-D07386560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of CE2.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スライド番号プレースホルダー 3"/>
          <p:cNvSpPr/>
          <p:nvPr/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9B8-2C14-40BC-8386-52EA26481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日付プレースホルダー 4"/>
          <p:cNvSpPr/>
          <p:nvPr/>
        </p:nvSpPr>
        <p:spPr>
          <a:xfrm>
            <a:off x="1258920" y="6473880"/>
            <a:ext cx="133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12/04/x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フッター プレースホルダー 5"/>
          <p:cNvSpPr/>
          <p:nvPr/>
        </p:nvSpPr>
        <p:spPr>
          <a:xfrm>
            <a:off x="3124080" y="647388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4000" y="1125360"/>
          <a:ext cx="8496000" cy="2530800"/>
        </p:xfrm>
        <a:graphic>
          <a:graphicData uri="http://schemas.openxmlformats.org/drawingml/2006/table">
            <a:tbl>
              <a:tblPr/>
              <a:tblGrid>
                <a:gridCol w="853920"/>
                <a:gridCol w="1608120"/>
                <a:gridCol w="2001960"/>
                <a:gridCol w="504720"/>
                <a:gridCol w="574560"/>
                <a:gridCol w="649440"/>
                <a:gridCol w="595440"/>
                <a:gridCol w="426960"/>
                <a:gridCol w="426960"/>
                <a:gridCol w="426960"/>
                <a:gridCol w="426960"/>
              </a:tblGrid>
              <a:tr h="262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= HM-6.0 CE2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U-based A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50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262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150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2.f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372 (line mem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ff the Virtual Boundary padding at bottom tile boundaries when loop_filter_across_tiles_enabled_flag is equal to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 txBox="1"/>
          <p:nvPr/>
        </p:nvSpPr>
        <p:spPr>
          <a:xfrm>
            <a:off x="250560" y="3860640"/>
            <a:ext cx="87519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 will be made after subjective view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0:55:27Z</dcterms:created>
  <dc:creator>Yoshifumi Ueda</dc:creator>
  <dc:description/>
  <dc:language>en-US</dc:language>
  <cp:lastModifiedBy>T. Yamakage</cp:lastModifiedBy>
  <cp:lastPrinted>2002-03-12T08:50:36Z</cp:lastPrinted>
  <dcterms:modified xsi:type="dcterms:W3CDTF">2012-04-26T01:25:37Z</dcterms:modified>
  <cp:revision>1502</cp:revision>
  <dc:subject/>
  <dc:title>ｽﾗｲﾄﾞ ﾀｲﾄﾙなし</dc:title>
</cp:coreProperties>
</file>