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924-D282-491C-AE32-A81388BA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5F1-33CA-422D-A7F3-E35E677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20A-711C-4618-A433-AE722545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401-1986-4A9F-8C37-C416C8F8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80D-ACA0-49FB-A4B9-7EEA025A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41C-7B32-485D-991F-D0247A3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482-5796-464B-B8DD-37F4D26D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FA7-7E12-4C73-BB44-1911769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DBF-A4CC-4C15-B7D7-7F6B0C26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085-980F-409A-8A3D-8B82543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EA9-443A-4592-BDF3-B0F06F1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40F-C727-456C-B050-E1794F1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8DA8-4731-4EB3-BE44-3DCE0D5C63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G report on redu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SAO BO offset buff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20:15-22:30, Feb.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389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. Yamakage (BoG Ch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0920" y="764640"/>
            <a:ext cx="903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e Onno (Can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-Shik Kim, Do-Kyoung Kwon, Madhukar Budagavi (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ohiro Ikai (Shar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ji Nakagami, Ali Tabatabai, Ehsan Maani (So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ohyar Minoo, Yue Yu (Motorola Mobil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u-Wen Huang (MediaT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na Alshina (Samsu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ru Matsunobu (Panasoni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ired by T. Yama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(+ 1) contributions revie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0436, H0174, H0406, H0438 (and H055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tudy 3 candidates for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3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000" y="160020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syntax worst cas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D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6 regions x 16 offsets x 4 bits x 3 colors (for 8bit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,152 bits = 6,144 bytes /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LCU-based syntax is adopted, reduction of number of band offset  has more benefit from the viewpoint of coding efficiency (i.e., overhead red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3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s Review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268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8.d.1: JCTVC-H0436 (T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from 4 fixed groups, 8 bands, for luma and chr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8.e.2: JCTVC-H0174 (Can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-A: 1 floating group, 8 bands, select from 3 modes, signalling center position, for luma and chr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-B: 1 floating group, 8 bands, 1 mode, signalling center position of the band, for luma and chr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CE: JCTVC-H0406 (Son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oating 1 group  with 4 bands for chr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CE: JCTVC-H0438 (TI/Shar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from 4 fixed groups, 8 band for lu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from 4 fixed group, 8 bands with half size of band (only center) for chr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CE: JCTVC-H0553 (Motorola Mo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CU based, no need to signal offset position 4 Bands for BO_0 and 8 bands for BO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3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Each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1"/>
          <a:srcRect l="3130" t="29074" r="3130" b="8921"/>
          <a:stretch/>
        </p:blipFill>
        <p:spPr>
          <a:xfrm>
            <a:off x="179280" y="4365720"/>
            <a:ext cx="432144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" descr=""/>
          <p:cNvPicPr/>
          <p:nvPr/>
        </p:nvPicPr>
        <p:blipFill>
          <a:blip r:embed="rId2"/>
          <a:srcRect l="-2840" t="-986" r="0" b="-1986"/>
          <a:stretch/>
        </p:blipFill>
        <p:spPr>
          <a:xfrm>
            <a:off x="4756320" y="4478400"/>
            <a:ext cx="4162320" cy="19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LumaBO"/>
          <p:cNvPicPr/>
          <p:nvPr/>
        </p:nvPicPr>
        <p:blipFill>
          <a:blip r:embed="rId3"/>
          <a:stretch/>
        </p:blipFill>
        <p:spPr>
          <a:xfrm>
            <a:off x="179280" y="2046240"/>
            <a:ext cx="3961080" cy="735120"/>
          </a:xfrm>
          <a:prstGeom prst="rect">
            <a:avLst/>
          </a:prstGeom>
          <a:ln w="0">
            <a:noFill/>
          </a:ln>
        </p:spPr>
      </p:pic>
      <p:grpSp>
        <p:nvGrpSpPr>
          <p:cNvPr id="57" name="グループ化 22"/>
          <p:cNvGrpSpPr/>
          <p:nvPr/>
        </p:nvGrpSpPr>
        <p:grpSpPr>
          <a:xfrm>
            <a:off x="4859280" y="2060640"/>
            <a:ext cx="3960720" cy="1439640"/>
            <a:chOff x="4859280" y="2060640"/>
            <a:chExt cx="3960720" cy="1439640"/>
          </a:xfrm>
        </p:grpSpPr>
        <p:pic>
          <p:nvPicPr>
            <p:cNvPr id="58" name="Picture 25" descr="LumaBO"/>
            <p:cNvPicPr/>
            <p:nvPr/>
          </p:nvPicPr>
          <p:blipFill>
            <a:blip r:embed="rId4"/>
            <a:stretch/>
          </p:blipFill>
          <p:spPr>
            <a:xfrm>
              <a:off x="4866120" y="2060640"/>
              <a:ext cx="395388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4" descr="ChromaBO"/>
            <p:cNvPicPr/>
            <p:nvPr/>
          </p:nvPicPr>
          <p:blipFill>
            <a:blip r:embed="rId5"/>
            <a:stretch/>
          </p:blipFill>
          <p:spPr>
            <a:xfrm>
              <a:off x="4859280" y="2778480"/>
              <a:ext cx="3953880" cy="72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3"/>
          <p:cNvSpPr/>
          <p:nvPr/>
        </p:nvSpPr>
        <p:spPr>
          <a:xfrm>
            <a:off x="1485360" y="154764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04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2"/>
          <p:cNvSpPr/>
          <p:nvPr/>
        </p:nvSpPr>
        <p:spPr>
          <a:xfrm>
            <a:off x="6185880" y="155736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04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3"/>
          <p:cNvSpPr/>
          <p:nvPr/>
        </p:nvSpPr>
        <p:spPr>
          <a:xfrm>
            <a:off x="3018960" y="378000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0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34"/>
          <p:cNvSpPr/>
          <p:nvPr/>
        </p:nvSpPr>
        <p:spPr>
          <a:xfrm>
            <a:off x="6185880" y="378000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04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14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Table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058760"/>
          <a:ext cx="8785440" cy="5683320"/>
        </p:xfrm>
        <a:graphic>
          <a:graphicData uri="http://schemas.openxmlformats.org/drawingml/2006/table">
            <a:tbl>
              <a:tblPr/>
              <a:tblGrid>
                <a:gridCol w="930240"/>
                <a:gridCol w="909720"/>
                <a:gridCol w="843120"/>
                <a:gridCol w="511200"/>
                <a:gridCol w="577800"/>
                <a:gridCol w="576360"/>
                <a:gridCol w="2228760"/>
                <a:gridCol w="22082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D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6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174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floating group, 8 band, 1 mode, center position of the band, for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et buffer in decoder size is 1/2 for luma and chroma, need signalling of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2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/Sha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fixed group, 8 band for luma, 4 fixed group, 8 bands with half size of band (only center) for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et buffer in decoder size is 1/2 for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98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floating group, 4 band, 1 mode, starting position of the band, for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et buffer in decoder size is 1/4 for luma and chroma, need signalling of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8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174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1 floating group, 8 band, selected from 3 modes, center position, for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Offset buffer in decoder size is 1/2 for luma and chroma, need signalling of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4 fixed group, 8 band,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Offset buffer in decoder size is 1/2 for luma and chr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9" name="テキスト ボックス 4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Table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907920"/>
          <a:ext cx="8785440" cy="4999320"/>
        </p:xfrm>
        <a:graphic>
          <a:graphicData uri="http://schemas.openxmlformats.org/drawingml/2006/table">
            <a:tbl>
              <a:tblPr/>
              <a:tblGrid>
                <a:gridCol w="936720"/>
                <a:gridCol w="874800"/>
                <a:gridCol w="1776240"/>
                <a:gridCol w="1405080"/>
                <a:gridCol w="2008080"/>
                <a:gridCol w="668520"/>
                <a:gridCol w="520560"/>
                <a:gridCol w="595440"/>
              </a:tblGrid>
              <a:tr h="11062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coder buffer in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oder LUT (if all LUT table scheme is implemen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o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relative to HM5 BO (BO is below 0.5% of total encoding 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 to CE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D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de from   2 BO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174-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center off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de from   4 BO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center off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1062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174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3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32*4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Determine center offset, decide from   3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1.2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6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3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32*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Decide from   4 BO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1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H0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a6a6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2" name="テキスト ボックス 4"/>
          <p:cNvSpPr/>
          <p:nvPr/>
        </p:nvSpPr>
        <p:spPr>
          <a:xfrm>
            <a:off x="135000" y="5950080"/>
            <a:ext cx="886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commend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 study H0174-b, H0438 and H0406 for ad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H0553 (LCU-based SA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min and max value of L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64x64 pixels, need to find mix/max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omparison per pix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signal mix/max value per L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r and decoder can operate in the same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bands for BO_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bands for BO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3"/>
          <p:cNvSpPr/>
          <p:nvPr/>
        </p:nvSpPr>
        <p:spPr>
          <a:xfrm>
            <a:off x="7722000" y="144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H07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4:09:13Z</dcterms:created>
  <dc:creator>山影 朋夫</dc:creator>
  <dc:description/>
  <dc:language>en-US</dc:language>
  <cp:lastModifiedBy>山影 朋夫</cp:lastModifiedBy>
  <dcterms:modified xsi:type="dcterms:W3CDTF">2012-02-05T17:00:12Z</dcterms:modified>
  <cp:revision>23</cp:revision>
  <dc:subject/>
  <dc:title>BoG on reduction of SAO offset buffer</dc:title>
</cp:coreProperties>
</file>