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6048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7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8"/>
          </p:nvPr>
        </p:nvSpPr>
        <p:spPr>
          <a:xfrm>
            <a:off x="388440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FE68-4CA2-46FF-BC8B-558FC4F14D2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6048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スライド番号プレースホルダ 3"/>
          <p:cNvSpPr/>
          <p:nvPr/>
        </p:nvSpPr>
        <p:spPr>
          <a:xfrm>
            <a:off x="388476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2A57-171B-475A-8FEB-7842CC86511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6048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スライド番号プレースホルダ 3"/>
          <p:cNvSpPr/>
          <p:nvPr/>
        </p:nvSpPr>
        <p:spPr>
          <a:xfrm>
            <a:off x="388476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DEB4-7280-4ED6-9721-ADF4A8B7926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765-6EF3-4805-A388-EA58DC2F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40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25C-5507-4A03-9FE5-C986F56E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013-9A0F-4F22-9032-C75DB535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40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40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40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EAF-97D1-4C9A-B49B-444A1A6F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06F-A6C2-4C16-8D0A-B7C1DCA9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6540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6540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6540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6540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6540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88EDB-7F63-4C9E-8765-B5E59A9E2F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D2119-93E2-41EF-88E4-B0CB6BFE36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48419-CCCA-4923-8696-9F551ADEC6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9D003-E109-448B-B8BD-71A883C496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9DCCA-1376-4632-AF3D-022DF19CD4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735-96F5-4E42-A2B9-FADCC3C0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67E87-7A90-463F-81CA-CCFABAD8D3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C9C38-9256-491E-BE6D-E74E5A9F2B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C3273-01CF-461B-A613-0FECDBB101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6540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52684-E575-4954-9600-BC0094C7EE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36540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28EF2-8A63-4D1C-BC4C-F074B8182C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6FAD0-09C7-4E1F-8C71-704AB4933D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36540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36540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36540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CF6A6-9D1E-4A7C-BE99-FF80DD0E4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051-982A-4366-9B66-F62E4AC8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0E3-E5AE-4FAC-B802-48925DFD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812-6CDF-4B2E-9BF4-BD24806F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2D9-8D11-40D4-BAAD-A2C49E38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40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802-0D5F-4A6C-AF3E-05A6A537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40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B2C-656E-41C2-BE52-4B6390EA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3440" y="3049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744D-ADC0-4FF3-84EE-A093DFA7B3D6}" type="datetime"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659280" y="6237000"/>
            <a:ext cx="248436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60640"/>
            <a:ext cx="68580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8D23-3C86-4F60-9852-3AE643C3308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250920" y="6094440"/>
            <a:ext cx="8642160" cy="71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Picture 10" descr="sharplogo"/>
          <p:cNvPicPr/>
          <p:nvPr/>
        </p:nvPicPr>
        <p:blipFill>
          <a:blip r:embed="rId2"/>
          <a:stretch/>
        </p:blipFill>
        <p:spPr>
          <a:xfrm>
            <a:off x="179280" y="6548400"/>
            <a:ext cx="1297080" cy="3096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7"/>
          <p:cNvSpPr/>
          <p:nvPr/>
        </p:nvSpPr>
        <p:spPr>
          <a:xfrm>
            <a:off x="4138560" y="6556320"/>
            <a:ext cx="87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xxxx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7186320" y="6561000"/>
            <a:ext cx="127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184320" y="898560"/>
            <a:ext cx="8642160" cy="71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harplogo"/>
          <p:cNvPicPr/>
          <p:nvPr/>
        </p:nvPicPr>
        <p:blipFill>
          <a:blip r:embed="rId2"/>
          <a:stretch/>
        </p:blipFill>
        <p:spPr>
          <a:xfrm>
            <a:off x="2987640" y="3041640"/>
            <a:ext cx="3133800" cy="74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sharplogo"/>
          <p:cNvPicPr/>
          <p:nvPr/>
        </p:nvPicPr>
        <p:blipFill>
          <a:blip r:embed="rId2"/>
          <a:stretch/>
        </p:blipFill>
        <p:spPr>
          <a:xfrm>
            <a:off x="179280" y="6548400"/>
            <a:ext cx="1297080" cy="309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250920" y="2838600"/>
            <a:ext cx="8642160" cy="71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8" descr="sharplogo"/>
          <p:cNvPicPr/>
          <p:nvPr/>
        </p:nvPicPr>
        <p:blipFill>
          <a:blip r:embed="rId3"/>
          <a:stretch/>
        </p:blipFill>
        <p:spPr>
          <a:xfrm>
            <a:off x="179280" y="6548400"/>
            <a:ext cx="1297080" cy="309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7186320" y="6561000"/>
            <a:ext cx="127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6659280" y="6237000"/>
            <a:ext cx="248436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8457840" y="6560640"/>
            <a:ext cx="68580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6943-12AD-43A6-B349-55C5739B054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8458200" y="6561000"/>
            <a:ext cx="6858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FE03-BC59-4987-AC7F-23C7C5CF9F12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360520"/>
            <a:ext cx="8642160" cy="106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p’s proposals for HEVC scalability Exten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23618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923760" y="4540320"/>
            <a:ext cx="75279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isao Kumai, Tomoyuki Yamamoto, Andrew Segall, Norio 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p Corpo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 99th Meeting in San Jose, 6-10 February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view summ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1960" y="1066320"/>
            <a:ext cx="8560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troducing hybrid system for 4K2K broadcast using MPEG-2 video scalable coding is expected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cope of HEVC scalability extension can only use H.264/AVC as base lay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PEG-2 video widely implemented in digital TV, and digital TV standard cannot change oft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Enhancement layer:4K2K HEVC via internet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Base layer:HD MPEG-2 video via broadcast(existing system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Sharp proposes a mixed-codec scalability modes for HEVC exten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dd “light mode” us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ding standard independent information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given by base layer when coding enhancement lay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oding standard independent information: red arrow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oding standard dependent information: blue arrow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he “light mode” is expected to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ive less computational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gorithmic complexity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Experimental results(BD-rate) shows that adding such mode is valuab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2x scalability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Y: -32</a:t>
            </a:r>
            <a:r>
              <a:rPr b="0" lang="ja-JP" sz="15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-38% in RA HE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 with few modifica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1.5x scalability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Y: -13% in RA H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スライド番号プレースホルダ 3"/>
          <p:cNvSpPr/>
          <p:nvPr/>
        </p:nvSpPr>
        <p:spPr>
          <a:xfrm>
            <a:off x="8458200" y="6561000"/>
            <a:ext cx="6858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D06A-AEE1-40B6-8FEF-CC87D06E1231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6807240" y="3583080"/>
            <a:ext cx="204624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8458200" y="6561000"/>
            <a:ext cx="6858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755A-EC19-428F-AB8A-58537D3824B8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41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cases for hybrid TV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オブジェクト 10" descr=""/>
          <p:cNvPicPr/>
          <p:nvPr/>
        </p:nvPicPr>
        <p:blipFill>
          <a:blip r:embed="rId1"/>
          <a:srcRect l="-991" t="-3290" r="-1286" b="-3203"/>
          <a:stretch/>
        </p:blipFill>
        <p:spPr>
          <a:xfrm>
            <a:off x="130320" y="2560680"/>
            <a:ext cx="88549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ri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スライド番号プレースホルダ 3"/>
          <p:cNvSpPr/>
          <p:nvPr/>
        </p:nvSpPr>
        <p:spPr>
          <a:xfrm>
            <a:off x="8458200" y="6561000"/>
            <a:ext cx="6858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3AD0-9FD1-4127-A774-3BFAF99964E7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51040" y="1798560"/>
          <a:ext cx="3492360" cy="2041560"/>
        </p:xfrm>
        <a:graphic>
          <a:graphicData uri="http://schemas.openxmlformats.org/drawingml/2006/table">
            <a:tbl>
              <a:tblPr/>
              <a:tblGrid>
                <a:gridCol w="1190520"/>
                <a:gridCol w="1150920"/>
                <a:gridCol w="1150920"/>
              </a:tblGrid>
              <a:tr h="167760"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2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HE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HEVC(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Intra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only fir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DecodingRefresh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C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C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GOP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I sl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only fir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P sl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(inter-layer intr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B sl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b sl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InternalBitDep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857160" y="4268880"/>
          <a:ext cx="3456000" cy="1344600"/>
        </p:xfrm>
        <a:graphic>
          <a:graphicData uri="http://schemas.openxmlformats.org/drawingml/2006/table">
            <a:tbl>
              <a:tblPr/>
              <a:tblGrid>
                <a:gridCol w="858960"/>
                <a:gridCol w="868320"/>
                <a:gridCol w="870120"/>
                <a:gridCol w="858600"/>
              </a:tblGrid>
              <a:tr h="169920">
                <a:tc gridSpan="4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Resolution vs. Enhancement L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280">
                <a:tc row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(Intra Period 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7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99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7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792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99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6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959360" y="1798560"/>
          <a:ext cx="3492360" cy="2041560"/>
        </p:xfrm>
        <a:graphic>
          <a:graphicData uri="http://schemas.openxmlformats.org/drawingml/2006/table">
            <a:tbl>
              <a:tblPr/>
              <a:tblGrid>
                <a:gridCol w="1190520"/>
                <a:gridCol w="1150920"/>
                <a:gridCol w="1150920"/>
              </a:tblGrid>
              <a:tr h="167760"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5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HE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HEVC(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Intra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only fir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DecodingRefresh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C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C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GOP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I sl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only fir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P sl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(inter-layer intr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B sl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b sl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InternalBitDep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906800" y="4268880"/>
          <a:ext cx="3645000" cy="942840"/>
        </p:xfrm>
        <a:graphic>
          <a:graphicData uri="http://schemas.openxmlformats.org/drawingml/2006/table">
            <a:tbl>
              <a:tblPr/>
              <a:tblGrid>
                <a:gridCol w="819360"/>
                <a:gridCol w="1003320"/>
                <a:gridCol w="1003320"/>
                <a:gridCol w="819000"/>
              </a:tblGrid>
              <a:tr h="162000">
                <a:tc gridSpan="4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Resolution vs. Enhancement L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 row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13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50" name="テキスト ボックス 8"/>
          <p:cNvSpPr/>
          <p:nvPr/>
        </p:nvSpPr>
        <p:spPr>
          <a:xfrm>
            <a:off x="567360" y="110952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x Spatial Scal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テキスト ボックス 9"/>
          <p:cNvSpPr/>
          <p:nvPr/>
        </p:nvSpPr>
        <p:spPr>
          <a:xfrm>
            <a:off x="4531680" y="110952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5x Spatial Scal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テキスト ボックス 10"/>
          <p:cNvSpPr/>
          <p:nvPr/>
        </p:nvSpPr>
        <p:spPr>
          <a:xfrm>
            <a:off x="1727280" y="14382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condi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テキスト ボックス 11"/>
          <p:cNvSpPr/>
          <p:nvPr/>
        </p:nvSpPr>
        <p:spPr>
          <a:xfrm>
            <a:off x="5908680" y="14508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condi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テキスト ボックス 12"/>
          <p:cNvSpPr/>
          <p:nvPr/>
        </p:nvSpPr>
        <p:spPr>
          <a:xfrm>
            <a:off x="2131560" y="39625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テキスト ボックス 13"/>
          <p:cNvSpPr/>
          <p:nvPr/>
        </p:nvSpPr>
        <p:spPr>
          <a:xfrm>
            <a:off x="6337440" y="39751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8458200" y="6561000"/>
            <a:ext cx="6858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30CC-943E-493E-9375-B68913CDA598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41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.264/AVC and MPEG-2 video base layer compatibility mixed codec modes for scalability extens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オブジェクト 9" descr=""/>
          <p:cNvPicPr/>
          <p:nvPr/>
        </p:nvPicPr>
        <p:blipFill>
          <a:blip r:embed="rId1"/>
          <a:srcRect l="0" t="-356" r="-2170" b="-4335"/>
          <a:stretch/>
        </p:blipFill>
        <p:spPr>
          <a:xfrm>
            <a:off x="1085760" y="2305080"/>
            <a:ext cx="7321680" cy="2816280"/>
          </a:xfrm>
          <a:prstGeom prst="rect">
            <a:avLst/>
          </a:prstGeom>
          <a:ln w="0">
            <a:noFill/>
          </a:ln>
        </p:spPr>
      </p:pic>
      <p:sp>
        <p:nvSpPr>
          <p:cNvPr id="159" name="テキスト ボックス 9"/>
          <p:cNvSpPr/>
          <p:nvPr/>
        </p:nvSpPr>
        <p:spPr>
          <a:xfrm>
            <a:off x="322920" y="1135080"/>
            <a:ext cx="602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d arrow:  Coding standard independent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ue arrow: Coding standard dependent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9:06:27Z</dcterms:created>
  <dc:creator>iwanami</dc:creator>
  <dc:description/>
  <dc:language>en-US</dc:language>
  <cp:lastModifiedBy>S119929</cp:lastModifiedBy>
  <dcterms:modified xsi:type="dcterms:W3CDTF">2012-01-30T02:41:09Z</dcterms:modified>
  <cp:revision>1881</cp:revision>
  <dc:subject/>
  <dc:title>スライド 1</dc:title>
</cp:coreProperties>
</file>