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E68-A53F-42EE-82B6-5668F7A2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7C0-EFDE-41FC-B67E-98E773EB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301-7158-42B9-8133-9D6F3251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8F7-381F-40E3-8F81-84AE3EC4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281D-63B2-4DFC-8B35-5CD97F8A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A425-2085-4014-9CD4-D68607B4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2A88-BA47-47C4-AB9C-0B848BB2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D54D-81DB-49DE-B0C8-4599F702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E641-8033-47C6-9A4A-1EF43031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A642-2C1F-4A03-8C5F-20B68449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A482-7AA2-4358-BFBF-1F981024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D27-887C-44D5-96DE-FFB11DF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CD20-4052-4DBC-8106-5B111201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6E60-C5A0-4791-BD11-525DA457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DDCF-8E3A-4001-B200-2D900E4D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C78B-185B-44CF-BD23-726E2BBB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8EC1-54C8-477D-8DE4-EC6A44D6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9C2-1B00-4BE5-B5C1-77C4D17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413-CF78-443C-AB79-8509845F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EE8-7F90-498D-A44A-9E2B02FD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A91-7378-454D-BB54-5A8EF699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FA8-D7C3-45A6-83D3-7308BF20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08C-90CB-402C-A574-D42FB21A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015-514A-45D1-B013-E4930A23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2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dad1b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4"/>
          <p:cNvGrpSpPr/>
          <p:nvPr/>
        </p:nvGrpSpPr>
        <p:grpSpPr>
          <a:xfrm>
            <a:off x="8572680" y="96840"/>
            <a:ext cx="452160" cy="455760"/>
            <a:chOff x="8572680" y="96840"/>
            <a:chExt cx="452160" cy="455760"/>
          </a:xfrm>
        </p:grpSpPr>
        <p:sp>
          <p:nvSpPr>
            <p:cNvPr id="3" name="Freeform 15"/>
            <p:cNvSpPr/>
            <p:nvPr/>
          </p:nvSpPr>
          <p:spPr>
            <a:xfrm>
              <a:off x="8593200" y="117360"/>
              <a:ext cx="411120" cy="41292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740" h="4741">
                  <a:moveTo>
                    <a:pt x="2370" y="0"/>
                  </a:moveTo>
                  <a:lnTo>
                    <a:pt x="2431" y="3"/>
                  </a:lnTo>
                  <a:lnTo>
                    <a:pt x="2492" y="5"/>
                  </a:lnTo>
                  <a:lnTo>
                    <a:pt x="2553" y="8"/>
                  </a:lnTo>
                  <a:lnTo>
                    <a:pt x="2613" y="14"/>
                  </a:lnTo>
                  <a:lnTo>
                    <a:pt x="2672" y="21"/>
                  </a:lnTo>
                  <a:lnTo>
                    <a:pt x="2731" y="29"/>
                  </a:lnTo>
                  <a:lnTo>
                    <a:pt x="2789" y="38"/>
                  </a:lnTo>
                  <a:lnTo>
                    <a:pt x="2848" y="50"/>
                  </a:lnTo>
                  <a:lnTo>
                    <a:pt x="2906" y="62"/>
                  </a:lnTo>
                  <a:lnTo>
                    <a:pt x="2962" y="76"/>
                  </a:lnTo>
                  <a:lnTo>
                    <a:pt x="3019" y="91"/>
                  </a:lnTo>
                  <a:lnTo>
                    <a:pt x="3075" y="109"/>
                  </a:lnTo>
                  <a:lnTo>
                    <a:pt x="3130" y="126"/>
                  </a:lnTo>
                  <a:lnTo>
                    <a:pt x="3184" y="145"/>
                  </a:lnTo>
                  <a:lnTo>
                    <a:pt x="3239" y="166"/>
                  </a:lnTo>
                  <a:lnTo>
                    <a:pt x="3293" y="188"/>
                  </a:lnTo>
                  <a:lnTo>
                    <a:pt x="3346" y="211"/>
                  </a:lnTo>
                  <a:lnTo>
                    <a:pt x="3398" y="235"/>
                  </a:lnTo>
                  <a:lnTo>
                    <a:pt x="3449" y="261"/>
                  </a:lnTo>
                  <a:lnTo>
                    <a:pt x="3500" y="287"/>
                  </a:lnTo>
                  <a:lnTo>
                    <a:pt x="3550" y="316"/>
                  </a:lnTo>
                  <a:lnTo>
                    <a:pt x="3599" y="345"/>
                  </a:lnTo>
                  <a:lnTo>
                    <a:pt x="3648" y="375"/>
                  </a:lnTo>
                  <a:lnTo>
                    <a:pt x="3695" y="406"/>
                  </a:lnTo>
                  <a:lnTo>
                    <a:pt x="3742" y="439"/>
                  </a:lnTo>
                  <a:lnTo>
                    <a:pt x="3788" y="473"/>
                  </a:lnTo>
                  <a:lnTo>
                    <a:pt x="3833" y="507"/>
                  </a:lnTo>
                  <a:lnTo>
                    <a:pt x="3878" y="543"/>
                  </a:lnTo>
                  <a:lnTo>
                    <a:pt x="3921" y="580"/>
                  </a:lnTo>
                  <a:lnTo>
                    <a:pt x="3963" y="618"/>
                  </a:lnTo>
                  <a:lnTo>
                    <a:pt x="4005" y="656"/>
                  </a:lnTo>
                  <a:lnTo>
                    <a:pt x="4046" y="696"/>
                  </a:lnTo>
                  <a:lnTo>
                    <a:pt x="4085" y="736"/>
                  </a:lnTo>
                  <a:lnTo>
                    <a:pt x="4125" y="778"/>
                  </a:lnTo>
                  <a:lnTo>
                    <a:pt x="4163" y="820"/>
                  </a:lnTo>
                  <a:lnTo>
                    <a:pt x="4198" y="864"/>
                  </a:lnTo>
                  <a:lnTo>
                    <a:pt x="4234" y="908"/>
                  </a:lnTo>
                  <a:lnTo>
                    <a:pt x="4270" y="954"/>
                  </a:lnTo>
                  <a:lnTo>
                    <a:pt x="4303" y="999"/>
                  </a:lnTo>
                  <a:lnTo>
                    <a:pt x="4335" y="1046"/>
                  </a:lnTo>
                  <a:lnTo>
                    <a:pt x="4367" y="1095"/>
                  </a:lnTo>
                  <a:lnTo>
                    <a:pt x="4396" y="1143"/>
                  </a:lnTo>
                  <a:lnTo>
                    <a:pt x="4426" y="1191"/>
                  </a:lnTo>
                  <a:lnTo>
                    <a:pt x="4454" y="1242"/>
                  </a:lnTo>
                  <a:lnTo>
                    <a:pt x="4481" y="1293"/>
                  </a:lnTo>
                  <a:lnTo>
                    <a:pt x="4506" y="1344"/>
                  </a:lnTo>
                  <a:lnTo>
                    <a:pt x="4531" y="1397"/>
                  </a:lnTo>
                  <a:lnTo>
                    <a:pt x="4554" y="1450"/>
                  </a:lnTo>
                  <a:lnTo>
                    <a:pt x="4576" y="1503"/>
                  </a:lnTo>
                  <a:lnTo>
                    <a:pt x="4596" y="1557"/>
                  </a:lnTo>
                  <a:lnTo>
                    <a:pt x="4615" y="1611"/>
                  </a:lnTo>
                  <a:lnTo>
                    <a:pt x="4634" y="1667"/>
                  </a:lnTo>
                  <a:lnTo>
                    <a:pt x="4650" y="1723"/>
                  </a:lnTo>
                  <a:lnTo>
                    <a:pt x="4666" y="1779"/>
                  </a:lnTo>
                  <a:lnTo>
                    <a:pt x="4680" y="1837"/>
                  </a:lnTo>
                  <a:lnTo>
                    <a:pt x="4693" y="1894"/>
                  </a:lnTo>
                  <a:lnTo>
                    <a:pt x="4703" y="1952"/>
                  </a:lnTo>
                  <a:lnTo>
                    <a:pt x="4713" y="2011"/>
                  </a:lnTo>
                  <a:lnTo>
                    <a:pt x="4721" y="2069"/>
                  </a:lnTo>
                  <a:lnTo>
                    <a:pt x="4728" y="2129"/>
                  </a:lnTo>
                  <a:lnTo>
                    <a:pt x="4733" y="2189"/>
                  </a:lnTo>
                  <a:lnTo>
                    <a:pt x="4737" y="2249"/>
                  </a:lnTo>
                  <a:lnTo>
                    <a:pt x="4740" y="2310"/>
                  </a:lnTo>
                  <a:lnTo>
                    <a:pt x="4740" y="2371"/>
                  </a:lnTo>
                  <a:lnTo>
                    <a:pt x="4740" y="2432"/>
                  </a:lnTo>
                  <a:lnTo>
                    <a:pt x="4737" y="2493"/>
                  </a:lnTo>
                  <a:lnTo>
                    <a:pt x="4733" y="2553"/>
                  </a:lnTo>
                  <a:lnTo>
                    <a:pt x="4728" y="2613"/>
                  </a:lnTo>
                  <a:lnTo>
                    <a:pt x="4721" y="2673"/>
                  </a:lnTo>
                  <a:lnTo>
                    <a:pt x="4713" y="2732"/>
                  </a:lnTo>
                  <a:lnTo>
                    <a:pt x="4703" y="2790"/>
                  </a:lnTo>
                  <a:lnTo>
                    <a:pt x="4693" y="2848"/>
                  </a:lnTo>
                  <a:lnTo>
                    <a:pt x="4680" y="2906"/>
                  </a:lnTo>
                  <a:lnTo>
                    <a:pt x="4666" y="2963"/>
                  </a:lnTo>
                  <a:lnTo>
                    <a:pt x="4650" y="3020"/>
                  </a:lnTo>
                  <a:lnTo>
                    <a:pt x="4634" y="3075"/>
                  </a:lnTo>
                  <a:lnTo>
                    <a:pt x="4615" y="3132"/>
                  </a:lnTo>
                  <a:lnTo>
                    <a:pt x="4596" y="3186"/>
                  </a:lnTo>
                  <a:lnTo>
                    <a:pt x="4576" y="3240"/>
                  </a:lnTo>
                  <a:lnTo>
                    <a:pt x="4554" y="3293"/>
                  </a:lnTo>
                  <a:lnTo>
                    <a:pt x="4531" y="3346"/>
                  </a:lnTo>
                  <a:lnTo>
                    <a:pt x="4506" y="3399"/>
                  </a:lnTo>
                  <a:lnTo>
                    <a:pt x="4481" y="3449"/>
                  </a:lnTo>
                  <a:lnTo>
                    <a:pt x="4454" y="3500"/>
                  </a:lnTo>
                  <a:lnTo>
                    <a:pt x="4426" y="3551"/>
                  </a:lnTo>
                  <a:lnTo>
                    <a:pt x="4396" y="3599"/>
                  </a:lnTo>
                  <a:lnTo>
                    <a:pt x="4367" y="3648"/>
                  </a:lnTo>
                  <a:lnTo>
                    <a:pt x="4335" y="3696"/>
                  </a:lnTo>
                  <a:lnTo>
                    <a:pt x="4303" y="3743"/>
                  </a:lnTo>
                  <a:lnTo>
                    <a:pt x="4270" y="3788"/>
                  </a:lnTo>
                  <a:lnTo>
                    <a:pt x="4234" y="3834"/>
                  </a:lnTo>
                  <a:lnTo>
                    <a:pt x="4198" y="3878"/>
                  </a:lnTo>
                  <a:lnTo>
                    <a:pt x="4163" y="3922"/>
                  </a:lnTo>
                  <a:lnTo>
                    <a:pt x="4125" y="3964"/>
                  </a:lnTo>
                  <a:lnTo>
                    <a:pt x="4085" y="4006"/>
                  </a:lnTo>
                  <a:lnTo>
                    <a:pt x="4046" y="4046"/>
                  </a:lnTo>
                  <a:lnTo>
                    <a:pt x="4005" y="4087"/>
                  </a:lnTo>
                  <a:lnTo>
                    <a:pt x="3963" y="4125"/>
                  </a:lnTo>
                  <a:lnTo>
                    <a:pt x="3921" y="4163"/>
                  </a:lnTo>
                  <a:lnTo>
                    <a:pt x="3878" y="4199"/>
                  </a:lnTo>
                  <a:lnTo>
                    <a:pt x="3833" y="4235"/>
                  </a:lnTo>
                  <a:lnTo>
                    <a:pt x="3788" y="4270"/>
                  </a:lnTo>
                  <a:lnTo>
                    <a:pt x="3742" y="4303"/>
                  </a:lnTo>
                  <a:lnTo>
                    <a:pt x="3695" y="4337"/>
                  </a:lnTo>
                  <a:lnTo>
                    <a:pt x="3648" y="4368"/>
                  </a:lnTo>
                  <a:lnTo>
                    <a:pt x="3599" y="4398"/>
                  </a:lnTo>
                  <a:lnTo>
                    <a:pt x="3550" y="4426"/>
                  </a:lnTo>
                  <a:lnTo>
                    <a:pt x="3500" y="4455"/>
                  </a:lnTo>
                  <a:lnTo>
                    <a:pt x="3449" y="4482"/>
                  </a:lnTo>
                  <a:lnTo>
                    <a:pt x="3398" y="4507"/>
                  </a:lnTo>
                  <a:lnTo>
                    <a:pt x="3346" y="4531"/>
                  </a:lnTo>
                  <a:lnTo>
                    <a:pt x="3293" y="4554"/>
                  </a:lnTo>
                  <a:lnTo>
                    <a:pt x="3239" y="4576"/>
                  </a:lnTo>
                  <a:lnTo>
                    <a:pt x="3184" y="4597"/>
                  </a:lnTo>
                  <a:lnTo>
                    <a:pt x="3130" y="4616"/>
                  </a:lnTo>
                  <a:lnTo>
                    <a:pt x="3075" y="4634"/>
                  </a:lnTo>
                  <a:lnTo>
                    <a:pt x="3019" y="4651"/>
                  </a:lnTo>
                  <a:lnTo>
                    <a:pt x="2962" y="4666"/>
                  </a:lnTo>
                  <a:lnTo>
                    <a:pt x="2906" y="4680"/>
                  </a:lnTo>
                  <a:lnTo>
                    <a:pt x="2848" y="4693"/>
                  </a:lnTo>
                  <a:lnTo>
                    <a:pt x="2789" y="4704"/>
                  </a:lnTo>
                  <a:lnTo>
                    <a:pt x="2731" y="4713"/>
                  </a:lnTo>
                  <a:lnTo>
                    <a:pt x="2672" y="4721"/>
                  </a:lnTo>
                  <a:lnTo>
                    <a:pt x="2613" y="4728"/>
                  </a:lnTo>
                  <a:lnTo>
                    <a:pt x="2553" y="4734"/>
                  </a:lnTo>
                  <a:lnTo>
                    <a:pt x="2492" y="4737"/>
                  </a:lnTo>
                  <a:lnTo>
                    <a:pt x="2431" y="4740"/>
                  </a:lnTo>
                  <a:lnTo>
                    <a:pt x="2370" y="4741"/>
                  </a:lnTo>
                  <a:lnTo>
                    <a:pt x="2309" y="4740"/>
                  </a:lnTo>
                  <a:lnTo>
                    <a:pt x="2249" y="4737"/>
                  </a:lnTo>
                  <a:lnTo>
                    <a:pt x="2188" y="4734"/>
                  </a:lnTo>
                  <a:lnTo>
                    <a:pt x="2128" y="4728"/>
                  </a:lnTo>
                  <a:lnTo>
                    <a:pt x="2068" y="4721"/>
                  </a:lnTo>
                  <a:lnTo>
                    <a:pt x="2009" y="4713"/>
                  </a:lnTo>
                  <a:lnTo>
                    <a:pt x="1951" y="4704"/>
                  </a:lnTo>
                  <a:lnTo>
                    <a:pt x="1893" y="4693"/>
                  </a:lnTo>
                  <a:lnTo>
                    <a:pt x="1835" y="4680"/>
                  </a:lnTo>
                  <a:lnTo>
                    <a:pt x="1778" y="4666"/>
                  </a:lnTo>
                  <a:lnTo>
                    <a:pt x="1721" y="4651"/>
                  </a:lnTo>
                  <a:lnTo>
                    <a:pt x="1666" y="4634"/>
                  </a:lnTo>
                  <a:lnTo>
                    <a:pt x="1611" y="4616"/>
                  </a:lnTo>
                  <a:lnTo>
                    <a:pt x="1556" y="4597"/>
                  </a:lnTo>
                  <a:lnTo>
                    <a:pt x="1501" y="4576"/>
                  </a:lnTo>
                  <a:lnTo>
                    <a:pt x="1448" y="4554"/>
                  </a:lnTo>
                  <a:lnTo>
                    <a:pt x="1395" y="4531"/>
                  </a:lnTo>
                  <a:lnTo>
                    <a:pt x="1344" y="4507"/>
                  </a:lnTo>
                  <a:lnTo>
                    <a:pt x="1292" y="4482"/>
                  </a:lnTo>
                  <a:lnTo>
                    <a:pt x="1241" y="4455"/>
                  </a:lnTo>
                  <a:lnTo>
                    <a:pt x="1191" y="4426"/>
                  </a:lnTo>
                  <a:lnTo>
                    <a:pt x="1142" y="4398"/>
                  </a:lnTo>
                  <a:lnTo>
                    <a:pt x="1094" y="4368"/>
                  </a:lnTo>
                  <a:lnTo>
                    <a:pt x="1045" y="4337"/>
                  </a:lnTo>
                  <a:lnTo>
                    <a:pt x="999" y="4303"/>
                  </a:lnTo>
                  <a:lnTo>
                    <a:pt x="953" y="4270"/>
                  </a:lnTo>
                  <a:lnTo>
                    <a:pt x="908" y="4235"/>
                  </a:lnTo>
                  <a:lnTo>
                    <a:pt x="863" y="4199"/>
                  </a:lnTo>
                  <a:lnTo>
                    <a:pt x="819" y="4163"/>
                  </a:lnTo>
                  <a:lnTo>
                    <a:pt x="777" y="4125"/>
                  </a:lnTo>
                  <a:lnTo>
                    <a:pt x="735" y="4087"/>
                  </a:lnTo>
                  <a:lnTo>
                    <a:pt x="695" y="4046"/>
                  </a:lnTo>
                  <a:lnTo>
                    <a:pt x="656" y="4006"/>
                  </a:lnTo>
                  <a:lnTo>
                    <a:pt x="617" y="3964"/>
                  </a:lnTo>
                  <a:lnTo>
                    <a:pt x="579" y="3922"/>
                  </a:lnTo>
                  <a:lnTo>
                    <a:pt x="542" y="3878"/>
                  </a:lnTo>
                  <a:lnTo>
                    <a:pt x="506" y="3834"/>
                  </a:lnTo>
                  <a:lnTo>
                    <a:pt x="471" y="3788"/>
                  </a:lnTo>
                  <a:lnTo>
                    <a:pt x="438" y="3743"/>
                  </a:lnTo>
                  <a:lnTo>
                    <a:pt x="406" y="3696"/>
                  </a:lnTo>
                  <a:lnTo>
                    <a:pt x="375" y="3648"/>
                  </a:lnTo>
                  <a:lnTo>
                    <a:pt x="344" y="3599"/>
                  </a:lnTo>
                  <a:lnTo>
                    <a:pt x="315" y="3551"/>
                  </a:lnTo>
                  <a:lnTo>
                    <a:pt x="287" y="3500"/>
                  </a:lnTo>
                  <a:lnTo>
                    <a:pt x="259" y="3449"/>
                  </a:lnTo>
                  <a:lnTo>
                    <a:pt x="234" y="3399"/>
                  </a:lnTo>
                  <a:lnTo>
                    <a:pt x="210" y="3346"/>
                  </a:lnTo>
                  <a:lnTo>
                    <a:pt x="187" y="3293"/>
                  </a:lnTo>
                  <a:lnTo>
                    <a:pt x="165" y="3240"/>
                  </a:lnTo>
                  <a:lnTo>
                    <a:pt x="144" y="3186"/>
                  </a:lnTo>
                  <a:lnTo>
                    <a:pt x="125" y="3132"/>
                  </a:lnTo>
                  <a:lnTo>
                    <a:pt x="107" y="3075"/>
                  </a:lnTo>
                  <a:lnTo>
                    <a:pt x="90" y="3020"/>
                  </a:lnTo>
                  <a:lnTo>
                    <a:pt x="75" y="2963"/>
                  </a:lnTo>
                  <a:lnTo>
                    <a:pt x="61" y="2906"/>
                  </a:lnTo>
                  <a:lnTo>
                    <a:pt x="49" y="2848"/>
                  </a:lnTo>
                  <a:lnTo>
                    <a:pt x="37" y="2790"/>
                  </a:lnTo>
                  <a:lnTo>
                    <a:pt x="28" y="2732"/>
                  </a:lnTo>
                  <a:lnTo>
                    <a:pt x="20" y="2673"/>
                  </a:lnTo>
                  <a:lnTo>
                    <a:pt x="13" y="2613"/>
                  </a:lnTo>
                  <a:lnTo>
                    <a:pt x="7" y="2553"/>
                  </a:lnTo>
                  <a:lnTo>
                    <a:pt x="4" y="2493"/>
                  </a:lnTo>
                  <a:lnTo>
                    <a:pt x="1" y="2432"/>
                  </a:lnTo>
                  <a:lnTo>
                    <a:pt x="0" y="2371"/>
                  </a:lnTo>
                  <a:lnTo>
                    <a:pt x="1" y="2310"/>
                  </a:lnTo>
                  <a:lnTo>
                    <a:pt x="4" y="2249"/>
                  </a:lnTo>
                  <a:lnTo>
                    <a:pt x="7" y="2189"/>
                  </a:lnTo>
                  <a:lnTo>
                    <a:pt x="13" y="2129"/>
                  </a:lnTo>
                  <a:lnTo>
                    <a:pt x="20" y="2069"/>
                  </a:lnTo>
                  <a:lnTo>
                    <a:pt x="28" y="2011"/>
                  </a:lnTo>
                  <a:lnTo>
                    <a:pt x="37" y="1952"/>
                  </a:lnTo>
                  <a:lnTo>
                    <a:pt x="49" y="1894"/>
                  </a:lnTo>
                  <a:lnTo>
                    <a:pt x="61" y="1837"/>
                  </a:lnTo>
                  <a:lnTo>
                    <a:pt x="75" y="1779"/>
                  </a:lnTo>
                  <a:lnTo>
                    <a:pt x="90" y="1723"/>
                  </a:lnTo>
                  <a:lnTo>
                    <a:pt x="107" y="1667"/>
                  </a:lnTo>
                  <a:lnTo>
                    <a:pt x="125" y="1611"/>
                  </a:lnTo>
                  <a:lnTo>
                    <a:pt x="144" y="1557"/>
                  </a:lnTo>
                  <a:lnTo>
                    <a:pt x="165" y="1503"/>
                  </a:lnTo>
                  <a:lnTo>
                    <a:pt x="187" y="1450"/>
                  </a:lnTo>
                  <a:lnTo>
                    <a:pt x="210" y="1397"/>
                  </a:lnTo>
                  <a:lnTo>
                    <a:pt x="234" y="1344"/>
                  </a:lnTo>
                  <a:lnTo>
                    <a:pt x="259" y="1293"/>
                  </a:lnTo>
                  <a:lnTo>
                    <a:pt x="287" y="1242"/>
                  </a:lnTo>
                  <a:lnTo>
                    <a:pt x="315" y="1191"/>
                  </a:lnTo>
                  <a:lnTo>
                    <a:pt x="344" y="1143"/>
                  </a:lnTo>
                  <a:lnTo>
                    <a:pt x="375" y="1095"/>
                  </a:lnTo>
                  <a:lnTo>
                    <a:pt x="406" y="1046"/>
                  </a:lnTo>
                  <a:lnTo>
                    <a:pt x="438" y="999"/>
                  </a:lnTo>
                  <a:lnTo>
                    <a:pt x="471" y="954"/>
                  </a:lnTo>
                  <a:lnTo>
                    <a:pt x="506" y="908"/>
                  </a:lnTo>
                  <a:lnTo>
                    <a:pt x="542" y="864"/>
                  </a:lnTo>
                  <a:lnTo>
                    <a:pt x="579" y="820"/>
                  </a:lnTo>
                  <a:lnTo>
                    <a:pt x="617" y="778"/>
                  </a:lnTo>
                  <a:lnTo>
                    <a:pt x="656" y="736"/>
                  </a:lnTo>
                  <a:lnTo>
                    <a:pt x="695" y="696"/>
                  </a:lnTo>
                  <a:lnTo>
                    <a:pt x="735" y="656"/>
                  </a:lnTo>
                  <a:lnTo>
                    <a:pt x="777" y="618"/>
                  </a:lnTo>
                  <a:lnTo>
                    <a:pt x="819" y="580"/>
                  </a:lnTo>
                  <a:lnTo>
                    <a:pt x="863" y="543"/>
                  </a:lnTo>
                  <a:lnTo>
                    <a:pt x="908" y="507"/>
                  </a:lnTo>
                  <a:lnTo>
                    <a:pt x="953" y="473"/>
                  </a:lnTo>
                  <a:lnTo>
                    <a:pt x="999" y="439"/>
                  </a:lnTo>
                  <a:lnTo>
                    <a:pt x="1045" y="406"/>
                  </a:lnTo>
                  <a:lnTo>
                    <a:pt x="1094" y="375"/>
                  </a:lnTo>
                  <a:lnTo>
                    <a:pt x="1142" y="345"/>
                  </a:lnTo>
                  <a:lnTo>
                    <a:pt x="1191" y="316"/>
                  </a:lnTo>
                  <a:lnTo>
                    <a:pt x="1241" y="287"/>
                  </a:lnTo>
                  <a:lnTo>
                    <a:pt x="1292" y="261"/>
                  </a:lnTo>
                  <a:lnTo>
                    <a:pt x="1344" y="235"/>
                  </a:lnTo>
                  <a:lnTo>
                    <a:pt x="1395" y="211"/>
                  </a:lnTo>
                  <a:lnTo>
                    <a:pt x="1448" y="188"/>
                  </a:lnTo>
                  <a:lnTo>
                    <a:pt x="1501" y="166"/>
                  </a:lnTo>
                  <a:lnTo>
                    <a:pt x="1556" y="145"/>
                  </a:lnTo>
                  <a:lnTo>
                    <a:pt x="1611" y="126"/>
                  </a:lnTo>
                  <a:lnTo>
                    <a:pt x="1666" y="109"/>
                  </a:lnTo>
                  <a:lnTo>
                    <a:pt x="1721" y="91"/>
                  </a:lnTo>
                  <a:lnTo>
                    <a:pt x="1778" y="76"/>
                  </a:lnTo>
                  <a:lnTo>
                    <a:pt x="1835" y="62"/>
                  </a:lnTo>
                  <a:lnTo>
                    <a:pt x="1893" y="50"/>
                  </a:lnTo>
                  <a:lnTo>
                    <a:pt x="1951" y="38"/>
                  </a:lnTo>
                  <a:lnTo>
                    <a:pt x="2009" y="29"/>
                  </a:lnTo>
                  <a:lnTo>
                    <a:pt x="2068" y="21"/>
                  </a:lnTo>
                  <a:lnTo>
                    <a:pt x="2128" y="14"/>
                  </a:lnTo>
                  <a:lnTo>
                    <a:pt x="2188" y="8"/>
                  </a:lnTo>
                  <a:lnTo>
                    <a:pt x="2249" y="5"/>
                  </a:lnTo>
                  <a:lnTo>
                    <a:pt x="2309" y="3"/>
                  </a:lnTo>
                  <a:lnTo>
                    <a:pt x="2370" y="1"/>
                  </a:lnTo>
                  <a:lnTo>
                    <a:pt x="23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6"/>
            <p:cNvSpPr/>
            <p:nvPr/>
          </p:nvSpPr>
          <p:spPr>
            <a:xfrm>
              <a:off x="8572680" y="96840"/>
              <a:ext cx="452160" cy="455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228" h="5228">
                  <a:moveTo>
                    <a:pt x="2614" y="5227"/>
                  </a:moveTo>
                  <a:lnTo>
                    <a:pt x="2547" y="5227"/>
                  </a:lnTo>
                  <a:lnTo>
                    <a:pt x="2480" y="5225"/>
                  </a:lnTo>
                  <a:lnTo>
                    <a:pt x="2414" y="5221"/>
                  </a:lnTo>
                  <a:lnTo>
                    <a:pt x="2347" y="5214"/>
                  </a:lnTo>
                  <a:lnTo>
                    <a:pt x="2281" y="5207"/>
                  </a:lnTo>
                  <a:lnTo>
                    <a:pt x="2217" y="5198"/>
                  </a:lnTo>
                  <a:lnTo>
                    <a:pt x="2152" y="5188"/>
                  </a:lnTo>
                  <a:lnTo>
                    <a:pt x="2088" y="5175"/>
                  </a:lnTo>
                  <a:lnTo>
                    <a:pt x="2024" y="5161"/>
                  </a:lnTo>
                  <a:lnTo>
                    <a:pt x="1961" y="5146"/>
                  </a:lnTo>
                  <a:lnTo>
                    <a:pt x="1899" y="5129"/>
                  </a:lnTo>
                  <a:lnTo>
                    <a:pt x="1838" y="5111"/>
                  </a:lnTo>
                  <a:lnTo>
                    <a:pt x="1776" y="5091"/>
                  </a:lnTo>
                  <a:lnTo>
                    <a:pt x="1715" y="5069"/>
                  </a:lnTo>
                  <a:lnTo>
                    <a:pt x="1657" y="5047"/>
                  </a:lnTo>
                  <a:lnTo>
                    <a:pt x="1597" y="5023"/>
                  </a:lnTo>
                  <a:lnTo>
                    <a:pt x="1539" y="4998"/>
                  </a:lnTo>
                  <a:lnTo>
                    <a:pt x="1482" y="4970"/>
                  </a:lnTo>
                  <a:lnTo>
                    <a:pt x="1425" y="4942"/>
                  </a:lnTo>
                  <a:lnTo>
                    <a:pt x="1369" y="4912"/>
                  </a:lnTo>
                  <a:lnTo>
                    <a:pt x="1313" y="4881"/>
                  </a:lnTo>
                  <a:lnTo>
                    <a:pt x="1259" y="4849"/>
                  </a:lnTo>
                  <a:lnTo>
                    <a:pt x="1206" y="4816"/>
                  </a:lnTo>
                  <a:lnTo>
                    <a:pt x="1153" y="4781"/>
                  </a:lnTo>
                  <a:lnTo>
                    <a:pt x="1101" y="4745"/>
                  </a:lnTo>
                  <a:lnTo>
                    <a:pt x="1051" y="4709"/>
                  </a:lnTo>
                  <a:lnTo>
                    <a:pt x="1001" y="4671"/>
                  </a:lnTo>
                  <a:lnTo>
                    <a:pt x="952" y="4631"/>
                  </a:lnTo>
                  <a:lnTo>
                    <a:pt x="904" y="4591"/>
                  </a:lnTo>
                  <a:lnTo>
                    <a:pt x="857" y="4548"/>
                  </a:lnTo>
                  <a:lnTo>
                    <a:pt x="811" y="4506"/>
                  </a:lnTo>
                  <a:lnTo>
                    <a:pt x="766" y="4462"/>
                  </a:lnTo>
                  <a:lnTo>
                    <a:pt x="722" y="4417"/>
                  </a:lnTo>
                  <a:lnTo>
                    <a:pt x="680" y="4371"/>
                  </a:lnTo>
                  <a:lnTo>
                    <a:pt x="638" y="4325"/>
                  </a:lnTo>
                  <a:lnTo>
                    <a:pt x="598" y="4277"/>
                  </a:lnTo>
                  <a:lnTo>
                    <a:pt x="558" y="4228"/>
                  </a:lnTo>
                  <a:lnTo>
                    <a:pt x="520" y="4177"/>
                  </a:lnTo>
                  <a:lnTo>
                    <a:pt x="483" y="4127"/>
                  </a:lnTo>
                  <a:lnTo>
                    <a:pt x="447" y="4075"/>
                  </a:lnTo>
                  <a:lnTo>
                    <a:pt x="412" y="4023"/>
                  </a:lnTo>
                  <a:lnTo>
                    <a:pt x="379" y="3969"/>
                  </a:lnTo>
                  <a:lnTo>
                    <a:pt x="347" y="3915"/>
                  </a:lnTo>
                  <a:lnTo>
                    <a:pt x="316" y="3860"/>
                  </a:lnTo>
                  <a:lnTo>
                    <a:pt x="287" y="3804"/>
                  </a:lnTo>
                  <a:lnTo>
                    <a:pt x="258" y="3747"/>
                  </a:lnTo>
                  <a:lnTo>
                    <a:pt x="232" y="3689"/>
                  </a:lnTo>
                  <a:lnTo>
                    <a:pt x="206" y="3631"/>
                  </a:lnTo>
                  <a:lnTo>
                    <a:pt x="182" y="3573"/>
                  </a:lnTo>
                  <a:lnTo>
                    <a:pt x="159" y="3513"/>
                  </a:lnTo>
                  <a:lnTo>
                    <a:pt x="137" y="3452"/>
                  </a:lnTo>
                  <a:lnTo>
                    <a:pt x="118" y="3391"/>
                  </a:lnTo>
                  <a:lnTo>
                    <a:pt x="99" y="3330"/>
                  </a:lnTo>
                  <a:lnTo>
                    <a:pt x="83" y="3267"/>
                  </a:lnTo>
                  <a:lnTo>
                    <a:pt x="67" y="3204"/>
                  </a:lnTo>
                  <a:lnTo>
                    <a:pt x="53" y="3141"/>
                  </a:lnTo>
                  <a:lnTo>
                    <a:pt x="41" y="3076"/>
                  </a:lnTo>
                  <a:lnTo>
                    <a:pt x="30" y="3012"/>
                  </a:lnTo>
                  <a:lnTo>
                    <a:pt x="21" y="2947"/>
                  </a:lnTo>
                  <a:lnTo>
                    <a:pt x="14" y="2881"/>
                  </a:lnTo>
                  <a:lnTo>
                    <a:pt x="8" y="2815"/>
                  </a:lnTo>
                  <a:lnTo>
                    <a:pt x="3" y="2749"/>
                  </a:lnTo>
                  <a:lnTo>
                    <a:pt x="1" y="2682"/>
                  </a:lnTo>
                  <a:lnTo>
                    <a:pt x="0" y="2614"/>
                  </a:lnTo>
                  <a:lnTo>
                    <a:pt x="1" y="2546"/>
                  </a:lnTo>
                  <a:lnTo>
                    <a:pt x="3" y="2479"/>
                  </a:lnTo>
                  <a:lnTo>
                    <a:pt x="8" y="2413"/>
                  </a:lnTo>
                  <a:lnTo>
                    <a:pt x="14" y="2347"/>
                  </a:lnTo>
                  <a:lnTo>
                    <a:pt x="21" y="2281"/>
                  </a:lnTo>
                  <a:lnTo>
                    <a:pt x="30" y="2217"/>
                  </a:lnTo>
                  <a:lnTo>
                    <a:pt x="41" y="2152"/>
                  </a:lnTo>
                  <a:lnTo>
                    <a:pt x="53" y="2088"/>
                  </a:lnTo>
                  <a:lnTo>
                    <a:pt x="67" y="2024"/>
                  </a:lnTo>
                  <a:lnTo>
                    <a:pt x="83" y="1961"/>
                  </a:lnTo>
                  <a:lnTo>
                    <a:pt x="99" y="1899"/>
                  </a:lnTo>
                  <a:lnTo>
                    <a:pt x="118" y="1838"/>
                  </a:lnTo>
                  <a:lnTo>
                    <a:pt x="137" y="1777"/>
                  </a:lnTo>
                  <a:lnTo>
                    <a:pt x="159" y="1716"/>
                  </a:lnTo>
                  <a:lnTo>
                    <a:pt x="182" y="1656"/>
                  </a:lnTo>
                  <a:lnTo>
                    <a:pt x="206" y="1597"/>
                  </a:lnTo>
                  <a:lnTo>
                    <a:pt x="232" y="1539"/>
                  </a:lnTo>
                  <a:lnTo>
                    <a:pt x="258" y="1482"/>
                  </a:lnTo>
                  <a:lnTo>
                    <a:pt x="287" y="1424"/>
                  </a:lnTo>
                  <a:lnTo>
                    <a:pt x="316" y="1369"/>
                  </a:lnTo>
                  <a:lnTo>
                    <a:pt x="347" y="1313"/>
                  </a:lnTo>
                  <a:lnTo>
                    <a:pt x="379" y="1259"/>
                  </a:lnTo>
                  <a:lnTo>
                    <a:pt x="412" y="1205"/>
                  </a:lnTo>
                  <a:lnTo>
                    <a:pt x="447" y="1153"/>
                  </a:lnTo>
                  <a:lnTo>
                    <a:pt x="483" y="1102"/>
                  </a:lnTo>
                  <a:lnTo>
                    <a:pt x="520" y="1051"/>
                  </a:lnTo>
                  <a:lnTo>
                    <a:pt x="558" y="1000"/>
                  </a:lnTo>
                  <a:lnTo>
                    <a:pt x="598" y="952"/>
                  </a:lnTo>
                  <a:lnTo>
                    <a:pt x="638" y="903"/>
                  </a:lnTo>
                  <a:lnTo>
                    <a:pt x="680" y="857"/>
                  </a:lnTo>
                  <a:lnTo>
                    <a:pt x="722" y="811"/>
                  </a:lnTo>
                  <a:lnTo>
                    <a:pt x="766" y="766"/>
                  </a:lnTo>
                  <a:lnTo>
                    <a:pt x="811" y="722"/>
                  </a:lnTo>
                  <a:lnTo>
                    <a:pt x="857" y="680"/>
                  </a:lnTo>
                  <a:lnTo>
                    <a:pt x="904" y="637"/>
                  </a:lnTo>
                  <a:lnTo>
                    <a:pt x="952" y="597"/>
                  </a:lnTo>
                  <a:lnTo>
                    <a:pt x="1001" y="558"/>
                  </a:lnTo>
                  <a:lnTo>
                    <a:pt x="1051" y="520"/>
                  </a:lnTo>
                  <a:lnTo>
                    <a:pt x="1101" y="483"/>
                  </a:lnTo>
                  <a:lnTo>
                    <a:pt x="1153" y="447"/>
                  </a:lnTo>
                  <a:lnTo>
                    <a:pt x="1206" y="413"/>
                  </a:lnTo>
                  <a:lnTo>
                    <a:pt x="1259" y="379"/>
                  </a:lnTo>
                  <a:lnTo>
                    <a:pt x="1313" y="347"/>
                  </a:lnTo>
                  <a:lnTo>
                    <a:pt x="1369" y="316"/>
                  </a:lnTo>
                  <a:lnTo>
                    <a:pt x="1425" y="286"/>
                  </a:lnTo>
                  <a:lnTo>
                    <a:pt x="1482" y="258"/>
                  </a:lnTo>
                  <a:lnTo>
                    <a:pt x="1539" y="231"/>
                  </a:lnTo>
                  <a:lnTo>
                    <a:pt x="1597" y="205"/>
                  </a:lnTo>
                  <a:lnTo>
                    <a:pt x="1657" y="181"/>
                  </a:lnTo>
                  <a:lnTo>
                    <a:pt x="1715" y="159"/>
                  </a:lnTo>
                  <a:lnTo>
                    <a:pt x="1776" y="137"/>
                  </a:lnTo>
                  <a:lnTo>
                    <a:pt x="1838" y="118"/>
                  </a:lnTo>
                  <a:lnTo>
                    <a:pt x="1899" y="99"/>
                  </a:lnTo>
                  <a:lnTo>
                    <a:pt x="1961" y="82"/>
                  </a:lnTo>
                  <a:lnTo>
                    <a:pt x="2024" y="67"/>
                  </a:lnTo>
                  <a:lnTo>
                    <a:pt x="2088" y="53"/>
                  </a:lnTo>
                  <a:lnTo>
                    <a:pt x="2152" y="40"/>
                  </a:lnTo>
                  <a:lnTo>
                    <a:pt x="2217" y="30"/>
                  </a:lnTo>
                  <a:lnTo>
                    <a:pt x="2281" y="21"/>
                  </a:lnTo>
                  <a:lnTo>
                    <a:pt x="2347" y="14"/>
                  </a:lnTo>
                  <a:lnTo>
                    <a:pt x="2414" y="8"/>
                  </a:lnTo>
                  <a:lnTo>
                    <a:pt x="2480" y="4"/>
                  </a:lnTo>
                  <a:lnTo>
                    <a:pt x="2547" y="1"/>
                  </a:lnTo>
                  <a:lnTo>
                    <a:pt x="2614" y="0"/>
                  </a:lnTo>
                  <a:lnTo>
                    <a:pt x="2682" y="1"/>
                  </a:lnTo>
                  <a:lnTo>
                    <a:pt x="2749" y="4"/>
                  </a:lnTo>
                  <a:lnTo>
                    <a:pt x="2816" y="8"/>
                  </a:lnTo>
                  <a:lnTo>
                    <a:pt x="2881" y="14"/>
                  </a:lnTo>
                  <a:lnTo>
                    <a:pt x="2947" y="21"/>
                  </a:lnTo>
                  <a:lnTo>
                    <a:pt x="3013" y="30"/>
                  </a:lnTo>
                  <a:lnTo>
                    <a:pt x="3077" y="40"/>
                  </a:lnTo>
                  <a:lnTo>
                    <a:pt x="3140" y="53"/>
                  </a:lnTo>
                  <a:lnTo>
                    <a:pt x="3205" y="67"/>
                  </a:lnTo>
                  <a:lnTo>
                    <a:pt x="3267" y="82"/>
                  </a:lnTo>
                  <a:lnTo>
                    <a:pt x="3329" y="99"/>
                  </a:lnTo>
                  <a:lnTo>
                    <a:pt x="3392" y="118"/>
                  </a:lnTo>
                  <a:lnTo>
                    <a:pt x="3453" y="137"/>
                  </a:lnTo>
                  <a:lnTo>
                    <a:pt x="3513" y="159"/>
                  </a:lnTo>
                  <a:lnTo>
                    <a:pt x="3573" y="181"/>
                  </a:lnTo>
                  <a:lnTo>
                    <a:pt x="3631" y="205"/>
                  </a:lnTo>
                  <a:lnTo>
                    <a:pt x="3690" y="231"/>
                  </a:lnTo>
                  <a:lnTo>
                    <a:pt x="3748" y="258"/>
                  </a:lnTo>
                  <a:lnTo>
                    <a:pt x="3804" y="286"/>
                  </a:lnTo>
                  <a:lnTo>
                    <a:pt x="3861" y="316"/>
                  </a:lnTo>
                  <a:lnTo>
                    <a:pt x="3915" y="347"/>
                  </a:lnTo>
                  <a:lnTo>
                    <a:pt x="3970" y="379"/>
                  </a:lnTo>
                  <a:lnTo>
                    <a:pt x="4023" y="413"/>
                  </a:lnTo>
                  <a:lnTo>
                    <a:pt x="4076" y="447"/>
                  </a:lnTo>
                  <a:lnTo>
                    <a:pt x="4128" y="483"/>
                  </a:lnTo>
                  <a:lnTo>
                    <a:pt x="4178" y="520"/>
                  </a:lnTo>
                  <a:lnTo>
                    <a:pt x="4228" y="558"/>
                  </a:lnTo>
                  <a:lnTo>
                    <a:pt x="4276" y="597"/>
                  </a:lnTo>
                  <a:lnTo>
                    <a:pt x="4325" y="637"/>
                  </a:lnTo>
                  <a:lnTo>
                    <a:pt x="4372" y="680"/>
                  </a:lnTo>
                  <a:lnTo>
                    <a:pt x="4418" y="722"/>
                  </a:lnTo>
                  <a:lnTo>
                    <a:pt x="4463" y="766"/>
                  </a:lnTo>
                  <a:lnTo>
                    <a:pt x="4507" y="811"/>
                  </a:lnTo>
                  <a:lnTo>
                    <a:pt x="4549" y="857"/>
                  </a:lnTo>
                  <a:lnTo>
                    <a:pt x="4591" y="903"/>
                  </a:lnTo>
                  <a:lnTo>
                    <a:pt x="4631" y="952"/>
                  </a:lnTo>
                  <a:lnTo>
                    <a:pt x="4670" y="1000"/>
                  </a:lnTo>
                  <a:lnTo>
                    <a:pt x="4708" y="1051"/>
                  </a:lnTo>
                  <a:lnTo>
                    <a:pt x="4746" y="1102"/>
                  </a:lnTo>
                  <a:lnTo>
                    <a:pt x="4782" y="1153"/>
                  </a:lnTo>
                  <a:lnTo>
                    <a:pt x="4817" y="1205"/>
                  </a:lnTo>
                  <a:lnTo>
                    <a:pt x="4850" y="1259"/>
                  </a:lnTo>
                  <a:lnTo>
                    <a:pt x="4882" y="1313"/>
                  </a:lnTo>
                  <a:lnTo>
                    <a:pt x="4912" y="1369"/>
                  </a:lnTo>
                  <a:lnTo>
                    <a:pt x="4942" y="1424"/>
                  </a:lnTo>
                  <a:lnTo>
                    <a:pt x="4971" y="1482"/>
                  </a:lnTo>
                  <a:lnTo>
                    <a:pt x="4998" y="1539"/>
                  </a:lnTo>
                  <a:lnTo>
                    <a:pt x="5023" y="1597"/>
                  </a:lnTo>
                  <a:lnTo>
                    <a:pt x="5047" y="1656"/>
                  </a:lnTo>
                  <a:lnTo>
                    <a:pt x="5070" y="1716"/>
                  </a:lnTo>
                  <a:lnTo>
                    <a:pt x="5091" y="1777"/>
                  </a:lnTo>
                  <a:lnTo>
                    <a:pt x="5110" y="1838"/>
                  </a:lnTo>
                  <a:lnTo>
                    <a:pt x="5129" y="1899"/>
                  </a:lnTo>
                  <a:lnTo>
                    <a:pt x="5146" y="1961"/>
                  </a:lnTo>
                  <a:lnTo>
                    <a:pt x="5161" y="2024"/>
                  </a:lnTo>
                  <a:lnTo>
                    <a:pt x="5175" y="2088"/>
                  </a:lnTo>
                  <a:lnTo>
                    <a:pt x="5188" y="2152"/>
                  </a:lnTo>
                  <a:lnTo>
                    <a:pt x="5198" y="2217"/>
                  </a:lnTo>
                  <a:lnTo>
                    <a:pt x="5207" y="2281"/>
                  </a:lnTo>
                  <a:lnTo>
                    <a:pt x="5215" y="2347"/>
                  </a:lnTo>
                  <a:lnTo>
                    <a:pt x="5221" y="2413"/>
                  </a:lnTo>
                  <a:lnTo>
                    <a:pt x="5225" y="2479"/>
                  </a:lnTo>
                  <a:lnTo>
                    <a:pt x="5228" y="2546"/>
                  </a:lnTo>
                  <a:lnTo>
                    <a:pt x="5228" y="2614"/>
                  </a:lnTo>
                  <a:lnTo>
                    <a:pt x="5228" y="2682"/>
                  </a:lnTo>
                  <a:lnTo>
                    <a:pt x="5225" y="2749"/>
                  </a:lnTo>
                  <a:lnTo>
                    <a:pt x="5221" y="2815"/>
                  </a:lnTo>
                  <a:lnTo>
                    <a:pt x="5215" y="2881"/>
                  </a:lnTo>
                  <a:lnTo>
                    <a:pt x="5207" y="2947"/>
                  </a:lnTo>
                  <a:lnTo>
                    <a:pt x="5198" y="3012"/>
                  </a:lnTo>
                  <a:lnTo>
                    <a:pt x="5188" y="3076"/>
                  </a:lnTo>
                  <a:lnTo>
                    <a:pt x="5175" y="3141"/>
                  </a:lnTo>
                  <a:lnTo>
                    <a:pt x="5161" y="3204"/>
                  </a:lnTo>
                  <a:lnTo>
                    <a:pt x="5146" y="3267"/>
                  </a:lnTo>
                  <a:lnTo>
                    <a:pt x="5129" y="3330"/>
                  </a:lnTo>
                  <a:lnTo>
                    <a:pt x="5110" y="3391"/>
                  </a:lnTo>
                  <a:lnTo>
                    <a:pt x="5091" y="3452"/>
                  </a:lnTo>
                  <a:lnTo>
                    <a:pt x="5070" y="3513"/>
                  </a:lnTo>
                  <a:lnTo>
                    <a:pt x="5047" y="3573"/>
                  </a:lnTo>
                  <a:lnTo>
                    <a:pt x="5023" y="3631"/>
                  </a:lnTo>
                  <a:lnTo>
                    <a:pt x="4998" y="3689"/>
                  </a:lnTo>
                  <a:lnTo>
                    <a:pt x="4971" y="3747"/>
                  </a:lnTo>
                  <a:lnTo>
                    <a:pt x="4942" y="3804"/>
                  </a:lnTo>
                  <a:lnTo>
                    <a:pt x="4912" y="3860"/>
                  </a:lnTo>
                  <a:lnTo>
                    <a:pt x="4882" y="3915"/>
                  </a:lnTo>
                  <a:lnTo>
                    <a:pt x="4850" y="3969"/>
                  </a:lnTo>
                  <a:lnTo>
                    <a:pt x="4817" y="4023"/>
                  </a:lnTo>
                  <a:lnTo>
                    <a:pt x="4782" y="4075"/>
                  </a:lnTo>
                  <a:lnTo>
                    <a:pt x="4746" y="4127"/>
                  </a:lnTo>
                  <a:lnTo>
                    <a:pt x="4708" y="4177"/>
                  </a:lnTo>
                  <a:lnTo>
                    <a:pt x="4670" y="4228"/>
                  </a:lnTo>
                  <a:lnTo>
                    <a:pt x="4631" y="4277"/>
                  </a:lnTo>
                  <a:lnTo>
                    <a:pt x="4591" y="4325"/>
                  </a:lnTo>
                  <a:lnTo>
                    <a:pt x="4549" y="4371"/>
                  </a:lnTo>
                  <a:lnTo>
                    <a:pt x="4507" y="4417"/>
                  </a:lnTo>
                  <a:lnTo>
                    <a:pt x="4463" y="4462"/>
                  </a:lnTo>
                  <a:lnTo>
                    <a:pt x="4418" y="4506"/>
                  </a:lnTo>
                  <a:lnTo>
                    <a:pt x="4372" y="4548"/>
                  </a:lnTo>
                  <a:lnTo>
                    <a:pt x="4325" y="4591"/>
                  </a:lnTo>
                  <a:lnTo>
                    <a:pt x="4276" y="4631"/>
                  </a:lnTo>
                  <a:lnTo>
                    <a:pt x="4228" y="4671"/>
                  </a:lnTo>
                  <a:lnTo>
                    <a:pt x="4178" y="4709"/>
                  </a:lnTo>
                  <a:lnTo>
                    <a:pt x="4128" y="4745"/>
                  </a:lnTo>
                  <a:lnTo>
                    <a:pt x="4076" y="4781"/>
                  </a:lnTo>
                  <a:lnTo>
                    <a:pt x="4023" y="4816"/>
                  </a:lnTo>
                  <a:lnTo>
                    <a:pt x="3970" y="4849"/>
                  </a:lnTo>
                  <a:lnTo>
                    <a:pt x="3915" y="4881"/>
                  </a:lnTo>
                  <a:lnTo>
                    <a:pt x="3861" y="4912"/>
                  </a:lnTo>
                  <a:lnTo>
                    <a:pt x="3804" y="4942"/>
                  </a:lnTo>
                  <a:lnTo>
                    <a:pt x="3748" y="4970"/>
                  </a:lnTo>
                  <a:lnTo>
                    <a:pt x="3690" y="4998"/>
                  </a:lnTo>
                  <a:lnTo>
                    <a:pt x="3631" y="5023"/>
                  </a:lnTo>
                  <a:lnTo>
                    <a:pt x="3573" y="5047"/>
                  </a:lnTo>
                  <a:lnTo>
                    <a:pt x="3513" y="5069"/>
                  </a:lnTo>
                  <a:lnTo>
                    <a:pt x="3453" y="5091"/>
                  </a:lnTo>
                  <a:lnTo>
                    <a:pt x="3392" y="5111"/>
                  </a:lnTo>
                  <a:lnTo>
                    <a:pt x="3329" y="5129"/>
                  </a:lnTo>
                  <a:lnTo>
                    <a:pt x="3267" y="5146"/>
                  </a:lnTo>
                  <a:lnTo>
                    <a:pt x="3205" y="5161"/>
                  </a:lnTo>
                  <a:lnTo>
                    <a:pt x="3140" y="5175"/>
                  </a:lnTo>
                  <a:lnTo>
                    <a:pt x="3077" y="5188"/>
                  </a:lnTo>
                  <a:lnTo>
                    <a:pt x="3013" y="5198"/>
                  </a:lnTo>
                  <a:lnTo>
                    <a:pt x="2947" y="5207"/>
                  </a:lnTo>
                  <a:lnTo>
                    <a:pt x="2881" y="5214"/>
                  </a:lnTo>
                  <a:lnTo>
                    <a:pt x="2816" y="5221"/>
                  </a:lnTo>
                  <a:lnTo>
                    <a:pt x="2749" y="5225"/>
                  </a:lnTo>
                  <a:lnTo>
                    <a:pt x="2682" y="5227"/>
                  </a:lnTo>
                  <a:lnTo>
                    <a:pt x="2614" y="5228"/>
                  </a:lnTo>
                  <a:lnTo>
                    <a:pt x="2614" y="5227"/>
                  </a:lnTo>
                  <a:close/>
                  <a:moveTo>
                    <a:pt x="1131" y="3819"/>
                  </a:moveTo>
                  <a:lnTo>
                    <a:pt x="1153" y="3735"/>
                  </a:lnTo>
                  <a:lnTo>
                    <a:pt x="1176" y="3651"/>
                  </a:lnTo>
                  <a:lnTo>
                    <a:pt x="1198" y="3570"/>
                  </a:lnTo>
                  <a:lnTo>
                    <a:pt x="1222" y="3493"/>
                  </a:lnTo>
                  <a:lnTo>
                    <a:pt x="1234" y="3455"/>
                  </a:lnTo>
                  <a:lnTo>
                    <a:pt x="1247" y="3417"/>
                  </a:lnTo>
                  <a:lnTo>
                    <a:pt x="1258" y="3381"/>
                  </a:lnTo>
                  <a:lnTo>
                    <a:pt x="1271" y="3345"/>
                  </a:lnTo>
                  <a:lnTo>
                    <a:pt x="1283" y="3310"/>
                  </a:lnTo>
                  <a:lnTo>
                    <a:pt x="1296" y="3275"/>
                  </a:lnTo>
                  <a:lnTo>
                    <a:pt x="1309" y="3242"/>
                  </a:lnTo>
                  <a:lnTo>
                    <a:pt x="1321" y="3210"/>
                  </a:lnTo>
                  <a:lnTo>
                    <a:pt x="1335" y="3179"/>
                  </a:lnTo>
                  <a:lnTo>
                    <a:pt x="1348" y="3148"/>
                  </a:lnTo>
                  <a:lnTo>
                    <a:pt x="1362" y="3118"/>
                  </a:lnTo>
                  <a:lnTo>
                    <a:pt x="1376" y="3089"/>
                  </a:lnTo>
                  <a:lnTo>
                    <a:pt x="1389" y="3061"/>
                  </a:lnTo>
                  <a:lnTo>
                    <a:pt x="1403" y="3033"/>
                  </a:lnTo>
                  <a:lnTo>
                    <a:pt x="1418" y="3008"/>
                  </a:lnTo>
                  <a:lnTo>
                    <a:pt x="1432" y="2983"/>
                  </a:lnTo>
                  <a:lnTo>
                    <a:pt x="1447" y="2959"/>
                  </a:lnTo>
                  <a:lnTo>
                    <a:pt x="1462" y="2936"/>
                  </a:lnTo>
                  <a:lnTo>
                    <a:pt x="1477" y="2914"/>
                  </a:lnTo>
                  <a:lnTo>
                    <a:pt x="1492" y="2893"/>
                  </a:lnTo>
                  <a:lnTo>
                    <a:pt x="1508" y="2873"/>
                  </a:lnTo>
                  <a:lnTo>
                    <a:pt x="1524" y="2855"/>
                  </a:lnTo>
                  <a:lnTo>
                    <a:pt x="1539" y="2838"/>
                  </a:lnTo>
                  <a:lnTo>
                    <a:pt x="1556" y="2822"/>
                  </a:lnTo>
                  <a:lnTo>
                    <a:pt x="1574" y="2804"/>
                  </a:lnTo>
                  <a:lnTo>
                    <a:pt x="1591" y="2787"/>
                  </a:lnTo>
                  <a:lnTo>
                    <a:pt x="1609" y="2772"/>
                  </a:lnTo>
                  <a:lnTo>
                    <a:pt x="1629" y="2757"/>
                  </a:lnTo>
                  <a:lnTo>
                    <a:pt x="1649" y="2743"/>
                  </a:lnTo>
                  <a:lnTo>
                    <a:pt x="1668" y="2729"/>
                  </a:lnTo>
                  <a:lnTo>
                    <a:pt x="1690" y="2718"/>
                  </a:lnTo>
                  <a:lnTo>
                    <a:pt x="1711" y="2706"/>
                  </a:lnTo>
                  <a:lnTo>
                    <a:pt x="1733" y="2697"/>
                  </a:lnTo>
                  <a:lnTo>
                    <a:pt x="1756" y="2688"/>
                  </a:lnTo>
                  <a:lnTo>
                    <a:pt x="1780" y="2681"/>
                  </a:lnTo>
                  <a:lnTo>
                    <a:pt x="1804" y="2674"/>
                  </a:lnTo>
                  <a:lnTo>
                    <a:pt x="1829" y="2669"/>
                  </a:lnTo>
                  <a:lnTo>
                    <a:pt x="1855" y="2666"/>
                  </a:lnTo>
                  <a:lnTo>
                    <a:pt x="1881" y="2664"/>
                  </a:lnTo>
                  <a:lnTo>
                    <a:pt x="1909" y="2663"/>
                  </a:lnTo>
                  <a:lnTo>
                    <a:pt x="1927" y="2663"/>
                  </a:lnTo>
                  <a:lnTo>
                    <a:pt x="1946" y="2664"/>
                  </a:lnTo>
                  <a:lnTo>
                    <a:pt x="1964" y="2666"/>
                  </a:lnTo>
                  <a:lnTo>
                    <a:pt x="1983" y="2668"/>
                  </a:lnTo>
                  <a:lnTo>
                    <a:pt x="2001" y="2672"/>
                  </a:lnTo>
                  <a:lnTo>
                    <a:pt x="2021" y="2678"/>
                  </a:lnTo>
                  <a:lnTo>
                    <a:pt x="2039" y="2683"/>
                  </a:lnTo>
                  <a:lnTo>
                    <a:pt x="2060" y="2691"/>
                  </a:lnTo>
                  <a:lnTo>
                    <a:pt x="2079" y="2701"/>
                  </a:lnTo>
                  <a:lnTo>
                    <a:pt x="2100" y="2711"/>
                  </a:lnTo>
                  <a:lnTo>
                    <a:pt x="2122" y="2724"/>
                  </a:lnTo>
                  <a:lnTo>
                    <a:pt x="2144" y="2739"/>
                  </a:lnTo>
                  <a:lnTo>
                    <a:pt x="2166" y="2756"/>
                  </a:lnTo>
                  <a:lnTo>
                    <a:pt x="2189" y="2774"/>
                  </a:lnTo>
                  <a:lnTo>
                    <a:pt x="2213" y="2796"/>
                  </a:lnTo>
                  <a:lnTo>
                    <a:pt x="2237" y="2820"/>
                  </a:lnTo>
                  <a:lnTo>
                    <a:pt x="2256" y="2839"/>
                  </a:lnTo>
                  <a:lnTo>
                    <a:pt x="2275" y="2860"/>
                  </a:lnTo>
                  <a:lnTo>
                    <a:pt x="2295" y="2881"/>
                  </a:lnTo>
                  <a:lnTo>
                    <a:pt x="2314" y="2906"/>
                  </a:lnTo>
                  <a:lnTo>
                    <a:pt x="2334" y="2932"/>
                  </a:lnTo>
                  <a:lnTo>
                    <a:pt x="2354" y="2960"/>
                  </a:lnTo>
                  <a:lnTo>
                    <a:pt x="2374" y="2990"/>
                  </a:lnTo>
                  <a:lnTo>
                    <a:pt x="2395" y="3021"/>
                  </a:lnTo>
                  <a:lnTo>
                    <a:pt x="2415" y="3054"/>
                  </a:lnTo>
                  <a:lnTo>
                    <a:pt x="2435" y="3090"/>
                  </a:lnTo>
                  <a:lnTo>
                    <a:pt x="2456" y="3127"/>
                  </a:lnTo>
                  <a:lnTo>
                    <a:pt x="2478" y="3166"/>
                  </a:lnTo>
                  <a:lnTo>
                    <a:pt x="2499" y="3207"/>
                  </a:lnTo>
                  <a:lnTo>
                    <a:pt x="2521" y="3250"/>
                  </a:lnTo>
                  <a:lnTo>
                    <a:pt x="2543" y="3295"/>
                  </a:lnTo>
                  <a:lnTo>
                    <a:pt x="2564" y="3342"/>
                  </a:lnTo>
                  <a:lnTo>
                    <a:pt x="2614" y="3456"/>
                  </a:lnTo>
                  <a:lnTo>
                    <a:pt x="2665" y="3341"/>
                  </a:lnTo>
                  <a:lnTo>
                    <a:pt x="2687" y="3295"/>
                  </a:lnTo>
                  <a:lnTo>
                    <a:pt x="2708" y="3250"/>
                  </a:lnTo>
                  <a:lnTo>
                    <a:pt x="2730" y="3207"/>
                  </a:lnTo>
                  <a:lnTo>
                    <a:pt x="2751" y="3166"/>
                  </a:lnTo>
                  <a:lnTo>
                    <a:pt x="2773" y="3127"/>
                  </a:lnTo>
                  <a:lnTo>
                    <a:pt x="2794" y="3090"/>
                  </a:lnTo>
                  <a:lnTo>
                    <a:pt x="2814" y="3054"/>
                  </a:lnTo>
                  <a:lnTo>
                    <a:pt x="2835" y="3021"/>
                  </a:lnTo>
                  <a:lnTo>
                    <a:pt x="2855" y="2990"/>
                  </a:lnTo>
                  <a:lnTo>
                    <a:pt x="2876" y="2960"/>
                  </a:lnTo>
                  <a:lnTo>
                    <a:pt x="2895" y="2932"/>
                  </a:lnTo>
                  <a:lnTo>
                    <a:pt x="2915" y="2906"/>
                  </a:lnTo>
                  <a:lnTo>
                    <a:pt x="2934" y="2881"/>
                  </a:lnTo>
                  <a:lnTo>
                    <a:pt x="2954" y="2860"/>
                  </a:lnTo>
                  <a:lnTo>
                    <a:pt x="2973" y="2839"/>
                  </a:lnTo>
                  <a:lnTo>
                    <a:pt x="2992" y="2820"/>
                  </a:lnTo>
                  <a:lnTo>
                    <a:pt x="3016" y="2796"/>
                  </a:lnTo>
                  <a:lnTo>
                    <a:pt x="3040" y="2774"/>
                  </a:lnTo>
                  <a:lnTo>
                    <a:pt x="3063" y="2756"/>
                  </a:lnTo>
                  <a:lnTo>
                    <a:pt x="3085" y="2739"/>
                  </a:lnTo>
                  <a:lnTo>
                    <a:pt x="3107" y="2724"/>
                  </a:lnTo>
                  <a:lnTo>
                    <a:pt x="3128" y="2711"/>
                  </a:lnTo>
                  <a:lnTo>
                    <a:pt x="3149" y="2701"/>
                  </a:lnTo>
                  <a:lnTo>
                    <a:pt x="3169" y="2691"/>
                  </a:lnTo>
                  <a:lnTo>
                    <a:pt x="3189" y="2683"/>
                  </a:lnTo>
                  <a:lnTo>
                    <a:pt x="3208" y="2678"/>
                  </a:lnTo>
                  <a:lnTo>
                    <a:pt x="3228" y="2672"/>
                  </a:lnTo>
                  <a:lnTo>
                    <a:pt x="3246" y="2668"/>
                  </a:lnTo>
                  <a:lnTo>
                    <a:pt x="3265" y="2666"/>
                  </a:lnTo>
                  <a:lnTo>
                    <a:pt x="3283" y="2664"/>
                  </a:lnTo>
                  <a:lnTo>
                    <a:pt x="3319" y="2663"/>
                  </a:lnTo>
                  <a:lnTo>
                    <a:pt x="3347" y="2664"/>
                  </a:lnTo>
                  <a:lnTo>
                    <a:pt x="3373" y="2666"/>
                  </a:lnTo>
                  <a:lnTo>
                    <a:pt x="3400" y="2669"/>
                  </a:lnTo>
                  <a:lnTo>
                    <a:pt x="3425" y="2674"/>
                  </a:lnTo>
                  <a:lnTo>
                    <a:pt x="3449" y="2681"/>
                  </a:lnTo>
                  <a:lnTo>
                    <a:pt x="3472" y="2688"/>
                  </a:lnTo>
                  <a:lnTo>
                    <a:pt x="3495" y="2697"/>
                  </a:lnTo>
                  <a:lnTo>
                    <a:pt x="3517" y="2706"/>
                  </a:lnTo>
                  <a:lnTo>
                    <a:pt x="3539" y="2718"/>
                  </a:lnTo>
                  <a:lnTo>
                    <a:pt x="3560" y="2729"/>
                  </a:lnTo>
                  <a:lnTo>
                    <a:pt x="3581" y="2743"/>
                  </a:lnTo>
                  <a:lnTo>
                    <a:pt x="3600" y="2757"/>
                  </a:lnTo>
                  <a:lnTo>
                    <a:pt x="3619" y="2772"/>
                  </a:lnTo>
                  <a:lnTo>
                    <a:pt x="3637" y="2787"/>
                  </a:lnTo>
                  <a:lnTo>
                    <a:pt x="3655" y="2804"/>
                  </a:lnTo>
                  <a:lnTo>
                    <a:pt x="3673" y="2822"/>
                  </a:lnTo>
                  <a:lnTo>
                    <a:pt x="3689" y="2838"/>
                  </a:lnTo>
                  <a:lnTo>
                    <a:pt x="3705" y="2855"/>
                  </a:lnTo>
                  <a:lnTo>
                    <a:pt x="3721" y="2873"/>
                  </a:lnTo>
                  <a:lnTo>
                    <a:pt x="3736" y="2893"/>
                  </a:lnTo>
                  <a:lnTo>
                    <a:pt x="3751" y="2914"/>
                  </a:lnTo>
                  <a:lnTo>
                    <a:pt x="3767" y="2936"/>
                  </a:lnTo>
                  <a:lnTo>
                    <a:pt x="3782" y="2959"/>
                  </a:lnTo>
                  <a:lnTo>
                    <a:pt x="3796" y="2983"/>
                  </a:lnTo>
                  <a:lnTo>
                    <a:pt x="3811" y="3008"/>
                  </a:lnTo>
                  <a:lnTo>
                    <a:pt x="3825" y="3033"/>
                  </a:lnTo>
                  <a:lnTo>
                    <a:pt x="3840" y="3061"/>
                  </a:lnTo>
                  <a:lnTo>
                    <a:pt x="3854" y="3089"/>
                  </a:lnTo>
                  <a:lnTo>
                    <a:pt x="3867" y="3118"/>
                  </a:lnTo>
                  <a:lnTo>
                    <a:pt x="3880" y="3148"/>
                  </a:lnTo>
                  <a:lnTo>
                    <a:pt x="3894" y="3179"/>
                  </a:lnTo>
                  <a:lnTo>
                    <a:pt x="3907" y="3210"/>
                  </a:lnTo>
                  <a:lnTo>
                    <a:pt x="3920" y="3242"/>
                  </a:lnTo>
                  <a:lnTo>
                    <a:pt x="3933" y="3275"/>
                  </a:lnTo>
                  <a:lnTo>
                    <a:pt x="3946" y="3310"/>
                  </a:lnTo>
                  <a:lnTo>
                    <a:pt x="3958" y="3345"/>
                  </a:lnTo>
                  <a:lnTo>
                    <a:pt x="3970" y="3381"/>
                  </a:lnTo>
                  <a:lnTo>
                    <a:pt x="3983" y="3417"/>
                  </a:lnTo>
                  <a:lnTo>
                    <a:pt x="3994" y="3455"/>
                  </a:lnTo>
                  <a:lnTo>
                    <a:pt x="4007" y="3493"/>
                  </a:lnTo>
                  <a:lnTo>
                    <a:pt x="4030" y="3570"/>
                  </a:lnTo>
                  <a:lnTo>
                    <a:pt x="4053" y="3651"/>
                  </a:lnTo>
                  <a:lnTo>
                    <a:pt x="4075" y="3735"/>
                  </a:lnTo>
                  <a:lnTo>
                    <a:pt x="4097" y="3820"/>
                  </a:lnTo>
                  <a:lnTo>
                    <a:pt x="4268" y="3819"/>
                  </a:lnTo>
                  <a:lnTo>
                    <a:pt x="3339" y="778"/>
                  </a:lnTo>
                  <a:lnTo>
                    <a:pt x="2620" y="3161"/>
                  </a:lnTo>
                  <a:lnTo>
                    <a:pt x="2614" y="3161"/>
                  </a:lnTo>
                  <a:lnTo>
                    <a:pt x="2608" y="3161"/>
                  </a:lnTo>
                  <a:lnTo>
                    <a:pt x="1889" y="778"/>
                  </a:lnTo>
                  <a:lnTo>
                    <a:pt x="961" y="3819"/>
                  </a:lnTo>
                  <a:lnTo>
                    <a:pt x="1131" y="3819"/>
                  </a:lnTo>
                  <a:close/>
                </a:path>
              </a:pathLst>
            </a:custGeom>
            <a:solidFill>
              <a:srgbClr val="1f3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6"/>
          <p:cNvSpPr/>
          <p:nvPr/>
        </p:nvSpPr>
        <p:spPr>
          <a:xfrm>
            <a:off x="0" y="714240"/>
            <a:ext cx="9144000" cy="142920"/>
          </a:xfrm>
          <a:prstGeom prst="rect">
            <a:avLst/>
          </a:prstGeom>
          <a:gradFill rotWithShape="0">
            <a:gsLst>
              <a:gs pos="0">
                <a:srgbClr val="99938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7D7B-EF9D-49D2-968E-2685AAA90012}" type="datetime">
              <a:rPr b="0" lang="en-US" sz="11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torola Confidential Prioprie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00992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0E70-7536-4D89-96EC-3BDB6512F084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dad1b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8572680" y="96840"/>
            <a:ext cx="452160" cy="455760"/>
            <a:chOff x="8572680" y="96840"/>
            <a:chExt cx="452160" cy="455760"/>
          </a:xfrm>
        </p:grpSpPr>
        <p:sp>
          <p:nvSpPr>
            <p:cNvPr id="50" name="Freeform 15"/>
            <p:cNvSpPr/>
            <p:nvPr/>
          </p:nvSpPr>
          <p:spPr>
            <a:xfrm>
              <a:off x="8593200" y="117360"/>
              <a:ext cx="411120" cy="41292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740" h="4741">
                  <a:moveTo>
                    <a:pt x="2370" y="0"/>
                  </a:moveTo>
                  <a:lnTo>
                    <a:pt x="2431" y="3"/>
                  </a:lnTo>
                  <a:lnTo>
                    <a:pt x="2492" y="5"/>
                  </a:lnTo>
                  <a:lnTo>
                    <a:pt x="2553" y="8"/>
                  </a:lnTo>
                  <a:lnTo>
                    <a:pt x="2613" y="14"/>
                  </a:lnTo>
                  <a:lnTo>
                    <a:pt x="2672" y="21"/>
                  </a:lnTo>
                  <a:lnTo>
                    <a:pt x="2731" y="29"/>
                  </a:lnTo>
                  <a:lnTo>
                    <a:pt x="2789" y="38"/>
                  </a:lnTo>
                  <a:lnTo>
                    <a:pt x="2848" y="50"/>
                  </a:lnTo>
                  <a:lnTo>
                    <a:pt x="2906" y="62"/>
                  </a:lnTo>
                  <a:lnTo>
                    <a:pt x="2962" y="76"/>
                  </a:lnTo>
                  <a:lnTo>
                    <a:pt x="3019" y="91"/>
                  </a:lnTo>
                  <a:lnTo>
                    <a:pt x="3075" y="109"/>
                  </a:lnTo>
                  <a:lnTo>
                    <a:pt x="3130" y="126"/>
                  </a:lnTo>
                  <a:lnTo>
                    <a:pt x="3184" y="145"/>
                  </a:lnTo>
                  <a:lnTo>
                    <a:pt x="3239" y="166"/>
                  </a:lnTo>
                  <a:lnTo>
                    <a:pt x="3293" y="188"/>
                  </a:lnTo>
                  <a:lnTo>
                    <a:pt x="3346" y="211"/>
                  </a:lnTo>
                  <a:lnTo>
                    <a:pt x="3398" y="235"/>
                  </a:lnTo>
                  <a:lnTo>
                    <a:pt x="3449" y="261"/>
                  </a:lnTo>
                  <a:lnTo>
                    <a:pt x="3500" y="287"/>
                  </a:lnTo>
                  <a:lnTo>
                    <a:pt x="3550" y="316"/>
                  </a:lnTo>
                  <a:lnTo>
                    <a:pt x="3599" y="345"/>
                  </a:lnTo>
                  <a:lnTo>
                    <a:pt x="3648" y="375"/>
                  </a:lnTo>
                  <a:lnTo>
                    <a:pt x="3695" y="406"/>
                  </a:lnTo>
                  <a:lnTo>
                    <a:pt x="3742" y="439"/>
                  </a:lnTo>
                  <a:lnTo>
                    <a:pt x="3788" y="473"/>
                  </a:lnTo>
                  <a:lnTo>
                    <a:pt x="3833" y="507"/>
                  </a:lnTo>
                  <a:lnTo>
                    <a:pt x="3878" y="543"/>
                  </a:lnTo>
                  <a:lnTo>
                    <a:pt x="3921" y="580"/>
                  </a:lnTo>
                  <a:lnTo>
                    <a:pt x="3963" y="618"/>
                  </a:lnTo>
                  <a:lnTo>
                    <a:pt x="4005" y="656"/>
                  </a:lnTo>
                  <a:lnTo>
                    <a:pt x="4046" y="696"/>
                  </a:lnTo>
                  <a:lnTo>
                    <a:pt x="4085" y="736"/>
                  </a:lnTo>
                  <a:lnTo>
                    <a:pt x="4125" y="778"/>
                  </a:lnTo>
                  <a:lnTo>
                    <a:pt x="4163" y="820"/>
                  </a:lnTo>
                  <a:lnTo>
                    <a:pt x="4198" y="864"/>
                  </a:lnTo>
                  <a:lnTo>
                    <a:pt x="4234" y="908"/>
                  </a:lnTo>
                  <a:lnTo>
                    <a:pt x="4270" y="954"/>
                  </a:lnTo>
                  <a:lnTo>
                    <a:pt x="4303" y="999"/>
                  </a:lnTo>
                  <a:lnTo>
                    <a:pt x="4335" y="1046"/>
                  </a:lnTo>
                  <a:lnTo>
                    <a:pt x="4367" y="1095"/>
                  </a:lnTo>
                  <a:lnTo>
                    <a:pt x="4396" y="1143"/>
                  </a:lnTo>
                  <a:lnTo>
                    <a:pt x="4426" y="1191"/>
                  </a:lnTo>
                  <a:lnTo>
                    <a:pt x="4454" y="1242"/>
                  </a:lnTo>
                  <a:lnTo>
                    <a:pt x="4481" y="1293"/>
                  </a:lnTo>
                  <a:lnTo>
                    <a:pt x="4506" y="1344"/>
                  </a:lnTo>
                  <a:lnTo>
                    <a:pt x="4531" y="1397"/>
                  </a:lnTo>
                  <a:lnTo>
                    <a:pt x="4554" y="1450"/>
                  </a:lnTo>
                  <a:lnTo>
                    <a:pt x="4576" y="1503"/>
                  </a:lnTo>
                  <a:lnTo>
                    <a:pt x="4596" y="1557"/>
                  </a:lnTo>
                  <a:lnTo>
                    <a:pt x="4615" y="1611"/>
                  </a:lnTo>
                  <a:lnTo>
                    <a:pt x="4634" y="1667"/>
                  </a:lnTo>
                  <a:lnTo>
                    <a:pt x="4650" y="1723"/>
                  </a:lnTo>
                  <a:lnTo>
                    <a:pt x="4666" y="1779"/>
                  </a:lnTo>
                  <a:lnTo>
                    <a:pt x="4680" y="1837"/>
                  </a:lnTo>
                  <a:lnTo>
                    <a:pt x="4693" y="1894"/>
                  </a:lnTo>
                  <a:lnTo>
                    <a:pt x="4703" y="1952"/>
                  </a:lnTo>
                  <a:lnTo>
                    <a:pt x="4713" y="2011"/>
                  </a:lnTo>
                  <a:lnTo>
                    <a:pt x="4721" y="2069"/>
                  </a:lnTo>
                  <a:lnTo>
                    <a:pt x="4728" y="2129"/>
                  </a:lnTo>
                  <a:lnTo>
                    <a:pt x="4733" y="2189"/>
                  </a:lnTo>
                  <a:lnTo>
                    <a:pt x="4737" y="2249"/>
                  </a:lnTo>
                  <a:lnTo>
                    <a:pt x="4740" y="2310"/>
                  </a:lnTo>
                  <a:lnTo>
                    <a:pt x="4740" y="2371"/>
                  </a:lnTo>
                  <a:lnTo>
                    <a:pt x="4740" y="2432"/>
                  </a:lnTo>
                  <a:lnTo>
                    <a:pt x="4737" y="2493"/>
                  </a:lnTo>
                  <a:lnTo>
                    <a:pt x="4733" y="2553"/>
                  </a:lnTo>
                  <a:lnTo>
                    <a:pt x="4728" y="2613"/>
                  </a:lnTo>
                  <a:lnTo>
                    <a:pt x="4721" y="2673"/>
                  </a:lnTo>
                  <a:lnTo>
                    <a:pt x="4713" y="2732"/>
                  </a:lnTo>
                  <a:lnTo>
                    <a:pt x="4703" y="2790"/>
                  </a:lnTo>
                  <a:lnTo>
                    <a:pt x="4693" y="2848"/>
                  </a:lnTo>
                  <a:lnTo>
                    <a:pt x="4680" y="2906"/>
                  </a:lnTo>
                  <a:lnTo>
                    <a:pt x="4666" y="2963"/>
                  </a:lnTo>
                  <a:lnTo>
                    <a:pt x="4650" y="3020"/>
                  </a:lnTo>
                  <a:lnTo>
                    <a:pt x="4634" y="3075"/>
                  </a:lnTo>
                  <a:lnTo>
                    <a:pt x="4615" y="3132"/>
                  </a:lnTo>
                  <a:lnTo>
                    <a:pt x="4596" y="3186"/>
                  </a:lnTo>
                  <a:lnTo>
                    <a:pt x="4576" y="3240"/>
                  </a:lnTo>
                  <a:lnTo>
                    <a:pt x="4554" y="3293"/>
                  </a:lnTo>
                  <a:lnTo>
                    <a:pt x="4531" y="3346"/>
                  </a:lnTo>
                  <a:lnTo>
                    <a:pt x="4506" y="3399"/>
                  </a:lnTo>
                  <a:lnTo>
                    <a:pt x="4481" y="3449"/>
                  </a:lnTo>
                  <a:lnTo>
                    <a:pt x="4454" y="3500"/>
                  </a:lnTo>
                  <a:lnTo>
                    <a:pt x="4426" y="3551"/>
                  </a:lnTo>
                  <a:lnTo>
                    <a:pt x="4396" y="3599"/>
                  </a:lnTo>
                  <a:lnTo>
                    <a:pt x="4367" y="3648"/>
                  </a:lnTo>
                  <a:lnTo>
                    <a:pt x="4335" y="3696"/>
                  </a:lnTo>
                  <a:lnTo>
                    <a:pt x="4303" y="3743"/>
                  </a:lnTo>
                  <a:lnTo>
                    <a:pt x="4270" y="3788"/>
                  </a:lnTo>
                  <a:lnTo>
                    <a:pt x="4234" y="3834"/>
                  </a:lnTo>
                  <a:lnTo>
                    <a:pt x="4198" y="3878"/>
                  </a:lnTo>
                  <a:lnTo>
                    <a:pt x="4163" y="3922"/>
                  </a:lnTo>
                  <a:lnTo>
                    <a:pt x="4125" y="3964"/>
                  </a:lnTo>
                  <a:lnTo>
                    <a:pt x="4085" y="4006"/>
                  </a:lnTo>
                  <a:lnTo>
                    <a:pt x="4046" y="4046"/>
                  </a:lnTo>
                  <a:lnTo>
                    <a:pt x="4005" y="4087"/>
                  </a:lnTo>
                  <a:lnTo>
                    <a:pt x="3963" y="4125"/>
                  </a:lnTo>
                  <a:lnTo>
                    <a:pt x="3921" y="4163"/>
                  </a:lnTo>
                  <a:lnTo>
                    <a:pt x="3878" y="4199"/>
                  </a:lnTo>
                  <a:lnTo>
                    <a:pt x="3833" y="4235"/>
                  </a:lnTo>
                  <a:lnTo>
                    <a:pt x="3788" y="4270"/>
                  </a:lnTo>
                  <a:lnTo>
                    <a:pt x="3742" y="4303"/>
                  </a:lnTo>
                  <a:lnTo>
                    <a:pt x="3695" y="4337"/>
                  </a:lnTo>
                  <a:lnTo>
                    <a:pt x="3648" y="4368"/>
                  </a:lnTo>
                  <a:lnTo>
                    <a:pt x="3599" y="4398"/>
                  </a:lnTo>
                  <a:lnTo>
                    <a:pt x="3550" y="4426"/>
                  </a:lnTo>
                  <a:lnTo>
                    <a:pt x="3500" y="4455"/>
                  </a:lnTo>
                  <a:lnTo>
                    <a:pt x="3449" y="4482"/>
                  </a:lnTo>
                  <a:lnTo>
                    <a:pt x="3398" y="4507"/>
                  </a:lnTo>
                  <a:lnTo>
                    <a:pt x="3346" y="4531"/>
                  </a:lnTo>
                  <a:lnTo>
                    <a:pt x="3293" y="4554"/>
                  </a:lnTo>
                  <a:lnTo>
                    <a:pt x="3239" y="4576"/>
                  </a:lnTo>
                  <a:lnTo>
                    <a:pt x="3184" y="4597"/>
                  </a:lnTo>
                  <a:lnTo>
                    <a:pt x="3130" y="4616"/>
                  </a:lnTo>
                  <a:lnTo>
                    <a:pt x="3075" y="4634"/>
                  </a:lnTo>
                  <a:lnTo>
                    <a:pt x="3019" y="4651"/>
                  </a:lnTo>
                  <a:lnTo>
                    <a:pt x="2962" y="4666"/>
                  </a:lnTo>
                  <a:lnTo>
                    <a:pt x="2906" y="4680"/>
                  </a:lnTo>
                  <a:lnTo>
                    <a:pt x="2848" y="4693"/>
                  </a:lnTo>
                  <a:lnTo>
                    <a:pt x="2789" y="4704"/>
                  </a:lnTo>
                  <a:lnTo>
                    <a:pt x="2731" y="4713"/>
                  </a:lnTo>
                  <a:lnTo>
                    <a:pt x="2672" y="4721"/>
                  </a:lnTo>
                  <a:lnTo>
                    <a:pt x="2613" y="4728"/>
                  </a:lnTo>
                  <a:lnTo>
                    <a:pt x="2553" y="4734"/>
                  </a:lnTo>
                  <a:lnTo>
                    <a:pt x="2492" y="4737"/>
                  </a:lnTo>
                  <a:lnTo>
                    <a:pt x="2431" y="4740"/>
                  </a:lnTo>
                  <a:lnTo>
                    <a:pt x="2370" y="4741"/>
                  </a:lnTo>
                  <a:lnTo>
                    <a:pt x="2309" y="4740"/>
                  </a:lnTo>
                  <a:lnTo>
                    <a:pt x="2249" y="4737"/>
                  </a:lnTo>
                  <a:lnTo>
                    <a:pt x="2188" y="4734"/>
                  </a:lnTo>
                  <a:lnTo>
                    <a:pt x="2128" y="4728"/>
                  </a:lnTo>
                  <a:lnTo>
                    <a:pt x="2068" y="4721"/>
                  </a:lnTo>
                  <a:lnTo>
                    <a:pt x="2009" y="4713"/>
                  </a:lnTo>
                  <a:lnTo>
                    <a:pt x="1951" y="4704"/>
                  </a:lnTo>
                  <a:lnTo>
                    <a:pt x="1893" y="4693"/>
                  </a:lnTo>
                  <a:lnTo>
                    <a:pt x="1835" y="4680"/>
                  </a:lnTo>
                  <a:lnTo>
                    <a:pt x="1778" y="4666"/>
                  </a:lnTo>
                  <a:lnTo>
                    <a:pt x="1721" y="4651"/>
                  </a:lnTo>
                  <a:lnTo>
                    <a:pt x="1666" y="4634"/>
                  </a:lnTo>
                  <a:lnTo>
                    <a:pt x="1611" y="4616"/>
                  </a:lnTo>
                  <a:lnTo>
                    <a:pt x="1556" y="4597"/>
                  </a:lnTo>
                  <a:lnTo>
                    <a:pt x="1501" y="4576"/>
                  </a:lnTo>
                  <a:lnTo>
                    <a:pt x="1448" y="4554"/>
                  </a:lnTo>
                  <a:lnTo>
                    <a:pt x="1395" y="4531"/>
                  </a:lnTo>
                  <a:lnTo>
                    <a:pt x="1344" y="4507"/>
                  </a:lnTo>
                  <a:lnTo>
                    <a:pt x="1292" y="4482"/>
                  </a:lnTo>
                  <a:lnTo>
                    <a:pt x="1241" y="4455"/>
                  </a:lnTo>
                  <a:lnTo>
                    <a:pt x="1191" y="4426"/>
                  </a:lnTo>
                  <a:lnTo>
                    <a:pt x="1142" y="4398"/>
                  </a:lnTo>
                  <a:lnTo>
                    <a:pt x="1094" y="4368"/>
                  </a:lnTo>
                  <a:lnTo>
                    <a:pt x="1045" y="4337"/>
                  </a:lnTo>
                  <a:lnTo>
                    <a:pt x="999" y="4303"/>
                  </a:lnTo>
                  <a:lnTo>
                    <a:pt x="953" y="4270"/>
                  </a:lnTo>
                  <a:lnTo>
                    <a:pt x="908" y="4235"/>
                  </a:lnTo>
                  <a:lnTo>
                    <a:pt x="863" y="4199"/>
                  </a:lnTo>
                  <a:lnTo>
                    <a:pt x="819" y="4163"/>
                  </a:lnTo>
                  <a:lnTo>
                    <a:pt x="777" y="4125"/>
                  </a:lnTo>
                  <a:lnTo>
                    <a:pt x="735" y="4087"/>
                  </a:lnTo>
                  <a:lnTo>
                    <a:pt x="695" y="4046"/>
                  </a:lnTo>
                  <a:lnTo>
                    <a:pt x="656" y="4006"/>
                  </a:lnTo>
                  <a:lnTo>
                    <a:pt x="617" y="3964"/>
                  </a:lnTo>
                  <a:lnTo>
                    <a:pt x="579" y="3922"/>
                  </a:lnTo>
                  <a:lnTo>
                    <a:pt x="542" y="3878"/>
                  </a:lnTo>
                  <a:lnTo>
                    <a:pt x="506" y="3834"/>
                  </a:lnTo>
                  <a:lnTo>
                    <a:pt x="471" y="3788"/>
                  </a:lnTo>
                  <a:lnTo>
                    <a:pt x="438" y="3743"/>
                  </a:lnTo>
                  <a:lnTo>
                    <a:pt x="406" y="3696"/>
                  </a:lnTo>
                  <a:lnTo>
                    <a:pt x="375" y="3648"/>
                  </a:lnTo>
                  <a:lnTo>
                    <a:pt x="344" y="3599"/>
                  </a:lnTo>
                  <a:lnTo>
                    <a:pt x="315" y="3551"/>
                  </a:lnTo>
                  <a:lnTo>
                    <a:pt x="287" y="3500"/>
                  </a:lnTo>
                  <a:lnTo>
                    <a:pt x="259" y="3449"/>
                  </a:lnTo>
                  <a:lnTo>
                    <a:pt x="234" y="3399"/>
                  </a:lnTo>
                  <a:lnTo>
                    <a:pt x="210" y="3346"/>
                  </a:lnTo>
                  <a:lnTo>
                    <a:pt x="187" y="3293"/>
                  </a:lnTo>
                  <a:lnTo>
                    <a:pt x="165" y="3240"/>
                  </a:lnTo>
                  <a:lnTo>
                    <a:pt x="144" y="3186"/>
                  </a:lnTo>
                  <a:lnTo>
                    <a:pt x="125" y="3132"/>
                  </a:lnTo>
                  <a:lnTo>
                    <a:pt x="107" y="3075"/>
                  </a:lnTo>
                  <a:lnTo>
                    <a:pt x="90" y="3020"/>
                  </a:lnTo>
                  <a:lnTo>
                    <a:pt x="75" y="2963"/>
                  </a:lnTo>
                  <a:lnTo>
                    <a:pt x="61" y="2906"/>
                  </a:lnTo>
                  <a:lnTo>
                    <a:pt x="49" y="2848"/>
                  </a:lnTo>
                  <a:lnTo>
                    <a:pt x="37" y="2790"/>
                  </a:lnTo>
                  <a:lnTo>
                    <a:pt x="28" y="2732"/>
                  </a:lnTo>
                  <a:lnTo>
                    <a:pt x="20" y="2673"/>
                  </a:lnTo>
                  <a:lnTo>
                    <a:pt x="13" y="2613"/>
                  </a:lnTo>
                  <a:lnTo>
                    <a:pt x="7" y="2553"/>
                  </a:lnTo>
                  <a:lnTo>
                    <a:pt x="4" y="2493"/>
                  </a:lnTo>
                  <a:lnTo>
                    <a:pt x="1" y="2432"/>
                  </a:lnTo>
                  <a:lnTo>
                    <a:pt x="0" y="2371"/>
                  </a:lnTo>
                  <a:lnTo>
                    <a:pt x="1" y="2310"/>
                  </a:lnTo>
                  <a:lnTo>
                    <a:pt x="4" y="2249"/>
                  </a:lnTo>
                  <a:lnTo>
                    <a:pt x="7" y="2189"/>
                  </a:lnTo>
                  <a:lnTo>
                    <a:pt x="13" y="2129"/>
                  </a:lnTo>
                  <a:lnTo>
                    <a:pt x="20" y="2069"/>
                  </a:lnTo>
                  <a:lnTo>
                    <a:pt x="28" y="2011"/>
                  </a:lnTo>
                  <a:lnTo>
                    <a:pt x="37" y="1952"/>
                  </a:lnTo>
                  <a:lnTo>
                    <a:pt x="49" y="1894"/>
                  </a:lnTo>
                  <a:lnTo>
                    <a:pt x="61" y="1837"/>
                  </a:lnTo>
                  <a:lnTo>
                    <a:pt x="75" y="1779"/>
                  </a:lnTo>
                  <a:lnTo>
                    <a:pt x="90" y="1723"/>
                  </a:lnTo>
                  <a:lnTo>
                    <a:pt x="107" y="1667"/>
                  </a:lnTo>
                  <a:lnTo>
                    <a:pt x="125" y="1611"/>
                  </a:lnTo>
                  <a:lnTo>
                    <a:pt x="144" y="1557"/>
                  </a:lnTo>
                  <a:lnTo>
                    <a:pt x="165" y="1503"/>
                  </a:lnTo>
                  <a:lnTo>
                    <a:pt x="187" y="1450"/>
                  </a:lnTo>
                  <a:lnTo>
                    <a:pt x="210" y="1397"/>
                  </a:lnTo>
                  <a:lnTo>
                    <a:pt x="234" y="1344"/>
                  </a:lnTo>
                  <a:lnTo>
                    <a:pt x="259" y="1293"/>
                  </a:lnTo>
                  <a:lnTo>
                    <a:pt x="287" y="1242"/>
                  </a:lnTo>
                  <a:lnTo>
                    <a:pt x="315" y="1191"/>
                  </a:lnTo>
                  <a:lnTo>
                    <a:pt x="344" y="1143"/>
                  </a:lnTo>
                  <a:lnTo>
                    <a:pt x="375" y="1095"/>
                  </a:lnTo>
                  <a:lnTo>
                    <a:pt x="406" y="1046"/>
                  </a:lnTo>
                  <a:lnTo>
                    <a:pt x="438" y="999"/>
                  </a:lnTo>
                  <a:lnTo>
                    <a:pt x="471" y="954"/>
                  </a:lnTo>
                  <a:lnTo>
                    <a:pt x="506" y="908"/>
                  </a:lnTo>
                  <a:lnTo>
                    <a:pt x="542" y="864"/>
                  </a:lnTo>
                  <a:lnTo>
                    <a:pt x="579" y="820"/>
                  </a:lnTo>
                  <a:lnTo>
                    <a:pt x="617" y="778"/>
                  </a:lnTo>
                  <a:lnTo>
                    <a:pt x="656" y="736"/>
                  </a:lnTo>
                  <a:lnTo>
                    <a:pt x="695" y="696"/>
                  </a:lnTo>
                  <a:lnTo>
                    <a:pt x="735" y="656"/>
                  </a:lnTo>
                  <a:lnTo>
                    <a:pt x="777" y="618"/>
                  </a:lnTo>
                  <a:lnTo>
                    <a:pt x="819" y="580"/>
                  </a:lnTo>
                  <a:lnTo>
                    <a:pt x="863" y="543"/>
                  </a:lnTo>
                  <a:lnTo>
                    <a:pt x="908" y="507"/>
                  </a:lnTo>
                  <a:lnTo>
                    <a:pt x="953" y="473"/>
                  </a:lnTo>
                  <a:lnTo>
                    <a:pt x="999" y="439"/>
                  </a:lnTo>
                  <a:lnTo>
                    <a:pt x="1045" y="406"/>
                  </a:lnTo>
                  <a:lnTo>
                    <a:pt x="1094" y="375"/>
                  </a:lnTo>
                  <a:lnTo>
                    <a:pt x="1142" y="345"/>
                  </a:lnTo>
                  <a:lnTo>
                    <a:pt x="1191" y="316"/>
                  </a:lnTo>
                  <a:lnTo>
                    <a:pt x="1241" y="287"/>
                  </a:lnTo>
                  <a:lnTo>
                    <a:pt x="1292" y="261"/>
                  </a:lnTo>
                  <a:lnTo>
                    <a:pt x="1344" y="235"/>
                  </a:lnTo>
                  <a:lnTo>
                    <a:pt x="1395" y="211"/>
                  </a:lnTo>
                  <a:lnTo>
                    <a:pt x="1448" y="188"/>
                  </a:lnTo>
                  <a:lnTo>
                    <a:pt x="1501" y="166"/>
                  </a:lnTo>
                  <a:lnTo>
                    <a:pt x="1556" y="145"/>
                  </a:lnTo>
                  <a:lnTo>
                    <a:pt x="1611" y="126"/>
                  </a:lnTo>
                  <a:lnTo>
                    <a:pt x="1666" y="109"/>
                  </a:lnTo>
                  <a:lnTo>
                    <a:pt x="1721" y="91"/>
                  </a:lnTo>
                  <a:lnTo>
                    <a:pt x="1778" y="76"/>
                  </a:lnTo>
                  <a:lnTo>
                    <a:pt x="1835" y="62"/>
                  </a:lnTo>
                  <a:lnTo>
                    <a:pt x="1893" y="50"/>
                  </a:lnTo>
                  <a:lnTo>
                    <a:pt x="1951" y="38"/>
                  </a:lnTo>
                  <a:lnTo>
                    <a:pt x="2009" y="29"/>
                  </a:lnTo>
                  <a:lnTo>
                    <a:pt x="2068" y="21"/>
                  </a:lnTo>
                  <a:lnTo>
                    <a:pt x="2128" y="14"/>
                  </a:lnTo>
                  <a:lnTo>
                    <a:pt x="2188" y="8"/>
                  </a:lnTo>
                  <a:lnTo>
                    <a:pt x="2249" y="5"/>
                  </a:lnTo>
                  <a:lnTo>
                    <a:pt x="2309" y="3"/>
                  </a:lnTo>
                  <a:lnTo>
                    <a:pt x="2370" y="1"/>
                  </a:lnTo>
                  <a:lnTo>
                    <a:pt x="23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8572680" y="96840"/>
              <a:ext cx="452160" cy="455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228" h="5228">
                  <a:moveTo>
                    <a:pt x="2614" y="5227"/>
                  </a:moveTo>
                  <a:lnTo>
                    <a:pt x="2547" y="5227"/>
                  </a:lnTo>
                  <a:lnTo>
                    <a:pt x="2480" y="5225"/>
                  </a:lnTo>
                  <a:lnTo>
                    <a:pt x="2414" y="5221"/>
                  </a:lnTo>
                  <a:lnTo>
                    <a:pt x="2347" y="5214"/>
                  </a:lnTo>
                  <a:lnTo>
                    <a:pt x="2281" y="5207"/>
                  </a:lnTo>
                  <a:lnTo>
                    <a:pt x="2217" y="5198"/>
                  </a:lnTo>
                  <a:lnTo>
                    <a:pt x="2152" y="5188"/>
                  </a:lnTo>
                  <a:lnTo>
                    <a:pt x="2088" y="5175"/>
                  </a:lnTo>
                  <a:lnTo>
                    <a:pt x="2024" y="5161"/>
                  </a:lnTo>
                  <a:lnTo>
                    <a:pt x="1961" y="5146"/>
                  </a:lnTo>
                  <a:lnTo>
                    <a:pt x="1899" y="5129"/>
                  </a:lnTo>
                  <a:lnTo>
                    <a:pt x="1838" y="5111"/>
                  </a:lnTo>
                  <a:lnTo>
                    <a:pt x="1776" y="5091"/>
                  </a:lnTo>
                  <a:lnTo>
                    <a:pt x="1715" y="5069"/>
                  </a:lnTo>
                  <a:lnTo>
                    <a:pt x="1657" y="5047"/>
                  </a:lnTo>
                  <a:lnTo>
                    <a:pt x="1597" y="5023"/>
                  </a:lnTo>
                  <a:lnTo>
                    <a:pt x="1539" y="4998"/>
                  </a:lnTo>
                  <a:lnTo>
                    <a:pt x="1482" y="4970"/>
                  </a:lnTo>
                  <a:lnTo>
                    <a:pt x="1425" y="4942"/>
                  </a:lnTo>
                  <a:lnTo>
                    <a:pt x="1369" y="4912"/>
                  </a:lnTo>
                  <a:lnTo>
                    <a:pt x="1313" y="4881"/>
                  </a:lnTo>
                  <a:lnTo>
                    <a:pt x="1259" y="4849"/>
                  </a:lnTo>
                  <a:lnTo>
                    <a:pt x="1206" y="4816"/>
                  </a:lnTo>
                  <a:lnTo>
                    <a:pt x="1153" y="4781"/>
                  </a:lnTo>
                  <a:lnTo>
                    <a:pt x="1101" y="4745"/>
                  </a:lnTo>
                  <a:lnTo>
                    <a:pt x="1051" y="4709"/>
                  </a:lnTo>
                  <a:lnTo>
                    <a:pt x="1001" y="4671"/>
                  </a:lnTo>
                  <a:lnTo>
                    <a:pt x="952" y="4631"/>
                  </a:lnTo>
                  <a:lnTo>
                    <a:pt x="904" y="4591"/>
                  </a:lnTo>
                  <a:lnTo>
                    <a:pt x="857" y="4548"/>
                  </a:lnTo>
                  <a:lnTo>
                    <a:pt x="811" y="4506"/>
                  </a:lnTo>
                  <a:lnTo>
                    <a:pt x="766" y="4462"/>
                  </a:lnTo>
                  <a:lnTo>
                    <a:pt x="722" y="4417"/>
                  </a:lnTo>
                  <a:lnTo>
                    <a:pt x="680" y="4371"/>
                  </a:lnTo>
                  <a:lnTo>
                    <a:pt x="638" y="4325"/>
                  </a:lnTo>
                  <a:lnTo>
                    <a:pt x="598" y="4277"/>
                  </a:lnTo>
                  <a:lnTo>
                    <a:pt x="558" y="4228"/>
                  </a:lnTo>
                  <a:lnTo>
                    <a:pt x="520" y="4177"/>
                  </a:lnTo>
                  <a:lnTo>
                    <a:pt x="483" y="4127"/>
                  </a:lnTo>
                  <a:lnTo>
                    <a:pt x="447" y="4075"/>
                  </a:lnTo>
                  <a:lnTo>
                    <a:pt x="412" y="4023"/>
                  </a:lnTo>
                  <a:lnTo>
                    <a:pt x="379" y="3969"/>
                  </a:lnTo>
                  <a:lnTo>
                    <a:pt x="347" y="3915"/>
                  </a:lnTo>
                  <a:lnTo>
                    <a:pt x="316" y="3860"/>
                  </a:lnTo>
                  <a:lnTo>
                    <a:pt x="287" y="3804"/>
                  </a:lnTo>
                  <a:lnTo>
                    <a:pt x="258" y="3747"/>
                  </a:lnTo>
                  <a:lnTo>
                    <a:pt x="232" y="3689"/>
                  </a:lnTo>
                  <a:lnTo>
                    <a:pt x="206" y="3631"/>
                  </a:lnTo>
                  <a:lnTo>
                    <a:pt x="182" y="3573"/>
                  </a:lnTo>
                  <a:lnTo>
                    <a:pt x="159" y="3513"/>
                  </a:lnTo>
                  <a:lnTo>
                    <a:pt x="137" y="3452"/>
                  </a:lnTo>
                  <a:lnTo>
                    <a:pt x="118" y="3391"/>
                  </a:lnTo>
                  <a:lnTo>
                    <a:pt x="99" y="3330"/>
                  </a:lnTo>
                  <a:lnTo>
                    <a:pt x="83" y="3267"/>
                  </a:lnTo>
                  <a:lnTo>
                    <a:pt x="67" y="3204"/>
                  </a:lnTo>
                  <a:lnTo>
                    <a:pt x="53" y="3141"/>
                  </a:lnTo>
                  <a:lnTo>
                    <a:pt x="41" y="3076"/>
                  </a:lnTo>
                  <a:lnTo>
                    <a:pt x="30" y="3012"/>
                  </a:lnTo>
                  <a:lnTo>
                    <a:pt x="21" y="2947"/>
                  </a:lnTo>
                  <a:lnTo>
                    <a:pt x="14" y="2881"/>
                  </a:lnTo>
                  <a:lnTo>
                    <a:pt x="8" y="2815"/>
                  </a:lnTo>
                  <a:lnTo>
                    <a:pt x="3" y="2749"/>
                  </a:lnTo>
                  <a:lnTo>
                    <a:pt x="1" y="2682"/>
                  </a:lnTo>
                  <a:lnTo>
                    <a:pt x="0" y="2614"/>
                  </a:lnTo>
                  <a:lnTo>
                    <a:pt x="1" y="2546"/>
                  </a:lnTo>
                  <a:lnTo>
                    <a:pt x="3" y="2479"/>
                  </a:lnTo>
                  <a:lnTo>
                    <a:pt x="8" y="2413"/>
                  </a:lnTo>
                  <a:lnTo>
                    <a:pt x="14" y="2347"/>
                  </a:lnTo>
                  <a:lnTo>
                    <a:pt x="21" y="2281"/>
                  </a:lnTo>
                  <a:lnTo>
                    <a:pt x="30" y="2217"/>
                  </a:lnTo>
                  <a:lnTo>
                    <a:pt x="41" y="2152"/>
                  </a:lnTo>
                  <a:lnTo>
                    <a:pt x="53" y="2088"/>
                  </a:lnTo>
                  <a:lnTo>
                    <a:pt x="67" y="2024"/>
                  </a:lnTo>
                  <a:lnTo>
                    <a:pt x="83" y="1961"/>
                  </a:lnTo>
                  <a:lnTo>
                    <a:pt x="99" y="1899"/>
                  </a:lnTo>
                  <a:lnTo>
                    <a:pt x="118" y="1838"/>
                  </a:lnTo>
                  <a:lnTo>
                    <a:pt x="137" y="1777"/>
                  </a:lnTo>
                  <a:lnTo>
                    <a:pt x="159" y="1716"/>
                  </a:lnTo>
                  <a:lnTo>
                    <a:pt x="182" y="1656"/>
                  </a:lnTo>
                  <a:lnTo>
                    <a:pt x="206" y="1597"/>
                  </a:lnTo>
                  <a:lnTo>
                    <a:pt x="232" y="1539"/>
                  </a:lnTo>
                  <a:lnTo>
                    <a:pt x="258" y="1482"/>
                  </a:lnTo>
                  <a:lnTo>
                    <a:pt x="287" y="1424"/>
                  </a:lnTo>
                  <a:lnTo>
                    <a:pt x="316" y="1369"/>
                  </a:lnTo>
                  <a:lnTo>
                    <a:pt x="347" y="1313"/>
                  </a:lnTo>
                  <a:lnTo>
                    <a:pt x="379" y="1259"/>
                  </a:lnTo>
                  <a:lnTo>
                    <a:pt x="412" y="1205"/>
                  </a:lnTo>
                  <a:lnTo>
                    <a:pt x="447" y="1153"/>
                  </a:lnTo>
                  <a:lnTo>
                    <a:pt x="483" y="1102"/>
                  </a:lnTo>
                  <a:lnTo>
                    <a:pt x="520" y="1051"/>
                  </a:lnTo>
                  <a:lnTo>
                    <a:pt x="558" y="1000"/>
                  </a:lnTo>
                  <a:lnTo>
                    <a:pt x="598" y="952"/>
                  </a:lnTo>
                  <a:lnTo>
                    <a:pt x="638" y="903"/>
                  </a:lnTo>
                  <a:lnTo>
                    <a:pt x="680" y="857"/>
                  </a:lnTo>
                  <a:lnTo>
                    <a:pt x="722" y="811"/>
                  </a:lnTo>
                  <a:lnTo>
                    <a:pt x="766" y="766"/>
                  </a:lnTo>
                  <a:lnTo>
                    <a:pt x="811" y="722"/>
                  </a:lnTo>
                  <a:lnTo>
                    <a:pt x="857" y="680"/>
                  </a:lnTo>
                  <a:lnTo>
                    <a:pt x="904" y="637"/>
                  </a:lnTo>
                  <a:lnTo>
                    <a:pt x="952" y="597"/>
                  </a:lnTo>
                  <a:lnTo>
                    <a:pt x="1001" y="558"/>
                  </a:lnTo>
                  <a:lnTo>
                    <a:pt x="1051" y="520"/>
                  </a:lnTo>
                  <a:lnTo>
                    <a:pt x="1101" y="483"/>
                  </a:lnTo>
                  <a:lnTo>
                    <a:pt x="1153" y="447"/>
                  </a:lnTo>
                  <a:lnTo>
                    <a:pt x="1206" y="413"/>
                  </a:lnTo>
                  <a:lnTo>
                    <a:pt x="1259" y="379"/>
                  </a:lnTo>
                  <a:lnTo>
                    <a:pt x="1313" y="347"/>
                  </a:lnTo>
                  <a:lnTo>
                    <a:pt x="1369" y="316"/>
                  </a:lnTo>
                  <a:lnTo>
                    <a:pt x="1425" y="286"/>
                  </a:lnTo>
                  <a:lnTo>
                    <a:pt x="1482" y="258"/>
                  </a:lnTo>
                  <a:lnTo>
                    <a:pt x="1539" y="231"/>
                  </a:lnTo>
                  <a:lnTo>
                    <a:pt x="1597" y="205"/>
                  </a:lnTo>
                  <a:lnTo>
                    <a:pt x="1657" y="181"/>
                  </a:lnTo>
                  <a:lnTo>
                    <a:pt x="1715" y="159"/>
                  </a:lnTo>
                  <a:lnTo>
                    <a:pt x="1776" y="137"/>
                  </a:lnTo>
                  <a:lnTo>
                    <a:pt x="1838" y="118"/>
                  </a:lnTo>
                  <a:lnTo>
                    <a:pt x="1899" y="99"/>
                  </a:lnTo>
                  <a:lnTo>
                    <a:pt x="1961" y="82"/>
                  </a:lnTo>
                  <a:lnTo>
                    <a:pt x="2024" y="67"/>
                  </a:lnTo>
                  <a:lnTo>
                    <a:pt x="2088" y="53"/>
                  </a:lnTo>
                  <a:lnTo>
                    <a:pt x="2152" y="40"/>
                  </a:lnTo>
                  <a:lnTo>
                    <a:pt x="2217" y="30"/>
                  </a:lnTo>
                  <a:lnTo>
                    <a:pt x="2281" y="21"/>
                  </a:lnTo>
                  <a:lnTo>
                    <a:pt x="2347" y="14"/>
                  </a:lnTo>
                  <a:lnTo>
                    <a:pt x="2414" y="8"/>
                  </a:lnTo>
                  <a:lnTo>
                    <a:pt x="2480" y="4"/>
                  </a:lnTo>
                  <a:lnTo>
                    <a:pt x="2547" y="1"/>
                  </a:lnTo>
                  <a:lnTo>
                    <a:pt x="2614" y="0"/>
                  </a:lnTo>
                  <a:lnTo>
                    <a:pt x="2682" y="1"/>
                  </a:lnTo>
                  <a:lnTo>
                    <a:pt x="2749" y="4"/>
                  </a:lnTo>
                  <a:lnTo>
                    <a:pt x="2816" y="8"/>
                  </a:lnTo>
                  <a:lnTo>
                    <a:pt x="2881" y="14"/>
                  </a:lnTo>
                  <a:lnTo>
                    <a:pt x="2947" y="21"/>
                  </a:lnTo>
                  <a:lnTo>
                    <a:pt x="3013" y="30"/>
                  </a:lnTo>
                  <a:lnTo>
                    <a:pt x="3077" y="40"/>
                  </a:lnTo>
                  <a:lnTo>
                    <a:pt x="3140" y="53"/>
                  </a:lnTo>
                  <a:lnTo>
                    <a:pt x="3205" y="67"/>
                  </a:lnTo>
                  <a:lnTo>
                    <a:pt x="3267" y="82"/>
                  </a:lnTo>
                  <a:lnTo>
                    <a:pt x="3329" y="99"/>
                  </a:lnTo>
                  <a:lnTo>
                    <a:pt x="3392" y="118"/>
                  </a:lnTo>
                  <a:lnTo>
                    <a:pt x="3453" y="137"/>
                  </a:lnTo>
                  <a:lnTo>
                    <a:pt x="3513" y="159"/>
                  </a:lnTo>
                  <a:lnTo>
                    <a:pt x="3573" y="181"/>
                  </a:lnTo>
                  <a:lnTo>
                    <a:pt x="3631" y="205"/>
                  </a:lnTo>
                  <a:lnTo>
                    <a:pt x="3690" y="231"/>
                  </a:lnTo>
                  <a:lnTo>
                    <a:pt x="3748" y="258"/>
                  </a:lnTo>
                  <a:lnTo>
                    <a:pt x="3804" y="286"/>
                  </a:lnTo>
                  <a:lnTo>
                    <a:pt x="3861" y="316"/>
                  </a:lnTo>
                  <a:lnTo>
                    <a:pt x="3915" y="347"/>
                  </a:lnTo>
                  <a:lnTo>
                    <a:pt x="3970" y="379"/>
                  </a:lnTo>
                  <a:lnTo>
                    <a:pt x="4023" y="413"/>
                  </a:lnTo>
                  <a:lnTo>
                    <a:pt x="4076" y="447"/>
                  </a:lnTo>
                  <a:lnTo>
                    <a:pt x="4128" y="483"/>
                  </a:lnTo>
                  <a:lnTo>
                    <a:pt x="4178" y="520"/>
                  </a:lnTo>
                  <a:lnTo>
                    <a:pt x="4228" y="558"/>
                  </a:lnTo>
                  <a:lnTo>
                    <a:pt x="4276" y="597"/>
                  </a:lnTo>
                  <a:lnTo>
                    <a:pt x="4325" y="637"/>
                  </a:lnTo>
                  <a:lnTo>
                    <a:pt x="4372" y="680"/>
                  </a:lnTo>
                  <a:lnTo>
                    <a:pt x="4418" y="722"/>
                  </a:lnTo>
                  <a:lnTo>
                    <a:pt x="4463" y="766"/>
                  </a:lnTo>
                  <a:lnTo>
                    <a:pt x="4507" y="811"/>
                  </a:lnTo>
                  <a:lnTo>
                    <a:pt x="4549" y="857"/>
                  </a:lnTo>
                  <a:lnTo>
                    <a:pt x="4591" y="903"/>
                  </a:lnTo>
                  <a:lnTo>
                    <a:pt x="4631" y="952"/>
                  </a:lnTo>
                  <a:lnTo>
                    <a:pt x="4670" y="1000"/>
                  </a:lnTo>
                  <a:lnTo>
                    <a:pt x="4708" y="1051"/>
                  </a:lnTo>
                  <a:lnTo>
                    <a:pt x="4746" y="1102"/>
                  </a:lnTo>
                  <a:lnTo>
                    <a:pt x="4782" y="1153"/>
                  </a:lnTo>
                  <a:lnTo>
                    <a:pt x="4817" y="1205"/>
                  </a:lnTo>
                  <a:lnTo>
                    <a:pt x="4850" y="1259"/>
                  </a:lnTo>
                  <a:lnTo>
                    <a:pt x="4882" y="1313"/>
                  </a:lnTo>
                  <a:lnTo>
                    <a:pt x="4912" y="1369"/>
                  </a:lnTo>
                  <a:lnTo>
                    <a:pt x="4942" y="1424"/>
                  </a:lnTo>
                  <a:lnTo>
                    <a:pt x="4971" y="1482"/>
                  </a:lnTo>
                  <a:lnTo>
                    <a:pt x="4998" y="1539"/>
                  </a:lnTo>
                  <a:lnTo>
                    <a:pt x="5023" y="1597"/>
                  </a:lnTo>
                  <a:lnTo>
                    <a:pt x="5047" y="1656"/>
                  </a:lnTo>
                  <a:lnTo>
                    <a:pt x="5070" y="1716"/>
                  </a:lnTo>
                  <a:lnTo>
                    <a:pt x="5091" y="1777"/>
                  </a:lnTo>
                  <a:lnTo>
                    <a:pt x="5110" y="1838"/>
                  </a:lnTo>
                  <a:lnTo>
                    <a:pt x="5129" y="1899"/>
                  </a:lnTo>
                  <a:lnTo>
                    <a:pt x="5146" y="1961"/>
                  </a:lnTo>
                  <a:lnTo>
                    <a:pt x="5161" y="2024"/>
                  </a:lnTo>
                  <a:lnTo>
                    <a:pt x="5175" y="2088"/>
                  </a:lnTo>
                  <a:lnTo>
                    <a:pt x="5188" y="2152"/>
                  </a:lnTo>
                  <a:lnTo>
                    <a:pt x="5198" y="2217"/>
                  </a:lnTo>
                  <a:lnTo>
                    <a:pt x="5207" y="2281"/>
                  </a:lnTo>
                  <a:lnTo>
                    <a:pt x="5215" y="2347"/>
                  </a:lnTo>
                  <a:lnTo>
                    <a:pt x="5221" y="2413"/>
                  </a:lnTo>
                  <a:lnTo>
                    <a:pt x="5225" y="2479"/>
                  </a:lnTo>
                  <a:lnTo>
                    <a:pt x="5228" y="2546"/>
                  </a:lnTo>
                  <a:lnTo>
                    <a:pt x="5228" y="2614"/>
                  </a:lnTo>
                  <a:lnTo>
                    <a:pt x="5228" y="2682"/>
                  </a:lnTo>
                  <a:lnTo>
                    <a:pt x="5225" y="2749"/>
                  </a:lnTo>
                  <a:lnTo>
                    <a:pt x="5221" y="2815"/>
                  </a:lnTo>
                  <a:lnTo>
                    <a:pt x="5215" y="2881"/>
                  </a:lnTo>
                  <a:lnTo>
                    <a:pt x="5207" y="2947"/>
                  </a:lnTo>
                  <a:lnTo>
                    <a:pt x="5198" y="3012"/>
                  </a:lnTo>
                  <a:lnTo>
                    <a:pt x="5188" y="3076"/>
                  </a:lnTo>
                  <a:lnTo>
                    <a:pt x="5175" y="3141"/>
                  </a:lnTo>
                  <a:lnTo>
                    <a:pt x="5161" y="3204"/>
                  </a:lnTo>
                  <a:lnTo>
                    <a:pt x="5146" y="3267"/>
                  </a:lnTo>
                  <a:lnTo>
                    <a:pt x="5129" y="3330"/>
                  </a:lnTo>
                  <a:lnTo>
                    <a:pt x="5110" y="3391"/>
                  </a:lnTo>
                  <a:lnTo>
                    <a:pt x="5091" y="3452"/>
                  </a:lnTo>
                  <a:lnTo>
                    <a:pt x="5070" y="3513"/>
                  </a:lnTo>
                  <a:lnTo>
                    <a:pt x="5047" y="3573"/>
                  </a:lnTo>
                  <a:lnTo>
                    <a:pt x="5023" y="3631"/>
                  </a:lnTo>
                  <a:lnTo>
                    <a:pt x="4998" y="3689"/>
                  </a:lnTo>
                  <a:lnTo>
                    <a:pt x="4971" y="3747"/>
                  </a:lnTo>
                  <a:lnTo>
                    <a:pt x="4942" y="3804"/>
                  </a:lnTo>
                  <a:lnTo>
                    <a:pt x="4912" y="3860"/>
                  </a:lnTo>
                  <a:lnTo>
                    <a:pt x="4882" y="3915"/>
                  </a:lnTo>
                  <a:lnTo>
                    <a:pt x="4850" y="3969"/>
                  </a:lnTo>
                  <a:lnTo>
                    <a:pt x="4817" y="4023"/>
                  </a:lnTo>
                  <a:lnTo>
                    <a:pt x="4782" y="4075"/>
                  </a:lnTo>
                  <a:lnTo>
                    <a:pt x="4746" y="4127"/>
                  </a:lnTo>
                  <a:lnTo>
                    <a:pt x="4708" y="4177"/>
                  </a:lnTo>
                  <a:lnTo>
                    <a:pt x="4670" y="4228"/>
                  </a:lnTo>
                  <a:lnTo>
                    <a:pt x="4631" y="4277"/>
                  </a:lnTo>
                  <a:lnTo>
                    <a:pt x="4591" y="4325"/>
                  </a:lnTo>
                  <a:lnTo>
                    <a:pt x="4549" y="4371"/>
                  </a:lnTo>
                  <a:lnTo>
                    <a:pt x="4507" y="4417"/>
                  </a:lnTo>
                  <a:lnTo>
                    <a:pt x="4463" y="4462"/>
                  </a:lnTo>
                  <a:lnTo>
                    <a:pt x="4418" y="4506"/>
                  </a:lnTo>
                  <a:lnTo>
                    <a:pt x="4372" y="4548"/>
                  </a:lnTo>
                  <a:lnTo>
                    <a:pt x="4325" y="4591"/>
                  </a:lnTo>
                  <a:lnTo>
                    <a:pt x="4276" y="4631"/>
                  </a:lnTo>
                  <a:lnTo>
                    <a:pt x="4228" y="4671"/>
                  </a:lnTo>
                  <a:lnTo>
                    <a:pt x="4178" y="4709"/>
                  </a:lnTo>
                  <a:lnTo>
                    <a:pt x="4128" y="4745"/>
                  </a:lnTo>
                  <a:lnTo>
                    <a:pt x="4076" y="4781"/>
                  </a:lnTo>
                  <a:lnTo>
                    <a:pt x="4023" y="4816"/>
                  </a:lnTo>
                  <a:lnTo>
                    <a:pt x="3970" y="4849"/>
                  </a:lnTo>
                  <a:lnTo>
                    <a:pt x="3915" y="4881"/>
                  </a:lnTo>
                  <a:lnTo>
                    <a:pt x="3861" y="4912"/>
                  </a:lnTo>
                  <a:lnTo>
                    <a:pt x="3804" y="4942"/>
                  </a:lnTo>
                  <a:lnTo>
                    <a:pt x="3748" y="4970"/>
                  </a:lnTo>
                  <a:lnTo>
                    <a:pt x="3690" y="4998"/>
                  </a:lnTo>
                  <a:lnTo>
                    <a:pt x="3631" y="5023"/>
                  </a:lnTo>
                  <a:lnTo>
                    <a:pt x="3573" y="5047"/>
                  </a:lnTo>
                  <a:lnTo>
                    <a:pt x="3513" y="5069"/>
                  </a:lnTo>
                  <a:lnTo>
                    <a:pt x="3453" y="5091"/>
                  </a:lnTo>
                  <a:lnTo>
                    <a:pt x="3392" y="5111"/>
                  </a:lnTo>
                  <a:lnTo>
                    <a:pt x="3329" y="5129"/>
                  </a:lnTo>
                  <a:lnTo>
                    <a:pt x="3267" y="5146"/>
                  </a:lnTo>
                  <a:lnTo>
                    <a:pt x="3205" y="5161"/>
                  </a:lnTo>
                  <a:lnTo>
                    <a:pt x="3140" y="5175"/>
                  </a:lnTo>
                  <a:lnTo>
                    <a:pt x="3077" y="5188"/>
                  </a:lnTo>
                  <a:lnTo>
                    <a:pt x="3013" y="5198"/>
                  </a:lnTo>
                  <a:lnTo>
                    <a:pt x="2947" y="5207"/>
                  </a:lnTo>
                  <a:lnTo>
                    <a:pt x="2881" y="5214"/>
                  </a:lnTo>
                  <a:lnTo>
                    <a:pt x="2816" y="5221"/>
                  </a:lnTo>
                  <a:lnTo>
                    <a:pt x="2749" y="5225"/>
                  </a:lnTo>
                  <a:lnTo>
                    <a:pt x="2682" y="5227"/>
                  </a:lnTo>
                  <a:lnTo>
                    <a:pt x="2614" y="5228"/>
                  </a:lnTo>
                  <a:lnTo>
                    <a:pt x="2614" y="5227"/>
                  </a:lnTo>
                  <a:close/>
                  <a:moveTo>
                    <a:pt x="1131" y="3819"/>
                  </a:moveTo>
                  <a:lnTo>
                    <a:pt x="1153" y="3735"/>
                  </a:lnTo>
                  <a:lnTo>
                    <a:pt x="1176" y="3651"/>
                  </a:lnTo>
                  <a:lnTo>
                    <a:pt x="1198" y="3570"/>
                  </a:lnTo>
                  <a:lnTo>
                    <a:pt x="1222" y="3493"/>
                  </a:lnTo>
                  <a:lnTo>
                    <a:pt x="1234" y="3455"/>
                  </a:lnTo>
                  <a:lnTo>
                    <a:pt x="1247" y="3417"/>
                  </a:lnTo>
                  <a:lnTo>
                    <a:pt x="1258" y="3381"/>
                  </a:lnTo>
                  <a:lnTo>
                    <a:pt x="1271" y="3345"/>
                  </a:lnTo>
                  <a:lnTo>
                    <a:pt x="1283" y="3310"/>
                  </a:lnTo>
                  <a:lnTo>
                    <a:pt x="1296" y="3275"/>
                  </a:lnTo>
                  <a:lnTo>
                    <a:pt x="1309" y="3242"/>
                  </a:lnTo>
                  <a:lnTo>
                    <a:pt x="1321" y="3210"/>
                  </a:lnTo>
                  <a:lnTo>
                    <a:pt x="1335" y="3179"/>
                  </a:lnTo>
                  <a:lnTo>
                    <a:pt x="1348" y="3148"/>
                  </a:lnTo>
                  <a:lnTo>
                    <a:pt x="1362" y="3118"/>
                  </a:lnTo>
                  <a:lnTo>
                    <a:pt x="1376" y="3089"/>
                  </a:lnTo>
                  <a:lnTo>
                    <a:pt x="1389" y="3061"/>
                  </a:lnTo>
                  <a:lnTo>
                    <a:pt x="1403" y="3033"/>
                  </a:lnTo>
                  <a:lnTo>
                    <a:pt x="1418" y="3008"/>
                  </a:lnTo>
                  <a:lnTo>
                    <a:pt x="1432" y="2983"/>
                  </a:lnTo>
                  <a:lnTo>
                    <a:pt x="1447" y="2959"/>
                  </a:lnTo>
                  <a:lnTo>
                    <a:pt x="1462" y="2936"/>
                  </a:lnTo>
                  <a:lnTo>
                    <a:pt x="1477" y="2914"/>
                  </a:lnTo>
                  <a:lnTo>
                    <a:pt x="1492" y="2893"/>
                  </a:lnTo>
                  <a:lnTo>
                    <a:pt x="1508" y="2873"/>
                  </a:lnTo>
                  <a:lnTo>
                    <a:pt x="1524" y="2855"/>
                  </a:lnTo>
                  <a:lnTo>
                    <a:pt x="1539" y="2838"/>
                  </a:lnTo>
                  <a:lnTo>
                    <a:pt x="1556" y="2822"/>
                  </a:lnTo>
                  <a:lnTo>
                    <a:pt x="1574" y="2804"/>
                  </a:lnTo>
                  <a:lnTo>
                    <a:pt x="1591" y="2787"/>
                  </a:lnTo>
                  <a:lnTo>
                    <a:pt x="1609" y="2772"/>
                  </a:lnTo>
                  <a:lnTo>
                    <a:pt x="1629" y="2757"/>
                  </a:lnTo>
                  <a:lnTo>
                    <a:pt x="1649" y="2743"/>
                  </a:lnTo>
                  <a:lnTo>
                    <a:pt x="1668" y="2729"/>
                  </a:lnTo>
                  <a:lnTo>
                    <a:pt x="1690" y="2718"/>
                  </a:lnTo>
                  <a:lnTo>
                    <a:pt x="1711" y="2706"/>
                  </a:lnTo>
                  <a:lnTo>
                    <a:pt x="1733" y="2697"/>
                  </a:lnTo>
                  <a:lnTo>
                    <a:pt x="1756" y="2688"/>
                  </a:lnTo>
                  <a:lnTo>
                    <a:pt x="1780" y="2681"/>
                  </a:lnTo>
                  <a:lnTo>
                    <a:pt x="1804" y="2674"/>
                  </a:lnTo>
                  <a:lnTo>
                    <a:pt x="1829" y="2669"/>
                  </a:lnTo>
                  <a:lnTo>
                    <a:pt x="1855" y="2666"/>
                  </a:lnTo>
                  <a:lnTo>
                    <a:pt x="1881" y="2664"/>
                  </a:lnTo>
                  <a:lnTo>
                    <a:pt x="1909" y="2663"/>
                  </a:lnTo>
                  <a:lnTo>
                    <a:pt x="1927" y="2663"/>
                  </a:lnTo>
                  <a:lnTo>
                    <a:pt x="1946" y="2664"/>
                  </a:lnTo>
                  <a:lnTo>
                    <a:pt x="1964" y="2666"/>
                  </a:lnTo>
                  <a:lnTo>
                    <a:pt x="1983" y="2668"/>
                  </a:lnTo>
                  <a:lnTo>
                    <a:pt x="2001" y="2672"/>
                  </a:lnTo>
                  <a:lnTo>
                    <a:pt x="2021" y="2678"/>
                  </a:lnTo>
                  <a:lnTo>
                    <a:pt x="2039" y="2683"/>
                  </a:lnTo>
                  <a:lnTo>
                    <a:pt x="2060" y="2691"/>
                  </a:lnTo>
                  <a:lnTo>
                    <a:pt x="2079" y="2701"/>
                  </a:lnTo>
                  <a:lnTo>
                    <a:pt x="2100" y="2711"/>
                  </a:lnTo>
                  <a:lnTo>
                    <a:pt x="2122" y="2724"/>
                  </a:lnTo>
                  <a:lnTo>
                    <a:pt x="2144" y="2739"/>
                  </a:lnTo>
                  <a:lnTo>
                    <a:pt x="2166" y="2756"/>
                  </a:lnTo>
                  <a:lnTo>
                    <a:pt x="2189" y="2774"/>
                  </a:lnTo>
                  <a:lnTo>
                    <a:pt x="2213" y="2796"/>
                  </a:lnTo>
                  <a:lnTo>
                    <a:pt x="2237" y="2820"/>
                  </a:lnTo>
                  <a:lnTo>
                    <a:pt x="2256" y="2839"/>
                  </a:lnTo>
                  <a:lnTo>
                    <a:pt x="2275" y="2860"/>
                  </a:lnTo>
                  <a:lnTo>
                    <a:pt x="2295" y="2881"/>
                  </a:lnTo>
                  <a:lnTo>
                    <a:pt x="2314" y="2906"/>
                  </a:lnTo>
                  <a:lnTo>
                    <a:pt x="2334" y="2932"/>
                  </a:lnTo>
                  <a:lnTo>
                    <a:pt x="2354" y="2960"/>
                  </a:lnTo>
                  <a:lnTo>
                    <a:pt x="2374" y="2990"/>
                  </a:lnTo>
                  <a:lnTo>
                    <a:pt x="2395" y="3021"/>
                  </a:lnTo>
                  <a:lnTo>
                    <a:pt x="2415" y="3054"/>
                  </a:lnTo>
                  <a:lnTo>
                    <a:pt x="2435" y="3090"/>
                  </a:lnTo>
                  <a:lnTo>
                    <a:pt x="2456" y="3127"/>
                  </a:lnTo>
                  <a:lnTo>
                    <a:pt x="2478" y="3166"/>
                  </a:lnTo>
                  <a:lnTo>
                    <a:pt x="2499" y="3207"/>
                  </a:lnTo>
                  <a:lnTo>
                    <a:pt x="2521" y="3250"/>
                  </a:lnTo>
                  <a:lnTo>
                    <a:pt x="2543" y="3295"/>
                  </a:lnTo>
                  <a:lnTo>
                    <a:pt x="2564" y="3342"/>
                  </a:lnTo>
                  <a:lnTo>
                    <a:pt x="2614" y="3456"/>
                  </a:lnTo>
                  <a:lnTo>
                    <a:pt x="2665" y="3341"/>
                  </a:lnTo>
                  <a:lnTo>
                    <a:pt x="2687" y="3295"/>
                  </a:lnTo>
                  <a:lnTo>
                    <a:pt x="2708" y="3250"/>
                  </a:lnTo>
                  <a:lnTo>
                    <a:pt x="2730" y="3207"/>
                  </a:lnTo>
                  <a:lnTo>
                    <a:pt x="2751" y="3166"/>
                  </a:lnTo>
                  <a:lnTo>
                    <a:pt x="2773" y="3127"/>
                  </a:lnTo>
                  <a:lnTo>
                    <a:pt x="2794" y="3090"/>
                  </a:lnTo>
                  <a:lnTo>
                    <a:pt x="2814" y="3054"/>
                  </a:lnTo>
                  <a:lnTo>
                    <a:pt x="2835" y="3021"/>
                  </a:lnTo>
                  <a:lnTo>
                    <a:pt x="2855" y="2990"/>
                  </a:lnTo>
                  <a:lnTo>
                    <a:pt x="2876" y="2960"/>
                  </a:lnTo>
                  <a:lnTo>
                    <a:pt x="2895" y="2932"/>
                  </a:lnTo>
                  <a:lnTo>
                    <a:pt x="2915" y="2906"/>
                  </a:lnTo>
                  <a:lnTo>
                    <a:pt x="2934" y="2881"/>
                  </a:lnTo>
                  <a:lnTo>
                    <a:pt x="2954" y="2860"/>
                  </a:lnTo>
                  <a:lnTo>
                    <a:pt x="2973" y="2839"/>
                  </a:lnTo>
                  <a:lnTo>
                    <a:pt x="2992" y="2820"/>
                  </a:lnTo>
                  <a:lnTo>
                    <a:pt x="3016" y="2796"/>
                  </a:lnTo>
                  <a:lnTo>
                    <a:pt x="3040" y="2774"/>
                  </a:lnTo>
                  <a:lnTo>
                    <a:pt x="3063" y="2756"/>
                  </a:lnTo>
                  <a:lnTo>
                    <a:pt x="3085" y="2739"/>
                  </a:lnTo>
                  <a:lnTo>
                    <a:pt x="3107" y="2724"/>
                  </a:lnTo>
                  <a:lnTo>
                    <a:pt x="3128" y="2711"/>
                  </a:lnTo>
                  <a:lnTo>
                    <a:pt x="3149" y="2701"/>
                  </a:lnTo>
                  <a:lnTo>
                    <a:pt x="3169" y="2691"/>
                  </a:lnTo>
                  <a:lnTo>
                    <a:pt x="3189" y="2683"/>
                  </a:lnTo>
                  <a:lnTo>
                    <a:pt x="3208" y="2678"/>
                  </a:lnTo>
                  <a:lnTo>
                    <a:pt x="3228" y="2672"/>
                  </a:lnTo>
                  <a:lnTo>
                    <a:pt x="3246" y="2668"/>
                  </a:lnTo>
                  <a:lnTo>
                    <a:pt x="3265" y="2666"/>
                  </a:lnTo>
                  <a:lnTo>
                    <a:pt x="3283" y="2664"/>
                  </a:lnTo>
                  <a:lnTo>
                    <a:pt x="3319" y="2663"/>
                  </a:lnTo>
                  <a:lnTo>
                    <a:pt x="3347" y="2664"/>
                  </a:lnTo>
                  <a:lnTo>
                    <a:pt x="3373" y="2666"/>
                  </a:lnTo>
                  <a:lnTo>
                    <a:pt x="3400" y="2669"/>
                  </a:lnTo>
                  <a:lnTo>
                    <a:pt x="3425" y="2674"/>
                  </a:lnTo>
                  <a:lnTo>
                    <a:pt x="3449" y="2681"/>
                  </a:lnTo>
                  <a:lnTo>
                    <a:pt x="3472" y="2688"/>
                  </a:lnTo>
                  <a:lnTo>
                    <a:pt x="3495" y="2697"/>
                  </a:lnTo>
                  <a:lnTo>
                    <a:pt x="3517" y="2706"/>
                  </a:lnTo>
                  <a:lnTo>
                    <a:pt x="3539" y="2718"/>
                  </a:lnTo>
                  <a:lnTo>
                    <a:pt x="3560" y="2729"/>
                  </a:lnTo>
                  <a:lnTo>
                    <a:pt x="3581" y="2743"/>
                  </a:lnTo>
                  <a:lnTo>
                    <a:pt x="3600" y="2757"/>
                  </a:lnTo>
                  <a:lnTo>
                    <a:pt x="3619" y="2772"/>
                  </a:lnTo>
                  <a:lnTo>
                    <a:pt x="3637" y="2787"/>
                  </a:lnTo>
                  <a:lnTo>
                    <a:pt x="3655" y="2804"/>
                  </a:lnTo>
                  <a:lnTo>
                    <a:pt x="3673" y="2822"/>
                  </a:lnTo>
                  <a:lnTo>
                    <a:pt x="3689" y="2838"/>
                  </a:lnTo>
                  <a:lnTo>
                    <a:pt x="3705" y="2855"/>
                  </a:lnTo>
                  <a:lnTo>
                    <a:pt x="3721" y="2873"/>
                  </a:lnTo>
                  <a:lnTo>
                    <a:pt x="3736" y="2893"/>
                  </a:lnTo>
                  <a:lnTo>
                    <a:pt x="3751" y="2914"/>
                  </a:lnTo>
                  <a:lnTo>
                    <a:pt x="3767" y="2936"/>
                  </a:lnTo>
                  <a:lnTo>
                    <a:pt x="3782" y="2959"/>
                  </a:lnTo>
                  <a:lnTo>
                    <a:pt x="3796" y="2983"/>
                  </a:lnTo>
                  <a:lnTo>
                    <a:pt x="3811" y="3008"/>
                  </a:lnTo>
                  <a:lnTo>
                    <a:pt x="3825" y="3033"/>
                  </a:lnTo>
                  <a:lnTo>
                    <a:pt x="3840" y="3061"/>
                  </a:lnTo>
                  <a:lnTo>
                    <a:pt x="3854" y="3089"/>
                  </a:lnTo>
                  <a:lnTo>
                    <a:pt x="3867" y="3118"/>
                  </a:lnTo>
                  <a:lnTo>
                    <a:pt x="3880" y="3148"/>
                  </a:lnTo>
                  <a:lnTo>
                    <a:pt x="3894" y="3179"/>
                  </a:lnTo>
                  <a:lnTo>
                    <a:pt x="3907" y="3210"/>
                  </a:lnTo>
                  <a:lnTo>
                    <a:pt x="3920" y="3242"/>
                  </a:lnTo>
                  <a:lnTo>
                    <a:pt x="3933" y="3275"/>
                  </a:lnTo>
                  <a:lnTo>
                    <a:pt x="3946" y="3310"/>
                  </a:lnTo>
                  <a:lnTo>
                    <a:pt x="3958" y="3345"/>
                  </a:lnTo>
                  <a:lnTo>
                    <a:pt x="3970" y="3381"/>
                  </a:lnTo>
                  <a:lnTo>
                    <a:pt x="3983" y="3417"/>
                  </a:lnTo>
                  <a:lnTo>
                    <a:pt x="3994" y="3455"/>
                  </a:lnTo>
                  <a:lnTo>
                    <a:pt x="4007" y="3493"/>
                  </a:lnTo>
                  <a:lnTo>
                    <a:pt x="4030" y="3570"/>
                  </a:lnTo>
                  <a:lnTo>
                    <a:pt x="4053" y="3651"/>
                  </a:lnTo>
                  <a:lnTo>
                    <a:pt x="4075" y="3735"/>
                  </a:lnTo>
                  <a:lnTo>
                    <a:pt x="4097" y="3820"/>
                  </a:lnTo>
                  <a:lnTo>
                    <a:pt x="4268" y="3819"/>
                  </a:lnTo>
                  <a:lnTo>
                    <a:pt x="3339" y="778"/>
                  </a:lnTo>
                  <a:lnTo>
                    <a:pt x="2620" y="3161"/>
                  </a:lnTo>
                  <a:lnTo>
                    <a:pt x="2614" y="3161"/>
                  </a:lnTo>
                  <a:lnTo>
                    <a:pt x="2608" y="3161"/>
                  </a:lnTo>
                  <a:lnTo>
                    <a:pt x="1889" y="778"/>
                  </a:lnTo>
                  <a:lnTo>
                    <a:pt x="961" y="3819"/>
                  </a:lnTo>
                  <a:lnTo>
                    <a:pt x="1131" y="3819"/>
                  </a:lnTo>
                  <a:close/>
                </a:path>
              </a:pathLst>
            </a:custGeom>
            <a:solidFill>
              <a:srgbClr val="1f3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6"/>
          <p:cNvSpPr/>
          <p:nvPr/>
        </p:nvSpPr>
        <p:spPr>
          <a:xfrm>
            <a:off x="0" y="714240"/>
            <a:ext cx="9144000" cy="142920"/>
          </a:xfrm>
          <a:prstGeom prst="rect">
            <a:avLst/>
          </a:prstGeom>
          <a:gradFill rotWithShape="0">
            <a:gsLst>
              <a:gs pos="0">
                <a:srgbClr val="99938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092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0BD9-7029-46FC-9EB1-3C7240218203}" type="datetime">
              <a:rPr b="0" lang="en-US" sz="11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torola Confidential Proprie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0992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5163-39E5-4801-8959-05236474213D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Profiles and Levels in HEVC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0637r3)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y Luth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ola Mobi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uthra@motorola.com)</a:t>
            </a:r>
            <a:br>
              <a:rPr sz="28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1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iles and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both fixed and flexible Profiles and Levels spec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in the systems with fixed interoperating 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 Digital TV broadcasting with one-way commun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the systems with two-way communication and variable interoperable 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.g. Digital TV distribution to tablets, smart phones, smart TVs using DAS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1028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3F24-FDF8-4D23-B3C6-1A11A8053B0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iles and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xed Profiles and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ign the numbers corresponding to SDTV and HDTV with those in AV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l 3 :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Support 720x480 at 30 frames per sec, 720x576 at 25 frames per sec, 640x480 at 30 frames per sec, 960x540 (QHD) at 30 frames per s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Level 4: Support 1280x720 at 60 frames per sec, 1920x1080 at 30 frame per s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Level 5: Support 1920x1080 at 60 frames per s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Level 6: Support 4kx2k at 60 frames per s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Sub-levels (e.g. 3.1, 3.2 etc.) are not recommen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01028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AC66-D908-4FD0-8BAE-01E241C2BA5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iles and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xed Profiles and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neutral names, like Profile ‘A’, do not use the names like Main, High etc. that wrongly convey the focus of the standard and the attributes of the pro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not force fit the Onion (concentric)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 this stage specify only one profile corresponding to the  highest effici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701028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AC6C-5BFE-447E-8299-2B30C0B8961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iles and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exible Profiles and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clients and servers to negotiate the coding tools and attributes associated with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.g., in AVC one can negotiate support of Constrained Baseline Profile + B pictures, or Main minus CABAC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ffers’ sizes, maximum bit rate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an example, negotiation can happen using X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attributes associated with the coding tools to be negot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.g. maximum search range in B-pictur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01028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14CE-6D46-42D0-AC0A-D0694E51556A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iles and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exible Profiles and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VC should standardize the names of the coding tools that can be negot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VC should standardize the attributes associated with those tools that can be negot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VC should standardize the names of the various parameters associated with the Levels whose values can be mod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1028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120A-8964-45E7-8FC2-C63136B3EAC6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3:30:57Z</dcterms:created>
  <dc:creator>mgi1164</dc:creator>
  <dc:description/>
  <dc:language>en-US</dc:language>
  <cp:lastModifiedBy>mgi1164</cp:lastModifiedBy>
  <dcterms:modified xsi:type="dcterms:W3CDTF">2012-02-01T00:41:26Z</dcterms:modified>
  <cp:revision>1</cp:revision>
  <dc:subject/>
  <dc:title>Slide 1</dc:title>
</cp:coreProperties>
</file>