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CEE7-8546-47A5-81D5-5DC4EF75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81A5-1F1E-47C0-857D-378271F6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C2CD-4326-4B8A-A7F0-19880787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BECF-0B14-4A89-A8FD-6DBA7F5A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5721-0F72-40F0-AC14-803F7A6F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72DA-317B-43CD-8B84-7FD8FC83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8A2F-97AE-400A-8BBC-3ED4FA66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E373-7650-4D46-A257-145734F3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FA9B-DDF0-4A80-A6C4-3DF7E32A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CD36-367E-4026-A956-5F7309B9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AF8D-6446-4DDE-B52B-06A7B59A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87BB-5CA0-4499-9FBC-AFDD9114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3055-860A-44B5-9A64-5B267DBAD588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2DDA-0E86-40D6-9622-0681BC2A0E6F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6/07/28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Level definition to limit memory bandwidth of MC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JCTVC-H060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Kenji Kondo and Teruhiko Suzuk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H06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4E0D-1B8A-4880-98D6-E7AA2120D2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troduced desirable restriction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roposed two ideas to limit max memory bandwidth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U restr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mit number of motion vec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We propose to further study above ideas in AhG of memory bandwidth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H06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76D5-A4F7-471E-904E-D270644B24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emory bandwidth is important issue for MC becau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decoder throughput is limited by bandwidth of MC in especially large image appl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Discuss the desirable restric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ropose simple two idea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strict small MC block and bi-pre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mit maximum number of motion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eri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D% impact for block restr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umber of MVs of current anchor stre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nclus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H06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EE57-1547-45C4-B50D-4E4341FD2B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iscussion of desirable restric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ossible to constrain the max memory bandwidth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 relevant small re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A restriction for PU level is best to limit the bandwidth but it will increase the coding efficiency loss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A restriction for picture level is difficult to design hardware both encoder and decoder, but it will decrease the coding efficiency loss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We think that the restriction for each LCU or CU is good trade-off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asy to check the conform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motivate us to protect this level defin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Good flexibility for new leve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 the future, new level may be defined by something reas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Harmless coding perform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H06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2FA2E-667A-4CE7-9BDD-D8FA227CC5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Idea to limit max bandwidth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U restric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Limit max number of motion vector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H06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C3E4-53EE-4BDF-87A3-FA9596DF5F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PU restric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000" y="1096920"/>
          <a:ext cx="8550000" cy="5392800"/>
        </p:xfrm>
        <a:graphic>
          <a:graphicData uri="http://schemas.openxmlformats.org/drawingml/2006/table">
            <a:tbl>
              <a:tblPr/>
              <a:tblGrid>
                <a:gridCol w="1068120"/>
                <a:gridCol w="1068480"/>
                <a:gridCol w="1068480"/>
                <a:gridCol w="1069920"/>
                <a:gridCol w="1069920"/>
                <a:gridCol w="1068480"/>
                <a:gridCol w="1068480"/>
                <a:gridCol w="1068120"/>
              </a:tblGrid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estricted mo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v. A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v. 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v. 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v.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8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v. A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8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n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v. A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8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n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8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v. A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8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n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8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ni-4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v. A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4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8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ni-4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i-8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ni-4x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Uni-8x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H06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9401-37EC-4C02-AA36-914CEB8D9A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Average BD% for class A, B, 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173240"/>
            <a:ext cx="9144000" cy="56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H06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923F-EAFF-4797-8AF7-685D3A6322E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Proposal for max number of MV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066680"/>
          <a:ext cx="7772400" cy="2497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LCU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estriction cas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estriction case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Restriction case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6x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32x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64x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247040" y="4329000"/>
            <a:ext cx="71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mory bandwidth of case 1 is corresponding to level 3 of AV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ase 2 is level 3.1 and above of AV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ase 3 is added for more strong restric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H06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0AF7-C30B-478B-B534-62E19BD492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1640" y="-2664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ax number of MVs per one LCU for class C, D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268280"/>
          <a:ext cx="91440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H06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BA3D-8A9B-4ACA-AA3C-2A199138D3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1640" y="18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ax of MVs per one LCU for class A, B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268280"/>
          <a:ext cx="9144000" cy="51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H06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4876-4C51-491B-B708-81329A1AC91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0000110148</cp:lastModifiedBy>
  <dcterms:modified xsi:type="dcterms:W3CDTF">2012-02-03T07:04:23Z</dcterms:modified>
  <cp:revision>50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966292</vt:r8>
  </property>
  <property fmtid="{D5CDD505-2E9C-101B-9397-08002B2CF9AE}" pid="3" name="_AuthorEmail">
    <vt:lpwstr>Ali.Tabatabai@am.sony.com</vt:lpwstr>
  </property>
  <property fmtid="{D5CDD505-2E9C-101B-9397-08002B2CF9AE}" pid="4" name="_AuthorEmailDisplayName">
    <vt:lpwstr>Tabatabai, Ali</vt:lpwstr>
  </property>
  <property fmtid="{D5CDD505-2E9C-101B-9397-08002B2CF9AE}" pid="5" name="_EmailSubject">
    <vt:lpwstr>Presentation</vt:lpwstr>
  </property>
  <property fmtid="{D5CDD505-2E9C-101B-9397-08002B2CF9AE}" pid="6" name="_PreviousAdHocReviewCycleID">
    <vt:r8>-683104095</vt:r8>
  </property>
  <property fmtid="{D5CDD505-2E9C-101B-9397-08002B2CF9AE}" pid="7" name="_ReviewingToolsShownOnce">
    <vt:lpwstr/>
  </property>
</Properties>
</file>