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4BDC-BE0E-44B2-B648-88B358BFF1B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B727-73EE-46BE-802C-4269267E288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F435-48E6-47FB-8170-5F8141F7D6C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B2B3-90D3-4A55-A2D9-09EADF0EEAE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A56B-2DBC-4D03-AD22-CDF6A0647AB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46F3-4E8F-49E4-B2FE-EC511C7CE76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013F-96CC-4B22-A550-6D21E28CA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2A79-C684-48A2-9616-AF6327F0B27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B8F39-38EB-45F3-B56D-70BEC5CDF28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678B-E9B6-4AF2-8B42-A371AA8F09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D102-8F7C-4AED-A2D3-2391658477E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DF4A-F4E1-48F7-BD90-8E7D80BA1D8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81CD-AE56-4115-8C83-EBC9BF7EA05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7F2A-DA42-4624-9134-2298CBBFC3A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6170-C2A7-4E18-AE83-C3B15BB4E36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2DCB-E1F4-4FCF-B889-0AD71F75675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54D6-D15F-4C62-A35A-0E972FFF611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DDD25-F956-4C66-9F15-9ABE813E9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BADB-2387-488A-A9A4-2FAB7C8B7EE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1E4476-FE66-40D2-8754-A3E6B2E1BAE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0272C-F8B6-4DC4-A5C6-63869EF68E0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80E77-072D-4DF7-BBA0-39F93B95F8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58D681-F6AA-4A68-9FD0-41919111823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D2EBB4-5C11-4E29-903E-07C5E10DD7B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E238C9-459A-49AA-AC90-C8125F448E5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955E5-478C-4E23-9E9B-921E59E4E20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9E171-E91D-48A9-B9CB-F45A8D3AA64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6201E-6ECA-4833-98D6-ED6121CD966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8BCF13-196D-4291-8224-F04699C44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4E01-2769-41C8-892B-FC61A9672A2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F7656-DA7F-4CDA-963F-3642DA52536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71D65-C99B-41BF-9E52-60CDC973058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546A9-AE90-436F-AC28-6C6047153C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D2069-BC11-46ED-980B-24E97DED7D1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1B099-5DE5-4056-9E25-BCC21A41D00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39EAA-7ACB-4A52-83EB-16AD060C289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058463-BE1B-4706-863C-B673A45BE68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EEF17-D018-4C88-8291-694E3A15B7F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3B6C1-7E66-4044-8EEF-9E0C25588F6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33184-415B-46F8-836C-BD88AD7E3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91A9-DD7B-426A-BDA5-F077ADC311F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2523F-9C8E-4EF6-8AD2-D05E5E2CB2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1D6FC-E709-4A5D-A62C-34CF20974DB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8C3CB6-6F97-4C47-B02D-72AE90EB957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78DA-FA4F-41C2-A62A-ABD01B30F69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633F0-FA0E-48D9-B71C-44F02C2CFA4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38D4D-4B57-46E7-82AE-8C165719FC9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142F-85B2-4BFA-96E7-1BCFC50BDC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86833-098C-42B4-98E7-A21F2A0B09E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7BC8-4EBE-489E-A497-FF5BAAF95EC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0787-3B22-4BA1-8034-85C31FA77E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7A5E-7EDC-48A0-8A52-1A6EBF8C97C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4794-5B45-4D05-A005-335343DB107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E61A6-D2B6-4370-A7B4-4EFFBC464B6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A2DD4-91D6-4A0C-8303-BB288200AA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6135D-346E-41E6-AAFB-944009376DD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9928C-614F-4981-8371-C6C93192C0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1A4C-E035-4E76-9055-F76F9AAEE1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E649-FA0C-414D-A3A3-8949B8D07C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1763-EBA7-4917-8936-6B25803127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E07A-1702-4348-BB79-F662C341CC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DA8A-1EF8-4FDF-AEF5-E83E5C44D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3BDA-D438-4287-841B-AE57C3B4A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30A3-413E-454F-A1FD-57D2B3C6E0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4C84-34AD-4A93-8538-8636305D7E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06BDF-ABE0-4F90-868F-59819E204F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C87C-0465-481D-9BFB-703462B60B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D50F-F65D-41FB-8255-61EDEAD548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81D-85E5-4614-8CCF-E7F66396A5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8A1-60B8-4073-BE75-2B416DE150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4A3-6653-4ED9-BE17-4F5C2FCC2C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BC5-60F3-4D59-AB50-3C8447AF95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E15-EFCD-44B2-BF12-D3A0271777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3D09-86AA-4242-9521-3FB372BA91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730-D995-4D7F-8160-D8D2DBAD3D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A70-FD8C-4C97-987E-705849335A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397-1C1F-4830-9156-3C838CAA64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630-9766-407B-836D-4C37AFA869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EB2-3B72-4318-9F00-54631CB41B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8AE-FE43-494A-9A0D-FF4EB06A76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0D5-8D5B-4A78-9836-DB209C08DD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C4C27-625E-482C-8158-9F8083D9C7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D7BD5-B5FA-4848-A8CC-14EC6A88D7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66F04-F7CA-4DFC-B493-FC6136ABB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06FA-1C2B-4ABD-9546-85E812CB2C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8A40F-7550-418F-9400-5D551F5557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3EDF2-B4D5-41AF-988E-5C4BF35253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E599A-4D08-4739-AAA5-D168DACA27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818D4-101B-4BBE-83BC-76056199A3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77333-656B-447D-A955-380F01A1D9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464B1-3614-4F73-BBD1-C1D2276B81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3D0B4-4E10-43A4-A00F-7E31F24815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41E4D-85F9-4C05-8AFC-30A2E46BB8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9353E-613B-4308-BDB3-0FF99F816B8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56009-92DE-46E4-9257-F7D19DBB8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4D26-8CA8-4DA0-B5EA-F08D8F5D83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4C9EC-75F3-4424-A4B7-69611C7469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11629-0B4A-4C84-9D1C-293F028506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7B370-F8C4-4284-A4EF-3EBA46593C8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70585-9E31-409D-8DF8-8C8B37A9580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517FE-61F4-467E-91AE-CCDA40DF28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95C74-6B39-487E-8FB8-554EB54849A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17D39-9986-4D7E-B0E1-C5D2DB1415D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DC16D-8827-4325-9E5A-440C491EB3A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612D5-CD73-4A58-B213-5F0E65FB6A9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69610-9036-4878-92F8-AC0B7854E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9CBF-2065-42B9-BC14-656249DCD9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6CA7E-0F6A-45BF-8C4A-3664A49DBC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1ABC-DB17-4F47-8BB7-CDC3BE6D9D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168F-2B36-4062-8338-0C7674AE4D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E41C-7C8D-46A1-BF0A-9935C41870B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0455-755A-4397-99B2-7DEB7B500C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4B3D-AE2A-4FB4-B5F5-FF3757633C8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F957-C076-43BD-B03C-E1668E9793C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164B-E1B7-433C-B841-CF41116E4BC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C28A-37D1-4451-BB52-07BAB5DB6DD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AE39-F6CA-4180-8B08-01F7A2570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5CE2-E849-4D72-9C51-A809E7751C7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1ECF-A9E5-4A7C-AA7B-D32DFD5500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C292-B95F-4D93-8A98-3E249BE6A0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A8B4-8E48-4C91-B88E-3CD099FEAF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BA6F15-8BE7-4304-B423-6CEEAA5FDDF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D10CAC-EEE0-4B7E-997C-23D3BB62CE8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C8EEC-F2A4-4AFA-89C4-B6B9A9ACD06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29D55-0233-438C-A29F-EBACC0A8ADF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DAA86-CC4F-4F72-A95A-8EEC7E0017F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3DBDE-C199-42FD-85AC-EBAB40A9D04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BC2EC7-82BD-4AED-A410-8D5C15722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794C-1377-4849-9D38-097A1799038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9D886-416B-4688-8EFB-676B3DF57A8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FE06E-BE22-4581-8C29-B84689EC1FB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63B78-9393-4752-BB47-299403AA99E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E4BC7-4872-4E81-90A2-3FC0E54D344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D8C35-4F28-4343-A73A-5EAF8D604D4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A3B40-413E-4A3D-8ECB-F77B042D272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CFB2C-748C-4E32-AFBA-43AB9DCEBCD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67692-1709-41CB-B3F0-D1AF50F8D20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1B367-6793-42B3-9167-D513FACEC2A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EC082-8AC6-4DD7-A870-522EA3855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3ED7-22D8-467E-ABFB-BA077845539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6F27F-2FB8-485D-94B9-48008766B71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1E687-8370-4734-A90E-FD9BDCA10D3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0268E-A2E2-4708-A4BE-FAFF0743EA1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E1786-0A91-49A0-B89B-5F56601785D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01DEC-101C-4A20-A33A-74F5E27277F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77ABB-7795-41B8-8F1D-99ABA49A33B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21C5A-0868-44B9-8862-A65CE331C4F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2FF0-11C7-4C52-A6C3-592F4E6B9C9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2BFAF-DF0E-4F01-83C3-D7B7DF53F9F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3A0D-0FE5-48FF-A876-FABC14DE8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228D-8A51-478C-9EE3-B35BFA7F984C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4504-C38C-4EAA-B87B-D6452D6DD783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3882-F9F9-4EA3-A171-5E70F21F27CE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6779-D85C-4813-ACE0-FA8917FB2FBF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57D9-ACBC-42E2-9989-010918BF39A4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CAB8-5F6B-4D1F-BACB-853C5064035D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D64B-CE11-4A42-A25D-78828C32A31A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B561-6987-4A05-AC0C-354C332F503F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886B-7EE6-457F-8C75-70F45BA5D6BC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2B0B-5C69-469D-A586-CB6DAA2C08A0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7CC6-F62A-4DEF-BC16-396D08F02E14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DA11-0377-4E79-80ED-394B84419E88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5069-2AE6-4400-84BE-3981583A743F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152280" y="16002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JCTVC-H0571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  <a:ea typeface="SimHei"/>
              </a:rPr>
              <a:t>: A Comparison of HM-5.0 ALF with H0068’s Proposed Single-Shape ALF for Some Video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1828800" y="3962520"/>
            <a:ext cx="5257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Faouzi Kossent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8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San Jose.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1-10 Febr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C1DE-8EB1-40A7-A0BC-F716BE3DE7E6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F shapes in HM-5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38"/>
          <p:cNvSpPr/>
          <p:nvPr/>
        </p:nvSpPr>
        <p:spPr>
          <a:xfrm>
            <a:off x="0" y="42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94"/>
          <p:cNvGraphicFramePr/>
          <p:nvPr/>
        </p:nvGraphicFramePr>
        <p:xfrm>
          <a:off x="2025720" y="1981080"/>
          <a:ext cx="521316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19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5720" y="1981080"/>
                    <a:ext cx="52131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501F-7B28-49B1-80F2-6CA6A1B40A2E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ALF shape in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JCTVC-H00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8"/>
          <p:cNvSpPr/>
          <p:nvPr/>
        </p:nvSpPr>
        <p:spPr>
          <a:xfrm>
            <a:off x="0" y="42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9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3"/>
          <p:cNvGraphicFramePr/>
          <p:nvPr/>
        </p:nvGraphicFramePr>
        <p:xfrm>
          <a:off x="2743200" y="1981080"/>
          <a:ext cx="3581280" cy="33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3581280" cy="33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A7EF-094B-4414-8418-12B9AC500CBE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CTVC-H0068 Single Shape: Performance for Some Test-Set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96"/>
          <p:cNvSpPr/>
          <p:nvPr/>
        </p:nvSpPr>
        <p:spPr>
          <a:xfrm>
            <a:off x="0" y="39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52280" y="1828800"/>
          <a:ext cx="8839440" cy="1131840"/>
        </p:xfrm>
        <a:graphic>
          <a:graphicData uri="http://schemas.openxmlformats.org/drawingml/2006/table">
            <a:tbl>
              <a:tblPr/>
              <a:tblGrid>
                <a:gridCol w="1040040"/>
                <a:gridCol w="1039680"/>
                <a:gridCol w="581040"/>
                <a:gridCol w="582480"/>
                <a:gridCol w="581040"/>
                <a:gridCol w="527040"/>
                <a:gridCol w="581040"/>
                <a:gridCol w="581040"/>
                <a:gridCol w="527040"/>
                <a:gridCol w="581040"/>
                <a:gridCol w="581040"/>
                <a:gridCol w="528840"/>
                <a:gridCol w="581040"/>
                <a:gridCol w="527040"/>
              </a:tblGrid>
              <a:tr h="213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-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Q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Q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56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513" name="Rectangle 10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228600" y="3429000"/>
            <a:ext cx="8153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at many single-shape solutions have been tested, some losses are still observed in some test-set video sequ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the proposed single shape that yields the best tradeoff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erage Y BD-Rate loss for Vidyo1/Vidyo3 in LDP/LD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ighest Y BD-Rate loss in LDP/LD/RA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9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or Vidyo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ighest Y BD-Rate gain in LDP/LD/RA for non-Class F sequences is on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0F30-8A2D-4E61-8793-B9703513ADFC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96"/>
          <p:cNvSpPr/>
          <p:nvPr/>
        </p:nvSpPr>
        <p:spPr>
          <a:xfrm>
            <a:off x="0" y="39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0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03320" y="1463760"/>
          <a:ext cx="8964360" cy="3184560"/>
        </p:xfrm>
        <a:graphic>
          <a:graphicData uri="http://schemas.openxmlformats.org/drawingml/2006/table">
            <a:tbl>
              <a:tblPr/>
              <a:tblGrid>
                <a:gridCol w="1492200"/>
                <a:gridCol w="1098360"/>
                <a:gridCol w="533520"/>
                <a:gridCol w="565200"/>
                <a:gridCol w="5014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06160"/>
              </a:tblGrid>
              <a:tr h="28872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-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uttle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w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nCalend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ueSk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verB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on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flow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lkingCoup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0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Rectangle 1"/>
          <p:cNvSpPr/>
          <p:nvPr/>
        </p:nvSpPr>
        <p:spPr>
          <a:xfrm>
            <a:off x="4481640" y="-6948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0"/>
          <p:cNvSpPr/>
          <p:nvPr/>
        </p:nvSpPr>
        <p:spPr>
          <a:xfrm>
            <a:off x="228600" y="4870440"/>
            <a:ext cx="8381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Cit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Sky and Station2 video sequences, the single-shape solution degrades the coding efficiency for LDP/LD/RA by an averag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8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single shape, the highest Y BD-Rate loss for LDP/LD/RA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le the highest Y BD-Rate gain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CTVC-H0068 Single Shape: Performance for Some Non-Test-Set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F4A3-B559-4C86-816A-12175A58251B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the HM-5.0 ALF, the proposed single-shape ALF of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CTVC-H006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s noticeably the coding efficiency for some test-set and non-test-set video sequ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ed single-shape ALF of JCTVC-H0068 appears to perform not well for some VC sequences, and especially for sequences with zoom and/or 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HM-5.0 shapes allow the encoder to adapt well to various types of video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Faouzi Kossentini</cp:lastModifiedBy>
  <cp:lastPrinted>2009-04-22T19:24:48Z</cp:lastPrinted>
  <dcterms:modified xsi:type="dcterms:W3CDTF">2012-02-01T17:10:00Z</dcterms:modified>
  <cp:revision>1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