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0F6A-C08A-40D3-B271-1778E5CFFE8B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8821-430A-4FE2-8869-3118934A0D0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lieve RA results are lower compared with the LD as a result of the use of future pictures in B sl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0E32-8C2F-4BA5-83DE-9EF9BCC7D12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lieve RA results are lower compared with the LD as a result of the use of future pictures in B sl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444B-7687-4EA1-ADE3-B08AC6A7CBC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E4AB-27E4-4788-B4D3-4BE637D72C8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selection occurs at the slice level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uma_filter_mode_flag is sent in slice 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1695-7C86-4468-BA2D-8C6C0EC4505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selection occurs at the slice level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uma_filter_mode_flag is sent in slice 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5B64-EB95-4B80-B83A-F4E59A0FB54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attention to encoder compute – down from 130+ % at the last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sults in this presentation are relative to HM 3.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3810-B0C2-4178-8C7B-0BECA32DD25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attention to encoder compute – down from 130+ % at the last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sults in this presentation are relative to HM 3.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E9E9-570A-434A-80E4-20179C289D6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attention to encoder compute – down from 130+ % at the last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sults in this presentation are relative to HM 3.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EDD8-BD3E-4A19-B033-C9827A59C03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383E-387A-48CB-88C7-E7F557B0E41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8F79A-2505-47B8-AB98-5A1FDA388C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4D0E3-420D-48B3-AE21-5B12424E51E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47C99-2DFC-4512-974C-525F44AB557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E3242-6C19-45C4-81BA-F263B34C113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EF16B-2B2B-4AD7-A2F2-C3C17CE3DF9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D988F-2F57-431B-B6A0-CCF4435336F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0F3A9-6A67-4C9B-B4AE-4056B2DF90D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F947C-4588-4E02-9578-8888F7EAE3D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079CE-04A8-4D1F-AF52-0547585D040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0DC6A-EF30-4F08-8AD4-C54BB9FE1B5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4ECC5-60A9-4BA9-8FAD-74EE4A031CB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75E234-CA3E-4F3C-BE5E-1D4F66CBEE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7A6B9-4A02-4BA2-A228-F64426E3F08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7563BE-1A67-48C1-8903-23B648ACD37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E5C64E-E04A-4A07-BF3B-798D465A28D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13DBAC-455A-4064-8A3F-77154397423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F3DB7E-D9EC-4CAA-96CA-75A17E84369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1640EB-78A8-4E0D-BA2C-24FF38245D0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E54740-9270-4C5D-8F4B-9E7546F70AD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97DD66-8EF9-4D05-85A0-3803BD561C6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8F20A8-A734-4549-9B68-5A61D823B4C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CA1973-0355-4C5B-BB6B-E17813E72B8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FAADE2-3033-4AFF-A868-C70725C7F6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B0383-4A21-449D-B379-566E24A2BBD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53DF58-45E4-4C7D-8978-DED94323E99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3D399D-6B1D-4644-AFA5-81371507268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345F32-A4E4-4D02-8216-BE0B364C2F5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2E35DE-B2C2-4595-A57C-E35A4010991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B5609F-6FAF-4B25-AFE4-14BE0AEF8F9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E066D3-F4BB-4447-A735-468804EC52C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15D596-42A4-440E-9F89-6E3224096FC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641E9C-EEFF-42FA-A1A5-B7D2F383E02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8CA78C-5D50-4C58-B198-7AF6E968669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717FFD-859A-4D59-BEE6-768D56C70D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93A44-8133-46D0-97D5-45FE9E644DE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93E383-524E-42F2-9000-60400FD9A46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B9E2B2-F7A3-4523-863E-B458376237B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F12E96-5820-47CB-9F44-F9245BDA0BC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CBFAC-5E02-48A1-9FB7-B9A165FCC98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51FAC-10DC-4E2A-B8E4-C422236719F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33E91-03C1-411E-81D1-50C50525A3A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5EB0B-EE53-4625-A030-2D1BAFF90C7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DE554-D3A2-4504-8636-9C80B67AFA8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35ECA-3844-4431-AAD3-5BE4977A3DF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0406D-01AA-465C-B58F-A960BC3DF5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F1B87-AF33-4431-83DD-68B392C0946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EF78C-8C97-45A1-8161-4B806FC6C3A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7E1ED-9BCF-4D12-B32C-5AD0BAB3BB6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A21AF-5044-4CAB-83CB-750269AD302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2303C-B6AC-4885-AF93-D626CBB1ED4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99DB3-ABE4-48D5-BD6C-91C74821F1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86FFE-1D06-4EEF-95C2-6D7A2CB6F2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EE4FE-3297-40DA-AD7B-157A6E6D8F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9A8B2-F9EF-4D4C-AF5B-4F8059655F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DDB8C-3878-458A-8C61-3C73CD7602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E12CD-D86D-4428-9BC8-4C9C18B200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C2B0F-4703-454C-92DF-14F599C498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32D02-7646-4606-B0ED-C02E2E4DAA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15897-0949-4C5F-8CB3-E704F4F9A7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43C5A-30EF-44F9-8591-4B3C76E89E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DA0FB-90D2-4A4F-BB87-E728A243DB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3E6E0-BB2E-4E55-8CB3-36D1A9F0433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C675-202D-4120-8320-A6CA3AB86C1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8A44-3026-4C41-95D4-3E84AA2593B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5B19-ECD8-4905-B0AE-948261AD96A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D1BD-38B7-422C-8598-598E34EC2F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0549-7492-48CC-8280-B5A82137D2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58608-7F9C-4352-BDC7-4596A555DF8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9749-F6A3-4F61-95F7-60EB3410E1E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7DB7-9528-4766-ACAF-E2B4109D0E4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43DD-8594-40AB-98F1-F2EF6BDCE3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D1CE-F065-4273-B4CE-F2E2311FD15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9DB0-B6B8-4A1C-AB32-B122E7FE1D5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9627-A373-424A-8529-ECD1B189DF4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C818-F961-40CE-B062-426AD0C5E99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4DC01-2DF9-42E8-A8A3-BCAB1A5BC43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C7239-ABA5-429F-8E38-3D3C8AD4FD0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433C9-19DE-4B7A-B030-D4D4A85DA3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5B3A3-677C-41C9-9CF7-354BC516DB9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95CECB-609F-4675-BCCD-34ACFCD1781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93947-568B-4922-8A1E-E00AE230DBC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C7766-3E44-458A-98F9-2CD96154BB4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4A68B-1FA6-44ED-8BCA-B7B0EE4EA3D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8FABE-518F-439E-B16B-254D7CE6209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66464-9CD4-4EBA-A4D1-8096CE7E498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AD603-6E1A-4CDF-AC25-4BF27880ECD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94027-F93D-40B2-B9C9-ADB83732A21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10EAE-0FF2-4E8E-A405-1D1A393F6B6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D30F41-61DC-471D-B6FA-FEFF090AD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0C273-26D1-41E8-95CD-64E69C74593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482DE-361B-4F89-AFE6-5F0D0946EAD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B8DCE-26FF-413B-BE3C-43315CEE1F3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0DFE0-0194-4BFE-B6E1-E624973C29F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9CA4B4-A778-4076-9FB5-91862181F50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D1B6C-580E-445E-902F-DD03DC0E31D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19B6E-16D2-4C0F-930E-370EDABCE0A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6370D-7E3D-4A59-999D-E8A31AD2079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BE4A6-7028-4064-95D5-B9F6A854337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B1500-5987-40BA-A856-BFBCC0ACF12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012B6-FF36-47BC-8058-E8641FAEE8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FE68E-7A10-473C-BE97-1743A6494D8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CB7AA-C6BA-4DE8-9777-CD0CC1B90A2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04E9-8F67-44A8-95F4-3BF90FD499E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E608-6997-4451-8507-374A90E749D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EA31-A0D3-4DA3-B0F0-E410EAD6CC4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4318-58BB-467F-BC89-34759509B8B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C23F-752B-4709-955D-A927CB6D3B6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C62B-6FDE-4700-9CDB-6A942D83288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EEDF-30F3-4643-82F6-70C124A2352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E20D-A988-40DF-864E-ED5C5E956CD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67BA-DE55-4A6B-8C38-420206B049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04B61-EA72-4026-8458-2E22EDB2BE1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7D3D-66B6-453C-9D31-EEB408FA1C9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B2DF-90F1-4044-B416-CE3BA8B8E21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A5FF-4343-4F30-81BB-1A4EC34CD0C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245FDE-6D75-4E95-94C6-1D92F5F7B7F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504504-5A5E-4493-93A3-C581FD6B496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1A249D-C5D5-41EB-AE21-F4D7140D933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D6909F-A1D5-4C90-99E9-D14B43F497A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0623E2-EA66-4E38-8D13-B20E08B919C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20787B-2521-427F-8C1E-3A8C2211D91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2A52E6-42BF-4350-A9E9-B17913B6CC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08782-404D-4B62-8DDF-D77C6D27F69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48939E-9A38-4BD3-95C9-937CA2E48AA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D24E88-AE12-4E4D-AA1D-209706D583E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923D2E-6A77-43D3-ACF5-100B2F4CA6E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0E2FF7-2A69-4747-ADB6-2F3FAE6931B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8FBEEB-257B-4454-864C-2786F94362D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8F7071-B631-433C-972A-6CB7D43827C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A89AE8-91DC-49D1-A1C3-EB9CFF5939F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E8B1DB-A9BA-4F07-9F75-29B6728A299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9A0B43-E386-490A-A3FC-839F3BD4988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3AF0B4-ABCB-46E5-8DE8-7F38C3A673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5B3D5-21AC-4A3E-B5D5-899F4AC8643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7FF5C0-18FD-4796-A0D1-CFA45160A4E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555D35-C3BF-4A92-80DD-F83E36F7B36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66A50E-C5C9-495D-A802-838F9A5FFBA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71EF5E-D907-4583-9BBD-ECB27F78AA4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F11199-821E-4E50-A655-52C582E466D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036285-A1D3-4434-B863-47FB319E1A6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4FB82E-0C65-4879-B9BA-97CEC944367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DC512-3640-4BF5-B0F0-C0450EEB535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23E8C-EE4A-4B0E-9334-CC752B8EC31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9E9B9-E5C1-47EB-8A0C-98BAEF4C2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37CC-620E-4AAA-BD74-4A478CBC9D25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Num" idx="10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A44F-4983-482C-9F09-5CBD0A4EA6F0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Num" idx="11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F7D7-BC7D-4109-8E00-0EE894E70E03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Num" idx="12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33F4-EC93-4832-A74E-596100029C77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DB3E-332A-4AA6-BA0D-9006CDCF65FC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Num" idx="3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4ABF-BFE8-4F25-9F8A-30748E3A15B6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Num" idx="4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9F49-2863-48D4-B6E1-4696BB153834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Num" idx="5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DAD2-A9B4-4D11-8124-132128CF8D4A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Num" idx="6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AD0C-4FD6-4375-A780-C53EBD8BB589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Num" idx="7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BA7B-23B1-4271-BB41-2D07C8397865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Num" idx="8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17D8-1585-421E-A99B-B36A41DD54E2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2"/>
          <a:stretch/>
        </p:blipFill>
        <p:spPr>
          <a:xfrm>
            <a:off x="0" y="5962680"/>
            <a:ext cx="4838760" cy="8953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"/>
          <p:cNvPicPr/>
          <p:nvPr/>
        </p:nvPicPr>
        <p:blipFill>
          <a:blip r:embed="rId3"/>
          <a:stretch/>
        </p:blipFill>
        <p:spPr>
          <a:xfrm>
            <a:off x="3886200" y="1219320"/>
            <a:ext cx="4838760" cy="31428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4"/>
          <p:cNvSpPr/>
          <p:nvPr/>
        </p:nvSpPr>
        <p:spPr>
          <a:xfrm>
            <a:off x="0" y="661356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Copyright © eBrisk Video Inc</a:t>
            </a:r>
            <a:r>
              <a:rPr b="0" lang="fr-FR" sz="1000" spc="-1" strike="noStrike">
                <a:solidFill>
                  <a:srgbClr val="008080"/>
                </a:solidFill>
                <a:latin typeface="Arial"/>
                <a:ea typeface="SimHei"/>
              </a:rPr>
              <a:t> </a:t>
            </a: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SimHei"/>
              </a:rPr>
              <a:t>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Num" idx="9"/>
          </p:nvPr>
        </p:nvSpPr>
        <p:spPr>
          <a:xfrm>
            <a:off x="67813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EA40-1F12-4809-B58A-495178869563}" type="slidenum">
              <a:rPr b="0" lang="en-CA" sz="1400" spc="-1" strike="noStrike">
                <a:solidFill>
                  <a:srgbClr val="008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1254-FD18-4C28-925A-E3369023C469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0" y="3017880"/>
            <a:ext cx="91440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76320" y="1523880"/>
            <a:ext cx="891540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8c93"/>
                </a:solidFill>
                <a:latin typeface="Arial"/>
                <a:ea typeface="SimHei"/>
              </a:rPr>
              <a:t>JCTVC-H0569</a:t>
            </a:r>
            <a:r>
              <a:rPr b="1" lang="en-CA" sz="3100" spc="-1" strike="noStrike">
                <a:solidFill>
                  <a:srgbClr val="3c8c93"/>
                </a:solidFill>
                <a:latin typeface="Arial"/>
                <a:ea typeface="SimHei"/>
              </a:rPr>
              <a:t> (</a:t>
            </a:r>
            <a:r>
              <a:rPr b="1" lang="en-US" sz="3100" spc="-1" strike="noStrike">
                <a:solidFill>
                  <a:srgbClr val="3c8c93"/>
                </a:solidFill>
                <a:latin typeface="Arial"/>
                <a:ea typeface="SimHei"/>
              </a:rPr>
              <a:t>Non-CE3</a:t>
            </a:r>
            <a:r>
              <a:rPr b="1" lang="en-CA" sz="3100" spc="-1" strike="noStrike">
                <a:solidFill>
                  <a:srgbClr val="3c8c93"/>
                </a:solidFill>
                <a:latin typeface="Arial"/>
                <a:ea typeface="SimHei"/>
              </a:rPr>
              <a:t>): </a:t>
            </a:r>
            <a:r>
              <a:rPr b="1" lang="en-US" sz="3100" spc="-1" strike="noStrike">
                <a:solidFill>
                  <a:srgbClr val="3c8c93"/>
                </a:solidFill>
                <a:latin typeface="Arial"/>
                <a:ea typeface="SimHei"/>
              </a:rPr>
              <a:t>An Adaptive Interpolation Filtering Technique for Improved Subjective Quality in the LC Configuration</a:t>
            </a:r>
            <a:r>
              <a:rPr b="1" lang="fr-FR" sz="3100" spc="-1" strike="noStrike">
                <a:solidFill>
                  <a:srgbClr val="3c8c93"/>
                </a:solidFill>
                <a:latin typeface="Arial"/>
                <a:ea typeface="SimHe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1828800" y="3657600"/>
            <a:ext cx="52578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Hei"/>
              </a:rPr>
              <a:t>Faouzi Kossent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SimHei"/>
              </a:rPr>
              <a:t>8</a:t>
            </a:r>
            <a:r>
              <a:rPr b="0" lang="en-CA" sz="2400" spc="-1" strike="noStrike" baseline="30000">
                <a:solidFill>
                  <a:srgbClr val="000000"/>
                </a:solidFill>
                <a:latin typeface="Arial"/>
                <a:ea typeface="SimHe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Hei"/>
              </a:rPr>
              <a:t> JCTVC Meeting in San Jose. 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SimHei"/>
              </a:rPr>
              <a:t>1-10 February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3EC9-B825-4BF7-9758-F7EE1D23A9A5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351000"/>
            <a:ext cx="90676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bjective Evaluation: Sequences &amp; Bit Rat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83"/>
          <p:cNvSpPr/>
          <p:nvPr/>
        </p:nvSpPr>
        <p:spPr>
          <a:xfrm>
            <a:off x="0" y="156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400"/>
          <p:cNvSpPr/>
          <p:nvPr/>
        </p:nvSpPr>
        <p:spPr>
          <a:xfrm>
            <a:off x="4461840" y="50335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380880" y="1676520"/>
            <a:ext cx="8458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380880" y="1600200"/>
          <a:ext cx="8229600" cy="3921120"/>
        </p:xfrm>
        <a:graphic>
          <a:graphicData uri="http://schemas.openxmlformats.org/drawingml/2006/table">
            <a:tbl>
              <a:tblPr/>
              <a:tblGrid>
                <a:gridCol w="1652760"/>
                <a:gridCol w="927000"/>
                <a:gridCol w="1479600"/>
                <a:gridCol w="1114560"/>
                <a:gridCol w="1780920"/>
                <a:gridCol w="1274760"/>
              </a:tblGrid>
              <a:tr h="485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qu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M-5.0 LC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t-rate deviation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t-rate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bp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t-rate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bp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QTerr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6.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1.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.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dyo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0.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0.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dyo1_F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3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1.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2.8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dyo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6.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.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.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dyo3_F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4.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3.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inCalend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9.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.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6.1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8" name="Text Box 1184"/>
          <p:cNvSpPr/>
          <p:nvPr/>
        </p:nvSpPr>
        <p:spPr>
          <a:xfrm>
            <a:off x="380880" y="56386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Note: The HM-5.0 bit rate is always larger than the AIF bit r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83E5-CAAC-4E57-87A3-ED75F098434B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bjective Quality Assessment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83"/>
          <p:cNvSpPr/>
          <p:nvPr/>
        </p:nvSpPr>
        <p:spPr>
          <a:xfrm>
            <a:off x="0" y="156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400"/>
          <p:cNvSpPr/>
          <p:nvPr/>
        </p:nvSpPr>
        <p:spPr>
          <a:xfrm>
            <a:off x="4461840" y="50335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380880" y="1676520"/>
            <a:ext cx="8458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380880" y="1219320"/>
          <a:ext cx="8229600" cy="4724280"/>
        </p:xfrm>
        <a:graphic>
          <a:graphicData uri="http://schemas.openxmlformats.org/drawingml/2006/table">
            <a:tbl>
              <a:tblPr/>
              <a:tblGrid>
                <a:gridCol w="1016280"/>
                <a:gridCol w="865080"/>
                <a:gridCol w="1069920"/>
                <a:gridCol w="1066680"/>
                <a:gridCol w="1065240"/>
                <a:gridCol w="314640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qu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 viewer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M-5.0 L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Prefer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ma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QTerr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en viewers noted that AIF is slightly better than the anchor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dyo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ve viewers noted that AIF is bett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an the ancho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dyo1_F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en viewers noted that AIF is clearly better than the ancho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dyo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ur viewers noted that AIF is bette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an the ancho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dyo3_F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en viewers noted that AIF is clearly better than the anchor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inCalen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en viewers noted that AIF is slightly better than the ancho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verall, AIF decoded streams look better than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anchor on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3494-278A-41AA-9ED2-957E292584F8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D-Rate relative to HM 5.0 LC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5%. 2.4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9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verage Y, U and V BD-Rate reductions (respectively) compared with HM 5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xity relative to HM 5.0 L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average decodi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3% increase in average encodi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ly no increase in encoding complexity for encoders with a pre-analysis pass (e.g., where a rough ME is u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roved subjective quality for many test sequences, including VC sequences and those with special effec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38088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C configuration has both ALF and SAO disab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C configuration should have a tool to adapt to video content with sudden variations and special effects (e.g., fade, flash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ool should achieve the complexity-coding efficiency tradeoffs appropriate for L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propose Adaptive Interpolation Filtering (AIF) as a tool that achieves the above requir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F54E-85F1-419F-8C12-A9B6F84F1E2B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EBFF-E028-4EF3-8D95-E35395DF26F9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6320" y="351000"/>
            <a:ext cx="906768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M 5.0 Interpo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2514600" y="2311560"/>
          <a:ext cx="4280040" cy="609480"/>
        </p:xfrm>
        <a:graphic>
          <a:graphicData uri="http://schemas.openxmlformats.org/drawingml/2006/table">
            <a:tbl>
              <a:tblPr/>
              <a:tblGrid>
                <a:gridCol w="814320"/>
                <a:gridCol w="3465720"/>
              </a:tblGrid>
              <a:tr h="29664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{ -1,   4,  -10,  57,   19,   -7,   3,   -1 }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{ -1,   4,  -11,  40,   40,  -11,   4,  -1 }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504720"/>
                <a:tab algn="l" pos="685800"/>
                <a:tab algn="l" pos="755640"/>
                <a:tab algn="l" pos="91440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87"/>
          <p:cNvSpPr/>
          <p:nvPr/>
        </p:nvSpPr>
        <p:spPr>
          <a:xfrm>
            <a:off x="2819520" y="3504960"/>
            <a:ext cx="3581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HM 5.0 chroma filt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2514600" y="3886200"/>
          <a:ext cx="4267080" cy="1219320"/>
        </p:xfrm>
        <a:graphic>
          <a:graphicData uri="http://schemas.openxmlformats.org/drawingml/2006/table">
            <a:tbl>
              <a:tblPr/>
              <a:tblGrid>
                <a:gridCol w="838080"/>
                <a:gridCol w="3429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/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{ -2,  58,  10,  -2 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{ -4,  54,  16,  -2 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{ -6,  46,  28,  -4 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{ -4,  36,  36,  -4 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2" name="Rectangle 138"/>
          <p:cNvSpPr/>
          <p:nvPr/>
        </p:nvSpPr>
        <p:spPr>
          <a:xfrm>
            <a:off x="0" y="421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40"/>
          <p:cNvSpPr/>
          <p:nvPr/>
        </p:nvSpPr>
        <p:spPr>
          <a:xfrm>
            <a:off x="2895480" y="2006280"/>
            <a:ext cx="3581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HM 5.0 luma filt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A406-6A93-4F5D-BC41-B2FD40484DEF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ed AIF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457200" y="4267080"/>
            <a:ext cx="80773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w filters hav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dent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aracteristics to the default filt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umber of coefficient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mmetry properti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bit dept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1905120" y="2133720"/>
          <a:ext cx="4572000" cy="571320"/>
        </p:xfrm>
        <a:graphic>
          <a:graphicData uri="http://schemas.openxmlformats.org/drawingml/2006/table">
            <a:tbl>
              <a:tblPr/>
              <a:tblGrid>
                <a:gridCol w="936360"/>
                <a:gridCol w="3635640"/>
              </a:tblGrid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{a0,   a1,   a2,   a3,   a4,   a5,   a6 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{b0,   b1,   b2,   b3,  b3,   b2,   b1,  b0 }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380880" y="13716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HM 5.0 Filtering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905120" y="3197160"/>
          <a:ext cx="4572000" cy="1222560"/>
        </p:xfrm>
        <a:graphic>
          <a:graphicData uri="http://schemas.openxmlformats.org/drawingml/2006/table">
            <a:tbl>
              <a:tblPr/>
              <a:tblGrid>
                <a:gridCol w="914400"/>
                <a:gridCol w="36576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/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{  a0,   a1,  a2,   a3 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/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{  b0,   b1,  b2,   b3 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/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{  c0,   c1,  c2,   c3 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3280"/>
                          <a:tab algn="l" pos="685800"/>
                          <a:tab algn="l" pos="755640"/>
                          <a:tab algn="l" pos="914400"/>
                          <a:tab algn="l" pos="1008000"/>
                          <a:tab algn="l" pos="126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{  d0,   d1,  d1,   d0 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Rectangle 96"/>
          <p:cNvSpPr/>
          <p:nvPr/>
        </p:nvSpPr>
        <p:spPr>
          <a:xfrm>
            <a:off x="0" y="394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01"/>
          <p:cNvSpPr/>
          <p:nvPr/>
        </p:nvSpPr>
        <p:spPr>
          <a:xfrm>
            <a:off x="2362320" y="1828440"/>
            <a:ext cx="3581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Newly-generated luma filt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102"/>
          <p:cNvSpPr/>
          <p:nvPr/>
        </p:nvSpPr>
        <p:spPr>
          <a:xfrm>
            <a:off x="2362320" y="2863440"/>
            <a:ext cx="3581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Newly-generated chroma filt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501F-E701-4706-A0CC-C885AAA21E64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ed AIF 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0" y="394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228600" y="19810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l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elect between the HM5.0 default filter(s) and the corresponding newly-generated filter(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228600" y="40384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2-bit/4-bit value is signaled to the decoder to specify whether default or new luma/chroma filter(s) are are us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228600" y="31240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Us of a slice use the same luma and chroma fil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228600" y="5105520"/>
            <a:ext cx="8839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default chroma filters are allowed when default luma filters are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701B-9474-44AD-9860-88EC2FCBCCC2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83"/>
          <p:cNvSpPr/>
          <p:nvPr/>
        </p:nvSpPr>
        <p:spPr>
          <a:xfrm>
            <a:off x="0" y="156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400"/>
          <p:cNvSpPr/>
          <p:nvPr/>
        </p:nvSpPr>
        <p:spPr>
          <a:xfrm>
            <a:off x="4461840" y="50335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0" y="35100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838080" y="1741320"/>
          <a:ext cx="7543800" cy="3897360"/>
        </p:xfrm>
        <a:graphic>
          <a:graphicData uri="http://schemas.openxmlformats.org/drawingml/2006/table">
            <a:tbl>
              <a:tblPr/>
              <a:tblGrid>
                <a:gridCol w="1973520"/>
                <a:gridCol w="1882800"/>
                <a:gridCol w="1676160"/>
                <a:gridCol w="2011320"/>
              </a:tblGrid>
              <a:tr h="3812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dom Access 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c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24CB-26D7-4DE6-8E46-5E0C42FDC3A9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83"/>
          <p:cNvSpPr/>
          <p:nvPr/>
        </p:nvSpPr>
        <p:spPr>
          <a:xfrm>
            <a:off x="0" y="156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00"/>
          <p:cNvSpPr/>
          <p:nvPr/>
        </p:nvSpPr>
        <p:spPr>
          <a:xfrm>
            <a:off x="4461840" y="50335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0" y="35100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762120" y="1752480"/>
          <a:ext cx="7696080" cy="3764160"/>
        </p:xfrm>
        <a:graphic>
          <a:graphicData uri="http://schemas.openxmlformats.org/drawingml/2006/table">
            <a:tbl>
              <a:tblPr/>
              <a:tblGrid>
                <a:gridCol w="2233440"/>
                <a:gridCol w="1819440"/>
                <a:gridCol w="1822320"/>
                <a:gridCol w="1820880"/>
              </a:tblGrid>
              <a:tr h="3812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 delay B 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362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362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-0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-2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-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c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F991-64B2-40E2-8B3C-42D456B2DB3A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35100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83"/>
          <p:cNvSpPr/>
          <p:nvPr/>
        </p:nvSpPr>
        <p:spPr>
          <a:xfrm>
            <a:off x="0" y="156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400"/>
          <p:cNvSpPr/>
          <p:nvPr/>
        </p:nvSpPr>
        <p:spPr>
          <a:xfrm>
            <a:off x="4461840" y="50335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762120" y="1749600"/>
          <a:ext cx="7467480" cy="3965400"/>
        </p:xfrm>
        <a:graphic>
          <a:graphicData uri="http://schemas.openxmlformats.org/drawingml/2006/table">
            <a:tbl>
              <a:tblPr/>
              <a:tblGrid>
                <a:gridCol w="1828800"/>
                <a:gridCol w="1676160"/>
                <a:gridCol w="1905120"/>
                <a:gridCol w="2057400"/>
              </a:tblGrid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 delay P L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8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5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ver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-6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-5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808080"/>
                          </a:solidFill>
                          <a:latin typeface="Times New Roman"/>
                          <a:ea typeface="Times New Roman"/>
                        </a:rPr>
                        <a:t>-4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c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19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Slide Number Placeholder 3"/>
          <p:cNvSpPr/>
          <p:nvPr/>
        </p:nvSpPr>
        <p:spPr>
          <a:xfrm>
            <a:off x="6781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45FB-307B-42DC-8B61-D6AB78A4DE6A}" type="slidenum">
              <a:rPr b="0" lang="en-CA" sz="1400" spc="-1" strike="noStrike">
                <a:solidFill>
                  <a:srgbClr val="00808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28600" y="351000"/>
            <a:ext cx="876312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bjective Evaluation: Conditions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504720"/>
                <a:tab algn="l" pos="685800"/>
                <a:tab algn="l" pos="755640"/>
                <a:tab algn="l" pos="914400"/>
                <a:tab algn="l" pos="100800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0" y="421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380880" y="1523880"/>
            <a:ext cx="83059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ment and room condi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2”, 1080p, Viera-class Panasonic plasma 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bjects sat 2 to 4 feet from the 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wing angle never exceeded 45 degre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rkened 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 sequences w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ed side-by-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sented in a randomized double blind fash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played at nativ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yed four times in immediate succession with five-to-ten second pauses between 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Faouzi Kossentini</cp:lastModifiedBy>
  <cp:lastPrinted>2009-04-22T19:24:48Z</cp:lastPrinted>
  <dcterms:modified xsi:type="dcterms:W3CDTF">2012-02-01T17:06:50Z</dcterms:modified>
  <cp:revision>2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