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192E-C2CA-474F-A41C-7C4F11EAA5B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E1F9-AC9A-41A4-A9CC-5F8BC42F906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B6B4-05A1-4461-8B4F-1F89BFCAB73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DB56-B2D1-4119-BE2E-5C027FFD0F8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0D2E-8957-4A6E-9676-4E91F07AD69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1146-8B0B-4E4A-BE71-8A75D24A2D8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2A80-0E1B-4A08-B395-46A5BE87AC5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08D6-C4D0-4774-97F1-13D98B3C9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3A20-419B-441F-82CE-2F961E17922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73C5C-6A2F-42CC-B2FC-BBBD88556B6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ACA13-EB30-4C5C-A70C-8533529F153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0926D-5311-4B79-BC44-7FCD909436A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84AEA-CC93-4A65-A693-6830B7382FA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E124B-727C-4E15-B633-15253067C85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DAB01-1888-47EB-A00D-B1F86A2FAF6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F03AC-A8EC-44D5-A59F-89B768FDEBC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4AC42-9BAC-45E9-960A-3DE67F1CF63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9D18C-BF89-4C13-9911-F03CF013651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164897-2C56-410D-8F14-FABC1E2DE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E25A-D2CB-45EB-A458-A9BAA157430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394539-3259-4FE8-9512-90011361A74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CFCD17-BE54-4934-9ACE-ACF17C6604B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5A73DA-CC64-43E8-8380-06D8F372B89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671D8F-5F4A-4B86-8C2E-F8EEDB6DB3D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99CEB0-EFBD-4E4F-8D4E-2C98C3073DE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086F26-17E6-47C9-9FD6-B8A071FBCB2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99B227-C99A-4666-9796-4B4979DF0CA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D79EAA-96F5-4861-94A5-ACCEEB800AE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E393BF-E8A6-498A-8E69-7ECEA11E356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37B3F1-57F5-48EA-AC9F-86CEDA94E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05CD-F481-4BD7-BC13-048F1FF8D13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41C0E7-6B86-4199-B8BF-E10FBFFE4D6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DC1F71-792C-4EE0-8B02-DD5FCFDB3FB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FE08F-C923-4D50-82DF-8EDA40DD748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736DC-32DB-4719-94D2-B0B7723FF34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30E2AE-14E7-4BBC-B7DB-0FE8A647648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C207B2-A50A-45AB-84D0-9D2367968FF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2AE597-860B-4E28-814A-16994723C42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48B85-B8C6-473B-A1C2-351BD2F3EE6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3F91EC-86F6-4E1A-9179-2008551CF45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8694A8-1B86-4A14-8F2D-900EC29B3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FC146-1329-4A94-899E-5B029A9C579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E1829-512A-45DD-8540-071973D4B05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C4F77-DC3D-4909-9798-382AFF6BD43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BCCDE5-B827-40DB-919E-A1A0811430D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497AB-4BA0-4990-98AB-77530856B6B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29D7A-B6FF-481D-A171-53D6D86D521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EFD86-1AD9-4632-961A-D3886455932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1FAB4-59E7-4F72-B2D6-919F0AA9490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D8EB9-C5B6-42E0-9525-2420FCC203C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16FF1-F830-4FC5-9529-52DA34F8F2F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EA7C0-DEC1-47B9-B5C8-691CD9787C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435BC-FAB1-4D5E-A040-91A200F06FB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41B55-4437-4E04-AC15-C39383C3E1D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50FA5-CEE8-482E-A64C-77408D2A372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35CEE-EB37-42A9-8BE5-ED31963739E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03B6C-E84B-4AB4-B2C3-7FB1CDBA655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B31A6-D05A-4E22-AC58-321C17B883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5F547-502E-4196-BF16-FEB8EF2039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B5BD7-B423-4AE9-B7A1-8B081920BF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5DC2B-D611-4E97-AD34-16EC08BEEA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D4B33-DA17-40B6-B4A0-518DF3CA93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88CC2-2B60-404C-A4CC-7B7EC53A7F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EB5C-D353-4EB6-8B0B-4766E47AD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E614-1D20-4DB6-B008-CFCCB51B94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A566-7789-4A8A-85B9-10F830C7D9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6590-E1D8-4747-8FAD-CE62CB112E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5683C-F6AE-48BE-8746-E0EEF69507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51AF-B484-4A9B-9EEA-C668FE36E2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EA7-170B-4F38-B28A-8DEF88012D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5D6-D428-43F0-AC4E-828F27F3D8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FF8-08C3-4693-AC03-DD928E069A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D71-55B4-4A5A-93DE-FB4905DFC7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AD3-311E-4CB7-8555-86237C280C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0446-D205-4293-A2F2-9BC1A87B08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FBD-C05F-4164-B1FE-D60D783D72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5F8-C68C-4E7F-8F7F-E9A241FACC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7B9-EA76-4A9A-B0BF-253A94C1D8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2F1-B16B-4D47-A748-CC28F7E7D1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1F6-CB9C-426F-9DC8-953321C521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0E4-8304-4F16-9A94-268A66EFCF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17C-44A7-4EA0-A46F-D138590483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4DC65-709C-46AC-990F-5644F752AA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3D215-62ED-4843-A5A7-6C94CF8356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5A4C9-AC41-4DEB-8F19-50C9106AD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DB66-0BBD-4D70-B84A-B9DF110E11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39756-C34B-4127-8B83-C8CE723A2B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A4A7E-C033-45F6-A0EF-A9F9930FC0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D7EBF-8C71-4BAD-BB12-1255AEB512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C59F9-2076-4280-A3A3-52461EDEFF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47DEB-1D7D-496A-8953-32C07CEB96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07AF6-FB34-4848-B67E-A856417F3C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7839B-A753-41BA-8AE8-12E2AA3C46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C980F-EEC3-4985-8FC1-AE393A9F70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861B6-294B-44BA-B321-9832AFA216B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B8091-B785-4450-86A7-A4E4D4825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32E5-D359-4EF2-B9BF-115EB7F42D3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100DB-DB52-4F45-9750-65CD8599B25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063AA-849A-4AB8-BAEB-38581639D89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C3BBF-F6C6-4490-9540-3D5BD395FBD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59509-766B-4A85-A3E2-5F581E10F09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178AB-D191-41E7-A76D-B7C8B4960FE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9392D-F576-43B8-A574-43F222698D9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D2A32-8A02-493E-B9ED-8FA071C33CE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E172B-6604-49A0-90A2-4E85DEAAA83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162D7-5517-4B7C-B099-E21CC84362B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460DB-7F68-4BE8-8FC0-2845168D0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42FE-5448-4031-94C5-B0039E2F1DA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062A9-1980-431D-A831-79D6B888B03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B7F9-F6D7-44E3-8A06-BB0968725D3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4536-473F-49AB-B53C-AEEF81562DC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7BD5-9B15-47C9-B3CA-5D805BC126B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6B4E-DB60-4AD5-9152-806904251E4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83B1-9F85-448A-9B13-A9DA24A401E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8210-AA09-43A3-B893-84AE993E017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D9D0-AA6F-48C0-89A1-FE84EA8F7A0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792C-D7CA-4DFD-A243-BA459C11B46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2D04-7376-4251-83E5-895E51C88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B412-50B1-4D5F-91B2-A28C6483AFA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2A8F-AE0B-407E-BA6E-2A45F00CBFC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5D8E-514E-4D78-BE51-EFC6481C418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C4C1-DE16-4296-A096-55C39431553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CE0FA0-1383-46CF-89A5-E4BE8436342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B94401-5575-44AC-890D-081A668C51E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39BDC7-04EE-4325-8BA5-F6796C91026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3A2E4A-F9F3-4BC2-A19D-0B12F49D88A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6EBDB-0ADC-4EBD-8106-3E138AB6B51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1960A6-7E43-4D6E-B2FA-B52D151103D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D193F7-F27E-460F-B47F-12D3C0B48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3623-6DD8-482B-9997-281FCF1F85D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54EA5-FA45-4DF3-8E71-7D76B0DE1D1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8DD567-385F-4425-9E2C-B29C03B0389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869F81-4046-481E-94A7-D3F50602FE9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605871-7FCB-496C-A9D1-9BFC725C52B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FB458F-2BCA-4630-A86C-4EDB1B056CF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EA109-19D6-4D44-B5A4-3D60B848AFB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105F9-115C-4BB0-B3EB-387F1AA5D90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53991-AD1B-44F4-BE91-23D5A0BEBC4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2B9FA-4F6D-4437-A825-43DA1BD20BF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14AB0-38A4-47D7-9770-93362B12E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59BC-7527-43EF-91EB-9249E2BB9AD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5FBE4-63BA-4918-9343-D0C68A8DA3A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83F03-1949-451D-81C8-F5ABC7DC4CF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88D82-DE6E-4B4B-A698-BF1E350AE7E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D19CB-5BFB-4B54-9DF5-E27A7D3E1E1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0FA0F-5E46-44CD-810E-A05E205DA53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C052D-D4F2-415F-942B-64C91ACCD63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B85B2-01F8-4924-9E84-4A82C5CE767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458B6-2560-47F9-89A9-6294787801F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2E4C-4E34-4D03-B224-844C88A83B4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0662D-F566-4723-A5A5-1B8EEFF6C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CC26-FBB0-4178-8B9D-6D90ECAD849B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Num" idx="10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E2DE-2638-4400-8367-58C163C5FD56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Num" idx="1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D3FA-BBFE-4729-989C-B09D9B865F77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6C77-815B-4A4A-A064-4E3454146737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F28A-879A-4C5A-A70F-93717A665EB3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2703-1B95-4C5C-A97F-9A0FCABA01F8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4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4F0B-1CE2-4951-80A4-A33B97632782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Num" idx="5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7D68-C29D-4BE8-B4E4-FC75CA22CA56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8F30-3903-4058-AD42-A2032CC1E734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7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1008-70BC-4905-90CB-7C0B1A0EDC99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Num" idx="8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9A16-FE99-4445-BE87-E750F7DCB73F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Num" idx="9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18FD-4ED2-4CDE-9F6D-44BF45D17D60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1B3B-3BBC-4440-8D0C-129E82E18E8F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6320" y="1554120"/>
            <a:ext cx="899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SimHei"/>
              </a:rPr>
              <a:t>JCTVC-H0562</a:t>
            </a:r>
            <a:r>
              <a:rPr b="1" lang="en-CA" sz="3200" spc="-1" strike="noStrike">
                <a:solidFill>
                  <a:srgbClr val="3c8c93"/>
                </a:solidFill>
                <a:latin typeface="Arial"/>
                <a:ea typeface="SimHei"/>
              </a:rPr>
              <a:t>: </a:t>
            </a: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SimHei"/>
              </a:rPr>
              <a:t>Informal Subjective Quality Comparison of Compression Performance of HEVC WD 5 with AVC High Profile</a:t>
            </a:r>
            <a:r>
              <a:rPr b="1" lang="fr-FR" sz="3200" spc="-1" strike="noStrike">
                <a:solidFill>
                  <a:srgbClr val="3c8c93"/>
                </a:solidFill>
                <a:latin typeface="Arial"/>
                <a:ea typeface="Sim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1828800" y="3695760"/>
            <a:ext cx="5257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Michael Horowi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8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 JCTVC Meeting in San Jose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1-10 Februar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B04C-3A95-4563-8732-2A46F13D497C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320" y="351000"/>
            <a:ext cx="90676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"/>
          <p:cNvSpPr/>
          <p:nvPr/>
        </p:nvSpPr>
        <p:spPr>
          <a:xfrm>
            <a:off x="0" y="4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403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04920" y="2057400"/>
            <a:ext cx="8610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he subjective compression performance between HEVC WD5 and AVC High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subjective quality assess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 on low delay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ment objective results in G399 &amp; H03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5BA7-BB6A-4794-BBF8-52568E509B6C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6108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Configuration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38"/>
          <p:cNvSpPr/>
          <p:nvPr/>
        </p:nvSpPr>
        <p:spPr>
          <a:xfrm>
            <a:off x="0" y="421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380880" y="1447920"/>
            <a:ext cx="7925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M 5.0 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conditions in JCTVC-G1200 (some sequences with modified QP valu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M 18.2 Software updated with the described changes in JCTVC-H0360 and previously in JCTVC-G3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 frames with a 1+3 reference frame setting as in HM 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erarchical QP assignme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in HM 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8239-DB33-4D7A-AEB6-A960D531BFE8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351000"/>
            <a:ext cx="876312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jective Evaluation Condition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0" y="421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808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ment and room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2”, 1080p, Viera-class Panasonic plasma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jects sat 2 to 4 feet from the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wing angle never exceeded 45 degr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rkened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sequences w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d side-by-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d in a randomized double blind fash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layed at nativ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yed four times in immediate succession with five-to-ten second pauses between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5B40-9284-4414-8F36-ED07963A6562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320" y="351000"/>
            <a:ext cx="90676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quences and Bit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421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380880" y="1600200"/>
          <a:ext cx="8382240" cy="4145040"/>
        </p:xfrm>
        <a:graphic>
          <a:graphicData uri="http://schemas.openxmlformats.org/drawingml/2006/table">
            <a:tbl>
              <a:tblPr/>
              <a:tblGrid>
                <a:gridCol w="1363680"/>
                <a:gridCol w="1000080"/>
                <a:gridCol w="1054080"/>
                <a:gridCol w="2462400"/>
                <a:gridCol w="2502000"/>
              </a:tblGrid>
              <a:tr h="244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fig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las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qu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VC Bit Rate (Mbps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EVC Bit Rate (Mbps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arget/Achie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arget/Achie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318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ow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imo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/2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/1.02 (49.2% of AVC r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arkSc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/1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/0.96 (49.5% of AVC r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idyo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/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5/0.56 (50.5% of AVC r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idyo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/1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5/0.55 (51.1% of AVC r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a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5/2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5/1.27 (50.0% of AVC r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715D-EBC2-442A-98FC-D6E84194D8D9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320" y="351000"/>
            <a:ext cx="90676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jective Quality Assessmen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0" y="421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80880" y="1523880"/>
          <a:ext cx="8382240" cy="4359240"/>
        </p:xfrm>
        <a:graphic>
          <a:graphicData uri="http://schemas.openxmlformats.org/drawingml/2006/table">
            <a:tbl>
              <a:tblPr/>
              <a:tblGrid>
                <a:gridCol w="1351080"/>
                <a:gridCol w="1046160"/>
                <a:gridCol w="1878120"/>
                <a:gridCol w="1400040"/>
                <a:gridCol w="1303200"/>
                <a:gridCol w="1403640"/>
              </a:tblGrid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fig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qu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umber of View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E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 P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35160">
                <a:tc rowSpan="10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ow Del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imo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3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arkSc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idyo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3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idyo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a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3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 gridSpan="2"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5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4900-52CA-4709-B8B0-5A3A686C51E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selected video sequences and bit rates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a preference for the HEVC encoded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75% of the cases, no preference or HEVC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 evaluation results encouraging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Horowitz Michael</cp:lastModifiedBy>
  <cp:lastPrinted>2009-04-22T19:24:48Z</cp:lastPrinted>
  <dcterms:modified xsi:type="dcterms:W3CDTF">2012-02-04T19:54:17Z</dcterms:modified>
  <cp:revision>1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