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2CD62-2CC4-4A57-89F2-14605974C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E232-946B-4988-9B3E-69011F8664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AE66-4D5B-4F89-A008-9304C87EE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6473-454B-421A-8EE3-145AE8448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1A46-1D13-47FB-ABE3-69CEB9BD3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84D4-4C4F-495D-9AC3-7C0113808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CAD99-93C5-4B64-A4E0-E10E91D04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BDD56-565F-4E37-8F93-802984276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1B5C2-2C40-473D-9F6E-A32CA8604B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B88DA-35C3-478F-89C4-7B48F060B0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1C0ED-2CEA-4A0F-ADA6-78FA5E3A01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92160"/>
            <a:ext cx="14630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55741-F289-4D14-A722-66A57D1844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90AFC-BB23-4E5F-AEF3-EB7BE0C93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92AC0-DD21-41A9-A7C3-BA26EFC94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784D9-A1C0-4617-9218-56E306DB3C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F898-F558-4805-8027-53FC4051E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04D4E-09BA-4044-8D6D-602D3F757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17E32-8E67-4CF4-909F-060E19645A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3899-3CAF-4BB9-B018-890D6C8A9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FC08-AB0C-4652-B129-978E4EC0D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064C-D877-4FE1-B3D3-53A5B9EA4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7843-8EBD-4C30-AB98-B7719AE30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92160"/>
            <a:ext cx="14630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4C47-1FA3-41BB-A958-0D305E4D5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9DAB-E45B-41D6-BCEB-F1C819A3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F3D0-604D-4053-8F8D-C7D9ED5A4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46440"/>
            <a:ext cx="14630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0E78-DF0A-467F-BBF1-061EDBB27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1465092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7"/>
          <p:cNvSpPr/>
          <p:nvPr/>
        </p:nvSpPr>
        <p:spPr>
          <a:xfrm>
            <a:off x="0" y="822240"/>
            <a:ext cx="1465092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7864560"/>
            <a:ext cx="1463040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53C4784F-B89F-4687-910E-F769F0D92575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0" y="0"/>
            <a:ext cx="1465092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20520" y="822240"/>
            <a:ext cx="1463040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7864560"/>
            <a:ext cx="146509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3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605C96D5-4D16-48D8-9657-24D5EA3F7243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HG4: Harmonized method for signalling entry points of tiles and WPP substream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H0566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endry, Sangoh Jeong, Seung Wook Park, Byeong Moon Jeon (LG), Kiran Misra, Andrew Segall (Sharp)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 the Torino JCTVC meeting [Jul 2011], WPP and Tiles were adopted into H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oth approaches include a system for signaling entry points to the decod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quired for WPP decod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ables parallel process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for low latency decoding of T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propose to harmonize the solutions and use a single method for signaling the entry poin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Progression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4360" y="1920960"/>
          <a:ext cx="13693680" cy="5430600"/>
        </p:xfrm>
        <a:graphic>
          <a:graphicData uri="http://schemas.openxmlformats.org/drawingml/2006/table">
            <a:tbl>
              <a:tblPr/>
              <a:tblGrid>
                <a:gridCol w="3424320"/>
                <a:gridCol w="3422520"/>
                <a:gridCol w="3424320"/>
                <a:gridCol w="34225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rino Jul 2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va Nov 2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o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91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P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-alig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JCTVC F335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t-alig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JCTVC F274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-aligned Ti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t-aligned WP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JCTVC G722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-aligned Ti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-aligned WP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[JCTVC H0556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te signal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ignal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signal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Chang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7560" y="2104560"/>
            <a:ext cx="6141960" cy="4937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posed Chang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Byte-align WPP substre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rge substream and tile signaling into single syntax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80120" y="2536920"/>
          <a:ext cx="7751880" cy="1706400"/>
        </p:xfrm>
        <a:graphic>
          <a:graphicData uri="http://schemas.openxmlformats.org/drawingml/2006/table">
            <a:tbl>
              <a:tblPr/>
              <a:tblGrid>
                <a:gridCol w="6618240"/>
                <a:gridCol w="113364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lice_header(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 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 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locations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f (entry_point_locations_flag == 1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 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locations 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4"/>
          <p:cNvSpPr/>
          <p:nvPr/>
        </p:nvSpPr>
        <p:spPr>
          <a:xfrm>
            <a:off x="6246720" y="4282560"/>
            <a:ext cx="843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entry_point_locations_fla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dicates the presence of entry point information in the bit-stream  When not present, entry_point_locations_flag shall be 0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096240" y="2192400"/>
            <a:ext cx="282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algun Gothic"/>
              </a:rPr>
              <a:t>Syntax element in Slice hea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Location information syntax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55680" y="1743120"/>
          <a:ext cx="10177560" cy="3902040"/>
        </p:xfrm>
        <a:graphic>
          <a:graphicData uri="http://schemas.openxmlformats.org/drawingml/2006/table">
            <a:tbl>
              <a:tblPr/>
              <a:tblGrid>
                <a:gridCol w="8912520"/>
                <a:gridCol w="126504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 locations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396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m_of_entry_points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396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entry_point_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ffset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_length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r (i=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; i&lt;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um_of_entry_points_minus1; i++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 indent="-20952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f ((num_tile_columns_minus1 &gt; 0 || num_tile_rows_minus1 &gt; 0) &amp;&amp; num_substreams_minus1 &gt;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190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type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se if (num_substreams_minus1 &gt; 0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 marL="4190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type [i]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1904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type [i]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27936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try_point_offset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396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4"/>
          <p:cNvSpPr/>
          <p:nvPr/>
        </p:nvSpPr>
        <p:spPr>
          <a:xfrm>
            <a:off x="2136600" y="5909040"/>
            <a:ext cx="11317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num_of_entry_points_minus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plus 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fines the number of bit-stream entry points in the sl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entry_point_offset_length_minus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plus 1 specifies the number of bits used to signal entry_point_offset[i] ent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entry_point_type[i]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indicates the entry point type. entry_point_type[i] equals to 0 indicates a tile entry point; entry_point_type[i] equals to 1 indicates a substream entry poi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entry_point_offset [i]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specifies the number of bytes between two entry points. When i equals 0, it specifies the number of bytes between the end of the slice header and the first entry point in the slice; otherwise, it defines the number of bytes between the entry point i - 1 and entry point i. The length of entry_point_offset [i] is entry_point_offset_length_minus1 + 1 bits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133720" y="132408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try point location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91800"/>
            <a:ext cx="14630400" cy="757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Results for unified signalling of entry points of tiles and WPP substrea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938240" y="1100160"/>
            <a:ext cx="1129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tting used for the test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4 independent tiles (2 rows and 2 colum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2 WPP substreams in each tile (WaveFrontSynchro = 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2640" y="2973240"/>
          <a:ext cx="8947080" cy="4389480"/>
        </p:xfrm>
        <a:graphic>
          <a:graphicData uri="http://schemas.openxmlformats.org/drawingml/2006/table">
            <a:tbl>
              <a:tblPr/>
              <a:tblGrid>
                <a:gridCol w="2237040"/>
                <a:gridCol w="2236680"/>
                <a:gridCol w="2236680"/>
                <a:gridCol w="2236680"/>
              </a:tblGrid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92160"/>
            <a:ext cx="14630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harmonized method for signaling WPP and Tile entry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adoption of this technique to 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91800"/>
            <a:ext cx="14630400" cy="757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ult from byte-aligned WPP substreams with original entry point signal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20880" y="1536840"/>
          <a:ext cx="10472760" cy="4389120"/>
        </p:xfrm>
        <a:graphic>
          <a:graphicData uri="http://schemas.openxmlformats.org/drawingml/2006/table">
            <a:tbl>
              <a:tblPr/>
              <a:tblGrid>
                <a:gridCol w="2617920"/>
                <a:gridCol w="2619360"/>
                <a:gridCol w="2617920"/>
                <a:gridCol w="2617560"/>
              </a:tblGrid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91800"/>
            <a:ext cx="14630400" cy="757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ult from byte-aligned WPP substreams </a:t>
            </a: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with modification to WPP substreams’s entry point signall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04960" y="1776240"/>
          <a:ext cx="10066320" cy="4389480"/>
        </p:xfrm>
        <a:graphic>
          <a:graphicData uri="http://schemas.openxmlformats.org/drawingml/2006/table">
            <a:tbl>
              <a:tblPr/>
              <a:tblGrid>
                <a:gridCol w="2516400"/>
                <a:gridCol w="2516040"/>
                <a:gridCol w="2517840"/>
                <a:gridCol w="2516040"/>
              </a:tblGrid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IN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RA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0.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B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LPL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-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Kiran Misra</cp:lastModifiedBy>
  <dcterms:modified xsi:type="dcterms:W3CDTF">2012-02-03T17:04:27Z</dcterms:modified>
  <cp:revision>688</cp:revision>
  <dc:subject/>
  <dc:title>PowerPoint Presentation</dc:title>
</cp:coreProperties>
</file>