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DB84D3-2835-41CF-8AEB-71089168E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ECE5E4E-926B-429B-B35C-9725C46D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1A1102-AC37-4849-94F9-D9ACE41E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12E-6587-43B3-990D-DE3CAA13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833-7C23-4712-B2C3-DBA015C9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E88-8A43-4047-9E5B-2B19CE90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B22-6E13-49E8-BB3F-8371DDE8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759-3EFF-4E78-BBCF-820AB91B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164-0765-46CB-9009-80367673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0359-8D63-446E-995C-179142F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97D-1435-45E4-B8FA-8FAECB11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B19-0CFF-4769-9ADD-2E3D87AA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27F-D433-43A6-8866-F264B66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71F-E31D-4968-880F-2533D4D6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72ED-E553-4259-AF33-F1FA0ED9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2C3C-5C21-4A50-9942-ABEEC728A2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124080"/>
            <a:ext cx="403884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H0312: Clipping of Transformed Coefficients before Dequant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94920" y="510552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ang Li, Xun Guo, Louis Kerofsky, Shawmin Lei, and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7A9A-0907-4C72-975A-589C081643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4648320" y="3048120"/>
            <a:ext cx="47242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H0541: Limiting dynamic range when using a quantization weighing matrix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1371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G on Quantization in Geneva (JCTVC-G1044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ed the bit-width requirements of supporting a quantization weighting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the possibility that level values could exceed 16-bits when small weighting values and low QP are used with large coeffic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d a possible 32-bit overflow in dequantization with using large weighting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ntribution:  We refine the dynamic range analysis.  Specifically, 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conditions when level values will exceed 16-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the conditions that lead to 32-bit overflow (compared to JCTVC-G10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 solution to ensure (i) input to dequantization does not exceed 16-bits and (ii) 32-bit overflow is avoided during dequant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Similar approach is reported in JCTVC-H0312.  The authors have discussed in detail off-line leading to this joint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74B6-0852-4DDB-A86A-41B552C75B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quantization  with weighting matr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9907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ground and Definition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internal bit depth (typically B=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transform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log2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Q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g(QP%6)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g(x)  =   {40,45,51,57,64,72}, x=0,…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[i][j]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8-bit unsigned weighting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effQ[i][j]       =  ((level[i][j]*W[i][j]*IQ[QP%6] &lt;&lt; (QP/6)) + offset)&gt;&gt;(M-1+(B-8)+4),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= 1&lt;&lt;(M-2+(B-8)+4), with i=0…nW-1, j = 0..nH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effQ = min(32767,max(-32768,coeffQ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duce overflow compute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hift = M-1+B-8+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set = 1&lt;&lt;(iShift-QP/6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iShift &gt; QP/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effQ[i][j]       =  (level[i][j]*W[i][j]*IQ[QP%6] + offset)&gt;&gt;(iShift-QP/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effQ[i][j]       =  (level[i][j]*W[i][j]*IQ[QP%6] + offset) &lt;&lt; (QP/6-iShift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effQ = min(32767,max(-32768,coeffQ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3351-8EB0-4577-8EF4-70BB4B77C3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vels exceeding 16-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ic #1: Will level values exceed 16-bits in pract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lot below shows the Max Level produced from a maximum 16-bit coefficient assuming a weighting value of 1 for various QP. (Note: Quantization with weighting value less than 16 has the effect of using a smaller bin size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axLevel = (32768&lt;&lt;(M+3))&gt;&gt;(QP/6)/(IQ[QP%6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e for QP≥16, the Max Level does not exceed 16-bits; however for lower QP the Max Level value may exceed 16-b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BE17-52BE-4B2A-97F0-0396F2DA81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2320" y="3924360"/>
            <a:ext cx="4495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-bit overf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 #2: 32-bit ove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: The potential for 32-bit overflow was identified in JCTVC-G1044 based on combination of worst case inputs to the form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effQ[i][j]       =  (level[i][j]*W[i][j]*IQ[QP%6] + offset) &lt;&lt; (QP/6-iShi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st case combination notes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vel 16-bits, W 8-bits, IQ 7-bits, QP/6-iShift =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yields: 16+8+7+3 = 34 &gt;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an be refined by noting on the limited range QP=(0-51), the worst case combination of 7-bits for IQ does not occur at the worst case of QP/6-iShift.  Additionally, tracking the block size in iShift yields a worst ca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xtreme, Level 16-bits, W 8-bits, IQ 6-bits, QP/6-iShift = QP/6-M-3 =5-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yields: 16+8+6+5-M = 35-M =(33,32,31,30) for M=(2,3,4,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lot of bit-width versus QP assuming W=255 is shown below.  Note 32-bit overflow is confined to M=4 and QP≥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3526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EC01-EA1C-416E-BFCF-F894F318FA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09680" y="3867120"/>
            <a:ext cx="45770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ed Cha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solution: Both identified issues can be addressed by clipping the level data prior to dequant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sure 16-bit level values -- the level data should be clipped to 16-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sure 32-bit dequantization – the level data should be clipped to 15-bits for 4x4 blocks and large Q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is change supports all block sizes as well as NSQ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request adoption of the method to ensure (i) 16-bit level values and (ii) 32-bit de-quan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3:09:02Z</dcterms:created>
  <dc:creator>lkerofsky</dc:creator>
  <dc:description/>
  <dc:language>en-US</dc:language>
  <cp:lastModifiedBy>JCTVC-F275</cp:lastModifiedBy>
  <dcterms:modified xsi:type="dcterms:W3CDTF">2012-02-03T19:36:32Z</dcterms:modified>
  <cp:revision>917</cp:revision>
  <dc:subject/>
  <dc:title>Slide 1</dc:title>
</cp:coreProperties>
</file>