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457200" y="718920"/>
            <a:ext cx="64008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C2ED8-DEDC-4FAC-90CC-DCDB10C9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16475-253A-473D-8E6C-D99888D3EA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457200" y="719280"/>
            <a:ext cx="64008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6B63-8995-4EA3-9A73-25F57337A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49F1-E959-4AE1-9968-1398105E3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5EC29-7CAD-4383-8640-F704A55A9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5EA8-BEA4-4FCA-8A9E-D9EED0641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51689-077B-48B2-9429-19CACE12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9B0C4-5E44-472E-93D8-2624CA18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87525-22B9-48B0-B5C0-BB65A914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1F945-F3F8-41D7-BFD2-62EE83C7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31FF0-6B23-4F76-8776-C4460128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152F9-9E0A-4C94-B6CA-2140414C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1C21C-8375-485A-8693-3BB8A8B5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7D65-91C3-4CDB-98F5-0D3046E69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F31C2-5742-426A-86E9-B025C71C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EBBCA-276F-4147-B6F3-959A0ADE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C1B0C-92AF-47B2-A312-AAC07C4E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D29D6-4818-4D4A-B9A0-575A3B1F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42734-BC8D-4E4A-959E-52552169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5AF6-8F0A-48A5-AF8A-89CA98C7B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45C5-4B44-484A-8FF3-8E980326D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55B5-CDFA-4435-A6E6-B3B0591AE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630D-F9D5-46EB-A0E7-1EC7C9C67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0F77-5DD5-47C4-964D-A6A2D485A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6C5A-4AFA-4EE6-9125-6A97FD60D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5C08-0625-462B-B4DE-5ECCD3E90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16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7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18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9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20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21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74D5E556-1FF8-4593-8D2E-D81777A877AF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19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0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21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2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DCE2966A-76E6-419C-A46B-61CC5D227C7C}" type="slidenum"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4"/>
          <p:cNvSpPr/>
          <p:nvPr/>
        </p:nvSpPr>
        <p:spPr>
          <a:xfrm>
            <a:off x="24444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b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E1 subtest B4: On CABAC_init_idc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H0540 [JCTVC-G716]</a:t>
            </a:r>
            <a:br>
              <a:rPr sz="3100"/>
            </a:br>
            <a:r>
              <a:rPr b="1" i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iran Misra and Andrew Segall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Supplemental Information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19160" y="1186920"/>
            <a:ext cx="12436560" cy="855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70000"/>
          </a:bodyPr>
          <a:p>
            <a:pPr marL="343440" indent="-34344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e observe gains for sequences outside of the test set when using one pass encoding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950000" y="3639960"/>
          <a:ext cx="4830480" cy="3054240"/>
        </p:xfrm>
        <a:graphic>
          <a:graphicData uri="http://schemas.openxmlformats.org/drawingml/2006/table">
            <a:tbl>
              <a:tblPr/>
              <a:tblGrid>
                <a:gridCol w="1182600"/>
                <a:gridCol w="1035000"/>
                <a:gridCol w="1206360"/>
                <a:gridCol w="1406520"/>
              </a:tblGrid>
              <a:tr h="299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044040" y="3105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Test Cond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56960" y="1250640"/>
            <a:ext cx="13052520" cy="54608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9440" indent="-649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opose clarification of the cabac_init_idc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ABAC initialization tables defined to be 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ac_init_idc is defined as a binary flag that allows selection of either the “P” or “B” table for all inter-predicted slic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ification of the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number of number of tables compared to H.264/AV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efficiency impr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 to adopt to W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e propose to clarify the meaning of cabac_init_idc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ur benefi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duced number of tables compared to AVC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rovements in coding efficienc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larification of the HEVC desig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spcBef>
                <a:spcPts val="726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spcBef>
                <a:spcPts val="726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oftware was distributed to CE1 participan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spcBef>
                <a:spcPts val="726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bac_init_idc (H.264/AVC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abac_init_idc is signaled to control the initialization of CABAC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or P and B slices, cabac_init_idc allows selection between three initialization tabl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otal number of tables: 7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1-Intra, 3-P, 3-B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EVC Working Draft 5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ps_cabac_init_idc syntax in the AP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mantics indicate support for 7 tabl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743960" y="4700520"/>
            <a:ext cx="64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ps_cabac_init_id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specifies the index for determining the initialisation table used in the initialisation process for context variables of SAO and ALF. The value of cabac_init_idc shall be in the range of 0 to 2, inclusiv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3384080" y="597204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VC WD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Table 3" descr=""/>
          <p:cNvPicPr/>
          <p:nvPr/>
        </p:nvPicPr>
        <p:blipFill>
          <a:blip r:embed="rId1"/>
          <a:stretch/>
        </p:blipFill>
        <p:spPr>
          <a:xfrm>
            <a:off x="7742160" y="2206800"/>
            <a:ext cx="6577200" cy="2322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5"/>
          <p:cNvSpPr/>
          <p:nvPr/>
        </p:nvSpPr>
        <p:spPr>
          <a:xfrm>
            <a:off x="7581600" y="1940400"/>
            <a:ext cx="400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.3.2.3 Adaptation parameter set RBSP synta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Further Motiva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ur finding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e observe that selectively using the P slice table for B slices (and B slice tables for P slices) does provide coding benefit.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spcBef>
                <a:spcPts val="726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spcBef>
                <a:spcPts val="726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roblem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12101400" cy="36482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7640" indent="-647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aintain the number of tables for CABAC initialization to three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fine cabac_init_idc to be a one-bit flag to allow for P slice types to be initialized with either the “P slice type” table or “B slice type” table.  Similarly, to allow for B slice types to be initialized with either the “P slice type” table or “B slice type” table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gnal the presence of cabac_init_idc in the PPS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(or SPS if single entropy coder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tionally, rename the syntax element to cabac_init_flag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96560" y="1848960"/>
            <a:ext cx="6141960" cy="49374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ynatax and semantic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743960" y="5327640"/>
            <a:ext cx="64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abac_init_idc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ecifies the index for determining the initialisation table used in the initialisation process for context variables.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When cabac_init_idc is not present, it shall be inferred to be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3598640" y="75358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VC WD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735120" y="5322960"/>
            <a:ext cx="64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abac_init_idc_enabled_flag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equal to 0 specifies that cabac_init_idc is not present in the slice header.  When cabac_init_idc_enabled_flag is not present, it shall be inferred to be 0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Table 8" descr=""/>
          <p:cNvPicPr/>
          <p:nvPr/>
        </p:nvPicPr>
        <p:blipFill>
          <a:blip r:embed="rId1"/>
          <a:stretch/>
        </p:blipFill>
        <p:spPr>
          <a:xfrm>
            <a:off x="8461440" y="3084480"/>
            <a:ext cx="5235480" cy="1109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5"/>
          <p:cNvSpPr/>
          <p:nvPr/>
        </p:nvSpPr>
        <p:spPr>
          <a:xfrm>
            <a:off x="8373240" y="2789640"/>
            <a:ext cx="22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7.3.3 Slice Header Synta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Table 1" descr=""/>
          <p:cNvPicPr/>
          <p:nvPr/>
        </p:nvPicPr>
        <p:blipFill>
          <a:blip r:embed="rId2"/>
          <a:stretch/>
        </p:blipFill>
        <p:spPr>
          <a:xfrm>
            <a:off x="963720" y="3170160"/>
            <a:ext cx="5235480" cy="858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942840" y="278928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 Bold"/>
                <a:ea typeface="Times New Roman"/>
              </a:rPr>
              <a:t>7.3.2.2</a:t>
            </a:r>
            <a:r>
              <a:rPr b="0" lang="en-GB" sz="1400" spc="-1" strike="noStrike">
                <a:solidFill>
                  <a:srgbClr val="000000"/>
                </a:solidFill>
                <a:latin typeface="Times New Roman Bold"/>
                <a:ea typeface="Malgun Gothic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Malgun Gothic"/>
              </a:rPr>
              <a:t>Picture parameter set RBSP synta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sult [Cross check JCTVC-H0167]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0640" y="1297080"/>
            <a:ext cx="1375380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8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Impact on BD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conditions QP: 22, 27, 32, 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56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D_B_H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2% (Y)  0.1% (U) -0.2% (V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D_B_L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2% (Y) -0.1% (U) -0.1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56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_H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1% (Y) -0.2% (U) -0.2% (V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_L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1% (Y) -0.2% (U) -0.2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56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_HE_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1% (Y) -0.2% (U) -0.1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56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H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 0.0% (Y)  0.0% (U)  0.0% (V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L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 0.0% (Y)  0.0% (U)  0.0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 F result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56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D_B_HE [Class F  H0540]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3% (Y)  -0.5% (U) -0.7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average Y BD bitrate for inter-predicted cases is between -0.1% and -0.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ce in JCTVC-H0540 from JCTVC-G716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rocess to initialize a forward predicted B-slice with the P-slice table was remo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coder control was modified to use a 2-pass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sult [Cross check JCTVC-H0167]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1000" y="1293840"/>
            <a:ext cx="1398744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aining BD rate results [CE1 subtest B conditions defined JCTVC-G120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QP: 27, 32, 37, 4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D_B_H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2% (Y) -0.1% (U) -0.3% (V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D_B_L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2% (Y) -0.3% (U) -0.2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_H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1% (Y) -0.3% (U) -0.3% (V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_L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2% (Y) -0.3% (U) -0.3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_HE_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1% (Y) -0.1% (U) -0.2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H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 0.0% (Y)  0.0% (U)  0.0% (V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L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 0.0% (Y)  0.0% (U)  0.0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QP: 17, 22, 27, 3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D_B_H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1% (Y)  0.0% (U) -0.2% (V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D_B_L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2% (Y) -0.1% (U)  0.0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_H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1% (Y) -0.1% (U) -0.1% (V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_L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1% (Y) -0.1% (U) -0.1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_HE_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-0.1% (Y) -0.1% (U) -0.1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H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 0.0% (Y)  0.0% (U)  0.0% (V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L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 0.0% (Y)  0.0% (U)  0.0% (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Supplemental Information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9160" y="1186920"/>
            <a:ext cx="12436560" cy="855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70000"/>
          </a:bodyPr>
          <a:p>
            <a:pPr marL="343440" indent="-34344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e observe gains for sequences outside of the test set when using one pass encoding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5206320" y="2824200"/>
            <a:ext cx="41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CIF (with 1500 byte slices – HM 5.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15960" y="3270240"/>
          <a:ext cx="5267160" cy="4294080"/>
        </p:xfrm>
        <a:graphic>
          <a:graphicData uri="http://schemas.openxmlformats.org/drawingml/2006/table">
            <a:tbl>
              <a:tblPr/>
              <a:tblGrid>
                <a:gridCol w="1887480"/>
                <a:gridCol w="1127160"/>
                <a:gridCol w="1127160"/>
                <a:gridCol w="1125360"/>
              </a:tblGrid>
              <a:tr h="2520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D-rate (piecewise cubi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C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ki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w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ph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astgu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ot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therdaugh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ef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566120" y="3246480"/>
          <a:ext cx="5354640" cy="4314960"/>
        </p:xfrm>
        <a:graphic>
          <a:graphicData uri="http://schemas.openxmlformats.org/drawingml/2006/table">
            <a:tbl>
              <a:tblPr/>
              <a:tblGrid>
                <a:gridCol w="1928880"/>
                <a:gridCol w="1062000"/>
                <a:gridCol w="1062000"/>
                <a:gridCol w="1301760"/>
              </a:tblGrid>
              <a:tr h="247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ow delay B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D-rate (piecewise cubi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CIF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ki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ow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rph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astgu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t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e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therdaugh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f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11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11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11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11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11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11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11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Andrew</cp:lastModifiedBy>
  <dcterms:modified xsi:type="dcterms:W3CDTF">2012-02-01T20:34:24Z</dcterms:modified>
  <cp:revision>700</cp:revision>
  <dc:subject/>
  <dc:title>PowerPoint Presentation</dc:title>
</cp:coreProperties>
</file>