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3A1F2B-6CF8-4F4D-AE20-E8D27B9B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630E1E-4F62-497C-9C9D-B1A119AE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1A6891-BE9F-4223-B44E-71ACA8C3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A24-8F13-4833-BAB8-D6E3B6B7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59E-EC15-4614-9251-3B9A0839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054-89FC-4BE8-97EB-46912E21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4CA-3376-49C3-88B6-AC959326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17A-D3E9-404B-8003-502CE8F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4AF-702E-4DDC-B641-E744415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9DC-2FA3-4BE3-935E-01C827DB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8C0-AEE3-4BBC-B95E-71584049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93A-FCD9-4EED-96CE-EC014F87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316-0F1D-44CE-9F89-8D95423D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A3D-E0D5-42BB-9382-FF3725E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EBD-2A8D-4E52-A02B-1CCCF4D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2BE6-B4B3-4567-AA28-7402165CA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0531: Comments on Signaling of Reference Pictures: LTRP Signaling Sche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, Andrew Seg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33B5-0478-480F-B8D0-3C4A617FFC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C WD5 provides syntax for long-term reference pictures (LTR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long-term reference picture signaling method in HEVC WD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a long_term_ref_pics_present_flag syntax element in PP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delta_poc_lsb_lt_minus1[i] value (and used_by_curr_pic_lt_flag[i] value) in slice header for each LT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ntax element delta_poc_lsb_lt_minus1[i] is used to determine the value of the least significant bits of the picture order count value for the i’th LTRP included in the LTRP set of the current pic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_poc_lsb_lt_minus1[i] is in the range of 0 to MaxPicOrderCntLSB-1 inclus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urrent technique has a limitation in that only after marking a LTRP as “unused for reference”  would the encoder be able to replace it with another LTRP with the same POC LSB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901D-9863-4404-B4DA-93864B3A2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a signaling scheme to overcome this limi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roposed signaling scheme consists of sending a delta_poc_msb_cycle_lt_minus1 value in the case a new LTRP is sent with the same POC LSB value as any existing LTRP picture. Also delta_msb_cycle_lt_minus1 value is sent in case a LTRP has different POC MSB value than the previous LTRP’s POC MSB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approach is bit efficient as the delta_poc_cycle_msb_lt_minus1 syntax element is only sent when required for correct POC computation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F612-2977-4721-90A0-4B2DA515F5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Syntax: Slice Hea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4724280" y="914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ta_poc_msb_check_flag[i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qual to 1 indicates that a delta_poc_msb_cycle_lt_minus1[i] element value is present. deltapoc_msb_check_flag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 0 indicates that a delta_poc_msb_cycle_lt_minus1[i] element value is not pres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ta_poc_msb_cycle_lt_minus1[ i ]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 used to determine the value of the most significant bits of the picture order count value of the i-th long-term reference picture that is included in the long-term reference picture set of the current picture.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When delta_poc_msb_cycle_lt_minus1[ i ] is not present, it shall be inferred to be 0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906480"/>
          <a:ext cx="4038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6480"/>
                    <a:ext cx="4038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ondition: Frames: 500, LTRPs (1 or 2), LD Common Condition (G10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9CC5-F1DF-4ACB-9773-03193F088B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2057400"/>
          <a:ext cx="80866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86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proposed syntax to signal long-term reference pi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approach can remove limitations of existing signaling appro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proposed approach in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63FA-8F58-435F-BDC2-33114B024E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80008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Sjöberg, J. Samuelsson (Ericsson), "Absolute signaling of reference pictures," JCTVC-F493/m20923 6th Meeting: Torino, IT, 14-22 July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80008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G1103d06 “WD5: Working Draft 5 of High-Efficiency Video Coding, Jan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80008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Sullivan, Y. Wu, J. Xu, B. Li, “Proposal on Decoded Picture Buffer Description Syntax Related to AHG21 and JCTVC-F493,” JCTVC-G788, 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 Geneva, CH, 21-30 November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BBD-6F05-45E6-B7A3-8A9A806954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22:02:15Z</dcterms:created>
  <dc:creator>lkerofsky</dc:creator>
  <dc:description/>
  <dc:language>en-US</dc:language>
  <cp:lastModifiedBy>Sachin Deshpande</cp:lastModifiedBy>
  <dcterms:modified xsi:type="dcterms:W3CDTF">2012-02-04T22:25:19Z</dcterms:modified>
  <cp:revision>984</cp:revision>
  <dc:subject/>
  <dc:title>Slide 1</dc:title>
</cp:coreProperties>
</file>