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AutoShape 1"/>
          <p:cNvSpPr/>
          <p:nvPr/>
        </p:nvSpPr>
        <p:spPr>
          <a:xfrm>
            <a:off x="0" y="0"/>
            <a:ext cx="6781680" cy="992520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12">
                <a:moveTo>
                  <a:pt x="5" y="0"/>
                </a:moveTo>
                <a:arcTo wR="5" hR="5" stAng="16200000" swAng="-5400000"/>
                <a:lnTo>
                  <a:pt x="0" y="31607"/>
                </a:lnTo>
                <a:arcTo wR="5" hR="5" stAng="10800000" swAng="-5400000"/>
                <a:lnTo>
                  <a:pt x="21595" y="3161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2"/>
          <p:cNvSpPr/>
          <p:nvPr/>
        </p:nvSpPr>
        <p:spPr>
          <a:xfrm>
            <a:off x="0" y="0"/>
            <a:ext cx="2940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05040" y="4714920"/>
            <a:ext cx="4970160" cy="446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6"/>
          <p:cNvSpPr/>
          <p:nvPr/>
        </p:nvSpPr>
        <p:spPr>
          <a:xfrm>
            <a:off x="0" y="9429840"/>
            <a:ext cx="2940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sldNum" idx="4"/>
          </p:nvPr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F65AA-9EAB-44DF-9B2D-2EA5DE156C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0A838-8557-4281-BA91-E142C7056B6E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1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7AC701-9799-4FFC-9E64-08D3A2B92EC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A6E0E-0982-45BF-AB46-53656764B8C4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E79DC-9AA6-4D87-910D-D91FE43B2393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DAB9E-36A8-4969-AA62-6C152B5067C2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2DBE3-C1D3-418B-B013-588AE9F5944F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33618-CC9C-4050-A42D-213A703AD70B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312BA1-5BD1-4D49-9064-4D6144EF3F1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2AE10A-1844-40E6-9BFB-E32ACB08644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C98EAB-675D-4E4A-B2A9-0FA0FA5A9200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AB40CF-57B9-483D-AB4A-36AEDF3F86C8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989BAB-3412-448D-8931-F95C47D6CEC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F25170-00CC-4E70-B84A-CDBB8D9E311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E7DCA-8F6F-45C7-9477-18040065D1A4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E8E453-A7B5-44FE-9351-216AC3B2F8F8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329614-01C3-4A61-ACED-5345018C569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EE2AC3-4239-466E-A2FD-807EA90D6D3C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1" descr="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2" descr=""/>
          <p:cNvPicPr/>
          <p:nvPr/>
        </p:nvPicPr>
        <p:blipFill>
          <a:blip r:embed="rId3"/>
          <a:stretch/>
        </p:blipFill>
        <p:spPr>
          <a:xfrm>
            <a:off x="0" y="7840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806" name="Text Box 3"/>
          <p:cNvSpPr/>
          <p:nvPr/>
        </p:nvSpPr>
        <p:spPr>
          <a:xfrm>
            <a:off x="7092000" y="4070520"/>
            <a:ext cx="174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626040" y="6202440"/>
            <a:ext cx="268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51960" y="349200"/>
            <a:ext cx="792180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684360" y="2811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1" descr="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" descr=""/>
          <p:cNvPicPr/>
          <p:nvPr/>
        </p:nvPicPr>
        <p:blipFill>
          <a:blip r:embed="rId3"/>
          <a:stretch/>
        </p:blipFill>
        <p:spPr>
          <a:xfrm>
            <a:off x="0" y="7840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849" name="Text Box 3"/>
          <p:cNvSpPr/>
          <p:nvPr/>
        </p:nvSpPr>
        <p:spPr>
          <a:xfrm>
            <a:off x="7092000" y="4070520"/>
            <a:ext cx="174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6614280" y="247680"/>
            <a:ext cx="224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  <a:ea typeface="MS PGothic"/>
              </a:rPr>
              <a:t>Security Level:  Confidenti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626040" y="6202440"/>
            <a:ext cx="268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6"/>
          <p:cNvSpPr/>
          <p:nvPr/>
        </p:nvSpPr>
        <p:spPr>
          <a:xfrm>
            <a:off x="4158360" y="6202440"/>
            <a:ext cx="174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51960" y="349200"/>
            <a:ext cx="792180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55" name="Text Box 9"/>
          <p:cNvSpPr/>
          <p:nvPr/>
        </p:nvSpPr>
        <p:spPr>
          <a:xfrm>
            <a:off x="684360" y="2811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639360" y="6435720"/>
            <a:ext cx="277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1171173A-4986-4CFC-87F1-B2CD91F72C3E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51960" y="349200"/>
            <a:ext cx="792180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1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94" name="Text Box 3"/>
          <p:cNvSpPr/>
          <p:nvPr/>
        </p:nvSpPr>
        <p:spPr>
          <a:xfrm>
            <a:off x="595800" y="6207120"/>
            <a:ext cx="27324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7128000" y="4094280"/>
            <a:ext cx="15253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5"/>
          <p:cNvSpPr/>
          <p:nvPr/>
        </p:nvSpPr>
        <p:spPr>
          <a:xfrm>
            <a:off x="3921480" y="6207120"/>
            <a:ext cx="1753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Confidential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6"/>
          <p:cNvSpPr/>
          <p:nvPr/>
        </p:nvSpPr>
        <p:spPr>
          <a:xfrm>
            <a:off x="6829560" y="247680"/>
            <a:ext cx="13964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Security Level: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7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3960" cy="870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8280" cy="4192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8280" cy="8683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8280" cy="41925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-1844640" y="89856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199440" y="4726080"/>
            <a:ext cx="925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新建目录页请在选定目录页的前提下新建；内页同理。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3124800" y="2131920"/>
            <a:ext cx="2836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242880" y="3330720"/>
            <a:ext cx="25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"/>
          <p:cNvSpPr/>
          <p:nvPr/>
        </p:nvSpPr>
        <p:spPr>
          <a:xfrm>
            <a:off x="639360" y="6435720"/>
            <a:ext cx="277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2"/>
          </p:nvPr>
        </p:nvSpPr>
        <p:spPr>
          <a:xfrm>
            <a:off x="6360840" y="648972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19101753-B1DB-4F62-8D96-827652400C6C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51960" y="349200"/>
            <a:ext cx="792180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836880" y="6435720"/>
            <a:ext cx="16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2"/>
          <p:cNvSpPr/>
          <p:nvPr/>
        </p:nvSpPr>
        <p:spPr>
          <a:xfrm>
            <a:off x="595800" y="6438960"/>
            <a:ext cx="27324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3"/>
          </p:nvPr>
        </p:nvSpPr>
        <p:spPr>
          <a:xfrm>
            <a:off x="6360840" y="6489360"/>
            <a:ext cx="209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90132D14-63FB-4734-8BFB-0CFCFFF46E68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3960" cy="870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829320" y="6438960"/>
            <a:ext cx="1753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Confidential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英文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32-35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FrutigerNext LT Mediu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中文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30-32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黑体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英文正文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20-22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子目录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2-5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级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) :18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黑色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FrutigerNext LT Regula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中文正文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18-20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子目录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2-5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级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):18pt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黑色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细黑体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华文细黑"/>
              </a:rPr>
              <a:t>配色参考方案：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华文细黑"/>
              </a:rPr>
              <a:t>建议同一页面内不超过四种颜色，以下是</a:t>
            </a:r>
            <a:r>
              <a:rPr b="1" lang="en-US" sz="1100" spc="-1" strike="noStrike">
                <a:solidFill>
                  <a:srgbClr val="ffffff"/>
                </a:solidFill>
                <a:latin typeface="华文细黑"/>
              </a:rPr>
              <a:t>13</a:t>
            </a:r>
            <a:r>
              <a:rPr b="1" lang="zh-CN" sz="1100" spc="-1" strike="noStrike">
                <a:solidFill>
                  <a:srgbClr val="ffffff"/>
                </a:solidFill>
                <a:latin typeface="华文细黑"/>
              </a:rPr>
              <a:t>组配色方案，同一页面内只选择一组使用。（仅供参考）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华文细黑"/>
              </a:rPr>
              <a:t>客户或者合作伙伴的标志放在右上角</a:t>
            </a:r>
            <a:r>
              <a:rPr b="1" lang="en-US" sz="1100" spc="-1" strike="noStrike">
                <a:solidFill>
                  <a:srgbClr val="ffffff"/>
                </a:solidFill>
                <a:latin typeface="华文细黑"/>
              </a:rPr>
              <a:t>.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8280" cy="4192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Group 12"/>
          <p:cNvGrpSpPr/>
          <p:nvPr/>
        </p:nvGrpSpPr>
        <p:grpSpPr>
          <a:xfrm>
            <a:off x="9354960" y="3789000"/>
            <a:ext cx="738360" cy="181080"/>
            <a:chOff x="9354960" y="3789000"/>
            <a:chExt cx="738360" cy="181080"/>
          </a:xfrm>
        </p:grpSpPr>
        <p:sp>
          <p:nvSpPr>
            <p:cNvPr id="220" name="Rectangle 13"/>
            <p:cNvSpPr/>
            <p:nvPr/>
          </p:nvSpPr>
          <p:spPr>
            <a:xfrm flipV="1">
              <a:off x="9540720" y="3788640"/>
              <a:ext cx="18288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 flipV="1">
              <a:off x="9725040" y="3788640"/>
              <a:ext cx="18252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5"/>
            <p:cNvSpPr/>
            <p:nvPr/>
          </p:nvSpPr>
          <p:spPr>
            <a:xfrm flipV="1">
              <a:off x="9909000" y="3788640"/>
              <a:ext cx="184320" cy="18108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6"/>
            <p:cNvSpPr/>
            <p:nvPr/>
          </p:nvSpPr>
          <p:spPr>
            <a:xfrm flipV="1">
              <a:off x="9354960" y="3788640"/>
              <a:ext cx="1843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Group 17"/>
          <p:cNvGrpSpPr/>
          <p:nvPr/>
        </p:nvGrpSpPr>
        <p:grpSpPr>
          <a:xfrm>
            <a:off x="9354960" y="4005360"/>
            <a:ext cx="738360" cy="180720"/>
            <a:chOff x="9354960" y="4005360"/>
            <a:chExt cx="738360" cy="180720"/>
          </a:xfrm>
        </p:grpSpPr>
        <p:sp>
          <p:nvSpPr>
            <p:cNvPr id="225" name="Rectangle 18"/>
            <p:cNvSpPr/>
            <p:nvPr/>
          </p:nvSpPr>
          <p:spPr>
            <a:xfrm flipV="1">
              <a:off x="9540720" y="4005360"/>
              <a:ext cx="182880" cy="18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9"/>
            <p:cNvSpPr/>
            <p:nvPr/>
          </p:nvSpPr>
          <p:spPr>
            <a:xfrm flipV="1">
              <a:off x="9725040" y="4005360"/>
              <a:ext cx="182520" cy="180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20"/>
            <p:cNvSpPr/>
            <p:nvPr/>
          </p:nvSpPr>
          <p:spPr>
            <a:xfrm flipV="1">
              <a:off x="9909000" y="4005360"/>
              <a:ext cx="184320" cy="180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 flipV="1">
              <a:off x="9354960" y="4005360"/>
              <a:ext cx="184320" cy="180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22"/>
          <p:cNvGrpSpPr/>
          <p:nvPr/>
        </p:nvGrpSpPr>
        <p:grpSpPr>
          <a:xfrm>
            <a:off x="9354960" y="4220640"/>
            <a:ext cx="738360" cy="181080"/>
            <a:chOff x="9354960" y="4220640"/>
            <a:chExt cx="738360" cy="181080"/>
          </a:xfrm>
        </p:grpSpPr>
        <p:sp>
          <p:nvSpPr>
            <p:cNvPr id="230" name="Rectangle 23"/>
            <p:cNvSpPr/>
            <p:nvPr/>
          </p:nvSpPr>
          <p:spPr>
            <a:xfrm flipV="1">
              <a:off x="9540720" y="4220280"/>
              <a:ext cx="182880" cy="1810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 flipV="1">
              <a:off x="9725040" y="4220280"/>
              <a:ext cx="182520" cy="1810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 flipV="1">
              <a:off x="9909000" y="4220280"/>
              <a:ext cx="184320" cy="1810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26"/>
            <p:cNvSpPr/>
            <p:nvPr/>
          </p:nvSpPr>
          <p:spPr>
            <a:xfrm flipV="1">
              <a:off x="9354960" y="4220280"/>
              <a:ext cx="184320" cy="181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7"/>
          <p:cNvGrpSpPr/>
          <p:nvPr/>
        </p:nvGrpSpPr>
        <p:grpSpPr>
          <a:xfrm>
            <a:off x="9354960" y="3573360"/>
            <a:ext cx="738360" cy="187200"/>
            <a:chOff x="9354960" y="3573360"/>
            <a:chExt cx="738360" cy="187200"/>
          </a:xfrm>
        </p:grpSpPr>
        <p:sp>
          <p:nvSpPr>
            <p:cNvPr id="235" name="Rectangle 28"/>
            <p:cNvSpPr/>
            <p:nvPr/>
          </p:nvSpPr>
          <p:spPr>
            <a:xfrm flipV="1">
              <a:off x="9725040" y="3573360"/>
              <a:ext cx="182520" cy="18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29"/>
            <p:cNvSpPr/>
            <p:nvPr/>
          </p:nvSpPr>
          <p:spPr>
            <a:xfrm flipV="1">
              <a:off x="9909000" y="3573360"/>
              <a:ext cx="184320" cy="1872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30"/>
            <p:cNvSpPr/>
            <p:nvPr/>
          </p:nvSpPr>
          <p:spPr>
            <a:xfrm flipV="1">
              <a:off x="9354960" y="3573360"/>
              <a:ext cx="184320" cy="18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31"/>
            <p:cNvSpPr/>
            <p:nvPr/>
          </p:nvSpPr>
          <p:spPr>
            <a:xfrm flipV="1">
              <a:off x="9540720" y="3573360"/>
              <a:ext cx="182880" cy="1872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Group 32"/>
          <p:cNvGrpSpPr/>
          <p:nvPr/>
        </p:nvGrpSpPr>
        <p:grpSpPr>
          <a:xfrm>
            <a:off x="9354960" y="4581000"/>
            <a:ext cx="738360" cy="181080"/>
            <a:chOff x="9354960" y="4581000"/>
            <a:chExt cx="738360" cy="181080"/>
          </a:xfrm>
        </p:grpSpPr>
        <p:sp>
          <p:nvSpPr>
            <p:cNvPr id="240" name="Rectangle 33"/>
            <p:cNvSpPr/>
            <p:nvPr/>
          </p:nvSpPr>
          <p:spPr>
            <a:xfrm flipV="1">
              <a:off x="9540720" y="4580640"/>
              <a:ext cx="18288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34"/>
            <p:cNvSpPr/>
            <p:nvPr/>
          </p:nvSpPr>
          <p:spPr>
            <a:xfrm flipV="1">
              <a:off x="9725040" y="4580640"/>
              <a:ext cx="1825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35"/>
            <p:cNvSpPr/>
            <p:nvPr/>
          </p:nvSpPr>
          <p:spPr>
            <a:xfrm flipV="1">
              <a:off x="9909000" y="4580640"/>
              <a:ext cx="18432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36"/>
            <p:cNvSpPr/>
            <p:nvPr/>
          </p:nvSpPr>
          <p:spPr>
            <a:xfrm flipV="1">
              <a:off x="9354960" y="4580640"/>
              <a:ext cx="184320" cy="1810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Group 37"/>
          <p:cNvGrpSpPr/>
          <p:nvPr/>
        </p:nvGrpSpPr>
        <p:grpSpPr>
          <a:xfrm>
            <a:off x="9354960" y="4797000"/>
            <a:ext cx="738360" cy="181080"/>
            <a:chOff x="9354960" y="4797000"/>
            <a:chExt cx="738360" cy="181080"/>
          </a:xfrm>
        </p:grpSpPr>
        <p:sp>
          <p:nvSpPr>
            <p:cNvPr id="245" name="Rectangle 38"/>
            <p:cNvSpPr/>
            <p:nvPr/>
          </p:nvSpPr>
          <p:spPr>
            <a:xfrm flipV="1">
              <a:off x="9540720" y="4796640"/>
              <a:ext cx="182880" cy="1810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39"/>
            <p:cNvSpPr/>
            <p:nvPr/>
          </p:nvSpPr>
          <p:spPr>
            <a:xfrm flipV="1">
              <a:off x="9725040" y="4796640"/>
              <a:ext cx="182520" cy="181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0"/>
            <p:cNvSpPr/>
            <p:nvPr/>
          </p:nvSpPr>
          <p:spPr>
            <a:xfrm flipV="1">
              <a:off x="9909000" y="4796640"/>
              <a:ext cx="184320" cy="181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41"/>
            <p:cNvSpPr/>
            <p:nvPr/>
          </p:nvSpPr>
          <p:spPr>
            <a:xfrm flipV="1">
              <a:off x="9354960" y="4796640"/>
              <a:ext cx="184320" cy="1810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Group 42"/>
          <p:cNvGrpSpPr/>
          <p:nvPr/>
        </p:nvGrpSpPr>
        <p:grpSpPr>
          <a:xfrm>
            <a:off x="9354960" y="5013000"/>
            <a:ext cx="738360" cy="181080"/>
            <a:chOff x="9354960" y="5013000"/>
            <a:chExt cx="738360" cy="181080"/>
          </a:xfrm>
        </p:grpSpPr>
        <p:sp>
          <p:nvSpPr>
            <p:cNvPr id="250" name="Rectangle 43"/>
            <p:cNvSpPr/>
            <p:nvPr/>
          </p:nvSpPr>
          <p:spPr>
            <a:xfrm flipV="1">
              <a:off x="9540720" y="5012640"/>
              <a:ext cx="182880" cy="1810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44"/>
            <p:cNvSpPr/>
            <p:nvPr/>
          </p:nvSpPr>
          <p:spPr>
            <a:xfrm flipV="1">
              <a:off x="9725040" y="5012640"/>
              <a:ext cx="182520" cy="181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45"/>
            <p:cNvSpPr/>
            <p:nvPr/>
          </p:nvSpPr>
          <p:spPr>
            <a:xfrm flipV="1">
              <a:off x="9909000" y="5012640"/>
              <a:ext cx="184320" cy="1810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46"/>
            <p:cNvSpPr/>
            <p:nvPr/>
          </p:nvSpPr>
          <p:spPr>
            <a:xfrm flipV="1">
              <a:off x="9354960" y="5012640"/>
              <a:ext cx="184320" cy="1810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Group 47"/>
          <p:cNvGrpSpPr/>
          <p:nvPr/>
        </p:nvGrpSpPr>
        <p:grpSpPr>
          <a:xfrm>
            <a:off x="9354960" y="5373360"/>
            <a:ext cx="738360" cy="181080"/>
            <a:chOff x="9354960" y="5373360"/>
            <a:chExt cx="738360" cy="181080"/>
          </a:xfrm>
        </p:grpSpPr>
        <p:sp>
          <p:nvSpPr>
            <p:cNvPr id="255" name="Rectangle 48"/>
            <p:cNvSpPr/>
            <p:nvPr/>
          </p:nvSpPr>
          <p:spPr>
            <a:xfrm flipV="1">
              <a:off x="9540720" y="5373000"/>
              <a:ext cx="18288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49"/>
            <p:cNvSpPr/>
            <p:nvPr/>
          </p:nvSpPr>
          <p:spPr>
            <a:xfrm flipV="1">
              <a:off x="9725040" y="5373000"/>
              <a:ext cx="1825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50"/>
            <p:cNvSpPr/>
            <p:nvPr/>
          </p:nvSpPr>
          <p:spPr>
            <a:xfrm flipV="1">
              <a:off x="9909000" y="5373000"/>
              <a:ext cx="18432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51"/>
            <p:cNvSpPr/>
            <p:nvPr/>
          </p:nvSpPr>
          <p:spPr>
            <a:xfrm flipV="1">
              <a:off x="9354960" y="5373000"/>
              <a:ext cx="184320" cy="18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52"/>
          <p:cNvGrpSpPr/>
          <p:nvPr/>
        </p:nvGrpSpPr>
        <p:grpSpPr>
          <a:xfrm>
            <a:off x="9354960" y="5589720"/>
            <a:ext cx="738360" cy="180720"/>
            <a:chOff x="9354960" y="5589720"/>
            <a:chExt cx="738360" cy="180720"/>
          </a:xfrm>
        </p:grpSpPr>
        <p:sp>
          <p:nvSpPr>
            <p:cNvPr id="260" name="Rectangle 53"/>
            <p:cNvSpPr/>
            <p:nvPr/>
          </p:nvSpPr>
          <p:spPr>
            <a:xfrm flipV="1">
              <a:off x="9540720" y="5589720"/>
              <a:ext cx="182880" cy="1807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54"/>
            <p:cNvSpPr/>
            <p:nvPr/>
          </p:nvSpPr>
          <p:spPr>
            <a:xfrm flipV="1">
              <a:off x="9725040" y="5589720"/>
              <a:ext cx="182520" cy="18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5"/>
            <p:cNvSpPr/>
            <p:nvPr/>
          </p:nvSpPr>
          <p:spPr>
            <a:xfrm flipV="1">
              <a:off x="9909000" y="5589720"/>
              <a:ext cx="184320" cy="180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56"/>
            <p:cNvSpPr/>
            <p:nvPr/>
          </p:nvSpPr>
          <p:spPr>
            <a:xfrm flipV="1">
              <a:off x="9354960" y="5589720"/>
              <a:ext cx="184320" cy="180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57"/>
          <p:cNvGrpSpPr/>
          <p:nvPr/>
        </p:nvGrpSpPr>
        <p:grpSpPr>
          <a:xfrm>
            <a:off x="9354960" y="5805000"/>
            <a:ext cx="738360" cy="181080"/>
            <a:chOff x="9354960" y="5805000"/>
            <a:chExt cx="738360" cy="181080"/>
          </a:xfrm>
        </p:grpSpPr>
        <p:sp>
          <p:nvSpPr>
            <p:cNvPr id="265" name="Rectangle 58"/>
            <p:cNvSpPr/>
            <p:nvPr/>
          </p:nvSpPr>
          <p:spPr>
            <a:xfrm flipV="1">
              <a:off x="9540720" y="5804640"/>
              <a:ext cx="182880" cy="1810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59"/>
            <p:cNvSpPr/>
            <p:nvPr/>
          </p:nvSpPr>
          <p:spPr>
            <a:xfrm flipV="1">
              <a:off x="9725040" y="5804640"/>
              <a:ext cx="182520" cy="181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60"/>
            <p:cNvSpPr/>
            <p:nvPr/>
          </p:nvSpPr>
          <p:spPr>
            <a:xfrm flipV="1">
              <a:off x="9909000" y="5804640"/>
              <a:ext cx="184320" cy="1810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61"/>
            <p:cNvSpPr/>
            <p:nvPr/>
          </p:nvSpPr>
          <p:spPr>
            <a:xfrm flipV="1">
              <a:off x="9354960" y="5804640"/>
              <a:ext cx="184320" cy="18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62"/>
          <p:cNvGrpSpPr/>
          <p:nvPr/>
        </p:nvGrpSpPr>
        <p:grpSpPr>
          <a:xfrm>
            <a:off x="9354960" y="6165360"/>
            <a:ext cx="738360" cy="181080"/>
            <a:chOff x="9354960" y="6165360"/>
            <a:chExt cx="738360" cy="181080"/>
          </a:xfrm>
        </p:grpSpPr>
        <p:sp>
          <p:nvSpPr>
            <p:cNvPr id="270" name="Rectangle 63"/>
            <p:cNvSpPr/>
            <p:nvPr/>
          </p:nvSpPr>
          <p:spPr>
            <a:xfrm flipV="1">
              <a:off x="9540720" y="6165000"/>
              <a:ext cx="18288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64"/>
            <p:cNvSpPr/>
            <p:nvPr/>
          </p:nvSpPr>
          <p:spPr>
            <a:xfrm flipV="1">
              <a:off x="9725040" y="6165000"/>
              <a:ext cx="1825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65"/>
            <p:cNvSpPr/>
            <p:nvPr/>
          </p:nvSpPr>
          <p:spPr>
            <a:xfrm flipV="1">
              <a:off x="9909000" y="6165000"/>
              <a:ext cx="18432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66"/>
            <p:cNvSpPr/>
            <p:nvPr/>
          </p:nvSpPr>
          <p:spPr>
            <a:xfrm flipV="1">
              <a:off x="9354960" y="6165000"/>
              <a:ext cx="184320" cy="1810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67"/>
          <p:cNvGrpSpPr/>
          <p:nvPr/>
        </p:nvGrpSpPr>
        <p:grpSpPr>
          <a:xfrm>
            <a:off x="9354960" y="6391440"/>
            <a:ext cx="738360" cy="180720"/>
            <a:chOff x="9354960" y="6391440"/>
            <a:chExt cx="738360" cy="180720"/>
          </a:xfrm>
        </p:grpSpPr>
        <p:sp>
          <p:nvSpPr>
            <p:cNvPr id="275" name="Rectangle 68"/>
            <p:cNvSpPr/>
            <p:nvPr/>
          </p:nvSpPr>
          <p:spPr>
            <a:xfrm flipV="1">
              <a:off x="9540720" y="6391440"/>
              <a:ext cx="182880" cy="1807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69"/>
            <p:cNvSpPr/>
            <p:nvPr/>
          </p:nvSpPr>
          <p:spPr>
            <a:xfrm flipV="1">
              <a:off x="9725040" y="6391440"/>
              <a:ext cx="182520" cy="18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70"/>
            <p:cNvSpPr/>
            <p:nvPr/>
          </p:nvSpPr>
          <p:spPr>
            <a:xfrm flipV="1">
              <a:off x="9909000" y="6391440"/>
              <a:ext cx="184320" cy="180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71"/>
            <p:cNvSpPr/>
            <p:nvPr/>
          </p:nvSpPr>
          <p:spPr>
            <a:xfrm flipV="1">
              <a:off x="9354960" y="6391440"/>
              <a:ext cx="184320" cy="180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Group 72"/>
          <p:cNvGrpSpPr/>
          <p:nvPr/>
        </p:nvGrpSpPr>
        <p:grpSpPr>
          <a:xfrm>
            <a:off x="9354960" y="6614640"/>
            <a:ext cx="738360" cy="181080"/>
            <a:chOff x="9354960" y="6614640"/>
            <a:chExt cx="738360" cy="181080"/>
          </a:xfrm>
        </p:grpSpPr>
        <p:sp>
          <p:nvSpPr>
            <p:cNvPr id="280" name="Rectangle 73"/>
            <p:cNvSpPr/>
            <p:nvPr/>
          </p:nvSpPr>
          <p:spPr>
            <a:xfrm flipV="1">
              <a:off x="9540720" y="6614280"/>
              <a:ext cx="18288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74"/>
            <p:cNvSpPr/>
            <p:nvPr/>
          </p:nvSpPr>
          <p:spPr>
            <a:xfrm flipV="1">
              <a:off x="9725040" y="6614280"/>
              <a:ext cx="18252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75"/>
            <p:cNvSpPr/>
            <p:nvPr/>
          </p:nvSpPr>
          <p:spPr>
            <a:xfrm flipV="1">
              <a:off x="9909000" y="6614280"/>
              <a:ext cx="1843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76"/>
            <p:cNvSpPr/>
            <p:nvPr/>
          </p:nvSpPr>
          <p:spPr>
            <a:xfrm flipV="1">
              <a:off x="9354960" y="6614280"/>
              <a:ext cx="184320" cy="1810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5F244E-52A9-4EA7-B490-22EBA60495B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E45285-442C-4ECB-8E76-3C6090C93818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6E5554-3953-4C95-AB5A-F040A2EF45EE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1"/>
          <p:cNvSpPr/>
          <p:nvPr/>
        </p:nvSpPr>
        <p:spPr>
          <a:xfrm>
            <a:off x="0" y="1011240"/>
            <a:ext cx="71928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HG19: A QP-based Enabling Method for lossless coding in HEVC</a:t>
            </a: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2"/>
          <p:cNvSpPr/>
          <p:nvPr/>
        </p:nvSpPr>
        <p:spPr>
          <a:xfrm>
            <a:off x="228600" y="2798640"/>
            <a:ext cx="577836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细黑"/>
              </a:rPr>
              <a:t>Feb 03,20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黑体"/>
                <a:ea typeface="华文细黑"/>
              </a:rPr>
              <a:t>Wen Gao, Minqiang Jiang, Haoping Yu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Freeform 3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Proposal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 Box 2"/>
          <p:cNvSpPr/>
          <p:nvPr/>
        </p:nvSpPr>
        <p:spPr>
          <a:xfrm>
            <a:off x="652320" y="955800"/>
            <a:ext cx="792972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ropose to use QP to signal video codec whether lossless coding is applie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2600">
              <a:lnSpc>
                <a:spcPct val="140000"/>
              </a:lnSpc>
              <a:buClr>
                <a:srgbClr val="808080"/>
              </a:buClr>
              <a:buFont typeface="Wingdings" charset="2"/>
              <a:buChar char="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QP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=0, lossless coding is us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2600">
              <a:lnSpc>
                <a:spcPct val="140000"/>
              </a:lnSpc>
              <a:buClr>
                <a:srgbClr val="808080"/>
              </a:buClr>
              <a:buFont typeface="Wingdings" charset="2"/>
              <a:buChar char="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an be applied on the basis of CU or entir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Benefit of this signaling meth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260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No change to HEVC syntax. The decoding process is simplifi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260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QP can be set to 0 for the entire picture without transmission of cu_qp_delta and any additional flag(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260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507ECB69-8524-4504-B8D0-741F3D6C62B9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Proposal Detai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2"/>
          <p:cNvSpPr/>
          <p:nvPr/>
        </p:nvSpPr>
        <p:spPr>
          <a:xfrm>
            <a:off x="652320" y="955800"/>
            <a:ext cx="792972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f QP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=0 for a CU, lossless coding is applied, i.e.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40000"/>
              </a:lnSpc>
              <a:buClr>
                <a:srgbClr val="808080"/>
              </a:buClr>
              <a:buFont typeface="Wingdings" charset="2"/>
              <a:buChar char="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ransform, quantization, deblocking filter, SAO and ALF are all bypasse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Furthermore, if QP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=0 for a CU, a sample-based intra prediction method (SAP), as proposed in JCTVC-H0083 can be use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40000"/>
              </a:lnSpc>
              <a:buClr>
                <a:srgbClr val="808080"/>
              </a:buClr>
              <a:buFont typeface="Wingdings" charset="2"/>
              <a:buChar char="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o replace the existing intra prediction for better coding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8D24B6D2-AF80-4BC9-9ECD-E20CA279232E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Test 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2"/>
          <p:cNvSpPr/>
          <p:nvPr/>
        </p:nvSpPr>
        <p:spPr>
          <a:xfrm>
            <a:off x="652320" y="955800"/>
            <a:ext cx="792972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HM5.0 has been modified to incorporate this signaling metho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est results shows the effectiveness of this signaling meth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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DO is modified to choose either QP=0 (lossless coding) or QP=5 (HM5.0 lossy coding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68F6D67B-FCD9-4ED4-8658-3501AC6C5F86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8" name="Table 4" descr=""/>
          <p:cNvPicPr/>
          <p:nvPr/>
        </p:nvPicPr>
        <p:blipFill>
          <a:blip r:embed="rId1"/>
          <a:stretch/>
        </p:blipFill>
        <p:spPr>
          <a:xfrm>
            <a:off x="1298520" y="4194000"/>
            <a:ext cx="616896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2"/>
          <p:cNvSpPr/>
          <p:nvPr/>
        </p:nvSpPr>
        <p:spPr>
          <a:xfrm>
            <a:off x="652320" y="955800"/>
            <a:ext cx="792972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ecommend to adopt this QP-based signaling method for lossless coding into HEVC WD and 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hanks I2R for cross-checking (JCTVC-067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42A9AFA8-C203-4B65-8508-9C41B81EB2F5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2d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Text Box 1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306BDEE2-C142-48CB-B398-43D773C4AF7A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 Box 2"/>
          <p:cNvSpPr/>
          <p:nvPr/>
        </p:nvSpPr>
        <p:spPr>
          <a:xfrm>
            <a:off x="2523960" y="2346480"/>
            <a:ext cx="4419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Times New Roman"/>
                <a:ea typeface="黑体"/>
              </a:rPr>
              <a:t>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3096000" y="2131920"/>
            <a:ext cx="2836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3257280" y="3330720"/>
            <a:ext cx="25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6T09:41:22Z</dcterms:created>
  <dc:creator>章李铭 24498</dc:creator>
  <dc:description/>
  <dc:language>en-US</dc:language>
  <cp:lastModifiedBy>gaow02</cp:lastModifiedBy>
  <cp:lastPrinted>2002-09-26T02:29:13Z</cp:lastPrinted>
  <dcterms:modified xsi:type="dcterms:W3CDTF">2012-02-04T04:17:53Z</dcterms:modified>
  <cp:revision>1757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91683318</vt:lpwstr>
  </property>
</Properties>
</file>